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10A8-F9C2-41B6-8D7D-F2D8C753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3026-F7FD-4F03-ACE3-9C29E354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CB76-8AD3-4353-B7F2-94779FEA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DA16-99CB-48CA-AD77-2A01A559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ECD5-55BD-4FA9-8E44-DEDB3B67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D39E-8B38-45A0-AAE1-7CEC25A8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C440-9939-444F-A4B4-D30895D4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E629-58B9-4CC5-9935-F70971E1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CFE9-09D4-4825-BDB4-0EBD38FF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07D3-3B89-4DBF-BBA9-923CA59D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2326-9050-4A49-9A00-77C8CD90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9DD5-17BC-4626-933D-48E96512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C4BF-48DF-4D64-B981-72267B94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EA62-649E-4370-9894-8D71C2D4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E17E-0E0D-458D-A1D6-5C7C7616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3A19-5299-4069-B3A2-568392F4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80BA-1763-4CF7-B5DC-6795BDEF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E873-019F-4C38-995F-40DE75A8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7684-9160-4399-B029-4EA057B8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AB2C-188B-49C1-920C-AB90C27D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AEED-EA39-40D4-91DA-7277863B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CDAE-3329-4337-BF90-99A4E979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D542-23BC-4E8C-B441-00632370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6175-77D7-48D5-8534-96036633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5B26-824F-49CC-A7AC-8264B9F7F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AD16-B68E-402C-A700-5C019AD02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95252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Aceoffix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5810040"/>
            <a:ext cx="86868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Content Placeholder 4" descr=""/>
          <p:cNvPicPr/>
          <p:nvPr/>
        </p:nvPicPr>
        <p:blipFill>
          <a:blip r:embed="rId1"/>
          <a:stretch/>
        </p:blipFill>
        <p:spPr>
          <a:xfrm>
            <a:off x="1828800" y="1593720"/>
            <a:ext cx="7077240" cy="50752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Aceoffix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Polly</dc:creator>
  <dc:description/>
  <dc:language>en-US</dc:language>
  <cp:lastModifiedBy>Polly</cp:lastModifiedBy>
  <dcterms:modified xsi:type="dcterms:W3CDTF">2011-11-05T06:33:22Z</dcterms:modified>
  <cp:revision>4</cp:revision>
  <dc:subject/>
  <dc:title>Slide 1</dc:title>
</cp:coreProperties>
</file>