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9E6-D1D6-48DD-81B6-A9CB0609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960-7EE4-4C19-8853-C966B7D5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BE5-36D9-4C16-81E3-48B147E0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2CC-3807-4F90-BE81-0D4011AF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3B53-BDF3-427D-A1D3-AB5483A7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8F18-E0F1-4C93-BCF9-0A883902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4D56-92AE-4C3B-A3D6-C91B4B8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C580-7167-4B8A-BB85-CF61B62A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8119-A4EC-4BDF-ACE9-FED22709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9110-CF80-41F5-A67B-9ACD135C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CECE-CA58-4F31-8061-54DEBBA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7FF-57A8-472F-959B-C15F30E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2440-B79A-4EA3-9266-942D5FD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6ACF-D964-45D0-8B3B-8D57093A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05BF-839A-4837-B73D-143F26D1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308B-5B44-4F7E-9C5B-56C657CF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82B4-66E5-4E53-8BC5-BD6AAB88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CC7-B656-4946-9181-E2D38C2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6B0-7CE7-4F67-B631-9B842215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3E1-6D37-47C3-91DC-7D3E682D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773-1C4C-452D-B5AF-C22AED1B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470-31D5-4919-A154-E59913D3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4B6-F641-4207-AB36-BD352665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0AF-B139-4632-B23E-F3641A7A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9CC3-7EF7-40DB-A999-244F9EE8E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00D3-EDA8-4879-B266-F5B020DAE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Aceoffix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4" descr=""/>
          <p:cNvPicPr/>
          <p:nvPr/>
        </p:nvPicPr>
        <p:blipFill>
          <a:blip r:embed="rId1"/>
          <a:stretch/>
        </p:blipFill>
        <p:spPr>
          <a:xfrm>
            <a:off x="1828800" y="1593720"/>
            <a:ext cx="7077240" cy="5075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Aceoffix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olly</dc:creator>
  <dc:description/>
  <dc:language>en-US</dc:language>
  <cp:lastModifiedBy>Polly</cp:lastModifiedBy>
  <dcterms:modified xsi:type="dcterms:W3CDTF">2011-11-05T06:33:22Z</dcterms:modified>
  <cp:revision>4</cp:revision>
  <dc:subject/>
  <dc:title>Slide 1</dc:title>
</cp:coreProperties>
</file>