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D3D-0BCD-43DD-BCBE-C4710DC0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0FDD-D6E9-489D-BA7C-445A6267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7CF-0074-4BA6-8EDD-A1D44B38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9858-A4D5-4B8B-9A80-730AF79C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9EF8-53C0-4407-86A5-EF1F7C8D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DBB3-0400-40AD-8838-A1B84109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5161-9298-4B44-8481-FFF66086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A807-FA80-49D4-85BB-8F1C0D9B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4725-0475-4749-B6C4-FD0746EC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2BF8-0CF4-43F3-B9CB-F658F2EE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3C41-25D7-4B32-B54E-1B8D6F33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231A-094D-4C16-A3C7-9DCA4B52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C241-BEBB-4D6D-B1CB-9FA9E60C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EC50-9BA7-4FE6-A3E2-DA7899EF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4BF5-CADC-4D82-BE54-D3188CAD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7E98-5B19-48C8-8FDC-F55DCCBB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921A-9C46-46AD-8800-A1172DCF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3ED-8C07-4A18-8959-D281648C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4B51-0598-4B20-BD69-7C922DFE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7BE6-D639-46D7-B9AC-0E446E66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719-3AD2-49C3-B1F4-07127146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D37A-2CD6-4DAE-9EFC-BE8A172F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F697-45B2-41C7-B2A0-7D2B171B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679-D813-4534-9986-80A9BC4B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0D0D-C607-408D-B5F4-928FE7AE5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E3BC-E3E5-44B9-8F0F-AE657CF6A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95252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Aceoffix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5810040"/>
            <a:ext cx="86868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ontent Placeholder 4" descr=""/>
          <p:cNvPicPr/>
          <p:nvPr/>
        </p:nvPicPr>
        <p:blipFill>
          <a:blip r:embed="rId1"/>
          <a:stretch/>
        </p:blipFill>
        <p:spPr>
          <a:xfrm>
            <a:off x="1828800" y="1593720"/>
            <a:ext cx="7077240" cy="5075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Aceoffix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olly</dc:creator>
  <dc:description/>
  <dc:language>en-US</dc:language>
  <cp:lastModifiedBy>Polly</cp:lastModifiedBy>
  <dcterms:modified xsi:type="dcterms:W3CDTF">2011-11-05T06:33:22Z</dcterms:modified>
  <cp:revision>4</cp:revision>
  <dc:subject/>
  <dc:title>Slide 1</dc:title>
</cp:coreProperties>
</file>