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A37-F744-4D42-9254-C58048DC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9A4-7618-4B60-9CF1-A68026B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264-EB77-4087-8F57-22D84F06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3FF-B3FF-40E3-9E81-525FCF3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E830-90CD-46A0-8461-74E1AA59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2101-055F-47F7-AE65-5D955FB6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2FF-D22C-4E29-BCB1-9E083920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CF02-A9D7-4946-B599-FBED515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93FB-4048-49BA-96BB-C1DE21E2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3A7-F3CA-445F-A185-2B2E77DA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63A6-AC6A-425D-92D7-714DFF3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EB59-B62E-413D-BC1A-39D60FAB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0DAB-F36C-4433-9993-F14A3A2A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5A2D-720E-4096-9B80-EA3F6AB2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2E4C-34AE-4920-B0FA-EFD9009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49CD-E8B3-4EF1-B095-CF185948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6A2C-13A4-4AF0-B7FD-AFDB1D0F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949-EB46-40F8-AE82-9DC148E7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219-1CF3-4FD2-A69A-92A33F55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8EA-5001-4A44-A4E5-C168E621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0AB-C361-44AF-AC8E-D396341A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7DFE-B057-4DCE-94E0-DC31F1F0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3B13-0724-4A9F-9AAA-5879BB5A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8CB-083F-413B-B385-A24C8118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182-97BB-4CF5-AD6B-4DD4914AE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38D-8941-44F7-A123-A18E9F836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95252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1004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4" descr=""/>
          <p:cNvPicPr/>
          <p:nvPr/>
        </p:nvPicPr>
        <p:blipFill>
          <a:blip r:embed="rId1"/>
          <a:stretch/>
        </p:blipFill>
        <p:spPr>
          <a:xfrm>
            <a:off x="1828800" y="1593720"/>
            <a:ext cx="7077240" cy="50752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440" y="188640"/>
            <a:ext cx="70772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Aceoffix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Polly</dc:creator>
  <dc:description/>
  <dc:language>en-US</dc:language>
  <cp:lastModifiedBy>Polly</cp:lastModifiedBy>
  <dcterms:modified xsi:type="dcterms:W3CDTF">2011-11-05T06:33:22Z</dcterms:modified>
  <cp:revision>4</cp:revision>
  <dc:subject/>
  <dc:title>Slide 1</dc:title>
</cp:coreProperties>
</file>