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484-2943-4FE7-AEAE-55D0BEA9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83A-E574-4B94-8DEB-501D8639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503-CA68-4F28-A698-A5B54E1B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738-D9AA-4A81-A4CA-DC668EA0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D82-4756-4437-B3FD-5AE3DF48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888-085F-47C1-8E72-DE700269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74D-3302-49D4-BEC8-0BE58EA9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D1F-4AC1-4F0F-AD9F-C231D19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F3-D3D7-4BDF-8239-7BDDB3F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6CA-AC70-4EF4-962B-96622A6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210-C909-4315-99A4-2159FD3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703-09E8-47C4-92B8-54F0FBD9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0C69-A810-4B36-A580-A689EA7D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1015920"/>
            <a:ext cx="25398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21040" y="10159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&gt;&lt;reportElement x="0" y="50" width="200" height="0"/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650960"/>
            <a:ext cx="253980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21040" y="16509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 direction="TopDown"&gt;&lt;reportElement x="0" y="100" width="200" height="40"/&gt;&lt;graphicElement&gt;&lt;pen lineWidth="2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54160" y="2285640"/>
            <a:ext cx="2539800" cy="5079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21040" y="228600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 direction="BottomUp"&gt;&lt;reportElement x="0" y="150" width="200" height="40" forecolor="green"/&gt;&lt;graphicElement&gt;&lt;pen lineWidth="4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921040"/>
            <a:ext cx="12960" cy="5079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21040" y="292104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ne&gt;&lt;reportElement x="100" y="200" width="0" height="40" forecolor="blue"/&gt;&lt;graphicElement&gt;&lt;pen lineWidth="1" lineStyle="Dashed"/&gt;&lt;/graphicElement&gt;&lt;/li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556080"/>
            <a:ext cx="2539800" cy="50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21040" y="355608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250" width="200" height="40" backcolor="#FFFF99"/&gt;&lt;graphicElement&gt;&lt;pen lineWidth="0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4191120"/>
            <a:ext cx="2539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1040" y="41911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300" width="200" height="40"/&gt;&lt;graphicElement&gt;&lt;pen lineWidth="1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160" y="4826160"/>
            <a:ext cx="2539800" cy="507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1040" y="48261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 radius="15"&gt;&lt;reportElement x="0" y="350" width="200" height="40" backcolor="#FFFF00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160" y="5460840"/>
            <a:ext cx="2539800" cy="508320"/>
          </a:xfrm>
          <a:prstGeom prst="rect">
            <a:avLst/>
          </a:prstGeom>
          <a:solidFill>
            <a:srgbClr val="00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21040" y="5460840"/>
            <a:ext cx="4317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400" width="200" height="40" forecolor="red" backcolor="#00FFFF"/&gt;&lt;graphicElement&gt;&lt;pen lineWidth="4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6095880"/>
            <a:ext cx="2539800" cy="507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1040" y="609588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0" y="450" width="200" height="40" forecolor="#FF00FF" backcolor="#C0C0C0"/&gt;&lt;graphicElement&gt;&lt;pen lineWidth="1" lineStyle="Dashed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6730920"/>
            <a:ext cx="1904760" cy="381240"/>
          </a:xfrm>
          <a:prstGeom prst="rect">
            <a:avLst/>
          </a:prstGeom>
          <a:solidFill>
            <a:srgbClr val="ffaa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6858000"/>
            <a:ext cx="19051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21040" y="673092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50" y="510" width="150" height="30" forecolor="blue" mode="Opaque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4160" y="7365960"/>
            <a:ext cx="1904760" cy="380880"/>
          </a:xfrm>
          <a:prstGeom prst="rect">
            <a:avLst/>
          </a:prstGeom>
          <a:solidFill>
            <a:srgbClr val="ffaa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8840" y="7493040"/>
            <a:ext cx="190512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1040" y="736596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rectangle&gt;&lt;reportElement x="50" y="560" width="150" height="30" forecolor="blue" mode="Transparent"/&gt;&lt;graphicElement&gt;&lt;pen lineWidth="2"/&gt;&lt;/graphicElement&gt;&lt;/rect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160" y="8001000"/>
            <a:ext cx="2539800" cy="5079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1040" y="800100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lipse&gt;&lt;reportElement x="0" y="600" width="200" height="40" forecolor="red" backcolor="#FFFF99"/&gt;&lt;graphicElement&gt;&lt;pen lineWidth="2"/&gt;&lt;/graphicElement&gt;&lt;/ellips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080" y="8636040"/>
            <a:ext cx="507960" cy="507960"/>
          </a:xfrm>
          <a:prstGeom prst="ellipse">
            <a:avLst/>
          </a:prstGeom>
          <a:solidFill>
            <a:srgbClr val="99ffff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8636040"/>
            <a:ext cx="4317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lipse&gt;&lt;reportElement x="80" y="650" width="40" height="40" forecolor="#009900" backcolor="#99FFFF"/&gt;&lt;graphicElement&gt;&lt;pen lineWidth="2"/&gt;&lt;/graphicElement&gt;&lt;/ellips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ShapesReport</dc:title>
</cp:coreProperties>
</file>