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325-E9EB-499B-828F-10138872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AE7-FC00-4532-B542-65BFA1E6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714-E1BA-4C08-9699-BC8A1827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F9E-2E05-4929-806D-F52E3928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ACD-0470-449B-8C0F-84E229D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98B-B441-4337-88BF-2C5286AC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87D-4112-4EF2-8CA5-D4124FDA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4A0-2B8A-41D0-8775-7C0EF7E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3A8-70ED-4B36-830C-FF0247EB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4E1-C828-4962-B205-A20E9AF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B4D-D7A6-4BC3-91A4-C469B0D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49F-4EFE-49DB-BD7E-BBA5169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323C-4567-405E-A45E-746A5ED84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6350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762120"/>
            <a:ext cx="654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143000"/>
            <a:ext cx="654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rder value: 1424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5876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680" y="1854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85436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044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2108160"/>
            <a:ext cx="41274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21337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680" y="2133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B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680" y="23115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680" y="2311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680" y="2311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680" y="2438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99080" y="2311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680" y="24890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2489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2616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352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680" y="2489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5480" y="24890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58920" y="24890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680" y="2489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68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680" y="2616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03520" y="2489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680" y="67564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680" y="67564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2360" y="67564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7564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692136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680" y="69343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6052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93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71121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7112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76440" y="7112160"/>
            <a:ext cx="12700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46520" y="711216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2440" y="2108160"/>
            <a:ext cx="2222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62440" y="2133720"/>
            <a:ext cx="254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16600" y="2133720"/>
            <a:ext cx="196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B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62440" y="2311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62440" y="23115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2440" y="2311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62440" y="24382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85080" y="2311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62440" y="2489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62440" y="2489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6244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2440" y="2616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8508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2440" y="24890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16600" y="24890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24890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62440" y="2489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6244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62440" y="2616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5080" y="2489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244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660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Schnei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2666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7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6244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1660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8447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0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62440" y="30225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62440" y="30225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32520" y="30225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7560" y="30225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62440" y="3200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62440" y="32004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62440" y="3200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62440" y="33274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85080" y="3200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62440" y="3378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62440" y="3378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6244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62440" y="3505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8508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62440" y="3378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32520" y="33782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756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62440" y="3378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6244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62440" y="3505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85080" y="3378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680" y="7391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73915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960" y="75819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680" y="7645320"/>
            <a:ext cx="4127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76708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680" y="76708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Bo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680" y="7848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680" y="7848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6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680" y="79754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990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8026560"/>
            <a:ext cx="2031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548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5892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8026560"/>
            <a:ext cx="2032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8026560"/>
            <a:ext cx="25416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2104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00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5448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8204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2104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17840" y="8204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91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62440" y="7645320"/>
            <a:ext cx="2222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62440" y="76708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16600" y="76708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Bo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62440" y="78487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62440" y="7848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62440" y="797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8508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62440" y="8026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62440" y="8026560"/>
            <a:ext cx="2541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16600" y="8026560"/>
            <a:ext cx="10792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8026560"/>
            <a:ext cx="8892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6244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1660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Hei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8204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8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6244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1660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ael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8381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9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62440" y="85597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62440" y="855972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32520" y="855972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67560" y="855972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62440" y="87375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62440" y="87375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62440" y="873756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62440" y="88646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985080" y="873756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62440" y="8915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62440" y="8915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6244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62440" y="9042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8508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62440" y="891540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32520" y="891540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756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62440" y="8915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6244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62440" y="9042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85080" y="8915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1680" y="1219320"/>
            <a:ext cx="4127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1680" y="67564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1680" y="67564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67564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67564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680" y="692136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1680" y="69343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6052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1680" y="71121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1680" y="7112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76440" y="7112160"/>
            <a:ext cx="12700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46520" y="711216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1680" y="7112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16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1680" y="72388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99080" y="71121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1680" y="73915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73915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7960" y="75819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71680" y="7645320"/>
            <a:ext cx="4127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1680" y="76708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1680" y="76708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1680" y="7848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71680" y="7848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680" y="79754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699080" y="784872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680" y="8026560"/>
            <a:ext cx="2031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1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548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5892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1680" y="8026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1680" y="8153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0352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8026560"/>
            <a:ext cx="2032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66880" y="8026560"/>
            <a:ext cx="25416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21040" y="8026560"/>
            <a:ext cx="107964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00680" y="8026560"/>
            <a:ext cx="2538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254480" y="8026560"/>
            <a:ext cx="444600" cy="12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666880" y="80265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66880" y="81532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66880" y="8204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2104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17840" y="8204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8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65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62440" y="7645320"/>
            <a:ext cx="222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62440" y="76708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16600" y="76708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62440" y="78487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62440" y="7848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6244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62440" y="797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85080" y="7848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62440" y="8026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62440" y="8026560"/>
            <a:ext cx="2541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16600" y="8026560"/>
            <a:ext cx="10792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95880" y="8026560"/>
            <a:ext cx="8892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6244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1660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8204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2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44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1660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Kar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95880" y="8381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2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6244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1660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Kar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95880" y="85597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2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762440" y="87375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62440" y="87375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32520" y="87375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667560" y="87375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62440" y="8915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62440" y="89154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62440" y="8915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62440" y="90424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85080" y="89154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62440" y="9093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62440" y="9093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6244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762440" y="9220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8508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6244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32520" y="90932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6756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62440" y="9093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6244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62440" y="9220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985080" y="90932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1680" y="1219320"/>
            <a:ext cx="412740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680" y="6756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25480" y="6756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5120" y="6756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22640" y="6756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71680" y="69343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71680" y="6934320"/>
            <a:ext cx="292068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92360" y="6934320"/>
            <a:ext cx="6987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91120" y="6934320"/>
            <a:ext cx="5079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680" y="709920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1680" y="7112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6052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05120" y="7112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22264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71680" y="72896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71680" y="728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716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1680" y="7416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990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71680" y="72896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76440" y="728964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746520" y="72896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71680" y="728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716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71680" y="7416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99080" y="7289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1680" y="75693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905120" y="756936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07960" y="775980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71680" y="7823160"/>
            <a:ext cx="4127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680" y="78487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71680" y="784872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Da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1680" y="80265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1680" y="8026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680" y="8026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71680" y="8153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699080" y="80265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71680" y="82040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1680" y="820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716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1680" y="8331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0352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71680" y="8204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5480" y="82040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158920" y="82040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71680" y="820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716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71680" y="83311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0352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666880" y="820404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666880" y="820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6668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666880" y="83311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990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666880" y="820404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921040" y="82040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254480" y="82040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66880" y="820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6668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83311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99080" y="82040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6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762440" y="7823160"/>
            <a:ext cx="2222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762440" y="7848720"/>
            <a:ext cx="254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16600" y="7848720"/>
            <a:ext cx="196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Da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762440" y="80265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762440" y="80265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762440" y="8026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762440" y="81532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985080" y="802656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62440" y="8204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62440" y="820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76244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762440" y="8331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98508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62440" y="82040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16600" y="82040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95880" y="82040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62440" y="820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6244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762440" y="83311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985080" y="82040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76244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01660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Ste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095880" y="8381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9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6244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1660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R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95880" y="85597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5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76244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1660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095880" y="873756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76244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01660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Hei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095880" y="89154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62440" y="9093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62440" y="90932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762440" y="9093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762440" y="922032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985080" y="9093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62440" y="92710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762440" y="9271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76244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762440" y="9398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98508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762440" y="92710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032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667560" y="9271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62440" y="9271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76244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762440" y="9398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985080" y="9271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1680" y="1219320"/>
            <a:ext cx="4127400" cy="80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5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5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71680" y="6756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25480" y="6756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05120" y="6756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222640" y="6756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71680" y="6934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5480" y="6934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1680" y="7112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25480" y="7112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905120" y="7112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22264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71680" y="7289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825480" y="7289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05120" y="7289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222640" y="7289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71680" y="7467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825480" y="7467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7467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22640" y="7467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71680" y="7645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5480" y="7645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905120" y="7645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222640" y="7645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71680" y="7823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825480" y="7823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05120" y="7823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222640" y="7823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71680" y="8001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25480" y="8001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05120" y="8001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22640" y="8001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71680" y="8178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825480" y="8178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905120" y="8178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222640" y="8178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1680" y="8356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2548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05120" y="8356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22640" y="8356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1680" y="8534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2548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905120" y="8534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22640" y="8534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71680" y="87123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71680" y="8712360"/>
            <a:ext cx="292068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492360" y="8712360"/>
            <a:ext cx="6987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191120" y="8712360"/>
            <a:ext cx="507960" cy="126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71680" y="88772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1680" y="88898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460520" y="888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905120" y="888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22640" y="888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1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1680" y="90676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71680" y="90676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16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71680" y="91947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990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71680" y="90676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476440" y="90676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746520" y="90676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71680" y="90676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716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71680" y="91947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699080" y="90676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762440" y="1219320"/>
            <a:ext cx="2222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762440" y="12445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762440" y="1244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76244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762440" y="1371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98508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762440" y="14223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762440" y="142236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016600" y="142236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142236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76244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01660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Ste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95880" y="16002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6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6244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01660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ael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95880" y="1778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76244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01660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1955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0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76244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01660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95880" y="21337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76244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01660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095880" y="23115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5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762440" y="2489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762440" y="24890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032520" y="24890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667560" y="24890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762440" y="2666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762440" y="26668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6244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762440" y="27939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8508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762440" y="28447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762440" y="28447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032520" y="28447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66756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905120" y="96516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71680" y="1219320"/>
            <a:ext cx="412740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71680" y="12445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1680" y="14223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71680" y="1422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71680" y="15494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699080" y="14223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1680" y="160020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71680" y="160020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7168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71680" y="1727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0352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71680" y="160020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825480" y="160020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158920" y="160020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71680" y="160020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7168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71680" y="17272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603520" y="160020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1680" y="48006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71680" y="480060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492360" y="480060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191120" y="480060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1680" y="49658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71680" y="49784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46052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70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1680" y="51562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71680" y="5156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716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6990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1680" y="51562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476440" y="51562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746520" y="51562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71680" y="51562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716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699080" y="51562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762440" y="1219320"/>
            <a:ext cx="22226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62440" y="124452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016600" y="124452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L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762440" y="14223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762440" y="16002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762440" y="160020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76244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762440" y="1727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98508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762440" y="160020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016600" y="160020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095880" y="160020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762440" y="160020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76244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762440" y="17272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985080" y="160020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76244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01660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5880" y="17780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76244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01660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095880" y="19558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3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76244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01660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095880" y="21337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76244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01660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Hein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095880" y="23115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7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762440" y="2489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24890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032520" y="24890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667560" y="24890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62440" y="2666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762440" y="26668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76244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762440" y="27939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985080" y="2666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762440" y="28447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762440" y="28447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032520" y="28447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66756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762440" y="2844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76244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762440" y="29718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985080" y="28447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71680" y="543564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543564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07960" y="562608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71680" y="5689440"/>
            <a:ext cx="412740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71680" y="571500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71680" y="57150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1680" y="58928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71680" y="58928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71680" y="58928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71680" y="60199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699080" y="58928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71680" y="607068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71680" y="60706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716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1680" y="61977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60352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71680" y="60706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25480" y="607068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905120" y="60706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158920" y="607068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71680" y="60706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716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71680" y="61977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60352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71680" y="6248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82548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905120" y="6248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222640" y="6248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71680" y="6426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2548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905120" y="6426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222640" y="6426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71680" y="6603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2548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05120" y="6603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222640" y="6603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71680" y="6781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82548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6781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222640" y="6781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71680" y="6959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2548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905120" y="6959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222640" y="69595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71680" y="7137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548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905120" y="7137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22640" y="71373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71680" y="7315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825480" y="7315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05120" y="7315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222640" y="7315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71680" y="7493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25480" y="7493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905120" y="7493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22640" y="7493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71680" y="7670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25480" y="7670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90512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22640" y="7670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71680" y="7848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5480" y="7848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05120" y="7848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222640" y="7848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8026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825480" y="8026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222640" y="8026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55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666880" y="607068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666880" y="60706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668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66880" y="61977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6990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666880" y="607068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921040" y="607068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000680" y="60706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54480" y="607068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666880" y="607068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6668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666880" y="61977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699080" y="60706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666880" y="62485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92104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000680" y="6248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317840" y="62485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666880" y="64263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92104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000680" y="6426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17840" y="64263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666880" y="66038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92104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000680" y="6603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317840" y="66038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666880" y="67816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92104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000680" y="6781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317840" y="67816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666880" y="69595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92104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000680" y="6959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317840" y="69595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666880" y="71373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92104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000680" y="7137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317840" y="71373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666880" y="73152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921040" y="7315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000680" y="7315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317840" y="73152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666880" y="7493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921040" y="7493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000680" y="7493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317840" y="7493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666880" y="7670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921040" y="7670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00068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317840" y="7670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666880" y="78487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21040" y="7848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000680" y="7848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317840" y="78487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666880" y="80265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921040" y="8026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000680" y="8026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317840" y="80265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666880" y="82040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92104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00068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317840" y="82040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666880" y="83818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92104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00068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17840" y="83818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666880" y="85597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92104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00068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317840" y="85597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666880" y="87375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92104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400068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317840" y="87375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666880" y="89154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92104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00068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317840" y="89154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86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762440" y="5689440"/>
            <a:ext cx="222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762440" y="571500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016600" y="571500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762440" y="58928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762440" y="58928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762440" y="58928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762440" y="60199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985080" y="58928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762440" y="60706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762440" y="60706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76244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98508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762440" y="607068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016600" y="607068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95880" y="607068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762440" y="60706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76244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985080" y="60706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762440" y="6248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01660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R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095880" y="62485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762440" y="6426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01660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095880" y="64263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762440" y="6603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01660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66038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4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762440" y="6781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01660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67816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6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762440" y="6959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01660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6095880" y="69595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1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62440" y="7137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01660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M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095880" y="713736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762440" y="73152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762440" y="731520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032520" y="731520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667560" y="731520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762440" y="7493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762440" y="74930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762440" y="74930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762440" y="762012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6985080" y="74930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4762440" y="7670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762440" y="76708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76244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762440" y="77979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98508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762440" y="76708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032520" y="76708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66756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762440" y="76708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476244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762440" y="77979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6985080" y="76708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71680" y="1219320"/>
            <a:ext cx="41274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71680" y="26668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71680" y="26668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492360" y="26668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191120" y="26668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71680" y="283212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71680" y="28447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46052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76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71680" y="30225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71680" y="3022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716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71680" y="314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6990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71680" y="302256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476440" y="302256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746520" y="302256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71680" y="30225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716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1680" y="3149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699080" y="302256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71680" y="33019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905120" y="33019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07960" y="349236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71680" y="3556080"/>
            <a:ext cx="412740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71680" y="35812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71680" y="35812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Ol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71680" y="37591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71680" y="37591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1680" y="37591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71680" y="38862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699080" y="37591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71680" y="39369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1680" y="39369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716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1680" y="406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60352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71680" y="39369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825480" y="39369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905120" y="39369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158920" y="39369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71680" y="39369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716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1680" y="40640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60352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71680" y="4114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825480" y="4114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905120" y="4114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222640" y="4114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71680" y="4292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825480" y="4292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905120" y="4292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222640" y="4292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571680" y="4470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825480" y="4470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05120" y="4470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222640" y="4470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71680" y="4648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825480" y="4648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905120" y="4648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222640" y="4648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71680" y="4826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825480" y="4826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905120" y="4826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222640" y="4826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71680" y="5003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825480" y="5003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905120" y="5003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222640" y="5003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71680" y="5181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825480" y="5181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905120" y="5181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222640" y="5181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71680" y="5359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25480" y="5359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905120" y="5359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222640" y="5359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71680" y="5537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25480" y="5537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905120" y="5537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222640" y="5537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71680" y="5715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825480" y="5715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905120" y="5715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222640" y="5715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71680" y="5892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825480" y="5892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905120" y="5892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222640" y="5892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71680" y="6070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825480" y="6070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905120" y="6070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22640" y="6070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71680" y="6248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825480" y="6248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05120" y="6248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222640" y="6248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71680" y="6426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25480" y="6426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905120" y="6426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222640" y="6426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71680" y="6603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825480" y="6603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905120" y="6603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222640" y="6603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71680" y="6781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825480" y="6781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905120" y="6781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222640" y="6781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71680" y="6959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25480" y="6959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905120" y="6959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2222640" y="69595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71680" y="7137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825480" y="7137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905120" y="7137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222640" y="71373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71680" y="7315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825480" y="7315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905120" y="7315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222640" y="7315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71680" y="7493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25480" y="7493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05120" y="7493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222640" y="7493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71680" y="7670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25480" y="7670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905120" y="7670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222640" y="7670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571680" y="7848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825480" y="7848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905120" y="7848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22640" y="7848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71680" y="8026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825480" y="8026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905120" y="8026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2222640" y="8026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71680" y="8204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825480" y="8204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905120" y="8204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222640" y="8204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71680" y="8381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25480" y="8381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905120" y="8381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222640" y="8381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71680" y="8559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825480" y="8559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905120" y="8559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222640" y="8559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71680" y="8737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825480" y="8737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905120" y="8737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22640" y="8737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71680" y="8915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825480" y="8915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905120" y="8915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222640" y="8915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71680" y="908064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71680" y="90932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46052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90512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22264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0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666880" y="393696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666880" y="39369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6668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2666880" y="406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6990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666880" y="393696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921040" y="39369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000680" y="39369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254480" y="39369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666880" y="393696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26668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666880" y="40640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699080" y="39369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666880" y="411480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21040" y="4114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000680" y="4114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317840" y="411480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666880" y="42926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921040" y="4292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000680" y="4292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317840" y="42926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666880" y="44704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921040" y="4470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4000680" y="4470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317840" y="44704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666880" y="46483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921040" y="4648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0680" y="4648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317840" y="46483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666880" y="48261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921040" y="4826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4000680" y="4826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317840" y="48261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666880" y="50036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921040" y="5003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000680" y="5003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317840" y="50036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666880" y="51814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921040" y="5181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000680" y="5181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4317840" y="51814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666880" y="535932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921040" y="5359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000680" y="5359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317840" y="535932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666880" y="553716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921040" y="5537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000680" y="5537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317840" y="553716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666880" y="908064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666880" y="90932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556080" y="9093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000680" y="9093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317840" y="9093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82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71680" y="9271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71680" y="92710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476440" y="927108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746520" y="9271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1680" y="9271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716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71680" y="93981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4699080" y="927108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762440" y="3556080"/>
            <a:ext cx="22226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762440" y="35812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016600" y="35812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Ol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762440" y="37591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762440" y="37591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762440" y="37591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762440" y="38862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985080" y="37591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762440" y="39369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762440" y="39369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76244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762440" y="406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98508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4762440" y="393696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5016600" y="393696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095880" y="393696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762440" y="39369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476244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4762440" y="40640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985080" y="39369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762440" y="4114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016600" y="4114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anne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095880" y="41148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6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762440" y="4292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016600" y="4292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Som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95880" y="42926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3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4762440" y="4470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016600" y="4470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Som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95880" y="44704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2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762440" y="4648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016600" y="4648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 R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095880" y="46483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1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762440" y="4826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016600" y="4826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095880" y="48261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4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762440" y="50036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762440" y="50036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032520" y="50036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6667560" y="50036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762440" y="51814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762440" y="51814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762440" y="51814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762440" y="53085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985080" y="51814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762440" y="53593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762440" y="5359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76244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762440" y="5486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698508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4762440" y="53593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032520" y="53593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6667560" y="5359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762440" y="53593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76244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762440" y="5486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6985080" y="53593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71680" y="1219320"/>
            <a:ext cx="41274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71680" y="124452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492360" y="124452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191120" y="124452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905120" y="160020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71680" y="1854360"/>
            <a:ext cx="412740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71680" y="187956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71680" y="18795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Os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71680" y="20574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71680" y="20574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71680" y="20574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71680" y="21844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20574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71680" y="22352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80" y="22352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5716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71680" y="23623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60352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1680" y="22352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825480" y="22352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905120" y="22352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158920" y="22352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71680" y="22352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71680" y="23623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260352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71680" y="241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82548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905120" y="2413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222640" y="2413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71680" y="2590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82548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905120" y="2590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22640" y="2590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71680" y="2768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825480" y="2768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905120" y="2768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222640" y="2768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71680" y="2946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825480" y="2946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905120" y="2946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2222640" y="2946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71680" y="3124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25480" y="3124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905120" y="3124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222640" y="3124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71680" y="3301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825480" y="3301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1905120" y="3301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222640" y="3301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71680" y="3479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825480" y="3479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905120" y="3479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222640" y="3479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71680" y="3657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825480" y="3657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905120" y="3657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222640" y="3657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71680" y="3835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825480" y="3835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905120" y="3835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222640" y="3835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71680" y="4013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825480" y="4013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05120" y="4013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222640" y="4013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71680" y="4191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25480" y="4191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905120" y="4191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222640" y="4191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571680" y="4368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825480" y="4368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905120" y="4368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2222640" y="4368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71680" y="4546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825480" y="4546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905120" y="4546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222640" y="4546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71680" y="4724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825480" y="4724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905120" y="4724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222640" y="4724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71680" y="4902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825480" y="4902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905120" y="4902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222640" y="4902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71680" y="5079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825480" y="5079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905120" y="5079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222640" y="5079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71680" y="5257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825480" y="5257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905120" y="5257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222640" y="5257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71680" y="5435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825480" y="5435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905120" y="5435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222640" y="5435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71680" y="5613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25480" y="5613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905120" y="5613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222640" y="5613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71680" y="5791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825480" y="5791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905120" y="5791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2222640" y="5791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71680" y="5969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825480" y="5969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905120" y="5969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222640" y="5969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71680" y="6146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825480" y="6146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905120" y="6146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222640" y="6146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71680" y="6324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825480" y="6324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905120" y="6324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222640" y="6324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71680" y="6502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25480" y="6502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905120" y="6502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2222640" y="6502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71680" y="6680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825480" y="6680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905120" y="6680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222640" y="6680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71680" y="6858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825480" y="6858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1905120" y="6858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222640" y="6858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571680" y="7035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825480" y="7035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905120" y="7035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222640" y="7035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71680" y="7213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825480" y="7213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905120" y="7213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2222640" y="7213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71680" y="7391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25480" y="7391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905120" y="7391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222640" y="7391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71680" y="7569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825480" y="7569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905120" y="7569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222640" y="7569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71680" y="7746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825480" y="7746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905120" y="7746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222640" y="7746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71680" y="7924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825480" y="7924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905120" y="7924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2222640" y="7924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71680" y="81025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825480" y="81025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905120" y="8102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222640" y="81025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71680" y="82803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825480" y="82803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905120" y="82803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222640" y="82803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71680" y="8458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825480" y="8458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905120" y="8458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222640" y="8458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71680" y="8636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825480" y="8636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1905120" y="8636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222640" y="8636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71680" y="8813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825480" y="8813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905120" y="8813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2222640" y="8813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71680" y="8991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825480" y="8991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905120" y="8991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222640" y="8991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71680" y="915660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571680" y="91695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460520" y="9169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905120" y="9169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2222640" y="9169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96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666880" y="223524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666880" y="22352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26668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666880" y="23623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6990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666880" y="223524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921040" y="22352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000680" y="22352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254480" y="22352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666880" y="22352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6668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666880" y="23623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699080" y="22352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2666880" y="24130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92104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000680" y="2413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317840" y="24130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666880" y="25909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000680" y="2590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317840" y="25909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2666880" y="27687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921040" y="2768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000680" y="2768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317840" y="27687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2666880" y="29462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921040" y="2946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4000680" y="2946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317840" y="29462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2666880" y="31240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2921040" y="3124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000680" y="3124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317840" y="31240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666880" y="9156600"/>
            <a:ext cx="203220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666880" y="9169560"/>
            <a:ext cx="762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556080" y="9169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000680" y="9169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317840" y="91695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76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71680" y="93470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71680" y="93470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716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71680" y="94741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46990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71680" y="934704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476440" y="934704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746520" y="93470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71680" y="93470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5716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71680" y="94741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699080" y="93470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762440" y="1854360"/>
            <a:ext cx="2222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762440" y="187956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5016600" y="187956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Os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762440" y="2057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762440" y="2057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76244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762440" y="2184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98508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762440" y="2235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4762440" y="22352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016600" y="22352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095880" y="22352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762440" y="241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501660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Kar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95880" y="2413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62440" y="2590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01660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Schnei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6095880" y="25909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9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762440" y="2768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016600" y="2768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6095880" y="27687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4762440" y="2946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016600" y="2946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6095880" y="29462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1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762440" y="3124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016600" y="3124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6095880" y="3124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3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762440" y="3301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016600" y="3301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 M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6095880" y="33019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6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4762440" y="34797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762440" y="34797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032520" y="34797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6667560" y="34797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4762440" y="36576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762440" y="36576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762440" y="3657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762440" y="3784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6985080" y="3657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762440" y="38354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762440" y="383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76244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4762440" y="3962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98508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762440" y="38354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032520" y="38354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667560" y="3835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762440" y="3835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76244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762440" y="3962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985080" y="3835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71680" y="1219320"/>
            <a:ext cx="41274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71680" y="124452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492360" y="124452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4191120" y="124452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71680" y="16002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905120" y="160020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07960" y="17906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71680" y="1854360"/>
            <a:ext cx="41274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71680" y="18795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00"/>
                </a:solidFill>
                <a:latin typeface="Arial"/>
              </a:rPr>
              <a:t>No Orders From Palo Al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762440" y="1854360"/>
            <a:ext cx="2222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762440" y="187956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5016600" y="187956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Palo Al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762440" y="20574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762440" y="20574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476244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4762440" y="21844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985080" y="20574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762440" y="2235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762440" y="22352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016600" y="22352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095880" y="22352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762440" y="22352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76244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762440" y="23623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985080" y="22352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762440" y="241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016600" y="241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095880" y="2413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6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4762440" y="2590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016600" y="2590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095880" y="25909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1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4762440" y="27687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762440" y="2768760"/>
            <a:ext cx="127008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6032520" y="2768760"/>
            <a:ext cx="63504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6667560" y="2768760"/>
            <a:ext cx="317520" cy="126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4762440" y="29462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762440" y="294624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762440" y="2946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4762440" y="307332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985080" y="294624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762440" y="31240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4762440" y="3124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476244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762440" y="3251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98508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4762440" y="31240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032520" y="312408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6667560" y="3124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762440" y="3124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76244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62440" y="325116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6985080" y="312408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71680" y="3403440"/>
            <a:ext cx="12697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905120" y="3403440"/>
            <a:ext cx="25398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507960" y="3594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571680" y="3657600"/>
            <a:ext cx="4127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71680" y="36831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1680" y="36831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71680" y="38606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71680" y="386064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571680" y="3860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71680" y="39877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4699080" y="386064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571680" y="403848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71680" y="40384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7168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71680" y="4165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260352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71680" y="40384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825480" y="403848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905120" y="403848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2158920" y="403848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71680" y="403848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7168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71680" y="41655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603520" y="403848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571680" y="4216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825480" y="4216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42163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222640" y="42163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571680" y="4394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825480" y="4394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1905120" y="43941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222640" y="43941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71680" y="4572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825480" y="4572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905120" y="45720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2222640" y="45720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71680" y="4749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825480" y="474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905120" y="474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2222640" y="474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71680" y="49276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71680" y="492768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3492360" y="492768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191120" y="492768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71680" y="5092560"/>
            <a:ext cx="2031840" cy="1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71680" y="510552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460520" y="5105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905120" y="5105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2222640" y="5105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71680" y="5283360"/>
            <a:ext cx="4127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5716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71680" y="5410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46990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71680" y="5283360"/>
            <a:ext cx="761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476440" y="5283360"/>
            <a:ext cx="12700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746520" y="528336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571680" y="528336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5716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571680" y="5410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699080" y="5283360"/>
            <a:ext cx="0" cy="12672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4762440" y="3657600"/>
            <a:ext cx="222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4762440" y="3683160"/>
            <a:ext cx="254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016600" y="3683160"/>
            <a:ext cx="196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Par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4762440" y="38606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4762440" y="38606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762440" y="38606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762440" y="3987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6985080" y="38606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4762440" y="40384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762440" y="4038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476244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762440" y="4165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98508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4762440" y="403848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016600" y="403848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095880" y="403848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762440" y="4038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76244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4762440" y="41655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6985080" y="403848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762440" y="42163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016600" y="42163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5880" y="42163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4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4762440" y="43941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016600" y="43941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Fu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095880" y="439416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762440" y="45720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016600" y="45720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ia Ste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095880" y="45720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9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762440" y="47498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4762440" y="47498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6032520" y="47498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6667560" y="47498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4762440" y="49276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762440" y="4927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762440" y="492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4762440" y="50547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6985080" y="492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62440" y="51055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4762440" y="510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76244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4762440" y="5232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698508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4762440" y="5105520"/>
            <a:ext cx="762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6032520" y="510552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6667560" y="5105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4762440" y="510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476244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762440" y="52322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6985080" y="51055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71680" y="556272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1905120" y="556272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07960" y="575316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71680" y="5816520"/>
            <a:ext cx="4127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71680" y="584208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3300"/>
                </a:solidFill>
                <a:latin typeface="Arial"/>
              </a:rPr>
              <a:t>No Orders From 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4762440" y="5816520"/>
            <a:ext cx="2222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4762440" y="584208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016600" y="584208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San Franci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4762440" y="60199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4762440" y="60199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762440" y="60199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4762440" y="61466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985080" y="60199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4762440" y="619776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476244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4762440" y="6324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698508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4762440" y="6197760"/>
            <a:ext cx="25416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016600" y="6197760"/>
            <a:ext cx="107928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095880" y="6197760"/>
            <a:ext cx="889200" cy="12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4762440" y="61977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476244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4762440" y="632448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6985080" y="6197760"/>
            <a:ext cx="0" cy="12672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762440" y="6375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5016600" y="6375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ael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6095880" y="63752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2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4762440" y="6553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016600" y="6553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Pet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6095880" y="65530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1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762440" y="6730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016600" y="6730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6095880" y="673092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9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4762440" y="69087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762440" y="690876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032520" y="690876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6667560" y="690876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4762440" y="70866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762440" y="708660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762440" y="7086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4762440" y="7213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6985080" y="708660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762440" y="72644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4762440" y="7264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476244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4762440" y="7391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698508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4762440" y="726444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032520" y="726444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667560" y="7264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4762440" y="7264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76244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4762440" y="7391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985080" y="726444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71680" y="754380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1905120" y="7543800"/>
            <a:ext cx="2539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07960" y="773424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71680" y="7797960"/>
            <a:ext cx="412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71680" y="782316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571680" y="782316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s ordered by people in 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71680" y="800100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571680" y="80010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71680" y="80010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71680" y="812808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4699080" y="800100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71680" y="817884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71680" y="81788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5716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71680" y="83059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260352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71680" y="81788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825480" y="81788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1905120" y="81788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2158920" y="81788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71680" y="81788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5716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71680" y="830592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260352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71680" y="8356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82548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1905120" y="8356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2222640" y="8356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71680" y="8534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82548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905120" y="8534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2222640" y="85345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71680" y="8712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825480" y="8712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905120" y="8712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222640" y="87123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71680" y="8889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825480" y="888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1905120" y="888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222640" y="88898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571680" y="905508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571680" y="90676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460520" y="9067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905120" y="9067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2222640" y="9067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666880" y="8178840"/>
            <a:ext cx="2032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666880" y="81788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6668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666880" y="83059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6990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666880" y="8178840"/>
            <a:ext cx="25416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921040" y="817884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000680" y="817884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254480" y="817884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666880" y="817884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6668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2666880" y="8305920"/>
            <a:ext cx="2032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699080" y="817884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666880" y="835668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292104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000680" y="8356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4317840" y="83566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666880" y="853452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92104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000680" y="85345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4317840" y="853452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2666880" y="8712360"/>
            <a:ext cx="190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921040" y="8712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4000680" y="87123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4317840" y="8712360"/>
            <a:ext cx="381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2666880" y="8889840"/>
            <a:ext cx="190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2921040" y="888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4000680" y="88898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4317840" y="888984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2666880" y="9055080"/>
            <a:ext cx="203220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2666880" y="906768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3556080" y="90676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4000680" y="90676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4317840" y="9067680"/>
            <a:ext cx="3812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86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71680" y="9245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71680" y="9245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716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71680" y="9372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46990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71680" y="92455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2476440" y="924552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3746520" y="92455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571680" y="9245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5716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71680" y="9372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4699080" y="9245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762440" y="7797960"/>
            <a:ext cx="2222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762440" y="7823160"/>
            <a:ext cx="2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016600" y="7823160"/>
            <a:ext cx="19684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resses in Se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762440" y="800100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4762440" y="80010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4762440" y="80010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4762440" y="812808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6985080" y="800100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4762440" y="81788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762440" y="81788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76244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4762440" y="83059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698508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762440" y="817884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16600" y="817884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095880" y="817884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762440" y="81788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476244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762440" y="830592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985080" y="817884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4762440" y="83566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5016600" y="83566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Mi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6095880" y="835668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8 - 20th 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4762440" y="85345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016600" y="85345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6095880" y="853452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4762440" y="87123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5016600" y="87123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Cla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6095880" y="8712360"/>
            <a:ext cx="8892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 Seventh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762440" y="88898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016600" y="88898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 Som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6095880" y="888984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9 College A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762440" y="90676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762440" y="90676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4762440" y="906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762440" y="91947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6985080" y="90676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762440" y="92455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762440" y="924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76244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4762440" y="9372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698508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4762440" y="9245520"/>
            <a:ext cx="762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6032520" y="92455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1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6667560" y="92455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4762440" y="9245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76244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4762440" y="9372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985080" y="9245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07960" y="698400"/>
            <a:ext cx="6540480" cy="190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57168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905120" y="965160"/>
            <a:ext cx="1269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507960" y="1155600"/>
            <a:ext cx="65404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71680" y="1219320"/>
            <a:ext cx="412740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71680" y="12445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571680" y="12445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16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1680" y="13716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4699080" y="12445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71680" y="1422360"/>
            <a:ext cx="2031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7168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25480" y="1422360"/>
            <a:ext cx="107964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905120" y="1422360"/>
            <a:ext cx="2538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2158920" y="1422360"/>
            <a:ext cx="444600" cy="12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571680" y="142236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57168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71680" y="1549440"/>
            <a:ext cx="20318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2603520" y="1422360"/>
            <a:ext cx="0" cy="127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7168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2548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905120" y="16002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2222640" y="16002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571680" y="1778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825480" y="1778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905120" y="1778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2222640" y="1778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571680" y="1955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825480" y="1955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1905120" y="1955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2222640" y="1955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71680" y="21337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825480" y="21337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90512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222640" y="21337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571680" y="23115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825480" y="23115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1905120" y="23115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2222640" y="23115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71680" y="24890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825480" y="24890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1905120" y="24890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2222640" y="24890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571680" y="26668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825480" y="26668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1905120" y="26668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222640" y="26668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71680" y="28447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825480" y="28447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1905120" y="28447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2222640" y="28447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571680" y="30225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825480" y="30225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905120" y="30225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2222640" y="30225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71680" y="32004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825480" y="32004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905120" y="32004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222640" y="32004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571680" y="3378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825480" y="3378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905120" y="3378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2222640" y="3378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71680" y="3556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825480" y="3556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1905120" y="3556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222640" y="3556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71680" y="37339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825480" y="37339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905120" y="37339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2222640" y="37339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3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71680" y="39117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825480" y="39117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905120" y="39117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2222640" y="39117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3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71680" y="40892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825480" y="40892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1905120" y="40892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2222640" y="40892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571680" y="42670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825480" y="42670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905120" y="42670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2222640" y="42670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71680" y="44449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825480" y="44449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05120" y="44449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2222640" y="44449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71680" y="46227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825480" y="46227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Teleph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905120" y="46227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2222640" y="46227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571680" y="48006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825480" y="48006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905120" y="48006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222640" y="48006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571680" y="4978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825480" y="4978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905120" y="4978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222640" y="4978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71680" y="5156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825480" y="5156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ir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1905120" y="5156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2222640" y="5156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71680" y="53341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825480" y="53341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1905120" y="53341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222640" y="53341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71680" y="55119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825480" y="55119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1905120" y="55119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222640" y="55119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571680" y="56894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825480" y="56894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1905120" y="56894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2222640" y="56894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9,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571680" y="58672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825480" y="58672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Sho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1905120" y="58672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2222640" y="58672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,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71680" y="604512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25480" y="604512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1905120" y="604512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222640" y="604512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571680" y="622296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825480" y="622296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ck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1905120" y="622296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222640" y="622296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,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571680" y="64008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825480" y="64008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1905120" y="640080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2222640" y="640080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,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571680" y="657864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825480" y="657864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ephone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1905120" y="657864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2222640" y="657864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,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571680" y="675648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825480" y="675648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Ice T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1905120" y="6756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2222640" y="6756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,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71680" y="693432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825480" y="693432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 Tea C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905120" y="69343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2222640" y="693432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71680" y="7112160"/>
            <a:ext cx="190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825480" y="7112160"/>
            <a:ext cx="1015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on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905120" y="711216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2222640" y="7112160"/>
            <a:ext cx="380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,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71680" y="728964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571680" y="7289640"/>
            <a:ext cx="292068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3492360" y="7289640"/>
            <a:ext cx="6987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191120" y="7289640"/>
            <a:ext cx="507960" cy="127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571680" y="7454880"/>
            <a:ext cx="20318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571680" y="746748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1460520" y="7467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1905120" y="7467480"/>
            <a:ext cx="25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2222640" y="7467480"/>
            <a:ext cx="380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00,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571680" y="7645320"/>
            <a:ext cx="4127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71680" y="76453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716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71680" y="77724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46990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571680" y="7645320"/>
            <a:ext cx="7617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2476440" y="7645320"/>
            <a:ext cx="1270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746520" y="764532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571680" y="764532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5716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71680" y="7772400"/>
            <a:ext cx="4127400" cy="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4699080" y="7645320"/>
            <a:ext cx="0" cy="127080"/>
          </a:xfrm>
          <a:prstGeom prst="line">
            <a:avLst/>
          </a:prstGeom>
          <a:ln w="64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762440" y="1219320"/>
            <a:ext cx="2222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762440" y="124452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762440" y="12445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476244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762440" y="137160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6985080" y="1244520"/>
            <a:ext cx="0" cy="12708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762440" y="142236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4762440" y="1422360"/>
            <a:ext cx="25416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016600" y="1422360"/>
            <a:ext cx="107928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6095880" y="1422360"/>
            <a:ext cx="889200" cy="12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4762440" y="142236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476244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762440" y="1549440"/>
            <a:ext cx="2222640" cy="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985080" y="1422360"/>
            <a:ext cx="0" cy="1270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762440" y="1600200"/>
            <a:ext cx="1904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16600" y="1600200"/>
            <a:ext cx="1015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a M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6095880" y="1600200"/>
            <a:ext cx="8892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 Upland P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762440" y="177804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4762440" y="1778040"/>
            <a:ext cx="127008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6032520" y="1778040"/>
            <a:ext cx="63504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n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6667560" y="1778040"/>
            <a:ext cx="317520" cy="12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4762440" y="1955880"/>
            <a:ext cx="2222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lumn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4762440" y="195588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4762440" y="1955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4762440" y="2082960"/>
            <a:ext cx="2222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6985080" y="1955880"/>
            <a:ext cx="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4762440" y="2133720"/>
            <a:ext cx="2222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4762440" y="2133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476244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4762440" y="2260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698508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4762440" y="2133720"/>
            <a:ext cx="762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Foo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6032520" y="2133720"/>
            <a:ext cx="6350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Page 2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667560" y="2133720"/>
            <a:ext cx="253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4762440" y="213372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476244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4762440" y="2260440"/>
            <a:ext cx="2222640" cy="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6985080" y="2133720"/>
            <a:ext cx="0" cy="126720"/>
          </a:xfrm>
          <a:prstGeom prst="line">
            <a:avLst/>
          </a:prstGeom>
          <a:ln w="64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07960" y="9677520"/>
            <a:ext cx="65404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048120" y="9804240"/>
            <a:ext cx="101592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4064040" y="9804240"/>
            <a:ext cx="9525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MasterReport</dc:title>
</cp:coreProperties>
</file>