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650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1F82-7646-4722-8D90-99B0E9D8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38EC-1D82-493F-89D8-6F08217F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166-32BB-43CF-BBCC-6CE4681F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8823-376D-4A25-9540-654C393B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FC5-F4C8-432F-B0A4-0FDC5664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60B5-91A3-45ED-B8CB-CE217485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02AA-D5F2-44EE-A048-35A04BC2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C803-7AA5-4308-954E-9C71E084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5E60-2115-484A-B2D3-8F6E85CB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AEBC-A417-49B3-9106-6D479908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363-9307-4EA0-97D5-344C6640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96B-93D8-4E56-9327-2FD9659B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3879-E89A-4305-9D3F-7DF549E71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4400" y="246276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Evaluation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reated with Aspose.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8cf"/>
                </a:solidFill>
                <a:latin typeface="Arial"/>
              </a:rPr>
              <a:t>Copyright 2004 Aspose Pty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4160" y="1015920"/>
            <a:ext cx="190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quick brown fox jumps over the lazy do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101592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50" width="150" height="40"/&gt;&lt;text&gt;The quick brown fox jumps over the lazy dog.&lt;/text&gt;&lt;/staticTex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1650960"/>
            <a:ext cx="190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ick brown fox jumps over the lazy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165096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100" width="150" height="40"/&gt;&lt;textElement&gt;&lt;font size="14"/&gt;&lt;/textElement&gt;&lt;text&gt;The quick brown fox jumps over the lazy dog.&lt;/text&gt;&lt;/staticTex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4160" y="2286000"/>
            <a:ext cx="190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rif"/>
              </a:rPr>
              <a:t>The quick brown fox jumps over the lazy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228600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150" width="150" height="40"/&gt;&lt;textElement&gt;&lt;font fontName="serif" size="12" pdfFontName="Times-Roman"/&gt;&lt;/textElement&gt;&lt;text&gt;The quick brown fox jumps over the lazy do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4160" y="2921040"/>
            <a:ext cx="190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serif"/>
              </a:rPr>
              <a:t>The quick brown fox jumps over the lazy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92104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200" width="150" height="40"/&gt;&lt;textElement&gt;&lt;font fontName="serif" size="12" isBold="true" isItalic="true" pdfFontName="Times-BoldItalic"/&gt;&lt;/textElement&gt;&lt;text&gt;The quick brown fox jumps ov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3556080"/>
            <a:ext cx="190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quick brown fox jumps over the lazy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355608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250" width="150" height="40"/&gt;&lt;textElement&gt;&lt;font fontName="Comic Sans MS" size="12" isBold="false" pdfFontName="COMIC.TTF" isPdfEmbedded="true"/&gt;&lt;/textElement&gt;&lt;text&gt;The quic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4160" y="4191120"/>
            <a:ext cx="190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he quick brown fox jumps over the lazy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419112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300" width="150" height="40"/&gt;&lt;textElement&gt;&lt;font fontName="Comic Sans MS" size="12" isBold="true"/&gt;&lt;/textElement&gt;&lt;text&gt;The quick brown fox jumps over the lazy do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4160" y="4826160"/>
            <a:ext cx="190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monospaced"/>
              </a:rPr>
              <a:t>The quick brown fox jumps over the laz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482616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350" width="150" height="40"/&gt;&lt;textElement&gt;&lt;font fontName="monospaced" size="12" isItalic="true" isUnderline="true" pdfFontName="Courier-Oblique"/&gt;&lt;/textElement&gt;&lt;text&gt;The quick brown f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4160" y="5460840"/>
            <a:ext cx="19047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spaced"/>
              </a:rPr>
              <a:t>The quick brown fox jumps over the laz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5460840"/>
            <a:ext cx="49528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400" width="150" height="40"/&gt;&lt;textElement&gt;&lt;font fontName="monospaced" size="12" isBold="true" isStrikeThrough="true" pdfFontName="Courier-Bold"/&gt;&lt;/textElement&gt;&lt;text&gt;The quic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4160" y="6095880"/>
            <a:ext cx="190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he quick brown fox jumps over the l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609588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450" width="150" height="40" forecolor="red"/&gt;&lt;textElement&gt;&lt;font size="14"/&gt;&lt;/textElement&gt;&lt;text&gt;The quick brown fox jumps over the lazy dog.&lt;/text&gt;&lt;/staticTex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4160" y="6730920"/>
            <a:ext cx="1904760" cy="50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serif"/>
              </a:rPr>
              <a:t>The quick brown fox jumps over the lazy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6730920"/>
            <a:ext cx="495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500" width="150" height="40" forecolor="green" backcolor="#FFFF00" mode="Opaque"/&gt;&lt;textElement&gt;&lt;font fontName="serif" size="12" isBold="true" pdfFontName="Times-Bold"/&gt;&lt;/textElement&gt;&lt;text&gt;The quick brow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4160" y="7365960"/>
            <a:ext cx="1904760" cy="1143000"/>
          </a:xfrm>
          <a:prstGeom prst="rect">
            <a:avLst/>
          </a:prstGeom>
          <a:solidFill>
            <a:srgbClr val="ffd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The quick brown fox jumps over the lazy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736596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550" width="150" height="90" forecolor="blue" backcolor="#FFDD99" mode="Opaque"/&gt;&lt;textElement textAlignment="Center" verticalAlignment="Middle"&gt;&lt;font fontName="sansserif" size="12" isBold="false" pdfFontName="Arial.Slanted" isPdfEmbedded="true"/&gt;&lt;/textElement&gt;&lt;text&gt;The quick brown fox jumps over the lazy dog.&lt;/text&gt;&lt;/staticTex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4160" y="8636040"/>
            <a:ext cx="1904760" cy="1143000"/>
          </a:xfrm>
          <a:prstGeom prst="rect">
            <a:avLst/>
          </a:prstGeom>
          <a:solidFill>
            <a:srgbClr val="99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863604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aticText&gt;&lt;reportElement x="0" y="650" width="150" height="90" forecolor="red" backcolor="#99DDFF" mode="Opaque"/&gt;&lt;textElement textAlignment="Right" verticalAlignment="Bottom"&gt;&lt;font fontName="sansserif" size="12" isBold="true" pdfFontName="Arial Bold" isPdfEmbedded="true"/&gt;&lt;/textElement&gt;&lt;text&gt;The quick brown fox jumps over the lazy dog.&lt;/text&gt;&lt;/staticTex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FontsReport</dc:title>
</cp:coreProperties>
</file>