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1270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0885-46C9-4442-B098-9958098E8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D6C6-E52D-43A5-A8DD-D4CD4733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B417-FCAB-42EE-9569-F919A487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DB41-FE59-410C-B18D-4F9BF469C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2357-51E9-4A20-B9CE-86624565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3DC8-63FF-4472-9251-161DF493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B9A9-726A-4430-852C-4412226F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98FE-D69B-4678-BF43-E9B2E22B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18C6-1783-4924-A7F6-92BA86FE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D996-CFFE-4358-9288-D6D3E0B4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BDF5-C271-4A28-909F-CCFD8E26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91B7-877C-4EDD-ACAB-80F73A7D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92AB-F591-4E10-A33D-128E742D7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4160" y="0"/>
            <a:ext cx="6540480" cy="12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4160" y="0"/>
            <a:ext cx="96519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onospaced"/>
              </a:rPr>
              <a:t>Address Re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7960" y="762120"/>
            <a:ext cx="25416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70080" y="762120"/>
            <a:ext cx="101592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87920" y="762120"/>
            <a:ext cx="76212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Str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4160" y="1066680"/>
            <a:ext cx="6540480" cy="190800"/>
          </a:xfrm>
          <a:prstGeom prst="rect">
            <a:avLst/>
          </a:prstGeom>
          <a:solidFill>
            <a:srgbClr val="c0c0c0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4160" y="1015920"/>
            <a:ext cx="96519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1. Be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4160" y="1270080"/>
            <a:ext cx="76176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70080" y="1270080"/>
            <a:ext cx="40640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Bill O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7920" y="1270080"/>
            <a:ext cx="431820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50 - 20th 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4160" y="1523880"/>
            <a:ext cx="761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70080" y="1523880"/>
            <a:ext cx="406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James Schne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7920" y="1523880"/>
            <a:ext cx="43182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77 Seventh A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36040" y="1778040"/>
            <a:ext cx="8888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Count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524880" y="1778040"/>
            <a:ext cx="3812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4160" y="2082960"/>
            <a:ext cx="6540480" cy="190440"/>
          </a:xfrm>
          <a:prstGeom prst="rect">
            <a:avLst/>
          </a:prstGeom>
          <a:solidFill>
            <a:srgbClr val="c0c0c0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4160" y="2031840"/>
            <a:ext cx="96519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. Dal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4160" y="2286000"/>
            <a:ext cx="761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70080" y="2286000"/>
            <a:ext cx="406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Janet Fu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87920" y="2286000"/>
            <a:ext cx="43182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445 Upland P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4160" y="2540160"/>
            <a:ext cx="76176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70080" y="2540160"/>
            <a:ext cx="40640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Susanne Sm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87920" y="2540160"/>
            <a:ext cx="431820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 Upland P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4160" y="2793960"/>
            <a:ext cx="761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70080" y="2793960"/>
            <a:ext cx="406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Susanne Mi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87920" y="2793960"/>
            <a:ext cx="43182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440 - 20th 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4160" y="3048120"/>
            <a:ext cx="76176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70080" y="3048120"/>
            <a:ext cx="40640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Michael Cl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7920" y="3048120"/>
            <a:ext cx="431820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19 Seventh A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4160" y="3301920"/>
            <a:ext cx="761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70080" y="3301920"/>
            <a:ext cx="406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John St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7920" y="3301920"/>
            <a:ext cx="43182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76 Upland P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4160" y="3556080"/>
            <a:ext cx="76176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70080" y="3556080"/>
            <a:ext cx="40640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Susanne Heini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87920" y="3556080"/>
            <a:ext cx="431820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86 - 20th 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4160" y="3809880"/>
            <a:ext cx="761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70080" y="3809880"/>
            <a:ext cx="406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Anne Fu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87920" y="3809880"/>
            <a:ext cx="43182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135 Upland P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4160" y="4064040"/>
            <a:ext cx="76176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70080" y="4064040"/>
            <a:ext cx="40640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Sylvia Ri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87920" y="4064040"/>
            <a:ext cx="431820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365 College A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4160" y="4317840"/>
            <a:ext cx="761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70080" y="4317840"/>
            <a:ext cx="406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Laura St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87920" y="4317840"/>
            <a:ext cx="43182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429 Seventh A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636040" y="4572000"/>
            <a:ext cx="8888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Count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524880" y="4572000"/>
            <a:ext cx="3812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4160" y="4876920"/>
            <a:ext cx="6540480" cy="190440"/>
          </a:xfrm>
          <a:prstGeom prst="rect">
            <a:avLst/>
          </a:prstGeom>
          <a:solidFill>
            <a:srgbClr val="c0c0c0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4160" y="4826160"/>
            <a:ext cx="965196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3. Ly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4160" y="5079960"/>
            <a:ext cx="761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70080" y="5079960"/>
            <a:ext cx="406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Andrew Heini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87920" y="5079960"/>
            <a:ext cx="43182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347 College A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4160" y="5334120"/>
            <a:ext cx="76176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70080" y="5334120"/>
            <a:ext cx="40640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Susanne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87920" y="5334120"/>
            <a:ext cx="431820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74 - 20th 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4160" y="5587920"/>
            <a:ext cx="761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70080" y="5587920"/>
            <a:ext cx="406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Laura O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87920" y="5587920"/>
            <a:ext cx="43182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443 Seventh A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4160" y="5842080"/>
            <a:ext cx="76176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70080" y="5842080"/>
            <a:ext cx="40640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Anne Mi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87920" y="5842080"/>
            <a:ext cx="431820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0 Upland P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636040" y="6095880"/>
            <a:ext cx="8888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Count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524880" y="6095880"/>
            <a:ext cx="3812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4160" y="6400800"/>
            <a:ext cx="6540480" cy="190440"/>
          </a:xfrm>
          <a:prstGeom prst="rect">
            <a:avLst/>
          </a:prstGeom>
          <a:solidFill>
            <a:srgbClr val="c0c0c0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4160" y="6350040"/>
            <a:ext cx="965196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4. 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4160" y="6603840"/>
            <a:ext cx="761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70080" y="6603840"/>
            <a:ext cx="406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Andrew M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7920" y="6603840"/>
            <a:ext cx="43182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172 Seventh A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4160" y="6858000"/>
            <a:ext cx="761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70080" y="6858000"/>
            <a:ext cx="406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Sylvia O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87920" y="6858000"/>
            <a:ext cx="43182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361 College A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4160" y="7112160"/>
            <a:ext cx="76176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70080" y="7112160"/>
            <a:ext cx="40640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Bill 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87920" y="7112160"/>
            <a:ext cx="431820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546 College A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4160" y="7365960"/>
            <a:ext cx="761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70080" y="7365960"/>
            <a:ext cx="406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Andrew Sm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87920" y="7365960"/>
            <a:ext cx="43182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54 College A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4160" y="7620120"/>
            <a:ext cx="76176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70080" y="7620120"/>
            <a:ext cx="40640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John Fu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87920" y="7620120"/>
            <a:ext cx="431820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195 Seventh A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4160" y="7873920"/>
            <a:ext cx="761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70080" y="7873920"/>
            <a:ext cx="406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Laura Ri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87920" y="7873920"/>
            <a:ext cx="43182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38 College A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636040" y="8128080"/>
            <a:ext cx="8888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Count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524880" y="8128080"/>
            <a:ext cx="3812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4160" y="8432640"/>
            <a:ext cx="6540480" cy="190800"/>
          </a:xfrm>
          <a:prstGeom prst="rect">
            <a:avLst/>
          </a:prstGeom>
          <a:solidFill>
            <a:srgbClr val="c0c0c0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4160" y="8381880"/>
            <a:ext cx="96519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5. Ol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4160" y="8636040"/>
            <a:ext cx="76176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70080" y="8636040"/>
            <a:ext cx="40640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George Fu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87920" y="8636040"/>
            <a:ext cx="431820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534 - 20th 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4160" y="8889840"/>
            <a:ext cx="761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70080" y="8889840"/>
            <a:ext cx="406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Bob Ri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87920" y="8889840"/>
            <a:ext cx="43182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371 College A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4160" y="9144000"/>
            <a:ext cx="761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70080" y="9144000"/>
            <a:ext cx="406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Bill So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87920" y="9144000"/>
            <a:ext cx="43182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362 - 20th 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4160" y="9398160"/>
            <a:ext cx="76176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70080" y="9398160"/>
            <a:ext cx="40640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James So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87920" y="9398160"/>
            <a:ext cx="431820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333 Upland P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4160" y="9651960"/>
            <a:ext cx="761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70080" y="9651960"/>
            <a:ext cx="406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Susanne 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87920" y="9651960"/>
            <a:ext cx="43182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366 - 20th 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636040" y="9906120"/>
            <a:ext cx="8888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Count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524880" y="9906120"/>
            <a:ext cx="3812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4160" y="10210680"/>
            <a:ext cx="6540480" cy="190800"/>
          </a:xfrm>
          <a:prstGeom prst="rect">
            <a:avLst/>
          </a:prstGeom>
          <a:solidFill>
            <a:srgbClr val="c0c0c0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4160" y="10159920"/>
            <a:ext cx="96519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6. Palo Al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4160" y="10414080"/>
            <a:ext cx="76176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10414080"/>
            <a:ext cx="40640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George O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87920" y="10414080"/>
            <a:ext cx="431820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381 Upland P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4160" y="10667880"/>
            <a:ext cx="761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70080" y="10667880"/>
            <a:ext cx="406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Laura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87920" y="10667880"/>
            <a:ext cx="43182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506 Upland P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636040" y="10922040"/>
            <a:ext cx="8888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Count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524880" y="10922040"/>
            <a:ext cx="3812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4160" y="11226960"/>
            <a:ext cx="6540480" cy="190440"/>
          </a:xfrm>
          <a:prstGeom prst="rect">
            <a:avLst/>
          </a:prstGeom>
          <a:solidFill>
            <a:srgbClr val="c0c0c0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4160" y="11175840"/>
            <a:ext cx="96519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7. 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4160" y="11430000"/>
            <a:ext cx="761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70080" y="11430000"/>
            <a:ext cx="406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Sylvia St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87920" y="11430000"/>
            <a:ext cx="43182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69 College A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4160" y="11684160"/>
            <a:ext cx="76176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70080" y="11684160"/>
            <a:ext cx="40640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Sylvia Fu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87920" y="11684160"/>
            <a:ext cx="431820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158 - 20th 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4160" y="11937960"/>
            <a:ext cx="761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70080" y="11937960"/>
            <a:ext cx="406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Laura Mi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87920" y="11937960"/>
            <a:ext cx="43182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94 Seventh A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12192120"/>
            <a:ext cx="126972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Page 1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60840" y="12192120"/>
            <a:ext cx="50832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7960" y="0"/>
            <a:ext cx="2541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70080" y="0"/>
            <a:ext cx="101592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87920" y="0"/>
            <a:ext cx="76212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Str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636040" y="254160"/>
            <a:ext cx="8888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Count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524880" y="254160"/>
            <a:ext cx="3812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4160" y="558720"/>
            <a:ext cx="6540480" cy="190440"/>
          </a:xfrm>
          <a:prstGeom prst="rect">
            <a:avLst/>
          </a:prstGeom>
          <a:solidFill>
            <a:srgbClr val="c0c0c0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4160" y="507960"/>
            <a:ext cx="96519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8. San Francis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4160" y="762120"/>
            <a:ext cx="76176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70080" y="762120"/>
            <a:ext cx="40640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Robert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87920" y="762120"/>
            <a:ext cx="431820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549 Seventh A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4160" y="1015920"/>
            <a:ext cx="761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70080" y="1015920"/>
            <a:ext cx="406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James Pet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87920" y="1015920"/>
            <a:ext cx="43182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31 Upland P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4160" y="1270080"/>
            <a:ext cx="76176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70080" y="1270080"/>
            <a:ext cx="40640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Michael Cl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587920" y="1270080"/>
            <a:ext cx="431820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542 Upland P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636040" y="1523880"/>
            <a:ext cx="8888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Count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524880" y="1523880"/>
            <a:ext cx="3812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4160" y="1828800"/>
            <a:ext cx="6540480" cy="190440"/>
          </a:xfrm>
          <a:prstGeom prst="rect">
            <a:avLst/>
          </a:prstGeom>
          <a:solidFill>
            <a:srgbClr val="c0c0c0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4160" y="1778040"/>
            <a:ext cx="965196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9. Se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4160" y="2031840"/>
            <a:ext cx="761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70080" y="2031840"/>
            <a:ext cx="406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Julia M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87920" y="2031840"/>
            <a:ext cx="43182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33 Upland P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4160" y="2286000"/>
            <a:ext cx="761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70080" y="2286000"/>
            <a:ext cx="406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Bob So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87920" y="2286000"/>
            <a:ext cx="43182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509 College A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4160" y="2540160"/>
            <a:ext cx="76176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70080" y="2540160"/>
            <a:ext cx="40640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Julia Cl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87920" y="2540160"/>
            <a:ext cx="431820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18 Seventh A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4160" y="2793960"/>
            <a:ext cx="761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70080" y="2793960"/>
            <a:ext cx="406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Bill Cl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87920" y="2793960"/>
            <a:ext cx="43182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319 Upland P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4160" y="3048120"/>
            <a:ext cx="76176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70080" y="3048120"/>
            <a:ext cx="40640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Andrew Mi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87920" y="3048120"/>
            <a:ext cx="431820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88 - 20th 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636040" y="3301920"/>
            <a:ext cx="8888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Count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524880" y="3301920"/>
            <a:ext cx="3812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36960" y="3556080"/>
            <a:ext cx="2286000" cy="3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There were 39 address records on this re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91120" y="12192120"/>
            <a:ext cx="126972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Page 2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460840" y="12192120"/>
            <a:ext cx="50832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Monospaced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crus</cp:lastModifiedBy>
  <dcterms:modified xsi:type="dcterms:W3CDTF">2006-02-15T18:39:04Z</dcterms:modified>
  <cp:revision>5</cp:revision>
  <dc:subject/>
  <dc:title>TextReport</dc:title>
</cp:coreProperties>
</file>