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6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4A3-604D-4C02-89D2-8720084F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F04-E64D-429A-8D6F-FCB1410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026-1E70-489A-B5D5-66CF6D6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250-A433-4B8C-8975-3E3BA7E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A14-B0F0-4C41-B20C-31AC276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91A-4D42-4FDB-B7E5-418B2E5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A15-D25F-4651-91DC-E7633B0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001-9244-430D-B66C-D0C0E00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122-CDA3-4D3B-8C19-994413E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B9B-ACDC-422F-B284-E47066D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18D-D78A-4721-A9FA-A9F8EFC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F00-C43B-4236-942F-6BC33717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515C-5AB2-489D-947E-B1C6D7179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92136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0058400" y="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0058400" y="6921360"/>
            <a:ext cx="63504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270080" y="0"/>
            <a:ext cx="2539800" cy="755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1270080"/>
            <a:ext cx="10693440" cy="253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1270080" y="127008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SCA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8-06-03T16:33:37Z</dcterms:modified>
  <cp:revision>6</cp:revision>
  <dc:subject/>
  <dc:title>LandscapeReport</dc:title>
</cp:coreProperties>
</file>