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149-8AD0-43F9-B714-92EB6A84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37E-7A26-4EB2-A871-752ED83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BC9-2A2D-4756-87B7-E50D3E99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852-EFF4-41E7-9502-1704B5A9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A2E-9FE9-4F52-9A2D-7C31B1D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D5E-B309-4486-BE28-30957D66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0CE-89F5-47AA-86D5-4B1FC22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DA0-DC63-4071-A179-EBAB160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815-0A1B-4A0D-AC8C-F1B7CCC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ACC-AC6D-48D2-BFEB-6B12C0D2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661-61D0-4296-9A94-D8BE105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C39-679C-42E6-B695-4D76A587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F46-B028-400D-8C07-747E2E3C9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635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762120"/>
            <a:ext cx="654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143000"/>
            <a:ext cx="654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rder value: 1424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5876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680" y="1854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85436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044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2108160"/>
            <a:ext cx="41274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21337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680" y="2133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B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680" y="23115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680" y="2311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680" y="2311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680" y="2438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99080" y="2311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680" y="24890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2489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2616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352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680" y="2489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5480" y="24890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58920" y="24890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680" y="2489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68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680" y="2616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0352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680" y="67564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680" y="67564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2360" y="67564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7564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692136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680" y="69343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6052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93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71121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7112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76440" y="7112160"/>
            <a:ext cx="12700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46520" y="711216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2440" y="2108160"/>
            <a:ext cx="2222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62440" y="2133720"/>
            <a:ext cx="254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16600" y="2133720"/>
            <a:ext cx="196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B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62440" y="2311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62440" y="23115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2440" y="2311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62440" y="24382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85080" y="2311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62440" y="2489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62440" y="2489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6244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2440" y="2616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8508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2440" y="24890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16600" y="24890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24890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62440" y="2489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6244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62440" y="2616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508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244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660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Schnei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2666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7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6244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1660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8447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0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62440" y="30225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62440" y="30225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32520" y="30225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7560" y="30225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62440" y="3200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62440" y="32004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62440" y="3200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62440" y="33274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85080" y="3200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62440" y="3378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62440" y="3378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6244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62440" y="3505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8508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62440" y="3378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32520" y="33782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756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62440" y="3378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6244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62440" y="3505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8508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680" y="7391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73915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960" y="75819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680" y="7645320"/>
            <a:ext cx="4127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76708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680" y="76708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Bo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680" y="7848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680" y="7848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6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680" y="79754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990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8026560"/>
            <a:ext cx="2031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548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5892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8026560"/>
            <a:ext cx="2032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8026560"/>
            <a:ext cx="25416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2104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00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5448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8204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2104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17840" y="8204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91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62440" y="7645320"/>
            <a:ext cx="2222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62440" y="76708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16600" y="76708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Bo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62440" y="78487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62440" y="7848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62440" y="797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8508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62440" y="8026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62440" y="8026560"/>
            <a:ext cx="2541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16600" y="8026560"/>
            <a:ext cx="10792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8026560"/>
            <a:ext cx="8892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6244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1660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Hei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8204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8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6244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1660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ael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8381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9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62440" y="85597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62440" y="855972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32520" y="855972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67560" y="855972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62440" y="87375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62440" y="87375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62440" y="873756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62440" y="88646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985080" y="873756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62440" y="8915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62440" y="8915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6244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62440" y="9042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8508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62440" y="891540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32520" y="891540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756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62440" y="8915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6244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62440" y="9042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8508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1680" y="1219320"/>
            <a:ext cx="4127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1680" y="67564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1680" y="67564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67564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67564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680" y="692136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1680" y="69343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6052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1680" y="71121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1680" y="7112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76440" y="7112160"/>
            <a:ext cx="12700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46520" y="711216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1680" y="7391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73915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7960" y="75819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71680" y="7645320"/>
            <a:ext cx="4127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1680" y="76708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1680" y="76708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1680" y="7848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71680" y="7848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680" y="79754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6990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680" y="8026560"/>
            <a:ext cx="2031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1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548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5892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8026560"/>
            <a:ext cx="2032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66880" y="8026560"/>
            <a:ext cx="25416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2104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00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25448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66880" y="8204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2104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17840" y="8204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65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62440" y="7645320"/>
            <a:ext cx="222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62440" y="76708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16600" y="76708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62440" y="78487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62440" y="7848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6244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62440" y="797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8508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62440" y="8026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62440" y="8026560"/>
            <a:ext cx="2541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16600" y="8026560"/>
            <a:ext cx="10792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95880" y="8026560"/>
            <a:ext cx="8892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6244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1660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8204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2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44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1660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Kar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95880" y="8381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2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6244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1660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Kar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95880" y="85597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2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762440" y="87375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62440" y="87375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32520" y="87375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667560" y="87375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62440" y="8915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62440" y="89154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62440" y="8915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62440" y="90424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85080" y="8915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62440" y="9093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62440" y="9093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6244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762440" y="9220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8508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6244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32520" y="90932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6756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62440" y="9093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6244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62440" y="9220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98508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1680" y="1219320"/>
            <a:ext cx="412740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680" y="6756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25480" y="6756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5120" y="6756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22640" y="6756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71680" y="69343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71680" y="6934320"/>
            <a:ext cx="292068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92360" y="6934320"/>
            <a:ext cx="6987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91120" y="6934320"/>
            <a:ext cx="5079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680" y="709920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1680" y="7112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6052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05120" y="7112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22264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71680" y="72896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71680" y="728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716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1680" y="7416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990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71680" y="72896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76440" y="728964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746520" y="72896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71680" y="728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716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71680" y="7416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990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1680" y="7569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905120" y="756936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07960" y="7759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71680" y="7823160"/>
            <a:ext cx="4127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680" y="78487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71680" y="7848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Da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1680" y="80265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1680" y="8026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71680" y="8153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71680" y="82040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1680" y="820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716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1680" y="8331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0352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71680" y="8204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5480" y="82040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158920" y="82040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71680" y="820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716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71680" y="8331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0352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666880" y="820404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666880" y="820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6668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666880" y="83311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990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666880" y="820404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921040" y="82040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254480" y="82040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66880" y="820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6668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83311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990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6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762440" y="7823160"/>
            <a:ext cx="2222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762440" y="7848720"/>
            <a:ext cx="254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16600" y="7848720"/>
            <a:ext cx="196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Da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762440" y="8026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62440" y="8204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62440" y="820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76244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762440" y="8331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98508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62440" y="82040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16600" y="82040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95880" y="82040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62440" y="820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6244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762440" y="8331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98508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76244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01660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Ste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095880" y="8381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9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6244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1660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R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95880" y="85597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5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76244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1660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095880" y="873756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76244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01660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Hei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095880" y="89154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62440" y="9093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62440" y="90932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762440" y="9093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762440" y="922032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985080" y="9093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62440" y="92710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762440" y="9271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76244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762440" y="9398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98508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762440" y="92710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032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667560" y="9271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62440" y="9271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76244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762440" y="9398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98508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1680" y="1219320"/>
            <a:ext cx="4127400" cy="80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5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5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71680" y="6756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25480" y="6756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05120" y="6756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222640" y="6756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71680" y="6934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5480" y="6934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1680" y="7112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25480" y="7112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905120" y="7112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22264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71680" y="7289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825480" y="7289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05120" y="7289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222640" y="7289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71680" y="7467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825480" y="7467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7467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22640" y="7467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71680" y="7645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5480" y="7645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905120" y="7645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222640" y="7645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71680" y="7823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825480" y="7823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05120" y="7823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222640" y="7823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71680" y="8001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25480" y="8001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05120" y="8001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22640" y="8001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71680" y="8178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825480" y="8178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905120" y="8178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222640" y="8178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1680" y="8356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2548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05120" y="8356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22640" y="8356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1680" y="8534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2548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905120" y="8534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22640" y="8534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71680" y="87123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71680" y="8712360"/>
            <a:ext cx="292068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492360" y="8712360"/>
            <a:ext cx="6987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191120" y="8712360"/>
            <a:ext cx="5079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71680" y="88772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1680" y="88898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460520" y="888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905120" y="888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22640" y="888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1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1680" y="90676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71680" y="90676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16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71680" y="91947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990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71680" y="90676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476440" y="90676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746520" y="90676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71680" y="90676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716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71680" y="91947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6990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762440" y="1219320"/>
            <a:ext cx="2222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762440" y="12445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762440" y="1244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76244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762440" y="1371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98508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762440" y="14223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762440" y="142236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016600" y="142236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142236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76244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01660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Ste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95880" y="16002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6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6244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01660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ael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95880" y="1778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76244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01660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1955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0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76244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01660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95880" y="21337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76244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01660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095880" y="23115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5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762440" y="2489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762440" y="24890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032520" y="24890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667560" y="24890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762440" y="2666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762440" y="26668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6244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762440" y="27939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8508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762440" y="28447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762440" y="28447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032520" y="28447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66756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905120" y="96516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71680" y="1219320"/>
            <a:ext cx="412740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71680" y="12445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1680" y="14223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71680" y="1422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71680" y="15494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699080" y="14223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1680" y="160020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71680" y="160020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7168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71680" y="1727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0352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71680" y="160020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825480" y="160020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158920" y="160020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71680" y="160020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7168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71680" y="1727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60352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1680" y="48006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71680" y="480060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492360" y="480060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191120" y="480060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1680" y="49658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71680" y="49784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46052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70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1680" y="51562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71680" y="5156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716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6990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1680" y="51562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476440" y="51562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746520" y="51562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71680" y="5156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716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6990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762440" y="1219320"/>
            <a:ext cx="2222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62440" y="124452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016600" y="124452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762440" y="14223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762440" y="16002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762440" y="160020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76244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762440" y="1727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98508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762440" y="160020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016600" y="160020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095880" y="160020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762440" y="160020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76244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762440" y="1727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98508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76244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01660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5880" y="1778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76244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01660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095880" y="1955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3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76244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01660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095880" y="21337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76244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01660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Hei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095880" y="23115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7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762440" y="2489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24890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032520" y="24890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667560" y="24890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62440" y="2666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762440" y="26668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76244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762440" y="27939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98508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762440" y="28447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762440" y="28447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032520" y="28447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66756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71680" y="54356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543564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07960" y="56260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71680" y="5689440"/>
            <a:ext cx="412740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71680" y="571500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71680" y="57150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1680" y="58928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71680" y="58928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71680" y="58928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71680" y="60199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699080" y="58928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71680" y="607068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71680" y="60706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716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1680" y="61977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60352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71680" y="60706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25480" y="607068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905120" y="60706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158920" y="607068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71680" y="60706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716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71680" y="61977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60352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71680" y="6248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82548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905120" y="6248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222640" y="6248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71680" y="6426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2548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905120" y="6426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222640" y="6426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71680" y="6603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2548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05120" y="6603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222640" y="6603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71680" y="6781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82548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6781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222640" y="6781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71680" y="6959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2548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905120" y="6959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222640" y="69595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71680" y="7137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548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905120" y="7137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22640" y="71373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71680" y="7315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825480" y="7315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05120" y="7315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222640" y="7315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71680" y="7493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25480" y="7493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905120" y="7493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22640" y="7493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71680" y="7670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25480" y="7670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90512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22640" y="7670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71680" y="7848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5480" y="7848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05120" y="7848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222640" y="7848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8026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825480" y="8026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222640" y="8026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55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666880" y="607068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666880" y="60706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668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66880" y="61977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6990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666880" y="607068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921040" y="607068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000680" y="60706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54480" y="607068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666880" y="60706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6668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666880" y="61977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6990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666880" y="62485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92104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000680" y="6248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317840" y="62485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666880" y="64263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92104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000680" y="6426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17840" y="64263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666880" y="66038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92104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000680" y="6603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317840" y="66038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666880" y="67816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92104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000680" y="6781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317840" y="67816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666880" y="69595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92104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000680" y="6959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317840" y="69595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666880" y="71373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92104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000680" y="7137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317840" y="71373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666880" y="73152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921040" y="7315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000680" y="7315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317840" y="73152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666880" y="7493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921040" y="7493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000680" y="7493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317840" y="7493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666880" y="7670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921040" y="7670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00068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317840" y="7670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666880" y="78487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21040" y="7848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000680" y="7848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317840" y="78487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666880" y="80265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921040" y="8026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000680" y="8026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317840" y="80265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666880" y="8204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92104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317840" y="8204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86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762440" y="5689440"/>
            <a:ext cx="222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762440" y="571500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016600" y="571500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762440" y="58928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762440" y="58928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762440" y="58928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762440" y="60199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985080" y="58928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762440" y="60706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762440" y="60706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76244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98508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762440" y="607068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016600" y="607068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95880" y="607068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762440" y="60706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76244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98508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762440" y="6248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01660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R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095880" y="62485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762440" y="6426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01660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095880" y="64263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762440" y="6603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01660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66038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4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762440" y="6781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01660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67816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6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762440" y="6959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01660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6095880" y="69595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1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62440" y="7137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01660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M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095880" y="713736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762440" y="73152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762440" y="731520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032520" y="731520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667560" y="731520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762440" y="7493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762440" y="74930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762440" y="74930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762440" y="762012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6985080" y="74930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4762440" y="7670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762440" y="76708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76244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762440" y="77979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98508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762440" y="76708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032520" y="76708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66756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762440" y="76708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476244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762440" y="77979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698508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71680" y="1219320"/>
            <a:ext cx="41274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71680" y="26668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71680" y="26668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492360" y="26668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191120" y="26668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71680" y="283212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71680" y="28447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46052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76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71680" y="30225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71680" y="3022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716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71680" y="314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6990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71680" y="302256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476440" y="302256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746520" y="302256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71680" y="3022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716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1680" y="314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6990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71680" y="3301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905120" y="33019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07960" y="3492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71680" y="3556080"/>
            <a:ext cx="412740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71680" y="35812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71680" y="35812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Ol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71680" y="37591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71680" y="37591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1680" y="37591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71680" y="38862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699080" y="37591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71680" y="39369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1680" y="39369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716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1680" y="406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60352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71680" y="39369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825480" y="39369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905120" y="39369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158920" y="39369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71680" y="39369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716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1680" y="406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60352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71680" y="4114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825480" y="4114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905120" y="4114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222640" y="4114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71680" y="4292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825480" y="4292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905120" y="4292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222640" y="4292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571680" y="4470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825480" y="4470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05120" y="4470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222640" y="4470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71680" y="4648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825480" y="4648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905120" y="4648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222640" y="4648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71680" y="4826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825480" y="4826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905120" y="4826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222640" y="4826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71680" y="5003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825480" y="5003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905120" y="5003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222640" y="5003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71680" y="5181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825480" y="5181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905120" y="5181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222640" y="5181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71680" y="5359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25480" y="5359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905120" y="5359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222640" y="5359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71680" y="5537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25480" y="5537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905120" y="5537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222640" y="5537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71680" y="5715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825480" y="5715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905120" y="5715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222640" y="5715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71680" y="5892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825480" y="5892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905120" y="5892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222640" y="5892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71680" y="6070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825480" y="6070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905120" y="6070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22640" y="6070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71680" y="6248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82548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05120" y="6248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222640" y="6248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71680" y="6426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2548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905120" y="6426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222640" y="6426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71680" y="6603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82548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905120" y="6603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222640" y="6603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71680" y="6781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82548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905120" y="6781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222640" y="6781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71680" y="6959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2548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905120" y="6959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2222640" y="69595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71680" y="7137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82548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905120" y="7137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222640" y="71373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71680" y="7315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825480" y="7315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905120" y="7315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222640" y="7315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71680" y="7493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25480" y="7493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05120" y="7493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222640" y="7493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71680" y="7670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25480" y="7670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90512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222640" y="7670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571680" y="7848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825480" y="7848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905120" y="7848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22640" y="7848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71680" y="8026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825480" y="8026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2222640" y="8026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0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666880" y="393696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666880" y="39369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6668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2666880" y="406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6990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666880" y="393696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921040" y="39369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000680" y="39369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254480" y="39369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666880" y="39369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26668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66880" y="406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6990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666880" y="41148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21040" y="4114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000680" y="4114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317840" y="41148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666880" y="42926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921040" y="4292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000680" y="4292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317840" y="42926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666880" y="44704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921040" y="4470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4000680" y="4470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317840" y="44704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666880" y="46483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921040" y="4648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0680" y="4648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317840" y="46483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666880" y="48261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921040" y="4826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4000680" y="4826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317840" y="48261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666880" y="50036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921040" y="5003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000680" y="5003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317840" y="50036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666880" y="51814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921040" y="5181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000680" y="5181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4317840" y="51814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666880" y="53593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921040" y="5359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000680" y="5359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317840" y="53593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666880" y="55371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921040" y="5537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000680" y="5537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317840" y="55371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8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762440" y="3556080"/>
            <a:ext cx="22226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762440" y="35812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016600" y="35812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Ol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762440" y="37591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762440" y="37591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762440" y="37591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762440" y="38862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985080" y="37591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762440" y="39369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762440" y="39369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76244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762440" y="406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98508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4762440" y="393696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5016600" y="393696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095880" y="393696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762440" y="39369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476244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4762440" y="406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98508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762440" y="4114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016600" y="4114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095880" y="41148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6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762440" y="4292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016600" y="4292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Som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95880" y="42926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3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4762440" y="4470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016600" y="4470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Som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880" y="44704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2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762440" y="4648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016600" y="4648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 R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095880" y="46483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1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762440" y="4826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016600" y="4826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095880" y="48261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4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762440" y="50036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762440" y="50036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032520" y="50036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6667560" y="50036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762440" y="51814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762440" y="51814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762440" y="51814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762440" y="53085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985080" y="51814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762440" y="53593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762440" y="5359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76244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762440" y="5486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698508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4762440" y="53593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032520" y="53593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6667560" y="5359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762440" y="5359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76244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762440" y="5486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698508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71680" y="1219320"/>
            <a:ext cx="41274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71680" y="124452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492360" y="124452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191120" y="124452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905120" y="160020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71680" y="1854360"/>
            <a:ext cx="412740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71680" y="187956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71680" y="18795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Os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71680" y="20574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71680" y="20574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71680" y="20574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71680" y="21844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20574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71680" y="22352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80" y="22352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716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71680" y="23623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60352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1680" y="22352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825480" y="22352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905120" y="22352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158920" y="22352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71680" y="22352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71680" y="23623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260352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71680" y="241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82548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905120" y="2413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222640" y="2413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71680" y="2590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82548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905120" y="2590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22640" y="2590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71680" y="2768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825480" y="2768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905120" y="2768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222640" y="2768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71680" y="2946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825480" y="2946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905120" y="2946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2222640" y="2946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71680" y="3124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25480" y="3124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905120" y="3124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222640" y="3124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71680" y="3301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825480" y="3301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1905120" y="3301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222640" y="3301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71680" y="3479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825480" y="3479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905120" y="3479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222640" y="3479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71680" y="3657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825480" y="3657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905120" y="3657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222640" y="3657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71680" y="3835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825480" y="3835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905120" y="3835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222640" y="3835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71680" y="4013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825480" y="4013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05120" y="4013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222640" y="4013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71680" y="4191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25480" y="4191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905120" y="4191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222640" y="4191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571680" y="4368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825480" y="4368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905120" y="4368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2222640" y="4368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71680" y="4546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825480" y="4546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905120" y="4546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222640" y="4546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71680" y="4724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825480" y="4724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905120" y="4724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222640" y="4724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71680" y="4902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825480" y="4902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905120" y="4902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222640" y="4902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71680" y="5079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825480" y="5079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905120" y="5079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222640" y="5079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71680" y="5257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825480" y="5257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905120" y="5257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222640" y="5257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71680" y="5435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825480" y="5435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905120" y="5435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222640" y="5435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71680" y="5613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25480" y="5613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905120" y="5613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222640" y="5613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71680" y="5791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825480" y="5791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905120" y="5791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2222640" y="5791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71680" y="5969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825480" y="5969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905120" y="5969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222640" y="5969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71680" y="6146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825480" y="6146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905120" y="6146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222640" y="6146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71680" y="6324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825480" y="6324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905120" y="6324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222640" y="6324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71680" y="6502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25480" y="6502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905120" y="6502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2222640" y="6502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71680" y="6680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825480" y="6680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905120" y="6680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222640" y="6680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71680" y="6858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825480" y="6858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1905120" y="6858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222640" y="6858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571680" y="7035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825480" y="7035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905120" y="7035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222640" y="7035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71680" y="7213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825480" y="7213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905120" y="7213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2222640" y="7213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71680" y="7391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25480" y="7391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905120" y="7391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222640" y="7391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71680" y="7569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825480" y="7569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905120" y="7569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222640" y="7569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71680" y="7746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825480" y="7746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905120" y="7746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222640" y="7746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71680" y="7924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825480" y="7924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905120" y="7924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2222640" y="7924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71680" y="8102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825480" y="8102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905120" y="8102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222640" y="81025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71680" y="8280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825480" y="8280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905120" y="8280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222640" y="82803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71680" y="8458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825480" y="8458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905120" y="8458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222640" y="8458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71680" y="8636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825480" y="8636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1905120" y="8636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222640" y="8636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71680" y="8813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825480" y="8813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905120" y="8813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2222640" y="8813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71680" y="8991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825480" y="8991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905120" y="8991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222640" y="8991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71680" y="915660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571680" y="91695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460520" y="9169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905120" y="9169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2222640" y="9169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96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666880" y="223524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666880" y="22352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26668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666880" y="23623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6990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666880" y="223524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921040" y="22352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000680" y="22352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254480" y="22352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666880" y="22352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6668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666880" y="23623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6990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2666880" y="24130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92104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000680" y="2413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317840" y="24130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666880" y="25909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000680" y="2590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317840" y="25909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2666880" y="27687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921040" y="2768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000680" y="2768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317840" y="27687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2666880" y="29462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921040" y="2946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4000680" y="2946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317840" y="2946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2666880" y="31240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2921040" y="3124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000680" y="3124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317840" y="31240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666880" y="9156600"/>
            <a:ext cx="203220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666880" y="9169560"/>
            <a:ext cx="762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556080" y="9169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000680" y="9169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317840" y="91695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76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71680" y="93470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71680" y="93470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716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71680" y="94741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46990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71680" y="93470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476440" y="934704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746520" y="93470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71680" y="93470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716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71680" y="94741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6990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762440" y="1854360"/>
            <a:ext cx="2222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762440" y="187956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5016600" y="187956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Os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762440" y="2057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762440" y="2057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76244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762440" y="2184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98508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762440" y="2235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4762440" y="22352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016600" y="22352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095880" y="22352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762440" y="241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01660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Kar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95880" y="2413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62440" y="2590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01660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Schnei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6095880" y="25909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9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762440" y="2768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016600" y="2768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6095880" y="27687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4762440" y="2946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016600" y="2946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6095880" y="29462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1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762440" y="3124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016600" y="3124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6095880" y="3124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3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762440" y="3301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016600" y="3301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M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6095880" y="33019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6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4762440" y="34797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762440" y="34797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032520" y="34797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6667560" y="34797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4762440" y="36576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762440" y="36576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762440" y="3657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762440" y="3784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6985080" y="3657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762440" y="38354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762440" y="383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76244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4762440" y="3962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98508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762440" y="38354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032520" y="38354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667560" y="3835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762440" y="383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76244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762440" y="3962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98508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71680" y="1219320"/>
            <a:ext cx="41274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71680" y="124452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492360" y="124452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4191120" y="124452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905120" y="160020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71680" y="1854360"/>
            <a:ext cx="41274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71680" y="18795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00"/>
                </a:solidFill>
                <a:latin typeface="Arial"/>
              </a:rPr>
              <a:t>No Orders From Palo Al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762440" y="1854360"/>
            <a:ext cx="2222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762440" y="187956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5016600" y="187956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Palo Al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762440" y="2057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762440" y="2057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476244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4762440" y="2184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98508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762440" y="2235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762440" y="22352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016600" y="22352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095880" y="22352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762440" y="241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01660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095880" y="2413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6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4762440" y="2590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01660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095880" y="25909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1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4762440" y="27687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762440" y="2768760"/>
            <a:ext cx="12700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6032520" y="2768760"/>
            <a:ext cx="635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6667560" y="2768760"/>
            <a:ext cx="3175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4762440" y="2946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762440" y="29462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762440" y="2946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4762440" y="307332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985080" y="2946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762440" y="31240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4762440" y="3124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476244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762440" y="3251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98508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4762440" y="31240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032520" y="3124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6667560" y="3124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762440" y="3124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76244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62440" y="3251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698508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71680" y="34034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905120" y="3403440"/>
            <a:ext cx="25398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07960" y="3594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571680" y="3657600"/>
            <a:ext cx="4127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71680" y="3683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1680" y="36831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71680" y="38606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71680" y="3860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571680" y="3860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71680" y="3987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4699080" y="3860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71680" y="403848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71680" y="40384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7168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71680" y="4165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260352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71680" y="40384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825480" y="403848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905120" y="40384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2158920" y="403848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71680" y="40384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7168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71680" y="4165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60352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571680" y="4216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825480" y="4216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4216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222640" y="4216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571680" y="4394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825480" y="4394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1905120" y="4394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222640" y="4394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71680" y="4572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825480" y="4572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905120" y="4572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2222640" y="4572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71680" y="4749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825480" y="474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905120" y="474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2222640" y="474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71680" y="49276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71680" y="49276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3492360" y="49276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191120" y="49276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71680" y="509256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71680" y="51055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460520" y="5105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905120" y="5105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2222640" y="5105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71680" y="52833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5716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71680" y="5410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46990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71680" y="52833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476440" y="5283360"/>
            <a:ext cx="12700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746520" y="528336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716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71680" y="5410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6990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4762440" y="3657600"/>
            <a:ext cx="222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4762440" y="3683160"/>
            <a:ext cx="254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016600" y="3683160"/>
            <a:ext cx="196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4762440" y="38606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4762440" y="38606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762440" y="38606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762440" y="3987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6985080" y="38606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4762440" y="40384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762440" y="4038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476244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762440" y="4165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98508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4762440" y="403848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016600" y="403848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095880" y="403848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762440" y="4038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76244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4762440" y="4165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698508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762440" y="4216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016600" y="4216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5880" y="42163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4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4762440" y="4394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016600" y="4394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095880" y="439416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762440" y="4572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016600" y="4572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Ste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095880" y="45720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9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762440" y="47498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4762440" y="47498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6032520" y="47498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6667560" y="47498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4762440" y="49276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762440" y="4927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762440" y="492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4762440" y="50547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6985080" y="492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62440" y="51055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4762440" y="510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76244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4762440" y="5232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698508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4762440" y="5105520"/>
            <a:ext cx="762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6032520" y="510552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6667560" y="5105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4762440" y="510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476244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762440" y="5232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698508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71680" y="55627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1905120" y="55627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07960" y="57531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71680" y="5816520"/>
            <a:ext cx="4127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71680" y="5842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00"/>
                </a:solidFill>
                <a:latin typeface="Arial"/>
              </a:rPr>
              <a:t>No Orders From 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4762440" y="5816520"/>
            <a:ext cx="222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4762440" y="58420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016600" y="58420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4762440" y="60199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4762440" y="60199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762440" y="60199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4762440" y="61466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985080" y="60199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4762440" y="61977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476244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4762440" y="6324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698508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4762440" y="6197760"/>
            <a:ext cx="2541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016600" y="6197760"/>
            <a:ext cx="10792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095880" y="6197760"/>
            <a:ext cx="8892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476244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4762440" y="6324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98508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762440" y="6375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016600" y="6375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ael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6095880" y="63752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2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4762440" y="655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016600" y="655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Pet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6095880" y="6553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1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762440" y="6730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016600" y="6730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6095880" y="67309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9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4762440" y="69087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762440" y="69087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032520" y="69087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6667560" y="69087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4762440" y="70866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762440" y="70866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762440" y="7086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4762440" y="7213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6985080" y="7086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762440" y="72644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4762440" y="7264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476244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4762440" y="7391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698508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4762440" y="72644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032520" y="72644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667560" y="7264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4762440" y="7264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76244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4762440" y="7391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98508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71680" y="75438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1905120" y="754380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07960" y="7734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71680" y="7797960"/>
            <a:ext cx="412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71680" y="782316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571680" y="78231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71680" y="80010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71680" y="80010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71680" y="80010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71680" y="8128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4699080" y="80010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71680" y="81788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71680" y="81788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5716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71680" y="83059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260352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71680" y="81788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825480" y="81788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1905120" y="81788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2158920" y="81788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71680" y="81788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5716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71680" y="83059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260352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71680" y="8356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82548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1905120" y="8356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2222640" y="8356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71680" y="8534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82548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905120" y="8534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2222640" y="8534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71680" y="8712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825480" y="8712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905120" y="8712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222640" y="8712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71680" y="8889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825480" y="888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1905120" y="888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222640" y="888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571680" y="905508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571680" y="90676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460520" y="9067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905120" y="9067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2222640" y="9067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666880" y="817884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666880" y="81788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6668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666880" y="83059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6990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666880" y="817884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921040" y="81788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000680" y="81788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254480" y="81788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666880" y="81788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6668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2666880" y="83059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6990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666880" y="83566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292104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000680" y="8356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4317840" y="83566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666880" y="85345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92104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000680" y="8534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4317840" y="85345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2666880" y="87123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921040" y="8712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4000680" y="8712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4317840" y="87123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2666880" y="88898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2921040" y="888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4000680" y="888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4317840" y="88898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2666880" y="905508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2666880" y="90676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3556080" y="9067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4000680" y="9067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4317840" y="90676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86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71680" y="9245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71680" y="9245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716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71680" y="9372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46990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71680" y="92455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2476440" y="924552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3746520" y="92455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571680" y="9245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5716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71680" y="9372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46990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762440" y="7797960"/>
            <a:ext cx="2222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762440" y="782316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016600" y="782316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762440" y="80010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4762440" y="80010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4762440" y="80010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4762440" y="8128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6985080" y="80010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4762440" y="81788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762440" y="81788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76244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4762440" y="83059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698508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762440" y="81788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16600" y="81788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095880" y="81788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762440" y="81788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476244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762440" y="83059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98508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4762440" y="8356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501660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6095880" y="83566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8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4762440" y="8534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01660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6095880" y="85345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4762440" y="8712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5016600" y="8712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6095880" y="87123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762440" y="8889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016600" y="888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 Som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6095880" y="88898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9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762440" y="90676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762440" y="9067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4762440" y="906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762440" y="91947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6985080" y="906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762440" y="92455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762440" y="924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76244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4762440" y="9372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698508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4762440" y="92455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6032520" y="92455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6667560" y="9245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4762440" y="924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76244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4762440" y="9372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98508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71680" y="1219320"/>
            <a:ext cx="412740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3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71680" y="6756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825480" y="6756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1905120" y="6756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2222640" y="6756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71680" y="6934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825480" y="6934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71680" y="7112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825480" y="7112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905120" y="7112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222264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71680" y="72896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571680" y="728964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3492360" y="728964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191120" y="728964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571680" y="745488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571680" y="74674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1460520" y="7467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1905120" y="7467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2222640" y="7467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0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571680" y="76453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71680" y="76453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716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71680" y="77724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46990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571680" y="76453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2476440" y="764532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746520" y="76453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571680" y="76453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5716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71680" y="77724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46990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762440" y="1219320"/>
            <a:ext cx="2222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762440" y="12445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762440" y="1244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476244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762440" y="1371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698508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762440" y="14223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4762440" y="142236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016600" y="142236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6095880" y="142236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76244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1660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M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6095880" y="16002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762440" y="1778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4762440" y="17780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6032520" y="17780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6667560" y="17780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4762440" y="1955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4762440" y="19558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4762440" y="1955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4762440" y="20829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6985080" y="1955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4762440" y="21337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4762440" y="2133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476244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4762440" y="2260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698508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4762440" y="2133720"/>
            <a:ext cx="762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6032520" y="213372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66756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4762440" y="2133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476244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4762440" y="2260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698508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MasterReport</dc:title>
</cp:coreProperties>
</file>