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75565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1B4-7666-4E76-87C8-5072EA4A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237-36B5-4FB4-AA15-7F032EB4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983-06B4-4EA8-9C3F-39817D79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E31-5547-47A9-A3EE-528E18F8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D36-B100-41D6-8212-A12F9206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042-C1D7-4CE1-8B64-3A079F37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B37-1E61-4AA6-B08A-0677AE87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F95-9925-4288-B181-CD010322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CF6-1A44-442A-8D48-13D783FC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BEC-124E-4E0C-AE5A-F297D0E3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68F-DF3F-4A52-978E-00EF06EF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659-35BD-4B8B-A247-502EF8B4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EE5B-3F0E-4D37-B08C-870A04DF3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635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762120"/>
            <a:ext cx="654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er Orders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3344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F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185436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680" y="1879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680" y="1879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7480" y="1879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25680" y="1879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60640" y="1879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680" y="2057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7480" y="2057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5680" y="2057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60640" y="2057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680" y="223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7480" y="223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25680" y="223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60640" y="223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1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680" y="2413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7480" y="2413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25680" y="2413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60640" y="2413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680" y="2590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7480" y="2590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25680" y="2590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60640" y="2590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9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680" y="2768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7480" y="2768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25680" y="2768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60640" y="2768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0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1680" y="2946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57480" y="2946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25680" y="2946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60640" y="2946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31240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03520" y="31240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60640" y="31240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25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54560" y="31240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92160" y="1600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freds Futterk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680" y="34034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960" y="35942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680" y="365760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680" y="36831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680" y="36831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7480" y="36831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25680" y="36831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60640" y="36831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680" y="3860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7480" y="3860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25680" y="3860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3860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80" y="4038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7480" y="4038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25680" y="4038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60640" y="4038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3.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680" y="4216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7480" y="4216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25680" y="4216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60640" y="4216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680" y="4394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7480" y="4394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25680" y="4394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60640" y="4394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9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680" y="45720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03520" y="45720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60640" y="45720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7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54560" y="45720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92160" y="34034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 Trujillo Emparedados y h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680" y="4851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7960" y="50418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680" y="510552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680" y="51307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680" y="51307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7480" y="51307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25680" y="51307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60640" y="51307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80" y="5308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7480" y="5308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25680" y="5308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60640" y="5308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680" y="5486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7480" y="5486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5680" y="5486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60640" y="5486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680" y="5664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7480" y="5664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25680" y="5664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60640" y="5664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680" y="5842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7480" y="5842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25680" y="5842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5842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4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680" y="6019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7480" y="6019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25680" y="6019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0640" y="6019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1680" y="6197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7480" y="6197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25680" y="6197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60640" y="6197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680" y="637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7480" y="637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25680" y="637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60640" y="637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680" y="65530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03520" y="65530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60640" y="65530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68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54560" y="65530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92160" y="48513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onio Moreno Taqu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680" y="68324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70232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680" y="7086600"/>
            <a:ext cx="64386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680" y="71121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1680" y="71121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7480" y="71121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25680" y="71121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60640" y="71121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680" y="7289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57480" y="7289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25680" y="7289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60640" y="7289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680" y="7467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7480" y="7467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25680" y="7467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60640" y="7467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80" y="7645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7480" y="7645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25680" y="7645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60640" y="7645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1680" y="7823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7480" y="7823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25680" y="7823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60640" y="7823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2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680" y="8001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7480" y="8001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25680" y="8001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60640" y="8001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" y="8178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7480" y="8178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25680" y="8178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60640" y="8178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1680" y="8356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7480" y="8356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25680" y="8356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60640" y="8356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1680" y="8534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7480" y="8534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25680" y="8534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60640" y="8534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6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680" y="8712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7480" y="8712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25680" y="8712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60640" y="8712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1680" y="8889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7480" y="8889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25680" y="8889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0640" y="8889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680" y="9067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7480" y="9067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25680" y="9067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0640" y="9067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1680" y="9245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7480" y="9245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25680" y="9245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60640" y="9245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92160" y="68324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ound the H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571680" y="1219320"/>
            <a:ext cx="64386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603520" y="124452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87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454560" y="124452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t Lakes Food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71680" y="1854360"/>
            <a:ext cx="643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71680" y="1879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71680" y="1879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257480" y="1879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2425680" y="1879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860640" y="1879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1680" y="2057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257480" y="2057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2425680" y="2057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a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860640" y="2057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6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571680" y="223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257480" y="223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425680" y="223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a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860640" y="223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71680" y="24130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2603520" y="24130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860640" y="24130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7.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3454560" y="24130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92160" y="1600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SELLA-Restau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71680" y="26924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07960" y="28828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71680" y="2946240"/>
            <a:ext cx="64386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71680" y="29718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71680" y="29718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257480" y="29718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25680" y="29718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60640" y="29718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71680" y="3149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257480" y="3149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425680" y="3149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860640" y="3149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71680" y="3327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257480" y="3327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425680" y="3327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860640" y="3327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71680" y="3505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257480" y="3505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425680" y="3505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60640" y="3505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8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71680" y="3683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257480" y="3683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425680" y="3683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3860640" y="3683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71680" y="3860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257480" y="3860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425680" y="3860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860640" y="3860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71680" y="4038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1257480" y="4038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2425680" y="4038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860640" y="4038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571680" y="4216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1257480" y="4216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2425680" y="4216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3860640" y="4216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4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571680" y="4394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257480" y="4394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425680" y="4394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860640" y="4394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71680" y="4572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257480" y="4572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2425680" y="4572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860640" y="4572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1680" y="4749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257480" y="4749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2425680" y="4749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860640" y="4749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71680" y="4927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257480" y="4927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425680" y="4927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860640" y="4927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571680" y="5105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257480" y="5105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2425680" y="5105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860640" y="5105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3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71680" y="5283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257480" y="5283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2425680" y="5283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60640" y="5283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571680" y="5460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257480" y="5460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2425680" y="5460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860640" y="5460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7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71680" y="56386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2603520" y="56386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860640" y="56386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24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454560" y="56386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892160" y="26924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ari Car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71680" y="59180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07960" y="6108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71680" y="6172200"/>
            <a:ext cx="64386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71680" y="61977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71680" y="61977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1257480" y="61977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2425680" y="61977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860640" y="61977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71680" y="637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57480" y="637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2425680" y="637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860640" y="637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71680" y="6553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257480" y="6553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2425680" y="6553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860640" y="6553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4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71680" y="6730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257480" y="6730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2425680" y="6730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860640" y="6730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71680" y="6908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257480" y="6908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2425680" y="6908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3860640" y="6908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71680" y="7086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257480" y="7086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425680" y="7086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3860640" y="7086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0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1680" y="7264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257480" y="7264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2425680" y="7264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860640" y="7264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571680" y="7442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57480" y="7442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2425680" y="7442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860640" y="7442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3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71680" y="7620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57480" y="7620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425680" y="7620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860640" y="7620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71680" y="7797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57480" y="7797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425680" y="7797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860640" y="7797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71680" y="7975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57480" y="7975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425680" y="7975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860640" y="7975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9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71680" y="8153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57480" y="8153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425680" y="8153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860640" y="8153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571680" y="8331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7480" y="8331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2425680" y="8331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860640" y="8331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571680" y="8508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57480" y="8508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2425680" y="8508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60640" y="8508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71680" y="8686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257480" y="8686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425680" y="8686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860640" y="8686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571680" y="8864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257480" y="8864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2425680" y="8864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860640" y="8864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5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571680" y="9042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257480" y="9042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2425680" y="9042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860640" y="9042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571680" y="9220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257480" y="9220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2425680" y="9220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860640" y="9220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71680" y="9398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257480" y="9398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425680" y="9398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860640" y="9398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0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892160" y="59180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ARION-Aba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0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71680" y="1219320"/>
            <a:ext cx="64386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2603520" y="124452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59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454560" y="124452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ARION-Aba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71680" y="185436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71680" y="1879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71680" y="1879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257480" y="1879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425680" y="1879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860640" y="1879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71680" y="2057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257480" y="2057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425680" y="2057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3860640" y="2057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71680" y="223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257480" y="223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425680" y="223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3860640" y="223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71680" y="2413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1257480" y="2413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425680" y="2413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860640" y="2413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71680" y="2590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1257480" y="2590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2425680" y="2590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860640" y="2590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571680" y="2768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1257480" y="2768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425680" y="2768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3860640" y="2768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1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71680" y="2946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603520" y="2946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860640" y="2946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7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3454560" y="2946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1892160" y="1600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gry Coyote Import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71680" y="32259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07960" y="34164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71680" y="3479760"/>
            <a:ext cx="6438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71680" y="35053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71680" y="35053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1257480" y="35053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2425680" y="35053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3860640" y="35053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1680" y="3683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257480" y="3683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2425680" y="3683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860640" y="3683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8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71680" y="3860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1257480" y="3860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2425680" y="3860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3860640" y="3860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71680" y="4038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257480" y="4038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425680" y="4038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860640" y="4038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71680" y="4216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1257480" y="4216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2425680" y="4216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860640" y="4216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4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71680" y="4394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1257480" y="4394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2425680" y="4394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860640" y="4394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71680" y="4572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1257480" y="4572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2425680" y="4572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860640" y="4572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6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71680" y="4749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1257480" y="4749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425680" y="4749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860640" y="4749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71680" y="4927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1257480" y="4927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2425680" y="4927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3860640" y="4927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71680" y="5105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257480" y="5105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2425680" y="5105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860640" y="5105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571680" y="5283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257480" y="5283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425680" y="5283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860640" y="5283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2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71680" y="5460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257480" y="5460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2425680" y="5460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860640" y="5460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571680" y="5638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1257480" y="5638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2425680" y="5638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860640" y="5638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6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571680" y="5816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257480" y="5816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425680" y="5816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860640" y="5816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0.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71680" y="5994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257480" y="5994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2425680" y="5994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3860640" y="5994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9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71680" y="6172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1257480" y="6172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425680" y="6172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3860640" y="6172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71680" y="6350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257480" y="6350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2425680" y="6350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860640" y="6350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3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571680" y="6527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257480" y="6527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2425680" y="6527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860640" y="6527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0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571680" y="6705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257480" y="6705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2425680" y="6705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860640" y="6705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1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71680" y="6883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257480" y="6883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425680" y="6883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860640" y="6883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71680" y="7061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603520" y="7061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860640" y="7061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55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3454560" y="7061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1892160" y="32259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gry Owl All-Night Gro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71680" y="7340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07960" y="75312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71680" y="7594560"/>
            <a:ext cx="64386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71680" y="76201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71680" y="76201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1257480" y="76201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425680" y="76201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3860640" y="76201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71680" y="7797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1257480" y="7797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425680" y="7797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3860640" y="7797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71680" y="7975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257480" y="7975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2425680" y="7975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860640" y="7975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71680" y="8153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1257480" y="8153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425680" y="8153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860640" y="8153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71680" y="8331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257480" y="8331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425680" y="8331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3860640" y="8331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80" y="8508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257480" y="8508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2425680" y="8508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860640" y="8508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1680" y="8686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1257480" y="8686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25680" y="8686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860640" y="8686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71680" y="8864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1257480" y="8864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425680" y="8864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3860640" y="8864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1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71680" y="9042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1257480" y="9042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2425680" y="9042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860640" y="9042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71680" y="9220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257480" y="9220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2425680" y="9220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3860640" y="9220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4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71680" y="9398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257480" y="9398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425680" y="9398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860640" y="9398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4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1892160" y="7340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land Tr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1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571680" y="1219320"/>
            <a:ext cx="64386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2603520" y="124452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63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454560" y="124452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land Tr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71680" y="1854360"/>
            <a:ext cx="6438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571680" y="1879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571680" y="1879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257480" y="1879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425680" y="1879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3860640" y="1879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71680" y="2057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257480" y="2057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2425680" y="2057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3860640" y="2057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571680" y="223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257480" y="223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2425680" y="223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860640" y="223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571680" y="2413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257480" y="2413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2425680" y="2413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3860640" y="2413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571680" y="2590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257480" y="2590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2425680" y="2590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3860640" y="2590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71680" y="2768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257480" y="2768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2425680" y="2768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860640" y="2768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571680" y="2946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257480" y="2946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425680" y="2946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860640" y="2946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71680" y="3124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257480" y="3124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425680" y="3124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3860640" y="3124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71680" y="3301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257480" y="3301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2425680" y="3301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860640" y="3301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71680" y="3479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257480" y="3479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2425680" y="3479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860640" y="3479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0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571680" y="3657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257480" y="3657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425680" y="3657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3860640" y="3657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571680" y="3835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1257480" y="3835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2425680" y="3835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3860640" y="3835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6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571680" y="4013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1257480" y="4013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425680" y="4013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860640" y="4013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571680" y="4191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257480" y="4191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2425680" y="4191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860640" y="4191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7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71680" y="4368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257480" y="4368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2425680" y="4368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3860640" y="4368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571680" y="45464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2603520" y="45464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3860640" y="45464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13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3454560" y="45464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892160" y="1600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öniglich 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71680" y="4826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C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07960" y="50166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71680" y="507996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571680" y="51055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1680" y="51055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1257480" y="51055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25680" y="51055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3860640" y="51055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571680" y="5283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1257480" y="5283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2425680" y="5283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860640" y="5283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2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71680" y="5460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1257480" y="5460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2425680" y="5460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3860640" y="5460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71680" y="5638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1257480" y="5638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2425680" y="5638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860640" y="5638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571680" y="5816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257480" y="5816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425680" y="5816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3860640" y="5816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71680" y="59943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603520" y="59943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3860640" y="59943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454560" y="59943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1892160" y="4826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corne d'abon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571680" y="62737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M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07960" y="64641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71680" y="6527880"/>
            <a:ext cx="6438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571680" y="65530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71680" y="65530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1257480" y="65530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2425680" y="65530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3860640" y="65530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571680" y="6730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257480" y="6730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2425680" y="6730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860640" y="6730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71680" y="6908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1257480" y="6908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2425680" y="6908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3860640" y="6908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71680" y="7086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1257480" y="7086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2425680" y="7086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3860640" y="7086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571680" y="7264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1257480" y="7264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2425680" y="7264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860640" y="7264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5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571680" y="7442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257480" y="7442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2425680" y="7442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860640" y="7442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571680" y="7620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257480" y="7620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2425680" y="7620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3860640" y="7620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71680" y="7797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257480" y="7797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2425680" y="7797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3860640" y="7797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571680" y="7975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1257480" y="7975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2425680" y="7975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3860640" y="7975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571680" y="8153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257480" y="8153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2425680" y="8153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3860640" y="8153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71680" y="8331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1257480" y="8331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2425680" y="8331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3860640" y="8331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71680" y="8508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257480" y="8508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425680" y="8508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3860640" y="8508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9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571680" y="8686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1257480" y="8686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425680" y="8686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3860640" y="8686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3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571680" y="8864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257480" y="8864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2425680" y="8864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860640" y="8864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8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571680" y="9042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1257480" y="9042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425680" y="9042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3860640" y="9042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571680" y="92203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2603520" y="92203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860640" y="92203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5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454560" y="92203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1892160" y="62737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maison d'A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2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71680" y="1219320"/>
            <a:ext cx="6438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ncou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ncou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ncou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71680" y="1955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2603520" y="1955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454560" y="1955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ghing Bacchus Wine Ce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571680" y="22352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ZY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507960" y="24256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571680" y="2489040"/>
            <a:ext cx="6438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71680" y="25146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571680" y="25146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lla Wa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lla Wa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571680" y="30481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2603520" y="30481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3454560" y="30481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1892160" y="22352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zy K Kountry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71680" y="33274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507960" y="35179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571680" y="3581280"/>
            <a:ext cx="64386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71680" y="36068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571680" y="36068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1257480" y="36068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2425680" y="36068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3860640" y="36068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71680" y="3784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1257480" y="3784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2425680" y="3784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3860640" y="3784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571680" y="3962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257480" y="3962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2425680" y="3962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860640" y="3962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571680" y="4140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257480" y="4140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2425680" y="4140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860640" y="4140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0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571680" y="4317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257480" y="4317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2425680" y="4317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860640" y="4317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71680" y="4495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257480" y="4495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2425680" y="4495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71680" y="4673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4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1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6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71680" y="64515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2603520" y="64515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17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3454560" y="64515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1892160" y="33274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hmanns Markt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1680" y="6730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07960" y="69213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571680" y="698508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571680" y="7010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571680" y="7010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1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0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71680" y="7899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2603520" y="7899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2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3454560" y="7899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892160" y="6730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's Stop N 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571680" y="8178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507960" y="8369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571680" y="8432640"/>
            <a:ext cx="6438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571680" y="8458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571680" y="8458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1257480" y="8458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2425680" y="8458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3860640" y="8458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571680" y="8636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257480" y="8636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2425680" y="8636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3860640" y="8636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4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571680" y="8813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1257480" y="8813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2425680" y="8813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3860640" y="8813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571680" y="8991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892160" y="8178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A-Super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3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571680" y="1219320"/>
            <a:ext cx="643860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8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2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3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571680" y="2666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257480" y="2666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2425680" y="2666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571680" y="2844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1257480" y="2844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2425680" y="2844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3860640" y="2844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1680" y="30225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2603520" y="30225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3860640" y="30225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34.40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3454560" y="30225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A-Super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571680" y="3301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507960" y="34923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571680" y="3556080"/>
            <a:ext cx="643860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571680" y="3581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571680" y="3581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8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1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571680" y="5003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257480" y="5003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2425680" y="5003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571680" y="5181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1257480" y="5181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2425680" y="5181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3860640" y="5181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71680" y="5359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257480" y="5359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425680" y="5359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860640" y="5359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571680" y="5537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1257480" y="5537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2425680" y="5537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3860640" y="5537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71680" y="5715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1257480" y="5715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2425680" y="5715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3860640" y="5715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571680" y="58928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2603520" y="58928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3860640" y="58928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73.809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3454560" y="58928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1892160" y="3301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O-Delicat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571680" y="6172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507960" y="6362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571680" y="6426360"/>
            <a:ext cx="6438600" cy="17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571680" y="6451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571680" y="6451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571680" y="6807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1257480" y="6807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2425680" y="6807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571680" y="6985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1257480" y="6985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2425680" y="6985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3860640" y="6985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571680" y="7162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1257480" y="7162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2425680" y="7162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3860640" y="7162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571680" y="7340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1257480" y="7340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2425680" y="7340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3860640" y="7340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571680" y="7518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1257480" y="7518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2425680" y="7518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3860640" y="7518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71680" y="7696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257480" y="7696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2425680" y="7696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860640" y="7696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571680" y="7873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257480" y="7873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2425680" y="7873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3860640" y="7873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571680" y="80517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603520" y="80517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3860640" y="80517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9.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3454560" y="80517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1892160" y="6172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esome Pine Restau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1680" y="83311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507960" y="85215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571680" y="8585280"/>
            <a:ext cx="6438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571680" y="86104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571680" y="86104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5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71680" y="9321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1257480" y="9321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2425680" y="9321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1892160" y="83311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azzini Alimentari Riun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4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571680" y="121932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0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571680" y="2489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2603520" y="2489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69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3454560" y="2489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azzini Alimentari Riun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571680" y="2768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507960" y="29592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571680" y="302256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571680" y="30481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571680" y="30481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6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5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0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571680" y="4470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2603520" y="4470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58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3454560" y="4470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1892160" y="2768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son Dew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571680" y="4749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507960" y="4940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571680" y="5003640"/>
            <a:ext cx="6438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71680" y="5029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571680" y="5029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2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0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8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571680" y="6807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1257480" y="6807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2425680" y="6807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9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571680" y="6985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257480" y="6985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425680" y="6985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3860640" y="6985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4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571680" y="7162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1257480" y="7162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2425680" y="7162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3860640" y="7162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1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571680" y="7340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1257480" y="7340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2425680" y="7340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3860640" y="7340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7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71680" y="7518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603520" y="7518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860640" y="7518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94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454560" y="7518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1892160" y="4749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ère Paillar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571680" y="77979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G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7960" y="79884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71680" y="805176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71680" y="80773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571680" y="80773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5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7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71680" y="91440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2603520" y="91440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2.039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3454560" y="91440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1892160" y="77979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genstern Gesundk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5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571680" y="1219320"/>
            <a:ext cx="6438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571680" y="1955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2603520" y="1955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7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3454560" y="1955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/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571680" y="22352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507960" y="24256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571680" y="2489040"/>
            <a:ext cx="643860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571680" y="25146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571680" y="25146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9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7.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571680" y="35812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2603520" y="35812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6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3454560" y="35812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1892160" y="22352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éano Atlántico Lt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571680" y="38606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507960" y="40514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571680" y="411480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71680" y="41403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571680" y="41403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1257480" y="41403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2425680" y="41403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3860640" y="41403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571680" y="4317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257480" y="4317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2425680" y="4317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3860640" y="4317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7.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71680" y="4495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1257480" y="4495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425680" y="4495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4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571680" y="4673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5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0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4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0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571680" y="6095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603520" y="6095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83.52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3454560" y="6095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1892160" y="38606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World Delicat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571680" y="63752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T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507960" y="6566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1680" y="662940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1680" y="66549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571680" y="66549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1257480" y="66549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2425680" y="66549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3860640" y="66549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571680" y="683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1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0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5.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5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7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1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3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571680" y="8610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2603520" y="8610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62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3454560" y="8610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892160" y="63752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tilies Käsel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571680" y="88898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507960" y="908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1892160" y="88898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spécial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6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571680" y="121932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3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9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6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571680" y="2489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2603520" y="2489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7.96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3454560" y="2489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cles Comidas clás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71680" y="2768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507960" y="29592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571680" y="302256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571680" y="30481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571680" y="30481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0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2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9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7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571680" y="5003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2603520" y="5003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86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3454560" y="5003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1892160" y="2768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colo und me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571680" y="5283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507960" y="5473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571680" y="553716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571680" y="55627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71680" y="55627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2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571680" y="66294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2603520" y="66294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64.86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3454560" y="66294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1892160" y="52833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esa Isabel Vin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571680" y="6908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507960" y="70992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571680" y="7162920"/>
            <a:ext cx="643860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571680" y="71881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71680" y="71881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9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571680" y="89661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2603520" y="89661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7.55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3454560" y="89661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1892160" y="6908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 Delí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7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571680" y="1219320"/>
            <a:ext cx="6438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90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8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1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1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5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571680" y="2666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1257480" y="2666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2425680" y="2666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0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571680" y="2844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1257480" y="2844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2425680" y="2844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3860640" y="2844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1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571680" y="3022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1257480" y="3022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2425680" y="3022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3860640" y="3022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571680" y="3200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1257480" y="3200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2425680" y="3200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3860640" y="3200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571680" y="3378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1257480" y="3378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2425680" y="3378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3860640" y="3378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4.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571680" y="3556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1257480" y="3556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2425680" y="3556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3860640" y="3556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571680" y="37339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2603520" y="37339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3860640" y="37339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82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3454560" y="37339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 Coz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71680" y="40132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507960" y="42037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571680" y="4267080"/>
            <a:ext cx="643860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571680" y="42926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571680" y="42926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9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571680" y="5003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257480" y="5003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2425680" y="5003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571680" y="5181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1257480" y="5181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2425680" y="5181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3860640" y="5181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9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571680" y="5359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1257480" y="5359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2425680" y="5359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3860640" y="5359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3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571680" y="5537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1257480" y="5537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2425680" y="5537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3860640" y="5537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571680" y="5715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1257480" y="5715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2425680" y="5715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3860640" y="5715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9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571680" y="5892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1257480" y="5892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2425680" y="5892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3860640" y="5892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4.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571680" y="6070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1257480" y="6070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2425680" y="6070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3860640" y="6070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571680" y="6248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1257480" y="6248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2425680" y="6248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3860640" y="6248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,007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571680" y="6426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1257480" y="6426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2425680" y="6426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3860640" y="6426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1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571680" y="6603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1257480" y="6603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2425680" y="6603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3860640" y="6603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4.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571680" y="6781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1257480" y="6781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2425680" y="6781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3860640" y="6781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4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571680" y="6959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1257480" y="6959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2425680" y="6959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3860640" y="6959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0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571680" y="7137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1257480" y="7137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2425680" y="7137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3860640" y="7137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98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571680" y="7315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1257480" y="7315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2425680" y="7315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3860640" y="7315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571680" y="7493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1257480" y="7493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2425680" y="7493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3860640" y="7493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571680" y="7670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1257480" y="7670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2425680" y="7670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3860640" y="7670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571680" y="7848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1257480" y="7848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2425680" y="7848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3860640" y="7848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.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571680" y="8026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1257480" y="8026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2425680" y="8026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3860640" y="8026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2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571680" y="8204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1257480" y="8204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2425680" y="8204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3860640" y="8204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8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571680" y="8381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1257480" y="8381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2425680" y="8381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3860640" y="8381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6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571680" y="8559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1257480" y="8559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2425680" y="8559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3860640" y="8559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571680" y="8737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1257480" y="8737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2425680" y="8737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3860640" y="8737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5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571680" y="8915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1257480" y="8915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2425680" y="8915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3860640" y="8915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571680" y="9093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1257480" y="9093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2425680" y="9093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3860640" y="9093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71680" y="9271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1257480" y="9271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425680" y="9271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860640" y="9271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7.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1892160" y="40132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CK-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8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571680" y="1219320"/>
            <a:ext cx="64386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2603520" y="124452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605.63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3454560" y="124452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CK-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571680" y="185436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571680" y="1879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571680" y="1879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1257480" y="1879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2425680" y="1879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3860640" y="1879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571680" y="2057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1257480" y="2057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2425680" y="2057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3860640" y="2057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571680" y="223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1257480" y="223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2425680" y="223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3860640" y="223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571680" y="2413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1257480" y="2413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2425680" y="2413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3860640" y="2413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0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571680" y="2590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1257480" y="2590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2425680" y="2590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3860640" y="2590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3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571680" y="2768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1257480" y="2768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2425680" y="2768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3860640" y="2768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571680" y="2946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2603520" y="2946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3860640" y="2946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19.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3454560" y="2946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1892160" y="1600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cho gr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571680" y="32259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507960" y="34164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571680" y="3479760"/>
            <a:ext cx="643860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571680" y="35053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571680" y="35053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257480" y="35053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2425680" y="35053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3860640" y="35053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571680" y="3683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257480" y="3683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2425680" y="3683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3860640" y="3683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571680" y="3860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1257480" y="3860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2425680" y="3860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3860640" y="3860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8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571680" y="4038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1257480" y="4038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2425680" y="4038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3860640" y="4038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7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571680" y="4216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1257480" y="4216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2425680" y="4216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3860640" y="4216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571680" y="4394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1257480" y="4394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2425680" y="4394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860640" y="4394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0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71680" y="4572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1257480" y="4572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2425680" y="4572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3860640" y="4572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2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571680" y="4749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1257480" y="4749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2425680" y="4749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3860640" y="4749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571680" y="4927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1257480" y="4927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2425680" y="4927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3860640" y="4927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08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571680" y="5105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1257480" y="5105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2425680" y="5105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3860640" y="5105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571680" y="5283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1257480" y="5283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2425680" y="5283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3860640" y="5283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571680" y="5460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1257480" y="5460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2425680" y="5460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3860640" y="5460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571680" y="5638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1257480" y="5638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2425680" y="5638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3860640" y="5638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571680" y="5816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1257480" y="5816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2425680" y="5816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3860640" y="5816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571680" y="5994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1257480" y="5994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2425680" y="5994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3860640" y="5994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4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571680" y="6172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1257480" y="6172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2425680" y="6172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3860640" y="6172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80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571680" y="6350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1257480" y="6350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2425680" y="6350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3860640" y="6350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1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571680" y="6527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1257480" y="6527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2425680" y="6527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3860640" y="6527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571680" y="6705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1257480" y="6705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2425680" y="6705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3860640" y="6705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571680" y="68835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2603520" y="68835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3860640" y="68835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134.21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3454560" y="68835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1892160" y="32259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tlesnake Canyon Groc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571680" y="7162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507960" y="73533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571680" y="741672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571680" y="7442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571680" y="7442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1257480" y="7442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2425680" y="7442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3860640" y="7442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571680" y="7620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1257480" y="7620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2425680" y="7620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3860640" y="7620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571680" y="7797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1257480" y="7797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2425680" y="7797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3860640" y="7797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571680" y="7975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1257480" y="7975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2425680" y="7975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3860640" y="7975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571680" y="8153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1257480" y="8153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2425680" y="8153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3860640" y="8153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571680" y="8331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1257480" y="8331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2425680" y="8331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3860640" y="8331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571680" y="8508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1257480" y="8508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2425680" y="8508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3860640" y="8508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571680" y="8686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1257480" y="8686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2425680" y="8686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3860640" y="8686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9.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571680" y="8864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1257480" y="8864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2425680" y="8864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3860640" y="8864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571680" y="9042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1257480" y="9042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2425680" y="9042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3860640" y="9042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571680" y="9220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1257480" y="9220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2425680" y="9220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3860640" y="9220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571680" y="9398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1257480" y="9398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2425680" y="9398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3860640" y="9398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8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1892160" y="7162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giani Caseif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9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1680" y="1219320"/>
            <a:ext cx="6438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1680" y="16002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03520" y="16002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71.949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54560" y="16002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ound the H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1680" y="18795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960" y="20700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1680" y="2133720"/>
            <a:ext cx="643860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1680" y="21589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1680" y="21589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7480" y="21589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25680" y="21589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60640" y="21589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1680" y="2336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7480" y="2336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25680" y="2336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60640" y="2336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2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1680" y="2514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8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4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6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8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5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0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8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1680" y="5003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7480" y="5003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25680" y="5003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9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680" y="5181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57480" y="5181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25680" y="5181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60640" y="5181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80" y="5359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57480" y="5359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25680" y="5359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60640" y="5359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1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680" y="55371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03520" y="55371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60640" y="55371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59.51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54560" y="55371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92160" y="18795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glunds snabbkö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680" y="58165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7960" y="60069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680" y="607068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1680" y="60958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1680" y="60958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80" y="6807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7480" y="6807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25680" y="6807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1680" y="6985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57480" y="6985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25680" y="6985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60640" y="6985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1680" y="7162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7162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25680" y="7162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60640" y="7162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1680" y="7340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7480" y="7340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25680" y="7340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60640" y="7340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1680" y="7518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03520" y="7518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60640" y="7518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8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54560" y="7518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92160" y="58165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er See Delikat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1680" y="77979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7960" y="79884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1680" y="8051760"/>
            <a:ext cx="64386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1680" y="80773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1680" y="80773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1.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6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1680" y="9321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57480" y="9321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25680" y="9321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8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92160" y="77979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ndesddsl père et f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571680" y="1219320"/>
            <a:ext cx="6438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571680" y="16002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2603520" y="16002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19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3454560" y="16002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giani Caseif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571680" y="18795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507960" y="20700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571680" y="2133720"/>
            <a:ext cx="64386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571680" y="21589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571680" y="21589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1257480" y="21589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2425680" y="21589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3860640" y="21589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571680" y="2336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1257480" y="2336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2425680" y="2336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3860640" y="2336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571680" y="2514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8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0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0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5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571680" y="4292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2603520" y="4292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2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3454560" y="4292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1892160" y="18795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ardo Adoci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571680" y="45720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507960" y="47624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571680" y="4826160"/>
            <a:ext cx="6438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571680" y="48513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571680" y="48513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8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7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8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2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0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8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4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571680" y="6807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2603520" y="6807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1.28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3454560" y="6807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1892160" y="45720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ter Supermar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571680" y="70866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507960" y="7277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571680" y="734076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571680" y="73659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571680" y="73659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71680" y="8432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2603520" y="8432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4.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3454560" y="8432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1892160" y="70866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ero y tomi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71680" y="8712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507960" y="8902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571680" y="8966160"/>
            <a:ext cx="6438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571680" y="89917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571680" y="89917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3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1892160" y="87123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é Gour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0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571680" y="121932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2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571680" y="21337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2603520" y="21337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5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454560" y="21337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é Gour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571680" y="24130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507960" y="2603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571680" y="2666880"/>
            <a:ext cx="64386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571680" y="26924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571680" y="26924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4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6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9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6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0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7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2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0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44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7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2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571680" y="5003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1257480" y="5003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2425680" y="5003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8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571680" y="5181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1257480" y="5181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2425680" y="5181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3860640" y="5181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571680" y="5359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1257480" y="5359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2425680" y="5359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3860640" y="5359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2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571680" y="5537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1257480" y="5537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2425680" y="5537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3860640" y="5537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7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571680" y="5715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1257480" y="5715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2425680" y="5715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3860640" y="5715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571680" y="5892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1257480" y="5892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2425680" y="5892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3860640" y="5892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571680" y="6070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1257480" y="6070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2425680" y="6070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3860640" y="6070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2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571680" y="6248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1257480" y="6248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2425680" y="6248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3860640" y="6248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571680" y="6426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1257480" y="6426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2425680" y="6426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3860640" y="6426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571680" y="6603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1257480" y="6603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2425680" y="6603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3860640" y="6603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7.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571680" y="6781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1257480" y="6781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2425680" y="6781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3860640" y="6781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571680" y="6959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1257480" y="6959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2425680" y="6959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3860640" y="6959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6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571680" y="7137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1257480" y="7137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2425680" y="7137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3860640" y="7137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00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571680" y="7315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1257480" y="7315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2425680" y="7315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3860640" y="7315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7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571680" y="7493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1257480" y="7493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2425680" y="7493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3860640" y="7493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1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571680" y="7670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1257480" y="7670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2425680" y="7670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3860640" y="7670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1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571680" y="7848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1257480" y="7848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2425680" y="7848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3860640" y="7848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30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571680" y="8026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1257480" y="8026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2425680" y="8026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3860640" y="8026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7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571680" y="8204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1257480" y="8204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2425680" y="8204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3860640" y="8204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571680" y="8381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2603520" y="8381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3860640" y="8381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683.7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3454560" y="8381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1892160" y="24130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e-a-lot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571680" y="86612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507960" y="8852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571680" y="8915400"/>
            <a:ext cx="6438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571680" y="89409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571680" y="89409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1257480" y="89409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2425680" y="89409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3860640" y="89409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571680" y="9118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1257480" y="9118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2425680" y="9118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3860640" y="9118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88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571680" y="9296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257480" y="9296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2425680" y="9296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3860640" y="9296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1892160" y="86612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 Seas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1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571680" y="121932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7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8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7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3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571680" y="2666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>
            <a:off x="2603520" y="2666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13.81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>
            <a:off x="3454560" y="2666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 Seas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571680" y="29462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>
            <a:off x="507960" y="3137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>
            <a:off x="571680" y="320040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>
            <a:off x="571680" y="32259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571680" y="32259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0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7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571680" y="46483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>
            <a:off x="2603520" y="46483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48.85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3454560" y="46483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1892160" y="29462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ons bi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571680" y="49276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507960" y="51181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571680" y="5181480"/>
            <a:ext cx="6438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571680" y="52070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571680" y="52070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7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571680" y="6095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>
            <a:off x="2603520" y="6095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8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>
            <a:off x="3454560" y="6095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>
            <a:off x="1892160" y="49276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écialités du mo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571680" y="63752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L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>
            <a:off x="507960" y="6566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571680" y="6629400"/>
            <a:ext cx="64386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571680" y="66549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571680" y="66549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1257480" y="66549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2425680" y="66549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3860640" y="66549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>
            <a:off x="571680" y="683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1.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5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>
            <a:off x="571680" y="8432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2603520" y="8432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58.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3454560" y="8432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1892160" y="63752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lit Rail Beer &amp; 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571680" y="8712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507960" y="8902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>
            <a:off x="571680" y="8966160"/>
            <a:ext cx="6438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571680" y="89917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>
            <a:off x="571680" y="89917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1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1892160" y="87123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rêmes dél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2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571680" y="1219320"/>
            <a:ext cx="6438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7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8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4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6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571680" y="2666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1257480" y="2666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2425680" y="2666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571680" y="2844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1257480" y="2844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2425680" y="2844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3860640" y="2844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>
            <a:off x="571680" y="3022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1257480" y="3022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>
            <a:off x="2425680" y="3022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>
            <a:off x="3860640" y="3022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>
            <a:off x="571680" y="32004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>
            <a:off x="2603520" y="32004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>
            <a:off x="3860640" y="32004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21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3454560" y="32004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rêmes dél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571680" y="3479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507960" y="36702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571680" y="373392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571680" y="37591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571680" y="37591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7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571680" y="46483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2603520" y="46483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62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3454560" y="46483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1892160" y="3479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Big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571680" y="49276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507960" y="51181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571680" y="5181480"/>
            <a:ext cx="6438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571680" y="52070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571680" y="52070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4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>
            <a:off x="571680" y="5918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2603520" y="5918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9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3454560" y="5918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1892160" y="49276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racker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571680" y="6197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507960" y="63882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571680" y="645156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571680" y="64771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571680" y="64771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1257480" y="64771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2425680" y="64771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3860640" y="64771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571680" y="6654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1257480" y="6654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2425680" y="6654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3860640" y="6654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571680" y="683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571680" y="7721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2603520" y="7721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5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3454560" y="7721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1892160" y="6197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s Spezialitä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571680" y="80010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R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507960" y="81914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571680" y="8255160"/>
            <a:ext cx="6438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571680" y="82803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571680" y="82803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1257480" y="82803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2425680" y="82803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3860640" y="82803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571680" y="8458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1257480" y="8458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2425680" y="8458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3860640" y="8458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571680" y="8636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1257480" y="8636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2425680" y="8636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3860640" y="8636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571680" y="8813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1257480" y="8813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2425680" y="8813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3860640" y="8813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3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571680" y="8991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8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1892160" y="80010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rtuga Restau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3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R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571680" y="121932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4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571680" y="21337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2603520" y="21337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75.63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3454560" y="21337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rtuga Restau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>
            <a:off x="571680" y="24130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507960" y="2603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>
            <a:off x="571680" y="266688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571680" y="26924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571680" y="26924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6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9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571680" y="39369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2603520" y="39369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4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3454560" y="39369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1892160" y="24130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ição Hi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571680" y="42163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>
            <a:off x="507960" y="44067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571680" y="4470480"/>
            <a:ext cx="6438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571680" y="44956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571680" y="44956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>
            <a:off x="1257480" y="44956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>
            <a:off x="2425680" y="44956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>
            <a:off x="571680" y="4673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rk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rk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rk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571680" y="5207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2603520" y="5207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0.009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3454560" y="5207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1892160" y="42163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l's Head Gourmet Provisi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571680" y="54864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F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507960" y="5676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571680" y="5740560"/>
            <a:ext cx="64386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571680" y="57657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571680" y="57657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>
            <a:off x="1257480" y="57657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2425680" y="57657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3860640" y="57657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571680" y="5943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>
            <a:off x="1257480" y="5943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2425680" y="5943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>
            <a:off x="3860640" y="5943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>
            <a:off x="571680" y="6121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1257480" y="6121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>
            <a:off x="2425680" y="6121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>
            <a:off x="3860640" y="6121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571680" y="6299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1257480" y="6299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2425680" y="6299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3860640" y="6299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5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571680" y="6477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1257480" y="6477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2425680" y="6477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3860640" y="6477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571680" y="6654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1257480" y="6654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2425680" y="6654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3860640" y="6654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571680" y="683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9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9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6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571680" y="7899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2603520" y="7899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47.33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3454560" y="7899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1892160" y="54864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ffelj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571680" y="8178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507960" y="8369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571680" y="8432640"/>
            <a:ext cx="6438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571680" y="8458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571680" y="8458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1257480" y="8458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2425680" y="8458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3860640" y="8458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571680" y="8636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1257480" y="8636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2425680" y="8636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3860640" y="8636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571680" y="8813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1257480" y="8813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2425680" y="8813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3860640" y="8813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571680" y="8991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1892160" y="8178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uailles en 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4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>
            <a:off x="571680" y="121932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4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0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9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571680" y="23115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2603520" y="23115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93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3454560" y="23115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uailles en 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571680" y="2590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>
            <a:off x="507960" y="27813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>
            <a:off x="571680" y="284472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>
            <a:off x="571680" y="2870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>
            <a:off x="571680" y="2870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i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i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i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i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i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>
            <a:off x="571680" y="39369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2603520" y="39369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8.410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/>
          <p:nvPr/>
        </p:nvSpPr>
        <p:spPr>
          <a:xfrm>
            <a:off x="3454560" y="39369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1892160" y="2590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ns et alcools Cheva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571680" y="42163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ND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507960" y="44067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571680" y="4470480"/>
            <a:ext cx="6438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>
            <a:off x="571680" y="44956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571680" y="44956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1257480" y="44956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2425680" y="44956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571680" y="4673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0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5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1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>
            <a:off x="571680" y="64515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2603520" y="64515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32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3454560" y="64515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1892160" y="42163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e Wandernde Ku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571680" y="6730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507960" y="69213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571680" y="6985080"/>
            <a:ext cx="64386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571680" y="7010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571680" y="7010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6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0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9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571680" y="9321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1257480" y="9321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>
            <a:off x="2425680" y="9321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9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>
            <a:off x="1892160" y="6730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tian Herk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5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571680" y="1219320"/>
            <a:ext cx="643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>
            <a:off x="571680" y="1778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2603520" y="1778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22.48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3454560" y="1778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tian Herk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571680" y="20574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>
            <a:off x="507960" y="2247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571680" y="2311560"/>
            <a:ext cx="643860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571680" y="23367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571680" y="23367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1257480" y="23367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2425680" y="23367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3860640" y="23367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571680" y="2514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/>
          <p:nvPr/>
        </p:nvSpPr>
        <p:spPr>
          <a:xfrm>
            <a:off x="571680" y="41148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/>
          <p:nvPr/>
        </p:nvSpPr>
        <p:spPr>
          <a:xfrm>
            <a:off x="2603520" y="41148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4.70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>
            <a:off x="3454560" y="41148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1892160" y="20574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lington Import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571680" y="4394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>
            <a:off x="507960" y="4584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>
            <a:off x="571680" y="4648320"/>
            <a:ext cx="6438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>
            <a:off x="571680" y="4673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>
            <a:off x="571680" y="4673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.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9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2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571680" y="6807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1257480" y="6807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>
            <a:off x="2425680" y="6807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2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571680" y="6985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1257480" y="6985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2425680" y="6985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3860640" y="6985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6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571680" y="7162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1257480" y="7162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2425680" y="7162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3860640" y="7162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571680" y="73407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2603520" y="73407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3860640" y="73407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53.05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3454560" y="73407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1892160" y="4394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 Clover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571680" y="76201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507960" y="78105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>
            <a:off x="571680" y="787392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"/>
          <p:cNvSpPr/>
          <p:nvPr/>
        </p:nvSpPr>
        <p:spPr>
          <a:xfrm>
            <a:off x="571680" y="78994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"/>
          <p:cNvSpPr/>
          <p:nvPr/>
        </p:nvSpPr>
        <p:spPr>
          <a:xfrm>
            <a:off x="571680" y="78994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>
            <a:off x="571680" y="93218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2603520" y="93218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8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>
            <a:off x="3454560" y="93218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/>
          <p:nvPr/>
        </p:nvSpPr>
        <p:spPr>
          <a:xfrm>
            <a:off x="1892160" y="76201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n K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6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L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>
            <a:off x="571680" y="121932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0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571680" y="2666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2603520" y="2666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5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>
            <a:off x="3454560" y="2666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lski  Zajaz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7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80" y="121932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" y="21337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03520" y="21337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23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54560" y="21337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ndesddsl père et f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1680" y="24130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7960" y="2603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1680" y="2666880"/>
            <a:ext cx="6438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680" y="26924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80" y="26924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7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7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1680" y="34034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603520" y="34034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1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454560" y="34034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92160" y="24130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ólido Comidas prepar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1680" y="3683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7960" y="38736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1680" y="3936960"/>
            <a:ext cx="64386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1680" y="39625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71680" y="39625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57480" y="39625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25680" y="39625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60640" y="39625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1680" y="4140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7480" y="4140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25680" y="4140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60640" y="4140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71680" y="4317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257480" y="4317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25680" y="4317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60640" y="4317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6.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1680" y="4495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57480" y="4495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425680" y="4495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1680" y="4673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0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3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3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3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2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4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1680" y="6807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57480" y="6807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25680" y="6807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1680" y="6985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57480" y="6985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5680" y="6985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60640" y="6985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1680" y="71629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03520" y="71629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60640" y="71629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57.87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4560" y="71629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2160" y="3683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 app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1680" y="74422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7960" y="76327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71680" y="7696080"/>
            <a:ext cx="6438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1680" y="77216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1680" y="77216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3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2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71680" y="9321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57480" y="9321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425680" y="9321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92160" y="74422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tom-Dollar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1680" y="121932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2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0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71680" y="23115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03520" y="23115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93.95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54560" y="23115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tom-Dollar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71680" y="2590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B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07960" y="27813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71680" y="284472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71680" y="2870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1680" y="2870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3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1680" y="48261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603520" y="48261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81.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454560" y="48261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892160" y="2590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's Bever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71680" y="51055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7960" y="52959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71680" y="535932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71680" y="53848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71680" y="53848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1680" y="66294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603520" y="66294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2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454560" y="66294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92160" y="51055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tus Comidas para lle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1680" y="6908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07960" y="70992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71680" y="7162920"/>
            <a:ext cx="6438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71680" y="71881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1680" y="71881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1680" y="75438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603520" y="75438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54560" y="75438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892160" y="6908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o comercial Moctez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1680" y="7823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07960" y="8013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71680" y="8077320"/>
            <a:ext cx="64386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1680" y="8102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71680" y="8102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257480" y="8102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425680" y="8102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860640" y="8102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71680" y="8280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257480" y="8280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25680" y="8280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860640" y="8280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71680" y="8458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57480" y="8458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25680" y="8458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860640" y="8458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1680" y="8636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257480" y="8636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425680" y="8636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60640" y="8636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1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71680" y="8813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257480" y="8813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425680" y="8813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60640" y="8813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71680" y="8991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92160" y="7823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p-suey Chin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1680" y="1219320"/>
            <a:ext cx="6438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71680" y="16002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603520" y="16002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67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454560" y="16002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p-suey Chin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71680" y="18795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07960" y="20700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71680" y="213372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71680" y="21589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1680" y="21589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257480" y="21589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425680" y="21589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860640" y="21589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71680" y="2336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257480" y="2336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25680" y="2336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860640" y="2336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9.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71680" y="2514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71680" y="32259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603520" y="32259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7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454560" y="32259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92160" y="18795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ércio Min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71680" y="35053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07960" y="36957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71680" y="3759120"/>
            <a:ext cx="6438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71680" y="37846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1680" y="37846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257480" y="37846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425680" y="37846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60640" y="37846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680" y="3962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257480" y="3962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425680" y="3962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860640" y="3962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71680" y="4140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257480" y="4140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425680" y="4140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860640" y="4140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71680" y="4317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257480" y="4317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25680" y="4317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860640" y="4317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71680" y="44956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603520" y="44956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3.620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454560" y="44956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892160" y="35053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olidated Ho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71680" y="47750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7960" y="4965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71680" y="502920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71680" y="50547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71680" y="50547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257480" y="50547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25680" y="50547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860640" y="50547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71680" y="5232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257480" y="5232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425680" y="5232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60640" y="5232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71680" y="5410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257480" y="5410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425680" y="5410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860640" y="5410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71680" y="5587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257480" y="5587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425680" y="5587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60640" y="5587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1680" y="5765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57480" y="5765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425680" y="5765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60640" y="5765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9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71680" y="5943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257480" y="5943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425680" y="5943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60640" y="5943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9.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71680" y="6121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57480" y="6121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425680" y="6121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860640" y="6121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71680" y="62992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03520" y="62992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860640" y="62992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6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454560" y="62992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92160" y="47750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chenblut Delikat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71680" y="65786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07960" y="67690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71680" y="6832440"/>
            <a:ext cx="6438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71680" y="68580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1680" y="68580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257480" y="68580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425680" y="68580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60640" y="68580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71680" y="7035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257480" y="7035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425680" y="7035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860640" y="7035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71680" y="7213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57480" y="7213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425680" y="7213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60640" y="7213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71680" y="7391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257480" y="7391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425680" y="7391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60640" y="7391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71680" y="7569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257480" y="7569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425680" y="7569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60640" y="7569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71680" y="77468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603520" y="77468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60640" y="77468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.699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454560" y="77468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92160" y="65786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 monde e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71680" y="80265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07960" y="82170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71680" y="8280360"/>
            <a:ext cx="6438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71680" y="83059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" y="83059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83059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25680" y="83059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60640" y="83059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71680" y="8483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57480" y="8483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425680" y="8483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860640" y="8483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1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1680" y="8661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257480" y="8661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425680" y="8661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60640" y="8661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3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71680" y="8839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257480" y="8839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425680" y="8839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860640" y="8839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71680" y="9016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257480" y="9016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425680" y="9016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60640" y="9016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71680" y="9194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257480" y="9194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425680" y="9194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60640" y="9194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5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71680" y="9372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257480" y="9372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425680" y="9372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860640" y="9372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892160" y="80265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ern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1680" y="1219320"/>
            <a:ext cx="643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6.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8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71680" y="1778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603520" y="1778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32.33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454560" y="1778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ern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1680" y="20574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N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07960" y="2247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71680" y="2311560"/>
            <a:ext cx="64386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71680" y="23367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71680" y="23367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257480" y="23367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425680" y="23367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860640" y="23367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1680" y="2514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0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6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2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1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4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6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7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8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89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7.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71680" y="5003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257480" y="5003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425680" y="5003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8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71680" y="5181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257480" y="5181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425680" y="5181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860640" y="5181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2.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71680" y="5359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257480" y="5359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425680" y="5359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60640" y="5359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5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71680" y="5537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257480" y="5537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425680" y="5537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860640" y="5537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71680" y="5715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257480" y="5715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425680" y="5715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860640" y="5715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71680" y="5892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57480" y="5892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425680" y="5892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860640" y="5892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1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71680" y="6070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257480" y="6070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25680" y="6070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0640" y="6070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6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71680" y="6248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257480" y="6248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425680" y="6248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860640" y="6248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1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71680" y="6426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257480" y="6426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5680" y="6426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60640" y="6426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0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71680" y="6603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57480" y="6603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425680" y="6603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860640" y="6603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2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71680" y="6781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257480" y="6781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25680" y="6781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60640" y="6781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1680" y="6959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257480" y="6959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425680" y="6959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0640" y="6959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3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71680" y="7137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257480" y="7137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425680" y="7137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860640" y="7137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7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71680" y="7315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257480" y="7315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425680" y="7315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860640" y="7315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9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71680" y="7493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257480" y="7493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425680" y="7493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860640" y="7493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54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71680" y="7670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257480" y="7670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425680" y="7670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860640" y="7670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8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71680" y="78487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603520" y="78487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60640" y="78487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205.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454560" y="78487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892160" y="20574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nst Ha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71680" y="81280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07960" y="8318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71680" y="8381880"/>
            <a:ext cx="6438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71680" y="84074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71680" y="84074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257480" y="84074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425680" y="84074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860640" y="84074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71680" y="8585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257480" y="8585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425680" y="8585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860640" y="8585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1680" y="8763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257480" y="8763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425680" y="8763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860640" y="8763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71680" y="8940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257480" y="8940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425680" y="8940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860640" y="8940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71680" y="9118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257480" y="9118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425680" y="9118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860640" y="9118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71680" y="9296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257480" y="9296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425680" y="9296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860640" y="9296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892160" y="81280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lia Arquib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71680" y="1219320"/>
            <a:ext cx="643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6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71680" y="1778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603520" y="1778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32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454560" y="1778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lia Arquib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1680" y="20574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07960" y="2247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892160" y="20574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SSA Fabrica Inter. Salchichas S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71680" y="243828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07960" y="26290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71680" y="269244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71680" y="27176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1680" y="27176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257480" y="27176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425680" y="27176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860640" y="27176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71680" y="2895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257480" y="2895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425680" y="2895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860640" y="2895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71680" y="3073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257480" y="3073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425680" y="3073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60640" y="3073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71680" y="3251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257480" y="3251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425680" y="3251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860640" y="3251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7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1680" y="3429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3429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425680" y="3429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860640" y="3429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1680" y="3606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257480" y="3606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425680" y="3606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860640" y="3606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0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71680" y="37846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603520" y="37846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860640" y="37846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7.939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454560" y="37846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892160" y="243828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ies gour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71680" y="40640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7960" y="42544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71680" y="4317840"/>
            <a:ext cx="6438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71680" y="43434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71680" y="43434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257480" y="43434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425680" y="43434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60640" y="43434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71680" y="4521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257480" y="4521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425680" y="4521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60640" y="4521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71680" y="4699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57480" y="4699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425680" y="4699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860640" y="4699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3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71680" y="4876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57480" y="4876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425680" y="4876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860640" y="4876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1680" y="5054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257480" y="5054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425680" y="5054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860640" y="5054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71680" y="5232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257480" y="5232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425680" y="5232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860640" y="5232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71680" y="5410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257480" y="5410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425680" y="5410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860640" y="5410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8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71680" y="5587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257480" y="5587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425680" y="5587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860640" y="5587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2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71680" y="5765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257480" y="5765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425680" y="5765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860640" y="5765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2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71680" y="5943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57480" y="5943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425680" y="5943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860640" y="5943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8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71680" y="6121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257480" y="6121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425680" y="6121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860640" y="6121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1680" y="6299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257480" y="6299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425680" y="6299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860640" y="6299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1680" y="6477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257480" y="6477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425680" y="6477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860640" y="6477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8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71680" y="6654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257480" y="6654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25680" y="6654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860640" y="6654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71680" y="683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8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7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71680" y="7899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603520" y="7899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78.08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454560" y="7899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1892160" y="40640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k och fä H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71680" y="8178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07960" y="8369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71680" y="8432640"/>
            <a:ext cx="6438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71680" y="8458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71680" y="8458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257480" y="8458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425680" y="8458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860640" y="8458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71680" y="8636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257480" y="8636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425680" y="8636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860640" y="8636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8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71680" y="8813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257480" y="8813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425680" y="8813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860640" y="8813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8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71680" y="8991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4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5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892160" y="8178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enver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7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71680" y="1219320"/>
            <a:ext cx="6438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7.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3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3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71680" y="2666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57480" y="2666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425680" y="2666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71680" y="2844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257480" y="2844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425680" y="2844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860640" y="2844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71680" y="3022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257480" y="3022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425680" y="3022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60640" y="3022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2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71680" y="32004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603520" y="32004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860640" y="32004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03.43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454560" y="32004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enver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71680" y="3479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7960" y="36702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71680" y="3733920"/>
            <a:ext cx="6438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71680" y="37591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71680" y="37591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1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71680" y="4470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603520" y="4470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1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454560" y="4470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892160" y="3479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 resta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71680" y="4749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07960" y="4940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71680" y="5003640"/>
            <a:ext cx="643860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71680" y="5029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71680" y="5029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1680" y="627372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603520" y="627372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5.130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454560" y="627372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92160" y="4749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hi S.p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71680" y="655308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R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07960" y="67438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71680" y="6807240"/>
            <a:ext cx="64386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71680" y="68324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71680" y="68324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7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9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2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71680" y="8432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603520" y="8432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8.669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454560" y="8432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892160" y="655308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ria Bacalhau e Frutos do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71680" y="8712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07960" y="8902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71680" y="8966160"/>
            <a:ext cx="6438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71680" y="89917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71680" y="89917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892160" y="87123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ería del gastrón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8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71680" y="1219320"/>
            <a:ext cx="6438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71680" y="1955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603520" y="1955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7.980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3454560" y="1955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ería del gastrón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571680" y="22352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07960" y="24256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71680" y="248904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571680" y="25146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71680" y="25146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7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5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5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1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71680" y="4470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603520" y="4470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68.269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454560" y="4470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1892160" y="22352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os Cocina Típ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71680" y="4749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07960" y="4940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71680" y="5003640"/>
            <a:ext cx="64386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71680" y="5029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71680" y="5029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0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8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571680" y="6807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603520" y="6807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2.38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454560" y="6807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892160" y="4749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urmet Lanchon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571680" y="70866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07960" y="7277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71680" y="7340760"/>
            <a:ext cx="6438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71680" y="73659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71680" y="73659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6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7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19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71680" y="9321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257480" y="9321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2425680" y="9321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892160" y="70866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t Lakes Food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9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CustomersReport</dc:title>
</cp:coreProperties>
</file>