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65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388-7561-414D-879D-2EDA086A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B18-6966-49F7-A6F5-EFEEFEAE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50C-A1DB-4EEE-B41E-1A1D54C5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722-9470-4F00-884E-ED0CFBAA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D2C6-54A6-40A1-81F9-1607C49F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9F2-77B7-4D54-8CE6-2B9C16CD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BA9-F015-481A-A9F5-F8109092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1A6-6145-4D7E-98F0-553546F7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9D9-D109-45AC-A992-DD023256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F2D-1AAC-4ED3-8119-F8F8E405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53B-4755-4720-8636-2C53499C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58E-9677-46DF-820A-ED6BA9A4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75E0-1547-4D67-A245-1D7A61540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-10987" b="-14826"/>
          <a:stretch/>
        </p:blipFill>
        <p:spPr>
          <a:xfrm>
            <a:off x="254160" y="380880"/>
            <a:ext cx="1904760" cy="507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0" y="38088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 onErrorType="Icon" isLazy="true"&gt;&lt;reportElement x="0" y="0" width="150" height="40"/&gt;&lt;imageExpression class="java.lang.String"&gt;"http://jasperreports.sourceforge.net/jasperreports.png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4160" y="1015920"/>
            <a:ext cx="723600" cy="507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1200" y="1003320"/>
            <a:ext cx="1917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200" y="1003320"/>
            <a:ext cx="0" cy="52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200" y="1523880"/>
            <a:ext cx="1917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58920" y="1003320"/>
            <a:ext cx="0" cy="52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01592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RetainShape"&gt;&lt;reportElement x="0" y="50" width="150" height="40"/&gt;&lt;box&gt;&lt;pen lineWidth="0.5"/&gt;&lt;/box&gt;&lt;imageExpression&gt;"dukesign.jpg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1650960"/>
            <a:ext cx="1904760" cy="50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0" t="0" r="-19971" b="64026"/>
          <a:stretch/>
        </p:blipFill>
        <p:spPr>
          <a:xfrm>
            <a:off x="317520" y="1714680"/>
            <a:ext cx="1778040" cy="380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1200" y="1638360"/>
            <a:ext cx="1917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1638360"/>
            <a:ext cx="0" cy="52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200" y="2158920"/>
            <a:ext cx="1917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58920" y="1638360"/>
            <a:ext cx="0" cy="52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65096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&gt;&lt;reportElement x="0" y="100" width="150" height="40" mode="Opaque" backcolor="yellow"/&gt;&lt;box padding="5"/&gt;&lt;pen lineWidth="0.5"/&gt;&lt;/box&gt;&lt;imageExpression&gt;"dukesign.jpg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54160" y="2286000"/>
            <a:ext cx="1904760" cy="507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1200" y="2273400"/>
            <a:ext cx="1917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200" y="2273400"/>
            <a:ext cx="0" cy="52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200" y="2793960"/>
            <a:ext cx="1917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58920" y="2273400"/>
            <a:ext cx="0" cy="52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228600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FillFrame" isUsingCache="true"&gt;&lt;reportElement x="0" y="150" width="150" height="40"/&gt;&lt;box&gt;&lt;pen lineWidth="0.5"/&gt;&lt;/box&gt;&lt;imageExpression&gt;"dukesign.jpg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838080" y="2921040"/>
            <a:ext cx="723960" cy="507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1200" y="2908440"/>
            <a:ext cx="1917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200" y="2908440"/>
            <a:ext cx="0" cy="52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200" y="3429000"/>
            <a:ext cx="1917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58920" y="2908440"/>
            <a:ext cx="0" cy="52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92104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RetainShape" hAlign="Center" isUsingCache="false"&gt;&lt;reportElement x="0" y="200" width="150" height="40"/&gt;&lt;box&gt;&lt;pen lineWidth="0.5"/&gt;&lt;/box&gt;&lt;imageExpression&gt;"dukesign.jpg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4160" y="3556080"/>
            <a:ext cx="1904760" cy="507960"/>
          </a:xfrm>
          <a:prstGeom prst="rect">
            <a:avLst/>
          </a:pr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17520" y="3619440"/>
            <a:ext cx="888840" cy="381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0" y="355608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RetainShape"&gt;&lt;reportElement x="5" y="255" width="70" height="30"/&gt;&lt;graphicElement/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4160" y="4191120"/>
            <a:ext cx="1904760" cy="507960"/>
          </a:xfrm>
          <a:prstGeom prst="rect">
            <a:avLst/>
          </a:pr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7"/>
          <a:srcRect l="0" t="0" r="-4942" b="41995"/>
          <a:stretch/>
        </p:blipFill>
        <p:spPr>
          <a:xfrm>
            <a:off x="317520" y="4254480"/>
            <a:ext cx="888840" cy="380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0" y="419112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&gt;&lt;reportElement x="5" y="305" width="70" height="30"/&gt;&lt;graphicElement/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4160" y="4826160"/>
            <a:ext cx="1904760" cy="507960"/>
          </a:xfrm>
          <a:prstGeom prst="rect">
            <a:avLst/>
          </a:pr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4889520"/>
            <a:ext cx="380880" cy="380880"/>
          </a:xfrm>
          <a:prstGeom prst="rect">
            <a:avLst/>
          </a:prstGeom>
          <a:solidFill>
            <a:srgbClr val="dd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317520" y="48895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86000" y="482616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RetainShape"&gt;&lt;reportElement x="5" y="355" width="30" height="30" mode="Opaque" backcolor="#DDFFDD"/&gt;&lt;graphicElement/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4160" y="5460840"/>
            <a:ext cx="1904760" cy="508320"/>
          </a:xfrm>
          <a:prstGeom prst="rect">
            <a:avLst/>
          </a:pr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5524560"/>
            <a:ext cx="1523880" cy="380880"/>
          </a:xfrm>
          <a:prstGeom prst="rect">
            <a:avLst/>
          </a:prstGeom>
          <a:solidFill>
            <a:srgbClr val="dd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9"/>
          <a:srcRect l="0" t="0" r="-55000" b="41995"/>
          <a:stretch/>
        </p:blipFill>
        <p:spPr>
          <a:xfrm>
            <a:off x="317520" y="5524560"/>
            <a:ext cx="1523880" cy="380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0" y="5460840"/>
            <a:ext cx="49528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 hAlign="Center" vAlign="Middle"&gt;&lt;reportElement x="5" y="405" width="120" height="30" mode="Opaque" backcolor="#DDFFDD"/&gt;&lt;graphicElement/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0"/>
          <a:srcRect l="0" t="0" r="15000" b="41995"/>
          <a:stretch/>
        </p:blipFill>
        <p:spPr>
          <a:xfrm>
            <a:off x="888840" y="6159600"/>
            <a:ext cx="635040" cy="380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76240" y="6146640"/>
            <a:ext cx="64764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6240" y="6146640"/>
            <a:ext cx="0" cy="39384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76240" y="6540480"/>
            <a:ext cx="64764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6146640"/>
            <a:ext cx="0" cy="39384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609588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&gt;&lt;reportElement x="50" y="455" width="50" height="30" forecolor="red"/&gt;&lt;box&gt;&lt;pen lineWidth="0.5"/&gt;&lt;/box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1"/>
          <a:srcRect l="0" t="0" r="15000" b="41995"/>
          <a:stretch/>
        </p:blipFill>
        <p:spPr>
          <a:xfrm>
            <a:off x="888840" y="6794640"/>
            <a:ext cx="63504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76240" y="6781680"/>
            <a:ext cx="6476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76240" y="6781680"/>
            <a:ext cx="0" cy="3938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6240" y="7175520"/>
            <a:ext cx="6476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6781680"/>
            <a:ext cx="0" cy="3938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673092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&gt;&lt;reportElement x="50" y="505" width="50" height="30" forecolor="red"/&gt;&lt;box&gt;&lt;pen lineWidth="1" lineStyle="Dashed"/&gt;&lt;/box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2"/>
          <a:srcRect l="0" t="0" r="15000" b="41995"/>
          <a:stretch/>
        </p:blipFill>
        <p:spPr>
          <a:xfrm>
            <a:off x="888840" y="7429680"/>
            <a:ext cx="63504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76240" y="7416720"/>
            <a:ext cx="647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6240" y="7416720"/>
            <a:ext cx="0" cy="393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76240" y="7810560"/>
            <a:ext cx="647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7416720"/>
            <a:ext cx="0" cy="393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736596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&gt;&lt;reportElement x="50" y="555" width="50" height="30" forecolor="red"/&gt;&lt;box&gt;&lt;pen lineWidth="1"/&gt;&lt;/box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3"/>
          <a:srcRect l="0" t="0" r="15000" b="41995"/>
          <a:stretch/>
        </p:blipFill>
        <p:spPr>
          <a:xfrm>
            <a:off x="888840" y="8064360"/>
            <a:ext cx="635040" cy="381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76240" y="805176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6240" y="8051760"/>
            <a:ext cx="0" cy="393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6240" y="844560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8051760"/>
            <a:ext cx="0" cy="393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800100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&gt;&lt;reportElement x="50" y="605" width="50" height="30" forecolor="red"/&gt;&lt;box&gt;&lt;pen lineWidth="2"/&gt;&lt;/box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4"/>
          <a:srcRect l="0" t="0" r="15000" b="41995"/>
          <a:stretch/>
        </p:blipFill>
        <p:spPr>
          <a:xfrm>
            <a:off x="888840" y="8699400"/>
            <a:ext cx="635040" cy="381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76240" y="8686800"/>
            <a:ext cx="647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76240" y="8686800"/>
            <a:ext cx="0" cy="393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6240" y="9080640"/>
            <a:ext cx="647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8686800"/>
            <a:ext cx="0" cy="393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863604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 hAlign="Right" vAlign="Top"&gt;&lt;reportElement x="50" y="655" width="50" height="30" forecolor="red"/&gt;&lt;box&gt;&lt;pen lineWidth="4"/&gt;&lt;/box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888840" y="93344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76240" y="9321840"/>
            <a:ext cx="8892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6240" y="9321840"/>
            <a:ext cx="0" cy="889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6240" y="9410760"/>
            <a:ext cx="8892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65160" y="9321840"/>
            <a:ext cx="0" cy="889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927108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&gt;&lt;reportElement x="50" y="705" width="6" height="6" forecolor="green"/&gt;&lt;box&gt;&lt;pen lineWidth="4"/&gt;&lt;/box&gt;&lt;imageExpression&gt;"1redpixel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ImagesReport</dc:title>
</cp:coreProperties>
</file>