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AAA-A767-47CB-8FDE-8349E0B1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6C5-8DB6-4E28-83B9-BBCAD3A8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A8B-1FD4-49AE-915C-A0736ED2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82F-D24C-484D-936F-E8A7EE31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C9C-990D-4E7D-9798-D020BDD7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1DC-38E7-41B0-85C9-2CC6107E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DED-F7C8-4F9A-9CFB-ACF7E19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2C7-7B61-42CB-BD54-F5BA07D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EC7-A0D7-4EFE-8D78-965B116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474-B293-43A1-9843-1B90523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0C9-9E74-4A85-BE36-0D41D52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CBD-C05A-48B3-A207-F292324F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90D2-CD59-4105-8A17-941A94064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1015920"/>
            <a:ext cx="25398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21040" y="101592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&gt;&lt;reportElement x="0" y="50" width="200" height="0"/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650960"/>
            <a:ext cx="253980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21040" y="165096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 direction="TopDown"&gt;&lt;reportElement x="0" y="100" width="200" height="40"/&gt;&lt;graphicElement&gt;&lt;pen lineWidth="2"/&gt;&lt;/graphicElement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54160" y="2285640"/>
            <a:ext cx="2539800" cy="5079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21040" y="228600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 direction="BottomUp"&gt;&lt;reportElement x="0" y="150" width="200" height="40" forecolor="green"/&gt;&lt;graphicElement&gt;&lt;pen lineWidth="4"/&gt;&lt;/graphicElement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921040"/>
            <a:ext cx="12960" cy="5079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21040" y="292104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&gt;&lt;reportElement x="100" y="200" width="0" height="40" forecolor="blue"/&gt;&lt;graphicElement&gt;&lt;pen lineWidth="1" lineStyle="Dashed"/&gt;&lt;/graphicElement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556080"/>
            <a:ext cx="2539800" cy="50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21040" y="355608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250" width="200" height="40" backcolor="#FFFF99"/&gt;&lt;graphicElement&gt;&lt;pen lineWidth="0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4191120"/>
            <a:ext cx="2539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21040" y="419112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300" width="200" height="40"/&gt;&lt;graphicElement&gt;&lt;pen lineWidth="1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160" y="4826160"/>
            <a:ext cx="2539800" cy="507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21040" y="482616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 radius="15"&gt;&lt;reportElement x="0" y="350" width="200" height="40" backcolor="#FFFF00"/&gt;&lt;graphicElement&gt;&lt;pen lineWidth="2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4160" y="5460840"/>
            <a:ext cx="2539800" cy="508320"/>
          </a:xfrm>
          <a:prstGeom prst="rect">
            <a:avLst/>
          </a:prstGeom>
          <a:solidFill>
            <a:srgbClr val="00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21040" y="5460840"/>
            <a:ext cx="4317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400" width="200" height="40" forecolor="red" backcolor="#00FFFF"/&gt;&lt;graphicElement&gt;&lt;pen lineWidth="4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6095880"/>
            <a:ext cx="2539800" cy="50796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1040" y="609588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450" width="200" height="40" forecolor="#FF00FF" backcolor="#C0C0C0"/&gt;&lt;graphicElement&gt;&lt;pen lineWidth="1" lineStyle="Dashed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6730920"/>
            <a:ext cx="1904760" cy="381240"/>
          </a:xfrm>
          <a:prstGeom prst="rect">
            <a:avLst/>
          </a:prstGeom>
          <a:solidFill>
            <a:srgbClr val="ffaa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6858000"/>
            <a:ext cx="19051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21040" y="673092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50" y="510" width="150" height="30" forecolor="blue" mode="Opaque"/&gt;&lt;graphicElement&gt;&lt;pen lineWidth="2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4160" y="7365960"/>
            <a:ext cx="1904760" cy="380880"/>
          </a:xfrm>
          <a:prstGeom prst="rect">
            <a:avLst/>
          </a:prstGeom>
          <a:solidFill>
            <a:srgbClr val="ffaa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8840" y="7493040"/>
            <a:ext cx="1905120" cy="380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1040" y="736596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50" y="560" width="150" height="30" forecolor="blue" mode="Transparent"/&gt;&lt;graphicElement&gt;&lt;pen lineWidth="2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160" y="8001000"/>
            <a:ext cx="2539800" cy="5079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1040" y="800100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lipse&gt;&lt;reportElement x="0" y="600" width="200" height="40" forecolor="red" backcolor="#FFFF99"/&gt;&lt;graphicElement&gt;&lt;pen lineWidth="2"/&gt;&lt;/graphicElement&gt;&lt;/ellips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70080" y="8636040"/>
            <a:ext cx="507960" cy="507960"/>
          </a:xfrm>
          <a:prstGeom prst="ellipse">
            <a:avLst/>
          </a:prstGeom>
          <a:solidFill>
            <a:srgbClr val="99ffff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863604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lipse&gt;&lt;reportElement x="80" y="650" width="40" height="40" forecolor="#009900" backcolor="#99FFFF"/&gt;&lt;graphicElement&gt;&lt;pen lineWidth="2"/&gt;&lt;/graphicElement&gt;&lt;/ellips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ShapesReport</dc:title>
</cp:coreProperties>
</file>