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556500" cy="106918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61AC-D5DA-4376-A6A8-823B4DA2C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B3BF-F717-4104-92A4-1F06C4E93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723B-3C48-4C43-81CD-A5DD2039C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039A-6A6B-4329-A603-C34A2FB9F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8C3B-85F8-42DB-9780-F0228D6B9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94B4-F2A0-4771-A03C-29EC604F1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26F8-0C7F-458F-A9F3-3D0DE84DF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7148-1EE5-43CD-9873-487BCBECF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7E61-CED8-4557-8F23-A26A3D9DC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132C-7393-425A-8E6D-EFEE64C7B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4D97-3585-4892-8FF3-1AF187D01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33E1-C140-45EB-9447-33BA866CC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32CEB-373E-4821-A29A-BF1BC3EF29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4400" y="2462760"/>
            <a:ext cx="666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Evaluation on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reated with Aspose.Power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opyright 2004 Aspose Pty Lt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4160" y="1015920"/>
            <a:ext cx="19047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quick brown fox jumps over the lazy dog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0" y="1015920"/>
            <a:ext cx="49528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staticText&gt;&lt;reportElement x="0" y="50" width="150" height="40"/&gt;&lt;text&gt;The quick brown fox jumps over the lazy dog.&lt;/text&gt;&lt;/staticText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54160" y="1650960"/>
            <a:ext cx="19047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quick brown fox jumps over the lazy do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0" y="1650960"/>
            <a:ext cx="49528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staticText&gt;&lt;reportElement x="0" y="100" width="150" height="40"/&gt;&lt;textElement&gt;&lt;font size="14"/&gt;&lt;/textElement&gt;&lt;text&gt;The quick brown fox jumps over the lazy dog.&lt;/text&gt;&lt;/staticText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54160" y="2286000"/>
            <a:ext cx="19047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erif"/>
              </a:rPr>
              <a:t>The quick brown fox jumps over the lazy do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0" y="2286000"/>
            <a:ext cx="49528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staticText&gt;&lt;reportElement x="0" y="150" width="150" height="40"/&gt;&lt;textElement&gt;&lt;font fontName="serif" size="12" pdfFontName="Times-Roman"/&gt;&lt;/textElement&gt;&lt;text&gt;The quick brown fox jumps over the lazy dog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54160" y="2921040"/>
            <a:ext cx="19047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serif"/>
              </a:rPr>
              <a:t>The quick brown fox jumps over the lazy do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2921040"/>
            <a:ext cx="49528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staticText&gt;&lt;reportElement x="0" y="200" width="150" height="40"/&gt;&lt;textElement&gt;&lt;font fontName="serif" size="12" isBold="true" isItalic="true" pdfFontName="Times-BoldItalic"/&gt;&lt;/textElement&gt;&lt;text&gt;The quick brown fox jumps ov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4160" y="3556080"/>
            <a:ext cx="19047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quick brown fox jumps over the lazy do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0" y="3556080"/>
            <a:ext cx="49528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staticText&gt;&lt;reportElement x="0" y="250" width="150" height="40"/&gt;&lt;textElement&gt;&lt;font fontName="Comic Sans MS" size="12" isBold="false" pdfFontName="COMIC.TTF" isPdfEmbedded="true"/&gt;&lt;/textElement&gt;&lt;text&gt;The quic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4160" y="4191120"/>
            <a:ext cx="19047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The quick brown fox jumps over the lazy do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0" y="4191120"/>
            <a:ext cx="49528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staticText&gt;&lt;reportElement x="0" y="300" width="150" height="40"/&gt;&lt;textElement&gt;&lt;font fontName="Comic Sans MS" size="12" isBold="true"/&gt;&lt;/textElement&gt;&lt;text&gt;The quick brown fox jumps over the lazy dog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4160" y="4826160"/>
            <a:ext cx="19047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 u="sng">
                <a:solidFill>
                  <a:srgbClr val="000000"/>
                </a:solidFill>
                <a:uFillTx/>
                <a:latin typeface="monospaced"/>
              </a:rPr>
              <a:t>The quick brown fox jumps over the laz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86000" y="4826160"/>
            <a:ext cx="49528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staticText&gt;&lt;reportElement x="0" y="350" width="150" height="40"/&gt;&lt;textElement&gt;&lt;font fontName="monospaced" size="12" isItalic="true" isUnderline="true" pdfFontName="Courier-Oblique"/&gt;&lt;/textElement&gt;&lt;text&gt;The quick brown f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54160" y="5460840"/>
            <a:ext cx="1904760" cy="5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spaced"/>
              </a:rPr>
              <a:t>The quick brown fox jumps over the laz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5460840"/>
            <a:ext cx="4952880" cy="5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staticText&gt;&lt;reportElement x="0" y="400" width="150" height="40"/&gt;&lt;textElement&gt;&lt;font fontName="monospaced" size="12" isBold="true" isStrikeThrough="true" pdfFontName="Courier-Bold"/&gt;&lt;/textElement&gt;&lt;text&gt;The quic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54160" y="6095880"/>
            <a:ext cx="19047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The quick brown fox jumps over the laz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86000" y="6095880"/>
            <a:ext cx="49528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staticText&gt;&lt;reportElement x="0" y="450" width="150" height="40" forecolor="red"/&gt;&lt;textElement&gt;&lt;font size="14"/&gt;&lt;/textElement&gt;&lt;text&gt;The quick brown fox jumps over the lazy dog.&lt;/text&gt;&lt;/staticText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4160" y="6730920"/>
            <a:ext cx="1904760" cy="507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ff00"/>
                </a:solidFill>
                <a:latin typeface="serif"/>
              </a:rPr>
              <a:t>The quick brown fox jumps over the lazy do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86000" y="6730920"/>
            <a:ext cx="49528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staticText&gt;&lt;reportElement x="0" y="500" width="150" height="40" forecolor="green" backcolor="#FFFF00" mode="Opaque"/&gt;&lt;textElement&gt;&lt;font fontName="serif" size="12" isBold="true" pdfFontName="Times-Bold"/&gt;&lt;/textElement&gt;&lt;text&gt;The quick brow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54160" y="7365960"/>
            <a:ext cx="1904760" cy="1143000"/>
          </a:xfrm>
          <a:prstGeom prst="rect">
            <a:avLst/>
          </a:prstGeom>
          <a:solidFill>
            <a:srgbClr val="ffdd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ff"/>
                </a:solidFill>
                <a:latin typeface="Arial"/>
              </a:rPr>
              <a:t>The quick brown fox jumps over the lazy do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286000" y="7365960"/>
            <a:ext cx="4952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staticText&gt;&lt;reportElement x="0" y="550" width="150" height="90" forecolor="blue" backcolor="#FFDD99" mode="Opaque"/&gt;&lt;textElement textAlignment="Center" verticalAlignment="Middle"&gt;&lt;font fontName="sansserif" size="12" isBold="false" pdfFontName="Arial.Slanted" isPdfEmbedded="true"/&gt;&lt;/textElement&gt;&lt;text&gt;The quick brown fox jumps over the lazy dog.&lt;/text&gt;&lt;/staticText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4160" y="8636040"/>
            <a:ext cx="1904760" cy="1143000"/>
          </a:xfrm>
          <a:prstGeom prst="rect">
            <a:avLst/>
          </a:prstGeom>
          <a:solidFill>
            <a:srgbClr val="99d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The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286000" y="8636040"/>
            <a:ext cx="4952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staticText&gt;&lt;reportElement x="0" y="650" width="150" height="90" forecolor="red" backcolor="#99DDFF" mode="Opaque"/&gt;&lt;textElement textAlignment="Right" verticalAlignment="Bottom"&gt;&lt;font fontName="sansserif" size="12" isBold="true" pdfFontName="Arial Bold" isPdfEmbedded="true"/&gt;&lt;/textElement&gt;&lt;text&gt;The quick brown fox jumps over the lazy dog.&lt;/text&gt;&lt;/staticText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0T11:54:09Z</dcterms:created>
  <dc:creator/>
  <dc:description/>
  <dc:language>en-US</dc:language>
  <cp:lastModifiedBy>Alcrus</cp:lastModifiedBy>
  <dcterms:modified xsi:type="dcterms:W3CDTF">2006-02-15T18:39:04Z</dcterms:modified>
  <cp:revision>5</cp:revision>
  <dc:subject/>
  <dc:title>FontsReport</dc:title>
</cp:coreProperties>
</file>