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1270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5B2-5F7A-443C-90B7-8151B7EF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3E1-9F73-41E5-9AFF-8A850F1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031-49D7-4709-B07B-97AA16A5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156-0E45-413D-A479-C587CC55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67F-23EE-4350-A540-19C3B45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734-68D8-4D75-804B-1261663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0EB-9D47-4EDC-A077-465A5BE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C94-D0AA-45CB-8344-01E5132C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EC4-474E-4DE9-B847-EE6E270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246-1A27-41ED-943F-BCF04DD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F8D-8A56-4EE3-AC0A-097C7D96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791-7D01-4C6A-ABF4-5C9E16C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561-FEAA-4692-B2D0-913350C8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0"/>
            <a:ext cx="654048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0"/>
            <a:ext cx="9651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spaced"/>
              </a:rPr>
              <a:t>Address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762120"/>
            <a:ext cx="2541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080" y="762120"/>
            <a:ext cx="10159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7920" y="762120"/>
            <a:ext cx="7621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106668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101592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. B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" y="1270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0080" y="1270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7920" y="1270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0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1523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1523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Schne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7920" y="1523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7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36040" y="177804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4880" y="177804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4160" y="208296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203184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. 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160" y="2286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70080" y="2286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net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7920" y="2286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5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160" y="2540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70080" y="2540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7920" y="2540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4160" y="2793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0080" y="2793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7920" y="2793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0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4160" y="3048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080" y="3048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Michae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7920" y="3048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4160" y="3301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70080" y="3301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ohn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7920" y="3301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6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4160" y="3556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0080" y="3556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Hein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7920" y="3556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6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809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0080" y="3809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ne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7920" y="3809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35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4160" y="406404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080" y="406404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7920" y="406404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5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4317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70080" y="4317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7920" y="4317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2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36040" y="457200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24880" y="457200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487692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4160" y="482616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. 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5079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70080" y="5079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Hein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7920" y="5079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47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4160" y="5334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0080" y="5334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7920" y="5334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4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160" y="5587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0080" y="5587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7920" y="5587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3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4160" y="5842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0080" y="5842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ne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7920" y="5842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0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36040" y="609588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524880" y="609588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4160" y="640080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635004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.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160" y="6603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080" y="6603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7920" y="6603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72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4160" y="6858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70080" y="6858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7920" y="6858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1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160" y="7112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70080" y="7112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7112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6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4160" y="7365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70080" y="7365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920" y="7365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4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4160" y="7620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0080" y="7620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ohn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7920" y="7620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5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4160" y="7873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70080" y="7873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7920" y="7873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36040" y="812808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524880" y="812808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160" y="843264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4160" y="838188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. 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160" y="863604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0080" y="863604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George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7920" y="863604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34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160" y="8889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70080" y="8889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ob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7920" y="8889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71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160" y="9144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0080" y="9144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7920" y="9144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2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9398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70080" y="9398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7920" y="9398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33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160" y="9651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70080" y="9651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7920" y="9651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6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36040" y="990612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24880" y="990612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4160" y="1021068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160" y="1015992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. Palo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4160" y="10414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10414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George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7920" y="10414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1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10667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0080" y="10667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7920" y="10667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06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36040" y="1092204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24880" y="1092204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" y="1122696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160" y="1117584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.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4160" y="11430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70080" y="11430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7920" y="11430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69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4160" y="11684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70080" y="11684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7920" y="11684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58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160" y="11937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70080" y="11937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7920" y="11937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94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12192120"/>
            <a:ext cx="12697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60840" y="12192120"/>
            <a:ext cx="5083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60" y="0"/>
            <a:ext cx="2541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70080" y="0"/>
            <a:ext cx="10159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7920" y="0"/>
            <a:ext cx="7621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36040" y="25416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24880" y="25416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4160" y="55872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50796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.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762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70080" y="762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Robert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7920" y="762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4160" y="1015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70080" y="1015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Pe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7920" y="1015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31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1270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70080" y="1270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Michae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7920" y="1270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2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636040" y="152388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524880" y="152388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4160" y="182880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160" y="177804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. 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60" y="2031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70080" y="2031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ulia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7920" y="2031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3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4160" y="2286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0080" y="2286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ob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7920" y="2286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09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4160" y="2540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70080" y="2540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ulia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7920" y="2540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8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4160" y="2793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70080" y="2793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7920" y="2793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19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" y="3048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0080" y="3048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7920" y="3048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88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36040" y="330192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24880" y="330192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36960" y="3556080"/>
            <a:ext cx="22860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There were 39 address records on this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12192120"/>
            <a:ext cx="12697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60840" y="12192120"/>
            <a:ext cx="5083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TextReport</dc:title>
</cp:coreProperties>
</file>