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6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218-B08A-49AD-9927-A009E3DE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095-FA4A-4BAA-807D-72916CC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649-9E31-4166-A5F3-98A872C7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4B3-5661-4DD8-B500-F31D834A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373-0BB8-4D14-AB80-4BE40469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646-E19A-48AC-A1E1-E832C3D2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524-6D6B-42F7-93E2-C20AB469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B62-0321-4CBF-A386-55DA671D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7CE-6D64-47A3-97D5-31C294F3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D76-01EF-46A4-97CC-C1B23597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3D2-A463-4797-B409-7854C3A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236-0630-4EC4-80F1-E3574D64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944C-2A08-45EE-9BFE-29E1CB6C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63504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921360"/>
            <a:ext cx="63504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10058400" y="0"/>
            <a:ext cx="63504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0058400" y="6921360"/>
            <a:ext cx="63504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270080" y="0"/>
            <a:ext cx="2539800" cy="755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1270080"/>
            <a:ext cx="10693440" cy="253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1270080" y="127008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SCA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8-06-03T16:33:37Z</dcterms:modified>
  <cp:revision>6</cp:revision>
  <dc:subject/>
  <dc:title>LandscapeReport</dc:title>
</cp:coreProperties>
</file>