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4b2fe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040" y="394488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4b2fe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1372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394488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13720" y="394488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4b2fe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9440" y="167616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4840" y="167616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040" y="394488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9440" y="394488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4840" y="394488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4b2fe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04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4b2fe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4b2fe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13720" y="167616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4b2fe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040" y="304560"/>
            <a:ext cx="8001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4b2fe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13720" y="167616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040" y="394488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4b2fe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1372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13720" y="394488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4b2fe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1372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040" y="394488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mail-0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4b2fe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d4b2f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d4b2fe"/>
              </a:buClr>
              <a:buSzPct val="65000"/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3808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cc"/>
                </a:solidFill>
                <a:latin typeface="Arial"/>
              </a:rPr>
              <a:t>Slide </a:t>
            </a:r>
            <a:fld id="{19F3C0E8-3B69-478D-AE51-23A6EEBB87DC}" type="slidenum">
              <a:rPr b="0" lang="en-GB" sz="14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38080" y="6705720"/>
            <a:ext cx="4876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99"/>
                </a:solidFill>
                <a:latin typeface="Arial"/>
              </a:rPr>
              <a:t>A Free sample background from www.awesomebackgrounds.com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5184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22268"/>
                </a:solidFill>
                <a:latin typeface="Arial"/>
              </a:rPr>
              <a:t>© 2003 By Default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371600" y="609480"/>
            <a:ext cx="7086600" cy="1371600"/>
          </a:xfrm>
          <a:prstGeom prst="rect">
            <a:avLst/>
          </a:prstGeom>
          <a:gradFill rotWithShape="0">
            <a:gsLst>
              <a:gs pos="0">
                <a:srgbClr val="280065"/>
              </a:gs>
              <a:gs pos="100000">
                <a:srgbClr val="6600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47560" y="685440"/>
            <a:ext cx="6933960" cy="121932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33007f"/>
              </a:gs>
            </a:gsLst>
            <a:lin ang="13500000"/>
          </a:gradFill>
          <a:ln w="0">
            <a:noFill/>
          </a:ln>
        </p:spPr>
        <p:txBody>
          <a:bodyPr lIns="36000" rIns="36000" tIns="46800" bIns="46800" anchor="ctr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e-mail” Title Slide</a:t>
            </a:r>
            <a:endParaRPr b="1" lang="en-US" sz="4000" spc="-1" strike="noStrike">
              <a:solidFill>
                <a:srgbClr val="d4b2fe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676520" y="38858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Welcome to this presentation fro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ww.awesomebackgrounds.com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We hope you enjoy i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d4b2fe"/>
                </a:solidFill>
                <a:latin typeface="Arial"/>
              </a:rPr>
              <a:t>Bullet List</a:t>
            </a:r>
            <a:endParaRPr b="1" lang="en-US" sz="4000" spc="-1" strike="noStrike">
              <a:solidFill>
                <a:srgbClr val="d4b2f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d4b2fe"/>
              </a:buClr>
              <a:buSzPct val="65000"/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To use this template, first save this presentation us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File, Save As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Then type in a new na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d4b2fe"/>
              </a:buClr>
              <a:buSzPct val="65000"/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Then simply copy each page that you need before you edit i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d4b2fe"/>
              </a:buClr>
              <a:buSzPct val="65000"/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So if you need another bullet lis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Click on the “Insert” menu abov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Click on “Duplicate Slide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d4b2fe"/>
              </a:buClr>
              <a:buSzPct val="65000"/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The same applies for the Bars, Pies etc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d4b2fe"/>
                </a:solidFill>
                <a:latin typeface="Arial"/>
              </a:rPr>
              <a:t>Bar Graph</a:t>
            </a:r>
            <a:endParaRPr b="1" lang="en-US" sz="4000" spc="-1" strike="noStrike">
              <a:solidFill>
                <a:srgbClr val="d4b2fe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d4b2fe"/>
                </a:solidFill>
                <a:latin typeface="Arial"/>
              </a:rPr>
              <a:t>Line Graph</a:t>
            </a:r>
            <a:endParaRPr b="1" lang="en-US" sz="4000" spc="-1" strike="noStrike">
              <a:solidFill>
                <a:srgbClr val="d4b2fe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d4b2fe"/>
                </a:solidFill>
                <a:latin typeface="Arial"/>
              </a:rPr>
              <a:t>Pie Chart</a:t>
            </a:r>
            <a:endParaRPr b="1" lang="en-US" sz="4000" spc="-1" strike="noStrike">
              <a:solidFill>
                <a:srgbClr val="d4b2fe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851360" y="1981080"/>
            <a:ext cx="0" cy="1752840"/>
          </a:xfrm>
          <a:prstGeom prst="line">
            <a:avLst/>
          </a:prstGeom>
          <a:ln w="38160">
            <a:solidFill>
              <a:srgbClr val="d4b2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3720" y="3048120"/>
            <a:ext cx="5562360" cy="761760"/>
          </a:xfrm>
          <a:custGeom>
            <a:avLst/>
            <a:gdLst/>
            <a:ahLst/>
            <a:rect l="l" t="t" r="r" b="b"/>
            <a:pathLst>
              <a:path w="3504" h="480">
                <a:moveTo>
                  <a:pt x="0" y="432"/>
                </a:moveTo>
                <a:lnTo>
                  <a:pt x="0" y="0"/>
                </a:lnTo>
                <a:lnTo>
                  <a:pt x="3504" y="0"/>
                </a:lnTo>
                <a:lnTo>
                  <a:pt x="3504" y="480"/>
                </a:lnTo>
              </a:path>
            </a:pathLst>
          </a:custGeom>
          <a:noFill/>
          <a:ln w="38160">
            <a:solidFill>
              <a:srgbClr val="d4b2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d4b2fe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d4b2fe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41600" y="1537560"/>
            <a:ext cx="2819520" cy="715320"/>
          </a:xfrm>
          <a:prstGeom prst="rect">
            <a:avLst/>
          </a:prstGeom>
          <a:solidFill>
            <a:srgbClr val="333399"/>
          </a:solidFill>
          <a:ln w="28440">
            <a:solidFill>
              <a:srgbClr val="d4b2fe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nager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omas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43000" y="3442680"/>
            <a:ext cx="1981080" cy="715320"/>
          </a:xfrm>
          <a:prstGeom prst="rect">
            <a:avLst/>
          </a:prstGeom>
          <a:solidFill>
            <a:srgbClr val="333399"/>
          </a:solidFill>
          <a:ln w="28440">
            <a:solidFill>
              <a:srgbClr val="d4b2fe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ale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08360" y="3442680"/>
            <a:ext cx="2286000" cy="715320"/>
          </a:xfrm>
          <a:prstGeom prst="rect">
            <a:avLst/>
          </a:prstGeom>
          <a:solidFill>
            <a:srgbClr val="333399"/>
          </a:solidFill>
          <a:ln w="28440">
            <a:solidFill>
              <a:srgbClr val="d4b2fe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eting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lli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553080" y="3442680"/>
            <a:ext cx="2286000" cy="715320"/>
          </a:xfrm>
          <a:prstGeom prst="rect">
            <a:avLst/>
          </a:prstGeom>
          <a:solidFill>
            <a:srgbClr val="333399"/>
          </a:solidFill>
          <a:ln w="28440">
            <a:solidFill>
              <a:srgbClr val="d4b2fe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ributio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orgia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4b2fe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awesomebackgrounds.com
Messages do not appear on the full product.</dc:description>
  <dc:language>en-US</dc:language>
  <cp:lastModifiedBy>TAJ Simmons</cp:lastModifiedBy>
  <dcterms:modified xsi:type="dcterms:W3CDTF">2005-05-19T17:13:24Z</dcterms:modified>
  <cp:revision>42</cp:revision>
  <dc:subject/>
  <dc:title>Free Sample Awesome PowerPoint Background Template</dc:title>
</cp:coreProperties>
</file>