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221-DAF7-4E65-A71A-FB2D960A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D1C-BFA9-4A78-B18B-AD751FCB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54E-EA91-4386-8452-0294153E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99B-B84A-41AE-9AC2-1A937A36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440-70AE-4112-AB5D-C8CE7B93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A02-8D94-46BB-8910-399CD4C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6FA-3DAA-4CA6-9D6A-D2D2668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438-D116-4967-B7F1-E862445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F25-9CB2-4FA7-8DFC-F6FFB525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F25-4CF6-44E5-998E-FD97FFF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F42-7370-4750-BECE-72B5C25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14B-9B6E-4551-A5D1-FE26E657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C5BF-8379-4C81-9581-B3B25B179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nvert PowerPoint file to pdf fi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2:56:55Z</dcterms:created>
  <dc:creator>薛衡</dc:creator>
  <dc:description/>
  <dc:language>en-US</dc:language>
  <cp:lastModifiedBy>薛衡</cp:lastModifiedBy>
  <dcterms:modified xsi:type="dcterms:W3CDTF">2005-02-14T02:57:32Z</dcterms:modified>
  <cp:revision>1</cp:revision>
  <dc:subject/>
  <dc:title>Convert PowerPoint file to pdf file.</dc:title>
</cp:coreProperties>
</file>