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09060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090600"/>
            <a:ext cx="40158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090600"/>
            <a:ext cx="40158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26496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2437920"/>
            <a:ext cx="26496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2437920"/>
            <a:ext cx="26496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090600"/>
            <a:ext cx="26496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090600"/>
            <a:ext cx="26496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090600"/>
            <a:ext cx="26496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4379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090600"/>
            <a:ext cx="40158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24379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090600"/>
            <a:ext cx="40158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09060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09060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090600"/>
            <a:ext cx="40158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090600"/>
            <a:ext cx="40158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26496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437920"/>
            <a:ext cx="26496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437920"/>
            <a:ext cx="26496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090600"/>
            <a:ext cx="26496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090600"/>
            <a:ext cx="26496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090600"/>
            <a:ext cx="26496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090600"/>
            <a:ext cx="40158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090600"/>
            <a:ext cx="40158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09060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4379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760" indent="-95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5760" indent="-95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5760" indent="-95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576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9576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9576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sy </a:t>
            </a:r>
            <a:r>
              <a:rPr b="1" lang="en-US" sz="3600" spc="-1" strike="noStrike">
                <a:solidFill>
                  <a:srgbClr val="009999"/>
                </a:solidFill>
                <a:latin typeface="Tahoma"/>
              </a:rPr>
              <a:t>F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unctional </a:t>
            </a:r>
            <a:r>
              <a:rPr b="1" lang="en-US" sz="3600" spc="-1" strike="noStrike">
                <a:solidFill>
                  <a:srgbClr val="008000"/>
                </a:solidFill>
                <a:latin typeface="Tahoma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sting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better approach to test Windows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2560680"/>
            <a:ext cx="632448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14040" y="2332080"/>
            <a:ext cx="80773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o anything you want on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2538360"/>
            <a:ext cx="796284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95280" y="2819520"/>
            <a:ext cx="57499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8370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4040" y="2332080"/>
            <a:ext cx="80773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bout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8390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040" y="2332080"/>
            <a:ext cx="80773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have more controls if necess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040" y="2332080"/>
            <a:ext cx="80773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71564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218960" y="2332080"/>
            <a:ext cx="7086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, easy to use yet powerful tool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dows application functional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040" y="2332080"/>
            <a:ext cx="80773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mouse and keyboard in a more flexibl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92468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040" y="2332080"/>
            <a:ext cx="80773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14040" y="2332080"/>
            <a:ext cx="80773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feel about this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3337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2332080"/>
            <a:ext cx="80773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more operations on Element and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mmand lin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ripting language an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14040" y="2332080"/>
            <a:ext cx="80773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eed your help to test Eft fo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 different Windows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 different hardwar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 virtual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*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14040" y="2332080"/>
            <a:ext cx="80773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http://code.google.com/p/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696888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14040" y="2332080"/>
            <a:ext cx="80773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in a Window application is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14040" y="2332080"/>
            <a:ext cx="80773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Element using CSS syntax se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7328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14040" y="2332080"/>
            <a:ext cx="80773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find a wind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2327400"/>
            <a:ext cx="777240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14040" y="2332080"/>
            <a:ext cx="80773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uang Liang</cp:lastModifiedBy>
  <dcterms:modified xsi:type="dcterms:W3CDTF">2007-10-11T02:07:1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