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ctr">
            <a:noAutofit/>
          </a:bodyPr>
          <a:p>
            <a:pPr indent="0" algn="ctr">
              <a:buNone/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6480" bIns="6480" anchor="t">
            <a:normAutofit/>
          </a:bodyPr>
          <a:p>
            <a:pPr marL="44280" indent="-442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7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8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3" marL="387360"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4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5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6" marL="501480"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280" y="11736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2280" y="76320"/>
            <a:ext cx="344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 Flo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 Ocean Park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couver, B.C.,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6L 8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392880" y="85680"/>
            <a:ext cx="761760" cy="761760"/>
            <a:chOff x="6392880" y="85680"/>
            <a:chExt cx="761760" cy="761760"/>
          </a:xfrm>
        </p:grpSpPr>
        <p:grpSp>
          <p:nvGrpSpPr>
            <p:cNvPr id="41" name=""/>
            <p:cNvGrpSpPr/>
            <p:nvPr/>
          </p:nvGrpSpPr>
          <p:grpSpPr>
            <a:xfrm>
              <a:off x="6392880" y="85680"/>
              <a:ext cx="761760" cy="761760"/>
              <a:chOff x="6392880" y="85680"/>
              <a:chExt cx="761760" cy="761760"/>
            </a:xfrm>
          </p:grpSpPr>
          <p:sp>
            <p:nvSpPr>
              <p:cNvPr id="42" name=""/>
              <p:cNvSpPr/>
              <p:nvPr/>
            </p:nvSpPr>
            <p:spPr>
              <a:xfrm>
                <a:off x="6431760" y="124560"/>
                <a:ext cx="722880" cy="722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392880" y="85680"/>
                <a:ext cx="714960" cy="7149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6450480" y="164880"/>
              <a:ext cx="655920" cy="460440"/>
              <a:chOff x="6450480" y="164880"/>
              <a:chExt cx="655920" cy="460440"/>
            </a:xfrm>
          </p:grpSpPr>
          <p:sp>
            <p:nvSpPr>
              <p:cNvPr id="45" name=""/>
              <p:cNvSpPr/>
              <p:nvPr/>
            </p:nvSpPr>
            <p:spPr>
              <a:xfrm>
                <a:off x="6599520" y="16488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ertifi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595200" y="266040"/>
                <a:ext cx="325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SO900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50480" y="368640"/>
                <a:ext cx="655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For Ocean Transpor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486480" y="452880"/>
                <a:ext cx="5724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f Forest Product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07000" y="533520"/>
                <a:ext cx="524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nd Other Carg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00:37:31Z</dcterms:created>
  <dc:creator>Transportation Department</dc:creator>
  <dc:description/>
  <dc:language>en-US</dc:language>
  <cp:lastModifiedBy>.</cp:lastModifiedBy>
  <dcterms:modified xsi:type="dcterms:W3CDTF">2000-08-05T23:28:51Z</dcterms:modified>
  <cp:revision>18</cp:revision>
  <dc:subject/>
  <dc:title>No Slide Title</dc:title>
</cp:coreProperties>
</file>