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" cy="1828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" y="162000"/>
            <a:ext cx="777600" cy="3045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" y="527040"/>
            <a:ext cx="777600" cy="5238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400" y="1100880"/>
            <a:ext cx="777600" cy="5238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" y="162000"/>
            <a:ext cx="777600" cy="3045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" y="527040"/>
            <a:ext cx="379440" cy="5238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80" y="527040"/>
            <a:ext cx="379440" cy="5238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400" y="1100880"/>
            <a:ext cx="379440" cy="5238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80" y="1100880"/>
            <a:ext cx="379440" cy="5238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00" y="162000"/>
            <a:ext cx="777600" cy="3045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00" y="527040"/>
            <a:ext cx="250200" cy="5238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560" y="527040"/>
            <a:ext cx="250200" cy="5238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720" y="527040"/>
            <a:ext cx="250200" cy="5238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400" y="1100880"/>
            <a:ext cx="250200" cy="5238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560" y="1100880"/>
            <a:ext cx="250200" cy="5238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720" y="1100880"/>
            <a:ext cx="250200" cy="5238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400" y="162000"/>
            <a:ext cx="777600" cy="3045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400" y="527040"/>
            <a:ext cx="777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00" y="162000"/>
            <a:ext cx="777600" cy="3045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400" y="527040"/>
            <a:ext cx="777600" cy="1098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" y="162000"/>
            <a:ext cx="777600" cy="3045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00" y="527040"/>
            <a:ext cx="379440" cy="1098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80" y="527040"/>
            <a:ext cx="379440" cy="1098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" y="162000"/>
            <a:ext cx="777600" cy="3045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400" y="162000"/>
            <a:ext cx="77760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9"/>
              </a:spcBef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" y="162000"/>
            <a:ext cx="777600" cy="3045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00" y="527040"/>
            <a:ext cx="379440" cy="5238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80" y="527040"/>
            <a:ext cx="379440" cy="1098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400" y="1100880"/>
            <a:ext cx="379440" cy="5238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" y="162000"/>
            <a:ext cx="777600" cy="3045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" y="527040"/>
            <a:ext cx="379440" cy="1098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" y="527040"/>
            <a:ext cx="379440" cy="5238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80" y="1100880"/>
            <a:ext cx="379440" cy="5238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00" y="162000"/>
            <a:ext cx="777600" cy="3045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" y="527040"/>
            <a:ext cx="379440" cy="5238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" y="527040"/>
            <a:ext cx="379440" cy="5238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400" y="1100880"/>
            <a:ext cx="777600" cy="5238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" y="162000"/>
            <a:ext cx="777600" cy="3045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" y="527040"/>
            <a:ext cx="777600" cy="1098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marL="44280" indent="-44280">
              <a:spcBef>
                <a:spcPts val="99"/>
              </a:spcBef>
              <a:buClr>
                <a:srgbClr val="000000"/>
              </a:buClr>
              <a:buFont typeface="Times New Roman"/>
              <a:buChar char="•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1" marL="158760">
              <a:spcBef>
                <a:spcPts val="99"/>
              </a:spcBef>
              <a:buClr>
                <a:srgbClr val="000000"/>
              </a:buClr>
              <a:buFont typeface="Times New Roman"/>
              <a:buChar char="–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2" marL="272880">
              <a:spcBef>
                <a:spcPts val="99"/>
              </a:spcBef>
              <a:buClr>
                <a:srgbClr val="000000"/>
              </a:buClr>
              <a:buFont typeface="Times New Roman"/>
              <a:buChar char="•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3" marL="387360">
              <a:spcBef>
                <a:spcPts val="99"/>
              </a:spcBef>
              <a:buClr>
                <a:srgbClr val="000000"/>
              </a:buClr>
              <a:buFont typeface="Times New Roman"/>
              <a:buChar char="–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4" marL="501480">
              <a:spcBef>
                <a:spcPts val="99"/>
              </a:spcBef>
              <a:buClr>
                <a:srgbClr val="000000"/>
              </a:buClr>
              <a:buFont typeface="Times New Roman"/>
              <a:buChar char="•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5" marL="501480">
              <a:spcBef>
                <a:spcPts val="99"/>
              </a:spcBef>
              <a:buClr>
                <a:srgbClr val="000000"/>
              </a:buClr>
              <a:buFont typeface="Times New Roman"/>
              <a:buChar char="•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6" marL="501480">
              <a:spcBef>
                <a:spcPts val="99"/>
              </a:spcBef>
              <a:buClr>
                <a:srgbClr val="000000"/>
              </a:buClr>
              <a:buFont typeface="Times New Roman"/>
              <a:buChar char="•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world21" descr=""/>
          <p:cNvPicPr/>
          <p:nvPr/>
        </p:nvPicPr>
        <p:blipFill>
          <a:blip r:embed="rId1"/>
          <a:stretch/>
        </p:blipFill>
        <p:spPr>
          <a:xfrm>
            <a:off x="34920" y="252360"/>
            <a:ext cx="828720" cy="53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20T00:37:31Z</dcterms:created>
  <dc:creator>Transportation Department</dc:creator>
  <dc:description/>
  <dc:language>en-US</dc:language>
  <cp:lastModifiedBy>.</cp:lastModifiedBy>
  <dcterms:modified xsi:type="dcterms:W3CDTF">2000-08-05T23:41:07Z</dcterms:modified>
  <cp:revision>18</cp:revision>
  <dc:subject/>
  <dc:title>No Slide Title</dc:title>
</cp:coreProperties>
</file>