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155592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6440" y="550440"/>
            <a:ext cx="155592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44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3420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2760" y="26352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8720" y="26352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6440" y="55044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62760" y="55044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188720" y="550440"/>
            <a:ext cx="5007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6440" y="263520"/>
            <a:ext cx="1555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155592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6440" y="80640"/>
            <a:ext cx="155592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644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34200" y="55044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44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4200" y="263520"/>
            <a:ext cx="75924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440" y="550440"/>
            <a:ext cx="155592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440" y="80640"/>
            <a:ext cx="155592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440" y="263520"/>
            <a:ext cx="155592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world21" descr="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88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Jim Lawson</cp:lastModifiedBy>
  <dcterms:modified xsi:type="dcterms:W3CDTF">2001-09-25T14:07:12Z</dcterms:modified>
  <cp:revision>19</cp:revision>
  <dc:subject/>
  <dc:title>No Slide Title</dc:title>
</cp:coreProperties>
</file>