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315200" cy="914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49360" y="80640"/>
            <a:ext cx="6216480" cy="15228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ctr">
            <a:noAutofit/>
          </a:bodyPr>
          <a:p>
            <a:pPr indent="0" algn="ctr">
              <a:buNone/>
              <a:tabLst>
                <a:tab algn="l" pos="0"/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49360" y="263520"/>
            <a:ext cx="6216480" cy="2617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49360" y="550440"/>
            <a:ext cx="6216480" cy="2617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360" y="80640"/>
            <a:ext cx="6216480" cy="15228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ctr">
            <a:noAutofit/>
          </a:bodyPr>
          <a:p>
            <a:pPr indent="0" algn="ctr">
              <a:buNone/>
              <a:tabLst>
                <a:tab algn="l" pos="0"/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360" y="263520"/>
            <a:ext cx="3033360" cy="2617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734640" y="263520"/>
            <a:ext cx="3033360" cy="2617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49360" y="550440"/>
            <a:ext cx="3033360" cy="2617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3734640" y="550440"/>
            <a:ext cx="3033360" cy="2617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49360" y="80640"/>
            <a:ext cx="6216480" cy="15228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ctr">
            <a:noAutofit/>
          </a:bodyPr>
          <a:p>
            <a:pPr indent="0" algn="ctr">
              <a:buNone/>
              <a:tabLst>
                <a:tab algn="l" pos="0"/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49360" y="263520"/>
            <a:ext cx="2001600" cy="2617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651400" y="263520"/>
            <a:ext cx="2001600" cy="2617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753440" y="263520"/>
            <a:ext cx="2001600" cy="2617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49360" y="550440"/>
            <a:ext cx="2001600" cy="2617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2651400" y="550440"/>
            <a:ext cx="2001600" cy="2617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4753440" y="550440"/>
            <a:ext cx="2001600" cy="2617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49360" y="80640"/>
            <a:ext cx="6216480" cy="15228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ctr">
            <a:noAutofit/>
          </a:bodyPr>
          <a:p>
            <a:pPr indent="0" algn="ctr">
              <a:buNone/>
              <a:tabLst>
                <a:tab algn="l" pos="0"/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49360" y="263520"/>
            <a:ext cx="621648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9"/>
              </a:spcBef>
              <a:buNone/>
              <a:tabLst>
                <a:tab algn="l" pos="0"/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49360" y="80640"/>
            <a:ext cx="6216480" cy="15228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ctr">
            <a:noAutofit/>
          </a:bodyPr>
          <a:p>
            <a:pPr indent="0" algn="ctr">
              <a:buNone/>
              <a:tabLst>
                <a:tab algn="l" pos="0"/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49360" y="263520"/>
            <a:ext cx="6216480" cy="54936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49360" y="80640"/>
            <a:ext cx="6216480" cy="15228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ctr">
            <a:noAutofit/>
          </a:bodyPr>
          <a:p>
            <a:pPr indent="0" algn="ctr">
              <a:buNone/>
              <a:tabLst>
                <a:tab algn="l" pos="0"/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49360" y="263520"/>
            <a:ext cx="3033360" cy="54936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3734640" y="263520"/>
            <a:ext cx="3033360" cy="54936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360" y="80640"/>
            <a:ext cx="6216480" cy="15228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ctr">
            <a:noAutofit/>
          </a:bodyPr>
          <a:p>
            <a:pPr indent="0" algn="ctr">
              <a:buNone/>
              <a:tabLst>
                <a:tab algn="l" pos="0"/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49360" y="80640"/>
            <a:ext cx="6216480" cy="70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9"/>
              </a:spcBef>
              <a:tabLst>
                <a:tab algn="l" pos="0"/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49360" y="80640"/>
            <a:ext cx="6216480" cy="15228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ctr">
            <a:noAutofit/>
          </a:bodyPr>
          <a:p>
            <a:pPr indent="0" algn="ctr">
              <a:buNone/>
              <a:tabLst>
                <a:tab algn="l" pos="0"/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49360" y="263520"/>
            <a:ext cx="3033360" cy="2617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734640" y="263520"/>
            <a:ext cx="3033360" cy="54936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49360" y="550440"/>
            <a:ext cx="3033360" cy="2617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49360" y="80640"/>
            <a:ext cx="6216480" cy="15228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ctr">
            <a:noAutofit/>
          </a:bodyPr>
          <a:p>
            <a:pPr indent="0" algn="ctr">
              <a:buNone/>
              <a:tabLst>
                <a:tab algn="l" pos="0"/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49360" y="263520"/>
            <a:ext cx="3033360" cy="54936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734640" y="263520"/>
            <a:ext cx="3033360" cy="2617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734640" y="550440"/>
            <a:ext cx="3033360" cy="2617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49360" y="80640"/>
            <a:ext cx="6216480" cy="15228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ctr">
            <a:noAutofit/>
          </a:bodyPr>
          <a:p>
            <a:pPr indent="0" algn="ctr">
              <a:buNone/>
              <a:tabLst>
                <a:tab algn="l" pos="0"/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49360" y="263520"/>
            <a:ext cx="3033360" cy="2617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734640" y="263520"/>
            <a:ext cx="3033360" cy="2617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49360" y="550440"/>
            <a:ext cx="6216480" cy="2617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9360" y="80640"/>
            <a:ext cx="6216480" cy="15228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ctr">
            <a:noAutofit/>
          </a:bodyPr>
          <a:p>
            <a:pPr indent="0" algn="ctr">
              <a:buNone/>
              <a:tabLst>
                <a:tab algn="l" pos="0"/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9360" y="263520"/>
            <a:ext cx="6216480" cy="54936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t">
            <a:normAutofit/>
          </a:bodyPr>
          <a:p>
            <a:pPr marL="44280" indent="-44280">
              <a:spcBef>
                <a:spcPts val="99"/>
              </a:spcBef>
              <a:buClr>
                <a:srgbClr val="000000"/>
              </a:buClr>
              <a:buFont typeface="Times New Roman"/>
              <a:buChar char="•"/>
              <a:tabLst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lvl="1" marL="158760">
              <a:spcBef>
                <a:spcPts val="99"/>
              </a:spcBef>
              <a:buClr>
                <a:srgbClr val="000000"/>
              </a:buClr>
              <a:buFont typeface="Times New Roman"/>
              <a:buChar char="–"/>
              <a:tabLst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lvl="2" marL="272880">
              <a:spcBef>
                <a:spcPts val="99"/>
              </a:spcBef>
              <a:buClr>
                <a:srgbClr val="000000"/>
              </a:buClr>
              <a:buFont typeface="Times New Roman"/>
              <a:buChar char="•"/>
              <a:tabLst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lvl="3" marL="387360">
              <a:spcBef>
                <a:spcPts val="99"/>
              </a:spcBef>
              <a:buClr>
                <a:srgbClr val="000000"/>
              </a:buClr>
              <a:buFont typeface="Times New Roman"/>
              <a:buChar char="–"/>
              <a:tabLst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lvl="4" marL="501480">
              <a:spcBef>
                <a:spcPts val="99"/>
              </a:spcBef>
              <a:buClr>
                <a:srgbClr val="000000"/>
              </a:buClr>
              <a:buFont typeface="Times New Roman"/>
              <a:buChar char="•"/>
              <a:tabLst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lvl="5" marL="501480">
              <a:spcBef>
                <a:spcPts val="99"/>
              </a:spcBef>
              <a:buClr>
                <a:srgbClr val="000000"/>
              </a:buClr>
              <a:buFont typeface="Times New Roman"/>
              <a:buChar char="•"/>
              <a:tabLst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lvl="6" marL="501480">
              <a:spcBef>
                <a:spcPts val="99"/>
              </a:spcBef>
              <a:buClr>
                <a:srgbClr val="000000"/>
              </a:buClr>
              <a:buFont typeface="Times New Roman"/>
              <a:buChar char="•"/>
              <a:tabLst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152280" y="117360"/>
            <a:ext cx="243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152280" y="76320"/>
            <a:ext cx="34448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ddress Line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ddress Line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ddress Line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ddress Line 5……………….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" name="lifeboat" descr=""/>
          <p:cNvPicPr/>
          <p:nvPr/>
        </p:nvPicPr>
        <p:blipFill>
          <a:blip r:embed="rId1"/>
          <a:stretch/>
        </p:blipFill>
        <p:spPr>
          <a:xfrm>
            <a:off x="6591240" y="282600"/>
            <a:ext cx="381240" cy="380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2-20T00:37:31Z</dcterms:created>
  <dc:creator>Transportation Department</dc:creator>
  <dc:description/>
  <dc:language>en-US</dc:language>
  <cp:lastModifiedBy>.</cp:lastModifiedBy>
  <dcterms:modified xsi:type="dcterms:W3CDTF">2000-08-05T23:56:05Z</dcterms:modified>
  <cp:revision>19</cp:revision>
  <dc:subject/>
  <dc:title>No Slide Title</dc:title>
</cp:coreProperties>
</file>