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914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9360" y="55044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73464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5140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5344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936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5140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75344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49360" y="80640"/>
            <a:ext cx="6216480" cy="7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3464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marL="44280" indent="-442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158760"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2728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3" marL="387360"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4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5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6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19680" y="22860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arrier Company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lifeboat2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74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0T00:37:31Z</dcterms:created>
  <dc:creator>Transportation Department</dc:creator>
  <dc:description/>
  <dc:language>en-US</dc:language>
  <cp:lastModifiedBy>.</cp:lastModifiedBy>
  <dcterms:modified xsi:type="dcterms:W3CDTF">2000-08-05T23:52:25Z</dcterms:modified>
  <cp:revision>17</cp:revision>
  <dc:subject/>
  <dc:title>No Slide Title</dc:title>
</cp:coreProperties>
</file>