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" cy="1828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7776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" y="1100880"/>
            <a:ext cx="7776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560" y="52704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720" y="52704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" y="110088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560" y="110088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720" y="110088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" y="527040"/>
            <a:ext cx="777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77760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" y="162000"/>
            <a:ext cx="777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" y="1100880"/>
            <a:ext cx="7776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" y="527040"/>
            <a:ext cx="77760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lifeboat2" descr=""/>
          <p:cNvPicPr/>
          <p:nvPr/>
        </p:nvPicPr>
        <p:blipFill>
          <a:blip r:embed="rId1"/>
          <a:stretch/>
        </p:blipFill>
        <p:spPr>
          <a:xfrm>
            <a:off x="84240" y="237960"/>
            <a:ext cx="723960" cy="6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.</cp:lastModifiedBy>
  <dcterms:modified xsi:type="dcterms:W3CDTF">2000-08-05T23:50:28Z</dcterms:modified>
  <cp:revision>19</cp:revision>
  <dc:subject/>
  <dc:title>No Slide Title</dc:title>
</cp:coreProperties>
</file>