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88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155592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6440" y="550440"/>
            <a:ext cx="155592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20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440" y="55044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934200" y="55044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2760" y="26352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8720" y="26352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6440" y="55044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662760" y="55044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188720" y="55044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6440" y="263520"/>
            <a:ext cx="15559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155592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75924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934200" y="263520"/>
            <a:ext cx="75924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6440" y="80640"/>
            <a:ext cx="1555920" cy="7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4200" y="263520"/>
            <a:ext cx="75924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6440" y="55044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75924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420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34200" y="55044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420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440" y="550440"/>
            <a:ext cx="155592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440" y="263520"/>
            <a:ext cx="155592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marL="44280" indent="-442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87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8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3" marL="3873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4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5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6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lifeboat2" descr=""/>
          <p:cNvPicPr/>
          <p:nvPr/>
        </p:nvPicPr>
        <p:blipFill>
          <a:blip r:embed="rId1"/>
          <a:stretch/>
        </p:blipFill>
        <p:spPr>
          <a:xfrm>
            <a:off x="480960" y="73080"/>
            <a:ext cx="838080" cy="74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0T00:37:31Z</dcterms:created>
  <dc:creator>Transportation Department</dc:creator>
  <dc:description/>
  <dc:language>en-US</dc:language>
  <cp:lastModifiedBy>Jim Lawson</cp:lastModifiedBy>
  <dcterms:modified xsi:type="dcterms:W3CDTF">2001-04-14T16:23:55Z</dcterms:modified>
  <cp:revision>20</cp:revision>
  <dc:subject/>
  <dc:title>No Slide Title</dc:title>
</cp:coreProperties>
</file>