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8491680" y="7386480"/>
            <a:ext cx="11858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4EE-42C3-4B95-B145-FB6F28FC99B8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5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7228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3724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8" descr="SharePoint Site Access and Storage.png"/>
          <p:cNvPicPr/>
          <p:nvPr/>
        </p:nvPicPr>
        <p:blipFill>
          <a:blip r:embed="rId3"/>
          <a:stretch/>
        </p:blipFill>
        <p:spPr>
          <a:xfrm>
            <a:off x="0" y="214200"/>
            <a:ext cx="10058400" cy="9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07"/>
          <p:cNvGrpSpPr/>
          <p:nvPr/>
        </p:nvGrpSpPr>
        <p:grpSpPr>
          <a:xfrm>
            <a:off x="457200" y="1441440"/>
            <a:ext cx="4343400" cy="4635360"/>
            <a:chOff x="457200" y="1441440"/>
            <a:chExt cx="4343400" cy="4635360"/>
          </a:xfrm>
        </p:grpSpPr>
        <p:sp>
          <p:nvSpPr>
            <p:cNvPr id="41" name="AutoShape 204"/>
            <p:cNvSpPr/>
            <p:nvPr/>
          </p:nvSpPr>
          <p:spPr>
            <a:xfrm>
              <a:off x="457200" y="1441440"/>
              <a:ext cx="4343400" cy="463536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9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2" name="Picture 205" descr="SiteAccess"/>
            <p:cNvPicPr/>
            <p:nvPr/>
          </p:nvPicPr>
          <p:blipFill>
            <a:blip r:embed="rId1"/>
            <a:stretch/>
          </p:blipFill>
          <p:spPr>
            <a:xfrm>
              <a:off x="542880" y="1530720"/>
              <a:ext cx="4172040" cy="29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Rectangle 4"/>
          <p:cNvSpPr/>
          <p:nvPr/>
        </p:nvSpPr>
        <p:spPr>
          <a:xfrm>
            <a:off x="457200" y="1928880"/>
            <a:ext cx="4218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PMingLiU"/>
              </a:rPr>
              <a:t>Managing a SharePoint Site means managing access to and storage of the content on your site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is guide, you will learn how to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09"/>
          <p:cNvSpPr/>
          <p:nvPr/>
        </p:nvSpPr>
        <p:spPr>
          <a:xfrm>
            <a:off x="457200" y="4341960"/>
            <a:ext cx="43434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Available Storage Sp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Detailed Storage Space Inform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All Sites Created Under Your Main Si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te and Delete Unused Workspaces and Si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lete Outdated Document Vers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ew Traffic to Your Si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10"/>
          <p:cNvSpPr/>
          <p:nvPr/>
        </p:nvSpPr>
        <p:spPr>
          <a:xfrm>
            <a:off x="5267160" y="137484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dd or Remove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267160" y="2028960"/>
          <a:ext cx="4343400" cy="1287360"/>
        </p:xfrm>
        <a:graphic>
          <a:graphicData uri="http://schemas.openxmlformats.org/drawingml/2006/table">
            <a:tbl>
              <a:tblPr/>
              <a:tblGrid>
                <a:gridCol w="2651400"/>
                <a:gridCol w="1692000"/>
              </a:tblGrid>
              <a:tr h="203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01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 content on the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 content to existing document libraries and li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 document libraries and lists; customize p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Desig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 all parts of the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37"/>
          <p:cNvSpPr/>
          <p:nvPr/>
        </p:nvSpPr>
        <p:spPr>
          <a:xfrm>
            <a:off x="5257800" y="1684440"/>
            <a:ext cx="4214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re are four levels of access within SharePoint. The table below describes each leve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235"/>
          <p:cNvGrpSpPr/>
          <p:nvPr/>
        </p:nvGrpSpPr>
        <p:grpSpPr>
          <a:xfrm>
            <a:off x="5138640" y="3419640"/>
            <a:ext cx="4475160" cy="3503520"/>
            <a:chOff x="5138640" y="3419640"/>
            <a:chExt cx="4475160" cy="3503520"/>
          </a:xfrm>
        </p:grpSpPr>
        <p:sp>
          <p:nvSpPr>
            <p:cNvPr id="49" name="Text Box 132"/>
            <p:cNvSpPr/>
            <p:nvPr/>
          </p:nvSpPr>
          <p:spPr>
            <a:xfrm>
              <a:off x="5270400" y="3468600"/>
              <a:ext cx="43434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rom within the SharePoint site, on the top navigation bar, 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ite Setting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ite Setting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page, 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nage User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lick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dd User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dd Users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ge, type the alias of the user you want to add in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text box. If you want to add more than one user, separate each alias with a semicolon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Text Box 133"/>
            <p:cNvSpPr/>
            <p:nvPr/>
          </p:nvSpPr>
          <p:spPr>
            <a:xfrm>
              <a:off x="5138640" y="3419640"/>
              <a:ext cx="36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Text Box 134"/>
            <p:cNvSpPr/>
            <p:nvPr/>
          </p:nvSpPr>
          <p:spPr>
            <a:xfrm>
              <a:off x="5146560" y="3944880"/>
              <a:ext cx="36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Text Box 135"/>
            <p:cNvSpPr/>
            <p:nvPr/>
          </p:nvSpPr>
          <p:spPr>
            <a:xfrm>
              <a:off x="5145120" y="434340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rebuchet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144" descr="SPAdmin2"/>
            <p:cNvPicPr/>
            <p:nvPr/>
          </p:nvPicPr>
          <p:blipFill>
            <a:blip r:embed="rId2"/>
            <a:stretch/>
          </p:blipFill>
          <p:spPr>
            <a:xfrm>
              <a:off x="5961240" y="5329080"/>
              <a:ext cx="2833560" cy="1594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4" name="Rectangle 197"/>
          <p:cNvSpPr/>
          <p:nvPr/>
        </p:nvSpPr>
        <p:spPr>
          <a:xfrm>
            <a:off x="457200" y="543564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complete the procedures in this document, you need to be an Administrator for your SharePoint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199"/>
          <p:cNvSpPr/>
          <p:nvPr/>
        </p:nvSpPr>
        <p:spPr>
          <a:xfrm>
            <a:off x="457200" y="2313000"/>
            <a:ext cx="4343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Acce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sure all users have the appropriate access to the content they need by managing access to your SharePoint site. This prevents sensitive business information from being viewed by everyon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00"/>
          <p:cNvSpPr/>
          <p:nvPr/>
        </p:nvSpPr>
        <p:spPr>
          <a:xfrm>
            <a:off x="571680" y="3060720"/>
            <a:ext cx="4343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d or Remove Us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 Access to a Document Library or Li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pprove Requests for Access to Your Si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nge the Administrator Who Receives Requests for Acces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01"/>
          <p:cNvSpPr/>
          <p:nvPr/>
        </p:nvSpPr>
        <p:spPr>
          <a:xfrm>
            <a:off x="466560" y="372096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Stor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Point is designed for storing and collaborating on current content. To avoid outdated content and to maximize your space, delete old documents, workspaces, meeting spaces, and list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203"/>
          <p:cNvSpPr/>
          <p:nvPr/>
        </p:nvSpPr>
        <p:spPr>
          <a:xfrm>
            <a:off x="5138640" y="47466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06"/>
          <p:cNvSpPr/>
          <p:nvPr/>
        </p:nvSpPr>
        <p:spPr>
          <a:xfrm>
            <a:off x="457200" y="1441440"/>
            <a:ext cx="43434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234"/>
          <p:cNvSpPr/>
          <p:nvPr/>
        </p:nvSpPr>
        <p:spPr>
          <a:xfrm>
            <a:off x="571680" y="1338120"/>
            <a:ext cx="4157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8"/>
          <p:cNvSpPr/>
          <p:nvPr/>
        </p:nvSpPr>
        <p:spPr>
          <a:xfrm>
            <a:off x="446040" y="1422360"/>
            <a:ext cx="4343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checkbox for the site group to which you want to add the user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verify that the user you added is correc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he following e-mail to let these users know they've been add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box to send an e-mail alerting users they have been added to your SharePoint site. You may also add a personalized messag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361800" y="19652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69800" y="3784680"/>
            <a:ext cx="43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57200" y="2884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Manage Access to a Document Library or 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469800" y="3672000"/>
            <a:ext cx="43434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Librar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the document library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which you want to chang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settings and columns,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permissions for this document libr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Permissions: Share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the user or site group you want to edi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5257800" y="20271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is procedure is also applicable to Lists, Surveys, and Discussion Board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336600" y="3618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355680" y="4041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353880" y="46004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353880" y="52023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5143680" y="13366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39" descr="SPAdmin3"/>
          <p:cNvPicPr/>
          <p:nvPr/>
        </p:nvPicPr>
        <p:blipFill>
          <a:blip r:embed="rId1"/>
          <a:stretch/>
        </p:blipFill>
        <p:spPr>
          <a:xfrm>
            <a:off x="725400" y="5619600"/>
            <a:ext cx="3540240" cy="143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3" name="Text Box 45"/>
          <p:cNvSpPr/>
          <p:nvPr/>
        </p:nvSpPr>
        <p:spPr>
          <a:xfrm>
            <a:off x="388800" y="3079800"/>
            <a:ext cx="430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addition to managing access to your entire site, you can also set access levels for a document library or list. This allows you to grant specific users specific permission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351000" y="1353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53"/>
          <p:cNvSpPr/>
          <p:nvPr/>
        </p:nvSpPr>
        <p:spPr>
          <a:xfrm>
            <a:off x="5257800" y="1413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Permissions: Share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oos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the level of permission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want to assign to the user or site group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5257800" y="3014640"/>
            <a:ext cx="43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55"/>
          <p:cNvSpPr/>
          <p:nvPr/>
        </p:nvSpPr>
        <p:spPr>
          <a:xfrm>
            <a:off x="5177520" y="2476440"/>
            <a:ext cx="412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pprove Requests for Access to Your S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56"/>
          <p:cNvSpPr/>
          <p:nvPr/>
        </p:nvSpPr>
        <p:spPr>
          <a:xfrm>
            <a:off x="5251320" y="2795760"/>
            <a:ext cx="433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a user attempts to access your site without the required permissions, a request access page appears. The user may then submit a request for access, and you may receive an e-mail requesting acce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57"/>
          <p:cNvSpPr/>
          <p:nvPr/>
        </p:nvSpPr>
        <p:spPr>
          <a:xfrm>
            <a:off x="5257800" y="3367080"/>
            <a:ext cx="43434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cess request for a si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-mail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rant [User] access to the si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User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ep 2: Choose Site Group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the site group to which you will add the user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the following e-mail to let these users know they've been add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heckbox to send an e-mail alerting usesr that you have added them to your SharePoint site. You may also add a personalized messag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58" descr="SPAdmin1"/>
          <p:cNvPicPr/>
          <p:nvPr/>
        </p:nvPicPr>
        <p:blipFill>
          <a:blip r:embed="rId2"/>
          <a:stretch/>
        </p:blipFill>
        <p:spPr>
          <a:xfrm>
            <a:off x="5856120" y="5284800"/>
            <a:ext cx="2438640" cy="1695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1" name="Text Box 59"/>
          <p:cNvSpPr/>
          <p:nvPr/>
        </p:nvSpPr>
        <p:spPr>
          <a:xfrm>
            <a:off x="5130720" y="32893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5140440" y="3909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61"/>
          <p:cNvSpPr/>
          <p:nvPr/>
        </p:nvSpPr>
        <p:spPr>
          <a:xfrm>
            <a:off x="5148360" y="4524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"/>
          <p:cNvSpPr/>
          <p:nvPr/>
        </p:nvSpPr>
        <p:spPr>
          <a:xfrm>
            <a:off x="495360" y="1978200"/>
            <a:ext cx="4343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access reque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Request Acces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type the e-mail address of the person who will receive the access requests. This person should be an Administrator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352440" y="1898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371520" y="2365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447840" y="1432080"/>
            <a:ext cx="4381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ange the Administrator Who Receives Requests for Ac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52"/>
          <p:cNvSpPr/>
          <p:nvPr/>
        </p:nvSpPr>
        <p:spPr>
          <a:xfrm>
            <a:off x="476280" y="300204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o find out who the administrators are for your si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us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53" descr="SPAdmin4"/>
          <p:cNvPicPr/>
          <p:nvPr/>
        </p:nvPicPr>
        <p:blipFill>
          <a:blip r:embed="rId1"/>
          <a:stretch/>
        </p:blipFill>
        <p:spPr>
          <a:xfrm>
            <a:off x="1155600" y="5421240"/>
            <a:ext cx="271620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0" name="Text Box 54"/>
          <p:cNvSpPr/>
          <p:nvPr/>
        </p:nvSpPr>
        <p:spPr>
          <a:xfrm>
            <a:off x="5257800" y="144144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an Administrator, you may not be able to access all sections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p-level Site Administra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. To get access, click the link you can’t view, and then request acces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55"/>
          <p:cNvSpPr/>
          <p:nvPr/>
        </p:nvSpPr>
        <p:spPr>
          <a:xfrm>
            <a:off x="372960" y="49608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495360" y="4559400"/>
            <a:ext cx="43434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,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Collection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ite collection usage summ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57"/>
          <p:cNvSpPr/>
          <p:nvPr/>
        </p:nvSpPr>
        <p:spPr>
          <a:xfrm>
            <a:off x="455760" y="3475080"/>
            <a:ext cx="4341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Available Storage Sp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us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Collection Usage Summ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to view the space currently being used on your site, and the remaining available space. To see details on how much space a particular Document Library, Document, or List occupies, se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View Detailed Storage Space Inform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elow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369720" y="45007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59"/>
          <p:cNvSpPr/>
          <p:nvPr/>
        </p:nvSpPr>
        <p:spPr>
          <a:xfrm>
            <a:off x="5280120" y="2882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,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5257800" y="2155680"/>
            <a:ext cx="43657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Detailed Storage Space Information</a:t>
            </a: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orage Space Al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 displays the sizes and locations of Document Libraries, Documents, and List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61"/>
          <p:cNvSpPr/>
          <p:nvPr/>
        </p:nvSpPr>
        <p:spPr>
          <a:xfrm>
            <a:off x="5153040" y="28116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2"/>
          <p:cNvSpPr/>
          <p:nvPr/>
        </p:nvSpPr>
        <p:spPr>
          <a:xfrm>
            <a:off x="5289480" y="3333600"/>
            <a:ext cx="43434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Collection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torage space al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view you prefer on the left navig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Librar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64" descr="SPAdmin5"/>
          <p:cNvPicPr/>
          <p:nvPr/>
        </p:nvPicPr>
        <p:blipFill>
          <a:blip r:embed="rId2"/>
          <a:stretch/>
        </p:blipFill>
        <p:spPr>
          <a:xfrm>
            <a:off x="5513400" y="3841920"/>
            <a:ext cx="3878280" cy="245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0" name="Text Box 65"/>
          <p:cNvSpPr/>
          <p:nvPr/>
        </p:nvSpPr>
        <p:spPr>
          <a:xfrm>
            <a:off x="5156280" y="3257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5154480" y="66200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92"/>
          <p:cNvSpPr/>
          <p:nvPr/>
        </p:nvSpPr>
        <p:spPr>
          <a:xfrm>
            <a:off x="457200" y="1855800"/>
            <a:ext cx="4343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can delete Documents, Document Libraries, and Lists 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orage Space Al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. Select the check box next to the documents, document libraries, or list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2680" indent="-1126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s an Administrator, you may not be able to access all sections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p-level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. To get access, click the link you can’t view, and then request acces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93"/>
          <p:cNvSpPr/>
          <p:nvPr/>
        </p:nvSpPr>
        <p:spPr>
          <a:xfrm>
            <a:off x="457200" y="14130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filter your view, click the options you want 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ow Item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ow On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ort b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s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4"/>
          <p:cNvSpPr/>
          <p:nvPr/>
        </p:nvSpPr>
        <p:spPr>
          <a:xfrm>
            <a:off x="361800" y="13273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95"/>
          <p:cNvSpPr/>
          <p:nvPr/>
        </p:nvSpPr>
        <p:spPr>
          <a:xfrm>
            <a:off x="438120" y="3197160"/>
            <a:ext cx="43434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All Sites Created under Your Main Site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ite Hierarch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displays workspaces and other sites created on your main SharePoint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96"/>
          <p:cNvSpPr/>
          <p:nvPr/>
        </p:nvSpPr>
        <p:spPr>
          <a:xfrm>
            <a:off x="466560" y="3949560"/>
            <a:ext cx="434340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Collection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ite hierarch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ite Hierarch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you’ll see a list of all sites under your main sit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go to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of a particular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7"/>
          <p:cNvSpPr/>
          <p:nvPr/>
        </p:nvSpPr>
        <p:spPr>
          <a:xfrm>
            <a:off x="344520" y="3878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8"/>
          <p:cNvSpPr/>
          <p:nvPr/>
        </p:nvSpPr>
        <p:spPr>
          <a:xfrm>
            <a:off x="353880" y="43736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99"/>
          <p:cNvSpPr/>
          <p:nvPr/>
        </p:nvSpPr>
        <p:spPr>
          <a:xfrm>
            <a:off x="352440" y="4967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00" descr="SPAdmin6"/>
          <p:cNvPicPr/>
          <p:nvPr/>
        </p:nvPicPr>
        <p:blipFill>
          <a:blip r:embed="rId1"/>
          <a:stretch/>
        </p:blipFill>
        <p:spPr>
          <a:xfrm>
            <a:off x="701640" y="5541840"/>
            <a:ext cx="3938760" cy="1514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Text Box 101"/>
          <p:cNvSpPr/>
          <p:nvPr/>
        </p:nvSpPr>
        <p:spPr>
          <a:xfrm>
            <a:off x="5257800" y="144144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an Administrator, you may not be able to access all sections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p-level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o get access, click on the link you can’t view and request acces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02"/>
          <p:cNvSpPr/>
          <p:nvPr/>
        </p:nvSpPr>
        <p:spPr>
          <a:xfrm>
            <a:off x="5267160" y="2557440"/>
            <a:ext cx="43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3"/>
          <p:cNvSpPr/>
          <p:nvPr/>
        </p:nvSpPr>
        <p:spPr>
          <a:xfrm>
            <a:off x="5227560" y="2062080"/>
            <a:ext cx="424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  <a:ea typeface="PMingLiU"/>
              </a:rPr>
              <a:t>Locate and Delete Unused Workspaces and S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04"/>
          <p:cNvSpPr/>
          <p:nvPr/>
        </p:nvSpPr>
        <p:spPr>
          <a:xfrm>
            <a:off x="5267160" y="2841480"/>
            <a:ext cx="432288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,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ment and Statis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 sites and workspac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s and Workspac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find the site or workspace you wish to delete, and then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olumn, click     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05"/>
          <p:cNvSpPr/>
          <p:nvPr/>
        </p:nvSpPr>
        <p:spPr>
          <a:xfrm>
            <a:off x="5124600" y="27766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06"/>
          <p:cNvSpPr/>
          <p:nvPr/>
        </p:nvSpPr>
        <p:spPr>
          <a:xfrm>
            <a:off x="5133960" y="32338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07"/>
          <p:cNvSpPr/>
          <p:nvPr/>
        </p:nvSpPr>
        <p:spPr>
          <a:xfrm>
            <a:off x="5130720" y="38433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08" descr="SPAdmin8"/>
          <p:cNvPicPr/>
          <p:nvPr/>
        </p:nvPicPr>
        <p:blipFill>
          <a:blip r:embed="rId2"/>
          <a:stretch/>
        </p:blipFill>
        <p:spPr>
          <a:xfrm>
            <a:off x="5513400" y="4351320"/>
            <a:ext cx="3747960" cy="227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9" name="Picture 109" descr="SPX"/>
          <p:cNvPicPr/>
          <p:nvPr/>
        </p:nvPicPr>
        <p:blipFill>
          <a:blip r:embed="rId3"/>
          <a:stretch/>
        </p:blipFill>
        <p:spPr>
          <a:xfrm>
            <a:off x="8450280" y="407340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5218200" y="2073240"/>
            <a:ext cx="43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5229360" y="1346040"/>
            <a:ext cx="4371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View Traffic to Your S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Usage Re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ovides information about how many hits your site has received and details such as user and browser typ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351400" y="2165400"/>
            <a:ext cx="43434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 to Site Administr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nagement and Statis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ew site usage dat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Usage Re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to view a particular report, click the report from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Repo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list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il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nth Summ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o!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132520" y="20718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141880" y="2557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140440" y="52833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16" descr="SPAdmin9"/>
          <p:cNvPicPr/>
          <p:nvPr/>
        </p:nvPicPr>
        <p:blipFill>
          <a:blip r:embed="rId1"/>
          <a:stretch/>
        </p:blipFill>
        <p:spPr>
          <a:xfrm>
            <a:off x="5457960" y="2959200"/>
            <a:ext cx="3728880" cy="230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7" name="Text Box 25"/>
          <p:cNvSpPr/>
          <p:nvPr/>
        </p:nvSpPr>
        <p:spPr>
          <a:xfrm>
            <a:off x="449280" y="1898640"/>
            <a:ext cx="43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58640" y="1374840"/>
            <a:ext cx="43228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elete Outdated Document Versions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Point version control keeps a history of changes to a file. Multiple versions of the same document can take up a significant amount of space on your site. If you do not need the versions, delete them to free spa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455760" y="2233440"/>
            <a:ext cx="434340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document library, click the down arrow to the right of the document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ersion Histo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delete a version of the document, click the down arrow to the right of the document version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30120" y="2174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358920" y="4605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39" descr="SPAdmin11"/>
          <p:cNvPicPr/>
          <p:nvPr/>
        </p:nvPicPr>
        <p:blipFill>
          <a:blip r:embed="rId2"/>
          <a:stretch/>
        </p:blipFill>
        <p:spPr>
          <a:xfrm>
            <a:off x="714240" y="5045040"/>
            <a:ext cx="320832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3" name="Picture 40" descr="SPAdmin10"/>
          <p:cNvPicPr/>
          <p:nvPr/>
        </p:nvPicPr>
        <p:blipFill>
          <a:blip r:embed="rId3"/>
          <a:stretch/>
        </p:blipFill>
        <p:spPr>
          <a:xfrm>
            <a:off x="687240" y="2624040"/>
            <a:ext cx="3068640" cy="180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4" name="Text Box 41"/>
          <p:cNvSpPr/>
          <p:nvPr/>
        </p:nvSpPr>
        <p:spPr>
          <a:xfrm>
            <a:off x="457200" y="68086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f version control is not activated, you will not see multiple versions of documents. By default, version control is not activate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7:23:4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0">
    <vt:lpwstr/>
  </property>
  <property fmtid="{D5CDD505-2E9C-101B-9397-08002B2CF9AE}" pid="3" name="Writer">
    <vt:lpwstr>TBD</vt:lpwstr>
  </property>
</Properties>
</file>