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58400" cy="77724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8480520" y="7378560"/>
            <a:ext cx="1130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256A-A7AF-4374-B0F0-DEF1D4ADCA28}" type="slidenum">
              <a:rPr b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009900"/>
                </a:solidFill>
                <a:latin typeface="Trebuchet MS"/>
              </a:rPr>
              <a:t> of 4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457200" y="731628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5f5f5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6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165800"/>
            <a:ext cx="10058400" cy="1717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Desktop Faxing GS.png"/>
          <p:cNvPicPr/>
          <p:nvPr/>
        </p:nvPicPr>
        <p:blipFill>
          <a:blip r:embed="rId3"/>
          <a:stretch/>
        </p:blipFill>
        <p:spPr>
          <a:xfrm>
            <a:off x="-9360" y="255600"/>
            <a:ext cx="10058400" cy="94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9"/>
          <p:cNvSpPr/>
          <p:nvPr/>
        </p:nvSpPr>
        <p:spPr>
          <a:xfrm>
            <a:off x="8480520" y="7378560"/>
            <a:ext cx="1130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E5F4-AA64-4F62-A7FF-460E08832782}" type="slidenum">
              <a:rPr b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009900"/>
                </a:solidFill>
                <a:latin typeface="Trebuchet MS"/>
              </a:rPr>
              <a:t> of 4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165800"/>
            <a:ext cx="10058400" cy="171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Desktop Faxing GS.png"/>
          <p:cNvPicPr/>
          <p:nvPr/>
        </p:nvPicPr>
        <p:blipFill>
          <a:blip r:embed="rId3"/>
          <a:stretch/>
        </p:blipFill>
        <p:spPr>
          <a:xfrm>
            <a:off x="-9360" y="255600"/>
            <a:ext cx="10058400" cy="941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Eurostil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61"/>
          <p:cNvSpPr/>
          <p:nvPr/>
        </p:nvSpPr>
        <p:spPr>
          <a:xfrm>
            <a:off x="444600" y="1379520"/>
            <a:ext cx="4343400" cy="16779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Text Box 53"/>
          <p:cNvSpPr/>
          <p:nvPr/>
        </p:nvSpPr>
        <p:spPr>
          <a:xfrm>
            <a:off x="457200" y="3770280"/>
            <a:ext cx="42004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en you first use desktop faxing, you will be prompted to sign up for a fax service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open your Web browser, and then follow the sign-up instructions on the Web sit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32"/>
          <p:cNvSpPr/>
          <p:nvPr/>
        </p:nvSpPr>
        <p:spPr>
          <a:xfrm>
            <a:off x="457200" y="3049560"/>
            <a:ext cx="4343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Send a Fax Using Office 20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57200" y="152244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nd and receive faxes directly from your computer using a fax service instead of a stand-alone fax machine. Send Microsof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Office 2003 documents or send other documents using Microsoft Office Document Imaging. Using this guide, you will learn how to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57200" y="4432320"/>
            <a:ext cx="176544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Fil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menu of Outlook 2003, Word 2003, Excel 2003 or PowerPoint 2003,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int to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nd To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ecipient using Internet Fax Servi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257800" y="1320840"/>
            <a:ext cx="4343400" cy="52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ype the name of the person you are sending the fax to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ax Recipien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ype the recipient’s fax number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ax Numbe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. When sending an international fax, do not enter zeros before a city cod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ype the subject of your fax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ubjec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ax Servi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ne, click a cover sheet. Complete your cover sheet located in the body of your e-mail messag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ttach additional documents by either clicking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ttach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r the paper clip icon on the toolbar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n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You will receive an e-mail message from you fax service notifying you if your fax was successfully delivered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523800" y="2254320"/>
            <a:ext cx="434340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90000" tIns="46800" bIns="46800" anchor="t">
            <a:spAutoFit/>
          </a:bodyPr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nd a Fax Using Office 2003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nd a Fax Using Microsoft Office Document Imagin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iew a Fa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vert a Fax to Tex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447840" y="436248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5247720" y="126036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5258880" y="524988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38"/>
          <p:cNvSpPr/>
          <p:nvPr/>
        </p:nvSpPr>
        <p:spPr>
          <a:xfrm>
            <a:off x="5247720" y="443700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39"/>
          <p:cNvSpPr/>
          <p:nvPr/>
        </p:nvSpPr>
        <p:spPr>
          <a:xfrm>
            <a:off x="5258880" y="491328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40"/>
          <p:cNvSpPr/>
          <p:nvPr/>
        </p:nvSpPr>
        <p:spPr>
          <a:xfrm>
            <a:off x="5246280" y="575460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5246280" y="624204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52"/>
          <p:cNvSpPr/>
          <p:nvPr/>
        </p:nvSpPr>
        <p:spPr>
          <a:xfrm>
            <a:off x="457200" y="3376440"/>
            <a:ext cx="43434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ou may send a fax from the following Office 2003 applications: Microsoft Outlo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Microsoft Word, Microsoft Excel, and Microsoft PowerPoin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Picture 59" descr="Fax1_E"/>
          <p:cNvPicPr/>
          <p:nvPr/>
        </p:nvPicPr>
        <p:blipFill>
          <a:blip r:embed="rId1"/>
          <a:stretch/>
        </p:blipFill>
        <p:spPr>
          <a:xfrm>
            <a:off x="2316240" y="4254480"/>
            <a:ext cx="2087640" cy="273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7" name="Picture 60" descr="Fax2_E"/>
          <p:cNvPicPr/>
          <p:nvPr/>
        </p:nvPicPr>
        <p:blipFill>
          <a:blip r:embed="rId2"/>
          <a:stretch/>
        </p:blipFill>
        <p:spPr>
          <a:xfrm>
            <a:off x="5392800" y="1681200"/>
            <a:ext cx="3914640" cy="2746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8" name="Picture 62" descr="AboutDTFaxing"/>
          <p:cNvPicPr/>
          <p:nvPr/>
        </p:nvPicPr>
        <p:blipFill>
          <a:blip r:embed="rId3"/>
          <a:stretch/>
        </p:blipFill>
        <p:spPr>
          <a:xfrm>
            <a:off x="426960" y="1327320"/>
            <a:ext cx="4375080" cy="328320"/>
          </a:xfrm>
          <a:prstGeom prst="rect">
            <a:avLst/>
          </a:prstGeom>
          <a:ln w="0">
            <a:noFill/>
          </a:ln>
        </p:spPr>
      </p:pic>
      <p:sp>
        <p:nvSpPr>
          <p:cNvPr id="99" name="TextBox 20"/>
          <p:cNvSpPr/>
          <p:nvPr/>
        </p:nvSpPr>
        <p:spPr>
          <a:xfrm>
            <a:off x="457200" y="73152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8"/>
          <p:cNvSpPr/>
          <p:nvPr/>
        </p:nvSpPr>
        <p:spPr>
          <a:xfrm>
            <a:off x="457200" y="122724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Send a Fax Using Office Document Imag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457200" y="1565280"/>
            <a:ext cx="4343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If you would like to send a non-Office 2003 file, such as an HTML file, you can use Office Document Imaging (included in Office 2003).  Office Document Imaging will create a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IFF (tagged image file format)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from your original file (your original file remains the same), and fax your documen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30"/>
          <p:cNvSpPr/>
          <p:nvPr/>
        </p:nvSpPr>
        <p:spPr>
          <a:xfrm>
            <a:off x="457200" y="2394000"/>
            <a:ext cx="4343400" cy="17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and choos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ll Program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 Point to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Microsoft Offi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&g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Microsoft Office Tool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Microsoft Office Document Imaging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Fil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menu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Browse to and click the file you would like to fax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dialog box, make sur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Microsoft Document Image Write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is selected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31"/>
          <p:cNvSpPr/>
          <p:nvPr/>
        </p:nvSpPr>
        <p:spPr>
          <a:xfrm>
            <a:off x="458280" y="232236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32"/>
          <p:cNvSpPr/>
          <p:nvPr/>
        </p:nvSpPr>
        <p:spPr>
          <a:xfrm>
            <a:off x="458280" y="297036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33"/>
          <p:cNvSpPr/>
          <p:nvPr/>
        </p:nvSpPr>
        <p:spPr>
          <a:xfrm>
            <a:off x="458280" y="329868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34"/>
          <p:cNvSpPr/>
          <p:nvPr/>
        </p:nvSpPr>
        <p:spPr>
          <a:xfrm>
            <a:off x="458280" y="362736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35"/>
          <p:cNvSpPr/>
          <p:nvPr/>
        </p:nvSpPr>
        <p:spPr>
          <a:xfrm>
            <a:off x="5256360" y="1333440"/>
            <a:ext cx="4343400" cy="57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l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menu, point to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nd To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ecipient using Internet Fax Servi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ype the name of the person you are sending the fax to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ax Recipien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ype the recipient’s fax number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ax Numbe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. When sending an international fax, do not enter zeros before a city cod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ype the subject of your fax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ubjec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ax Servi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ne, click a cover sheet. Complete your cover sheet located in the body of your e-mail messag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ttach additional documents by either clicking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ttach,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r the paper clip icon on the toolbar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n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You will receive e-mail confirming the status of your fax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36"/>
          <p:cNvSpPr/>
          <p:nvPr/>
        </p:nvSpPr>
        <p:spPr>
          <a:xfrm>
            <a:off x="5256360" y="509256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37"/>
          <p:cNvSpPr/>
          <p:nvPr/>
        </p:nvSpPr>
        <p:spPr>
          <a:xfrm>
            <a:off x="5217840" y="6418440"/>
            <a:ext cx="23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38"/>
          <p:cNvSpPr/>
          <p:nvPr/>
        </p:nvSpPr>
        <p:spPr>
          <a:xfrm>
            <a:off x="5245200" y="5560920"/>
            <a:ext cx="1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39"/>
          <p:cNvSpPr/>
          <p:nvPr/>
        </p:nvSpPr>
        <p:spPr>
          <a:xfrm>
            <a:off x="5251320" y="59371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40"/>
          <p:cNvSpPr/>
          <p:nvPr/>
        </p:nvSpPr>
        <p:spPr>
          <a:xfrm>
            <a:off x="5229360" y="688968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41"/>
          <p:cNvSpPr/>
          <p:nvPr/>
        </p:nvSpPr>
        <p:spPr>
          <a:xfrm>
            <a:off x="5238360" y="127476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42"/>
          <p:cNvSpPr/>
          <p:nvPr/>
        </p:nvSpPr>
        <p:spPr>
          <a:xfrm>
            <a:off x="5247720" y="462744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51" descr="Fax3_E"/>
          <p:cNvPicPr/>
          <p:nvPr/>
        </p:nvPicPr>
        <p:blipFill>
          <a:blip r:embed="rId1"/>
          <a:stretch/>
        </p:blipFill>
        <p:spPr>
          <a:xfrm>
            <a:off x="876240" y="4173480"/>
            <a:ext cx="3049560" cy="2779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16" name="Picture 52" descr="Fax4_E"/>
          <p:cNvPicPr/>
          <p:nvPr/>
        </p:nvPicPr>
        <p:blipFill>
          <a:blip r:embed="rId2"/>
          <a:stretch/>
        </p:blipFill>
        <p:spPr>
          <a:xfrm>
            <a:off x="6012000" y="1698480"/>
            <a:ext cx="3006720" cy="2905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7" name="TextBox 19"/>
          <p:cNvSpPr/>
          <p:nvPr/>
        </p:nvSpPr>
        <p:spPr>
          <a:xfrm>
            <a:off x="457200" y="732636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8"/>
          <p:cNvSpPr/>
          <p:nvPr/>
        </p:nvSpPr>
        <p:spPr>
          <a:xfrm>
            <a:off x="480960" y="161136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view an incoming fax, double-click the attachment in your fax e-mail message. The fax will open in the Microsoft Window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icture and Fax Viewer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452520" y="12384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View a Fa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458640" y="5892840"/>
            <a:ext cx="43434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t the bottom of the Windows Picture and Fax Viewer, you will see a left and a right arrow, with the page number in the middle. Click the left or right arrow to view a different page of your fax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the green arrows at the bottom to rotate the fax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468360" y="15336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27"/>
          <p:cNvSpPr/>
          <p:nvPr/>
        </p:nvSpPr>
        <p:spPr>
          <a:xfrm>
            <a:off x="459720" y="582768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28"/>
          <p:cNvSpPr/>
          <p:nvPr/>
        </p:nvSpPr>
        <p:spPr>
          <a:xfrm>
            <a:off x="448920" y="646128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51" descr="FAX5_E"/>
          <p:cNvPicPr/>
          <p:nvPr/>
        </p:nvPicPr>
        <p:blipFill>
          <a:blip r:embed="rId1"/>
          <a:stretch/>
        </p:blipFill>
        <p:spPr>
          <a:xfrm>
            <a:off x="525600" y="2116080"/>
            <a:ext cx="4208400" cy="34876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3"/>
          <p:cNvSpPr/>
          <p:nvPr/>
        </p:nvSpPr>
        <p:spPr>
          <a:xfrm>
            <a:off x="5257800" y="12384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Convert a Fax to Tex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4"/>
          <p:cNvSpPr/>
          <p:nvPr/>
        </p:nvSpPr>
        <p:spPr>
          <a:xfrm>
            <a:off x="5257800" y="2552760"/>
            <a:ext cx="434340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ll Program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&g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Microsoft Offi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&g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Microsoft Office Tool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&g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Microsoft Office Document Imaging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l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menu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Browse to your fax document. Click your fax document and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Ope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On the Tools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menu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Text Using OC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55"/>
          <p:cNvSpPr/>
          <p:nvPr/>
        </p:nvSpPr>
        <p:spPr>
          <a:xfrm>
            <a:off x="5258880" y="248112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56"/>
          <p:cNvSpPr/>
          <p:nvPr/>
        </p:nvSpPr>
        <p:spPr>
          <a:xfrm>
            <a:off x="5257800" y="1609560"/>
            <a:ext cx="4343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When you receive a TIFF fax, it is an image. You can not edit a TIFF fax. To edit the text, use the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icrosoft Office Document Imaging optical character recognition (OCR) too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 After running the OCR tool, you may select text and export it to Microsoft Word, or copy and paste the selected text to other application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57"/>
          <p:cNvSpPr/>
          <p:nvPr/>
        </p:nvSpPr>
        <p:spPr>
          <a:xfrm>
            <a:off x="5258880" y="296064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58"/>
          <p:cNvSpPr/>
          <p:nvPr/>
        </p:nvSpPr>
        <p:spPr>
          <a:xfrm>
            <a:off x="5249520" y="330192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59"/>
          <p:cNvSpPr/>
          <p:nvPr/>
        </p:nvSpPr>
        <p:spPr>
          <a:xfrm>
            <a:off x="5258880" y="364644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60" descr="FAX6_E"/>
          <p:cNvPicPr/>
          <p:nvPr/>
        </p:nvPicPr>
        <p:blipFill>
          <a:blip r:embed="rId2"/>
          <a:stretch/>
        </p:blipFill>
        <p:spPr>
          <a:xfrm>
            <a:off x="5546880" y="3983040"/>
            <a:ext cx="3728880" cy="3059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7"/>
          <p:cNvSpPr/>
          <p:nvPr/>
        </p:nvSpPr>
        <p:spPr>
          <a:xfrm>
            <a:off x="457200" y="732636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40"/>
          <p:cNvGrpSpPr/>
          <p:nvPr/>
        </p:nvGrpSpPr>
        <p:grpSpPr>
          <a:xfrm>
            <a:off x="460440" y="1265400"/>
            <a:ext cx="4343400" cy="5093640"/>
            <a:chOff x="460440" y="1265400"/>
            <a:chExt cx="4343400" cy="5093640"/>
          </a:xfrm>
        </p:grpSpPr>
        <p:sp>
          <p:nvSpPr>
            <p:cNvPr id="135" name="Rectangle 31"/>
            <p:cNvSpPr/>
            <p:nvPr/>
          </p:nvSpPr>
          <p:spPr>
            <a:xfrm>
              <a:off x="460440" y="1326960"/>
              <a:ext cx="4343400" cy="15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8600" rIns="0" tIns="0" bIns="0" anchor="t">
              <a:spAutoFit/>
            </a:bodyPr>
            <a:p>
              <a:pPr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In the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Recognize Text using OCR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, click your preferred page range. If you would like to change the options, click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Options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. 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lick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OK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elect the text you would like to copy or export to Microsoft Word. 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Right-click on the selected text. Click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nd text To Word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 to send the selected text to a new Word document. Click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Copy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 if you would like to paste the text into another application.  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461520" y="1265400"/>
              <a:ext cx="11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Trebuchet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461520" y="1731960"/>
              <a:ext cx="11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Trebuchet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461520" y="2068200"/>
              <a:ext cx="11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Trebuchet MS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461520" y="2388960"/>
              <a:ext cx="11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Trebuchet MS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40" name="Picture 38" descr="FAX7_E"/>
            <p:cNvPicPr/>
            <p:nvPr/>
          </p:nvPicPr>
          <p:blipFill>
            <a:blip r:embed="rId1"/>
            <a:stretch/>
          </p:blipFill>
          <p:spPr>
            <a:xfrm>
              <a:off x="620640" y="3057480"/>
              <a:ext cx="4024440" cy="330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9"/>
          <p:cNvSpPr/>
          <p:nvPr/>
        </p:nvSpPr>
        <p:spPr>
          <a:xfrm>
            <a:off x="457200" y="732636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8:00:00Z</dcterms:created>
  <dc:creator/>
  <dc:description/>
  <dc:language>en-US</dc:language>
  <cp:lastModifiedBy/>
  <cp:lastPrinted>1901-01-01T08:00:00Z</cp:lastPrinted>
  <dcterms:modified xsi:type="dcterms:W3CDTF">2007-05-04T16:06:28Z</dcterms:modified>
  <cp:revision>2</cp:revision>
  <dc:subject/>
  <dc:title>Slide 1</dc:title>
</cp:coreProperties>
</file>