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0058400" cy="77724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2"/>
          <p:cNvSpPr/>
          <p:nvPr/>
        </p:nvSpPr>
        <p:spPr>
          <a:xfrm>
            <a:off x="8675640" y="7275600"/>
            <a:ext cx="1182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68D7-6787-4CA3-9065-89DA2CE1EC2A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90600" y="726768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1216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GuideTypes_SG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2"/>
          <p:cNvSpPr/>
          <p:nvPr/>
        </p:nvSpPr>
        <p:spPr>
          <a:xfrm>
            <a:off x="8675640" y="7275600"/>
            <a:ext cx="1182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A973-A241-4D98-8662-29B721539B59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1216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GuideTypes_SG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2"/>
          <p:cNvSpPr/>
          <p:nvPr/>
        </p:nvSpPr>
        <p:spPr>
          <a:xfrm>
            <a:off x="8675640" y="7275600"/>
            <a:ext cx="1182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9505-1CF5-40A8-A5B5-6DCF142CBC9E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1216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GuideTypes_SG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90600" y="72676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23"/>
          <p:cNvSpPr/>
          <p:nvPr/>
        </p:nvSpPr>
        <p:spPr>
          <a:xfrm>
            <a:off x="457200" y="1447920"/>
            <a:ext cx="9144000" cy="7794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2805120"/>
            <a:ext cx="144792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1836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457200" y="280512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466560" y="394344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57200" y="513864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14680" y="2567160"/>
            <a:ext cx="129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Get Start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200400" y="2567160"/>
            <a:ext cx="129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Learn More About</a:t>
            </a:r>
            <a:r>
              <a:rPr b="1" lang="en-US" sz="1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381560" y="2567160"/>
            <a:ext cx="129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Best Practic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672160" y="2567160"/>
            <a:ext cx="129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Selection Guid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7023240" y="2567160"/>
            <a:ext cx="129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Reference Guid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8077320" y="2567160"/>
            <a:ext cx="1218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Over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66560" y="3938760"/>
            <a:ext cx="1447920" cy="304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1836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57200" y="5138640"/>
            <a:ext cx="1447920" cy="346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1836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Who Is it Fo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890720" y="2790720"/>
          <a:ext cx="7696080" cy="372132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roduction to the fundamental procedures of a tool or 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mediate and advanced procedural information that teaches users how to better use a tool or 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on of established, required, and/or recommended methods or policies for using a tool or 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view of a group of tools or services that helps users choose from multiple op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on of organized, non-procedural information in one concise resour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ame of reference for a tool or 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108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w how to get up and running on a tool or service as quickly as possi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ch about customization and deeper features of a tool or 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 users of mandatory or recommended methods for using a tool or 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 users to choose the best tool or service for a particular task at han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idate supplemental (reference) information that is not available in another single loc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e a high-level, conceptual understanding of a wide-ranging tool or 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s looking for start-up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s familiar with a tool or service who want to learn mo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s with multiple options for accomplishing a given task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s who have a need to make a choice and are not looking for a definition of a tool or 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s who are running a tool or service and have questions about functionality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s who will benefit significantly from having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the big picture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125"/>
          <p:cNvSpPr/>
          <p:nvPr/>
        </p:nvSpPr>
        <p:spPr>
          <a:xfrm>
            <a:off x="457200" y="1336680"/>
            <a:ext cx="586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9900"/>
                </a:solidFill>
                <a:latin typeface="Trebuchet MS"/>
              </a:rPr>
              <a:t>About Everyday Productivity Education (EP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28"/>
          <p:cNvSpPr/>
          <p:nvPr/>
        </p:nvSpPr>
        <p:spPr>
          <a:xfrm>
            <a:off x="520560" y="1797120"/>
            <a:ext cx="8923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Microsoft IT Productivity Education team offers several discrete guide types. This selection guide defines and describes what users can expect from each guide typ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390600" y="72676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2905200"/>
            <a:ext cx="1447920" cy="5810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1836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457200" y="29052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466560" y="394164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57200" y="470844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706400" y="1447920"/>
            <a:ext cx="1295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Get Start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28840" y="1447920"/>
            <a:ext cx="1295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Learn More About</a:t>
            </a:r>
            <a:r>
              <a:rPr b="1" lang="en-US" sz="1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373640" y="1447920"/>
            <a:ext cx="129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Best Practic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707080" y="1447920"/>
            <a:ext cx="129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Selection Guid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026120" y="1447920"/>
            <a:ext cx="1295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Reference Guid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118360" y="14479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ahoma"/>
              </a:rPr>
              <a:t>Over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57200" y="4708440"/>
            <a:ext cx="1447920" cy="362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1836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1617840"/>
          <a:ext cx="7696080" cy="60670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tion of tool or service. Procedural steps to get started. Fundamental tasks. Links to more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ailed procedural information. Links to more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lanatory overview. Explanation of rationale or value for each recommended practice. Links to more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 of each option. Advantages of each option. Disadvantages of each option. Links to more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view explaining the guide. Links to more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tion. Description of functionality. Introductions to core concepts. Links to more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dural variations. Terminology and defini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tions. Tables and char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dures. Terminology and definitions. Screenshots or illustra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quirements and features for each option. Best uses. Comparison char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ossary. FAQs. Diagrams. Known Issues. Table of Contents. Informational char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reenshots. Diagra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erfluous variations. Advanced options. Market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damental tool or service information. Market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up instructions. Superfluous variations. Market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dural art. Market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dures. Market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dures. Market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criptive, simple path to key objectives. Gets users from point A to point B. Uses screenshots &amp; illustrations for visual organization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gni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ed toward what you can do. No assumed 1:1 relationship with Get Started. Not a Best Practi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ed toward what you should do. Policy focused. Is a recommend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t-based, not text-based. Describes, doesn’t prescribe. Succinc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ular. Used repeatedly. Commonly used online. Not generally scenario-based. Few to no images. Not prescriptiv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 picture. Text-rich. Stand-alo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63"/>
          <p:cNvSpPr/>
          <p:nvPr/>
        </p:nvSpPr>
        <p:spPr>
          <a:xfrm>
            <a:off x="455760" y="3935520"/>
            <a:ext cx="1447560" cy="5810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1836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Inappropri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78"/>
          <p:cNvSpPr/>
          <p:nvPr/>
        </p:nvSpPr>
        <p:spPr>
          <a:xfrm>
            <a:off x="457200" y="165096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79"/>
          <p:cNvSpPr/>
          <p:nvPr/>
        </p:nvSpPr>
        <p:spPr>
          <a:xfrm>
            <a:off x="457200" y="1650960"/>
            <a:ext cx="1457280" cy="485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18360" bIns="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Requi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6:03:12Z</dcterms:created>
  <dc:creator>IT Productivity</dc:creator>
  <dc:description/>
  <cp:keywords>selection;comparison;compare;EPE;guide;guides;productivity;learn;help;self;how;tools;solutions;quick;training;resource;</cp:keywords>
  <dc:language>en-US</dc:language>
  <cp:lastModifiedBy>Jim Bevan</cp:lastModifiedBy>
  <dcterms:modified xsi:type="dcterms:W3CDTF">2007-05-04T16:15:59Z</dcterms:modified>
  <cp:revision>184</cp:revision>
  <dc:subject/>
  <dc:title>Guide Types Selection Guide</dc:title>
</cp:coreProperties>
</file>