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69"/>
          <p:cNvSpPr/>
          <p:nvPr/>
        </p:nvSpPr>
        <p:spPr>
          <a:xfrm>
            <a:off x="8751960" y="7296120"/>
            <a:ext cx="1182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7814-FF9E-48DC-973C-B2DC4213414D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2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099200"/>
            <a:ext cx="10058400" cy="171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OutlookArchives.jpg"/>
          <p:cNvPicPr/>
          <p:nvPr/>
        </p:nvPicPr>
        <p:blipFill>
          <a:blip r:embed="rId3"/>
          <a:stretch/>
        </p:blipFill>
        <p:spPr>
          <a:xfrm>
            <a:off x="0" y="380880"/>
            <a:ext cx="10058400" cy="9414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9"/>
          <p:cNvSpPr/>
          <p:nvPr/>
        </p:nvSpPr>
        <p:spPr>
          <a:xfrm>
            <a:off x="457200" y="725652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191"/>
          <p:cNvSpPr/>
          <p:nvPr/>
        </p:nvSpPr>
        <p:spPr>
          <a:xfrm>
            <a:off x="452520" y="1547640"/>
            <a:ext cx="4300560" cy="20145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Text Box 127"/>
          <p:cNvSpPr/>
          <p:nvPr/>
        </p:nvSpPr>
        <p:spPr>
          <a:xfrm>
            <a:off x="457200" y="1832040"/>
            <a:ext cx="428616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r Microsof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utlook 2007 e-mail, Calendar, and Task items are all stored on your e-mail server. As more items are added to your mailbox, it can exceed its size limit. When you archive Outlook 2007 items, you store them on your comput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—freeing up space on your e-mail server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opics in this guide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143"/>
          <p:cNvSpPr/>
          <p:nvPr/>
        </p:nvSpPr>
        <p:spPr>
          <a:xfrm>
            <a:off x="358920" y="41464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144"/>
          <p:cNvSpPr/>
          <p:nvPr/>
        </p:nvSpPr>
        <p:spPr>
          <a:xfrm>
            <a:off x="360360" y="46339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145"/>
          <p:cNvSpPr/>
          <p:nvPr/>
        </p:nvSpPr>
        <p:spPr>
          <a:xfrm>
            <a:off x="458640" y="3795840"/>
            <a:ext cx="429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Set Up and Start AutoArchi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Text Box 162"/>
          <p:cNvSpPr/>
          <p:nvPr/>
        </p:nvSpPr>
        <p:spPr>
          <a:xfrm>
            <a:off x="523800" y="2843280"/>
            <a:ext cx="4229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t Up and Start AutoArchiv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toArchive Individual E-Mail Folder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toArchive from An Outlook 2007 Remind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nd and Restore Archived Item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 Box 178"/>
          <p:cNvSpPr/>
          <p:nvPr/>
        </p:nvSpPr>
        <p:spPr>
          <a:xfrm>
            <a:off x="360360" y="52149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Text Box 179"/>
          <p:cNvSpPr/>
          <p:nvPr/>
        </p:nvSpPr>
        <p:spPr>
          <a:xfrm>
            <a:off x="360360" y="59961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Text Box 180"/>
          <p:cNvSpPr/>
          <p:nvPr/>
        </p:nvSpPr>
        <p:spPr>
          <a:xfrm>
            <a:off x="5226120" y="14414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181"/>
          <p:cNvSpPr/>
          <p:nvPr/>
        </p:nvSpPr>
        <p:spPr>
          <a:xfrm>
            <a:off x="5218200" y="19033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182"/>
          <p:cNvSpPr/>
          <p:nvPr/>
        </p:nvSpPr>
        <p:spPr>
          <a:xfrm>
            <a:off x="5305320" y="1531800"/>
            <a:ext cx="429588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uring AutoArchiv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lect the options you wan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apply these settings to all folders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pply these settings to all folders no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When you have finished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 Box 183"/>
          <p:cNvSpPr/>
          <p:nvPr/>
        </p:nvSpPr>
        <p:spPr>
          <a:xfrm>
            <a:off x="5267160" y="4100400"/>
            <a:ext cx="226404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i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view, right-click an e-mail folder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operti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utoArchiv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ab, click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chive items in this folder using the default 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ption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fault Archive 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the options you want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Text Box 185"/>
          <p:cNvSpPr/>
          <p:nvPr/>
        </p:nvSpPr>
        <p:spPr>
          <a:xfrm>
            <a:off x="5189400" y="399888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 Box 186"/>
          <p:cNvSpPr/>
          <p:nvPr/>
        </p:nvSpPr>
        <p:spPr>
          <a:xfrm>
            <a:off x="5189400" y="448956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 Box 187"/>
          <p:cNvSpPr/>
          <p:nvPr/>
        </p:nvSpPr>
        <p:spPr>
          <a:xfrm>
            <a:off x="5189400" y="52322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188"/>
          <p:cNvSpPr/>
          <p:nvPr/>
        </p:nvSpPr>
        <p:spPr>
          <a:xfrm>
            <a:off x="5305320" y="3381480"/>
            <a:ext cx="42958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AutoArchive Individual E-Mail Folders</a:t>
            </a:r>
            <a:br>
              <a:rPr sz="16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rchive specific e-mail folders instead of your entire mailbo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 Box 193"/>
          <p:cNvSpPr/>
          <p:nvPr/>
        </p:nvSpPr>
        <p:spPr>
          <a:xfrm>
            <a:off x="457200" y="4222800"/>
            <a:ext cx="214632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th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ab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utoArchiv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utoArchiv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select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un AutoArchiv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check box and set the number of day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lect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ompt befor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utoArchive ru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check box if you want to confirm each AutoArchive session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24" descr="autoarchive50.png"/>
          <p:cNvPicPr/>
          <p:nvPr/>
        </p:nvPicPr>
        <p:blipFill>
          <a:blip r:embed="rId1"/>
          <a:stretch/>
        </p:blipFill>
        <p:spPr>
          <a:xfrm>
            <a:off x="2766960" y="4235400"/>
            <a:ext cx="1971720" cy="217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inboxprops50.png"/>
          <p:cNvPicPr/>
          <p:nvPr/>
        </p:nvPicPr>
        <p:blipFill>
          <a:blip r:embed="rId2"/>
          <a:stretch/>
        </p:blipFill>
        <p:spPr>
          <a:xfrm>
            <a:off x="7640640" y="4075200"/>
            <a:ext cx="1952640" cy="2657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87"/>
          <p:cNvSpPr/>
          <p:nvPr/>
        </p:nvSpPr>
        <p:spPr>
          <a:xfrm>
            <a:off x="5180040" y="5546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226120" y="2435400"/>
            <a:ext cx="4375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you create an archive, your items are archived on your computer (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e-mail server) in an Outlook Personal Folder (.pst). The default name and location of your archive is C:\Documents\Settings\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YourAlia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\LocalSettings\ApplicationData\Microsoft\Outlook\archive.ps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Picture 23" descr="AboutOutlookArchives.jpg"/>
          <p:cNvPicPr/>
          <p:nvPr/>
        </p:nvPicPr>
        <p:blipFill>
          <a:blip r:embed="rId3"/>
          <a:stretch/>
        </p:blipFill>
        <p:spPr>
          <a:xfrm>
            <a:off x="457200" y="1504800"/>
            <a:ext cx="429588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15"/>
          <p:cNvSpPr/>
          <p:nvPr/>
        </p:nvSpPr>
        <p:spPr>
          <a:xfrm>
            <a:off x="5305320" y="2600280"/>
            <a:ext cx="2602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i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view, click [icon] next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chive Folder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expand the folder list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view the folder list, 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o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lder Lis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en a folder, select items to restore, and drag them to the folder to which you want them restored (Inbox, Calendar, Tasks, etc.)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516"/>
          <p:cNvSpPr/>
          <p:nvPr/>
        </p:nvSpPr>
        <p:spPr>
          <a:xfrm>
            <a:off x="5207040" y="25239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517"/>
          <p:cNvSpPr/>
          <p:nvPr/>
        </p:nvSpPr>
        <p:spPr>
          <a:xfrm>
            <a:off x="5216400" y="350028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 Box 518"/>
          <p:cNvSpPr/>
          <p:nvPr/>
        </p:nvSpPr>
        <p:spPr>
          <a:xfrm>
            <a:off x="5302080" y="1486080"/>
            <a:ext cx="435636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Find and Restore Archived Items</a:t>
            </a:r>
            <a:br>
              <a:rPr sz="16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toring your archived items back to the e-mail server enables you to access them on any computer on your corporate network and over Outlook Web Access. (Archived items are accessible only on your computer.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523" descr="FolderList"/>
          <p:cNvPicPr/>
          <p:nvPr/>
        </p:nvPicPr>
        <p:blipFill>
          <a:blip r:embed="rId1"/>
          <a:stretch/>
        </p:blipFill>
        <p:spPr>
          <a:xfrm>
            <a:off x="8366040" y="2624040"/>
            <a:ext cx="119376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7" name="Text Box 524"/>
          <p:cNvSpPr/>
          <p:nvPr/>
        </p:nvSpPr>
        <p:spPr>
          <a:xfrm>
            <a:off x="434880" y="1494000"/>
            <a:ext cx="43182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AutoArchive from An Outlook 2007 Reminder</a:t>
            </a:r>
            <a:br>
              <a:rPr sz="16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utlook 2007 automatically reminds you on a regular basis to archive your Outlook 2007 item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Text Box 525"/>
          <p:cNvSpPr/>
          <p:nvPr/>
        </p:nvSpPr>
        <p:spPr>
          <a:xfrm>
            <a:off x="457200" y="2328840"/>
            <a:ext cx="429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ould you like to AutoArchive your old items now?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 appears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utoArchive 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 Box 527"/>
          <p:cNvSpPr/>
          <p:nvPr/>
        </p:nvSpPr>
        <p:spPr>
          <a:xfrm>
            <a:off x="334800" y="223668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528"/>
          <p:cNvSpPr/>
          <p:nvPr/>
        </p:nvSpPr>
        <p:spPr>
          <a:xfrm>
            <a:off x="482760" y="4587840"/>
            <a:ext cx="42703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utoArchiv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select the settings you wan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Y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r older Outlook 2007 items are archived to a personal file (.pst) on your computer. The default name and location of your archive is C:\Users\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Your Alia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\AppData\Local\Microsoft\Outlook\archive.pst.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529"/>
          <p:cNvSpPr/>
          <p:nvPr/>
        </p:nvSpPr>
        <p:spPr>
          <a:xfrm>
            <a:off x="368280" y="44989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 Box 530"/>
          <p:cNvSpPr/>
          <p:nvPr/>
        </p:nvSpPr>
        <p:spPr>
          <a:xfrm>
            <a:off x="361800" y="494172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Picture 15" descr="outlook75.png"/>
          <p:cNvPicPr/>
          <p:nvPr/>
        </p:nvPicPr>
        <p:blipFill>
          <a:blip r:embed="rId2"/>
          <a:stretch/>
        </p:blipFill>
        <p:spPr>
          <a:xfrm>
            <a:off x="979560" y="2760840"/>
            <a:ext cx="29811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6:03:12Z</dcterms:created>
  <dc:creator>Microsoft IT Productivity</dc:creator>
  <dc:description>Are you receiving warning e-mails that your e-mail box is too full? Learn how to store your extra e-mail and prevent your e-mail box from filling up.</dc:description>
  <cp:keywords>get started;getting started;start;first steps;EPE;guide;guides;productivity;learn;help;self;how;tools;solutions;quick;training;resource;Outlook Archives;Outlook;archives;full mailbox;</cp:keywords>
  <dc:language>en-US</dc:language>
  <cp:lastModifiedBy>Jim Bevan</cp:lastModifiedBy>
  <dcterms:modified xsi:type="dcterms:W3CDTF">2007-05-04T16:35:47Z</dcterms:modified>
  <cp:revision>575</cp:revision>
  <dc:subject/>
  <dc:title>Outlook Archives Get Starte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get started;getting started;start;first steps;EPE;guide;guides;productivity;learn;help;self;how;tools;solutions;quick;training;resource;Outlook Archives;Outlook;archives;full mailbox;</vt:lpwstr>
  </property>
  <property fmtid="{D5CDD505-2E9C-101B-9397-08002B2CF9AE}" pid="7" name="Notes0">
    <vt:lpwstr>Edit complete except for printing pass. Banner added.</vt:lpwstr>
  </property>
  <property fmtid="{D5CDD505-2E9C-101B-9397-08002B2CF9AE}" pid="8" name="Order">
    <vt:lpwstr>154700.000000000</vt:lpwstr>
  </property>
  <property fmtid="{D5CDD505-2E9C-101B-9397-08002B2CF9AE}" pid="9" name="Slides">
    <vt:lpwstr>2</vt:lpwstr>
  </property>
  <property fmtid="{D5CDD505-2E9C-101B-9397-08002B2CF9AE}" pid="10" name="Subject">
    <vt:lpwstr/>
  </property>
  <property fmtid="{D5CDD505-2E9C-101B-9397-08002B2CF9AE}" pid="11" name="Writer">
    <vt:lpwstr>Sheila Hunter</vt:lpwstr>
  </property>
  <property fmtid="{D5CDD505-2E9C-101B-9397-08002B2CF9AE}" pid="12" name="_Author">
    <vt:lpwstr>Microsoft IT Productivity</vt:lpwstr>
  </property>
  <property fmtid="{D5CDD505-2E9C-101B-9397-08002B2CF9AE}" pid="13" name="_Category">
    <vt:lpwstr/>
  </property>
  <property fmtid="{D5CDD505-2E9C-101B-9397-08002B2CF9AE}" pid="14" name="_Comments">
    <vt:lpwstr>Are you receiving warning e-mails that your e-mail box is too full? Learn how to store your extra e-mail and prevent your e-mail box from filling up.
</vt:lpwstr>
  </property>
</Properties>
</file>