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Desktop Faxing GS.png"/>
          <p:cNvPicPr/>
          <p:nvPr/>
        </p:nvPicPr>
        <p:blipFill>
          <a:blip r:embed="rId2"/>
          <a:stretch/>
        </p:blipFill>
        <p:spPr>
          <a:xfrm>
            <a:off x="0" y="30312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9"/>
          <p:cNvSpPr/>
          <p:nvPr/>
        </p:nvSpPr>
        <p:spPr>
          <a:xfrm>
            <a:off x="8480520" y="7388280"/>
            <a:ext cx="1130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52D-B7F7-4BEF-B60C-BFC17B7E74B7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457200" y="732600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Blue_AccentBand_rgb_PNG1.png"/>
          <p:cNvPicPr/>
          <p:nvPr/>
        </p:nvPicPr>
        <p:blipFill>
          <a:blip r:embed="rId3"/>
          <a:stretch/>
        </p:blipFill>
        <p:spPr>
          <a:xfrm>
            <a:off x="0" y="7175520"/>
            <a:ext cx="10058400" cy="1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Desktop Faxing GS.png"/>
          <p:cNvPicPr/>
          <p:nvPr/>
        </p:nvPicPr>
        <p:blipFill>
          <a:blip r:embed="rId2"/>
          <a:stretch/>
        </p:blipFill>
        <p:spPr>
          <a:xfrm>
            <a:off x="0" y="30312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39"/>
          <p:cNvSpPr/>
          <p:nvPr/>
        </p:nvSpPr>
        <p:spPr>
          <a:xfrm>
            <a:off x="8480520" y="7378560"/>
            <a:ext cx="1130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915D-F866-42F8-8E7B-9B365624E091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Picture 4" descr="Blue_AccentBand_rgb_PNG1.png"/>
          <p:cNvPicPr/>
          <p:nvPr/>
        </p:nvPicPr>
        <p:blipFill>
          <a:blip r:embed="rId3"/>
          <a:stretch/>
        </p:blipFill>
        <p:spPr>
          <a:xfrm>
            <a:off x="0" y="7165800"/>
            <a:ext cx="10058400" cy="17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2"/>
          </p:nvPr>
        </p:nvSpPr>
        <p:spPr>
          <a:xfrm>
            <a:off x="457200" y="73162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5257800" y="1523880"/>
            <a:ext cx="43434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Recipi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recipient’s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untry/Reg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, click the recipient’s fax country code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ity/Area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es type the recipient’s fax area code and numbe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When sending an international fax, do not enter zeros before an area cod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subject of your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ne, make sur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se cover shee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 is selected. Complete your cover sheet in the body of your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ttach additional documents by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tach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elow the Subject line,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 by clicking the paper clip icon on the toolba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will receive e-mail confirming the status of your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AutoShape 57"/>
          <p:cNvSpPr/>
          <p:nvPr/>
        </p:nvSpPr>
        <p:spPr>
          <a:xfrm>
            <a:off x="457200" y="1563840"/>
            <a:ext cx="4343400" cy="18666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58" descr="DesktopFaxing_GS"/>
          <p:cNvPicPr/>
          <p:nvPr/>
        </p:nvPicPr>
        <p:blipFill>
          <a:blip r:embed="rId1"/>
          <a:stretch/>
        </p:blipFill>
        <p:spPr>
          <a:xfrm>
            <a:off x="455760" y="1500120"/>
            <a:ext cx="4365360" cy="327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2"/>
          <p:cNvSpPr/>
          <p:nvPr/>
        </p:nvSpPr>
        <p:spPr>
          <a:xfrm>
            <a:off x="457200" y="3494160"/>
            <a:ext cx="434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nd a Fax Using Microsoft Off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17064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easily send and receive faxes from your computer instead of a stand-alone fax machine. Send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documents or other documents using Microsoft Office Document Imaging. Topics in this guid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272120"/>
            <a:ext cx="153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Word 2007, Excel 2007 or PowerPoint 2007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the Office button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Fax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Outlook 2007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et Fax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n Outlook e-mail message with a fax cover sheet ope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23800" y="2438280"/>
            <a:ext cx="4343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a Fax Using Microsoft Offi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a Fax Using Office Document Imag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eive a Fax Using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Outlook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a Fa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vert a Fax to Tex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47840" y="41972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5238360" y="14508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5238360" y="5778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8"/>
          <p:cNvSpPr/>
          <p:nvPr/>
        </p:nvSpPr>
        <p:spPr>
          <a:xfrm>
            <a:off x="5227200" y="43038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39"/>
          <p:cNvSpPr/>
          <p:nvPr/>
        </p:nvSpPr>
        <p:spPr>
          <a:xfrm>
            <a:off x="5249520" y="54133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5236560" y="62596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5246280" y="67230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457200" y="3801960"/>
            <a:ext cx="4343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from the following Microsoft Office applications: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Word 2007,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Exce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007,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PowerPoi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007, and Office Outlook 2007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19" descr="SendToFax.png"/>
          <p:cNvPicPr/>
          <p:nvPr/>
        </p:nvPicPr>
        <p:blipFill>
          <a:blip r:embed="rId2"/>
          <a:stretch/>
        </p:blipFill>
        <p:spPr>
          <a:xfrm>
            <a:off x="2743200" y="4346640"/>
            <a:ext cx="1981080" cy="254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8" name="Picture 20" descr="FaxCoverSheet.png"/>
          <p:cNvPicPr/>
          <p:nvPr/>
        </p:nvPicPr>
        <p:blipFill>
          <a:blip r:embed="rId3"/>
          <a:stretch/>
        </p:blipFill>
        <p:spPr>
          <a:xfrm>
            <a:off x="5353200" y="1779480"/>
            <a:ext cx="4224240" cy="2481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117"/>
          <p:cNvSpPr/>
          <p:nvPr/>
        </p:nvSpPr>
        <p:spPr>
          <a:xfrm>
            <a:off x="457200" y="73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453960" y="4421160"/>
            <a:ext cx="12891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ipient using Internet 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457200" y="142236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nd a Fax Using Office Document Imag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457200" y="1693800"/>
            <a:ext cx="4343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f you would like to send a non-Microsoft Office file, such as an HTML file, you can use Office Document Imaging (included i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2007 relea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). Office Document Imaging will create a .tif file from your original file (your original file remains the same), and fax your docume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457200" y="2503440"/>
            <a:ext cx="43434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(    ) button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ll Progra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Document Imag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owse to the file you would like to fax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 will not display if you import a Microsoft Office document. The Microsoft Office document will automatically pri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439200" y="24321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439200" y="30607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39200" y="34005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432720" y="43560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284800" y="1479600"/>
            <a:ext cx="434340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Recipi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recipient’s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Numb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recipient’s fax number. When sending an international fax, do not enter zeros before a city cod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subject of your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ne, click a cover sheet. Complete your cover sheet in the body of your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ttach additional documents by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tach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elow the Subject line,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 by clicking the paper clip icon on the toolba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will receive e-mail confirming the status of your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5237280" y="22194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227200" y="3533760"/>
            <a:ext cx="2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5245200" y="2552760"/>
            <a:ext cx="1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5241960" y="3036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5225400" y="14018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5238360" y="17431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Rectangle 4115" descr=""/>
          <p:cNvPicPr/>
          <p:nvPr/>
        </p:nvPicPr>
        <p:blipFill>
          <a:blip r:embed="rId1"/>
          <a:stretch/>
        </p:blipFill>
        <p:spPr>
          <a:xfrm>
            <a:off x="1608120" y="2502000"/>
            <a:ext cx="163440" cy="163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8"/>
          <p:cNvSpPr/>
          <p:nvPr/>
        </p:nvSpPr>
        <p:spPr>
          <a:xfrm>
            <a:off x="5276880" y="440532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uble-click the attachment in your fax e-mail message. The fax opens in the Microsoft Office Document Imaging applic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248440" y="403236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a Fa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5254560" y="4341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5257800" y="49672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need to rotate the fax document, click the rotate buttons            at the top of the Microsoft Office Document Imaging applic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5258880" y="49021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8" descr="Fax_5.png"/>
          <p:cNvPicPr/>
          <p:nvPr/>
        </p:nvPicPr>
        <p:blipFill>
          <a:blip r:embed="rId2"/>
          <a:stretch/>
        </p:blipFill>
        <p:spPr>
          <a:xfrm>
            <a:off x="9090000" y="4962600"/>
            <a:ext cx="476280" cy="16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DocImagingSendTo.png"/>
          <p:cNvPicPr/>
          <p:nvPr/>
        </p:nvPicPr>
        <p:blipFill>
          <a:blip r:embed="rId3"/>
          <a:stretch/>
        </p:blipFill>
        <p:spPr>
          <a:xfrm>
            <a:off x="1879560" y="4834080"/>
            <a:ext cx="2873520" cy="1928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3" name="Rectangle 1117"/>
          <p:cNvSpPr/>
          <p:nvPr/>
        </p:nvSpPr>
        <p:spPr>
          <a:xfrm>
            <a:off x="457200" y="72914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9"/>
          <p:cNvSpPr/>
          <p:nvPr/>
        </p:nvSpPr>
        <p:spPr>
          <a:xfrm>
            <a:off x="453960" y="1417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vert a Fax to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476280" y="2925720"/>
            <a:ext cx="430848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owse to the fax document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Text Using OC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text to copy or export to Word 2007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ight-click the selected text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text To 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send the selected text to a new Word 2007 document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p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paste the text into another applic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445680" y="23194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453960" y="17794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coming faxes are received as image files, so the text cannot be edited. To make editing possible, convert the image to text with th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crosoft Office Document Imaging optical character recognition (OCR) too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461520" y="28670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51800" y="31860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456840" y="35244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453600" y="38498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467640" y="41734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453960" y="2386080"/>
            <a:ext cx="434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(    ) button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ll Progra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Document Imag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Rectangle 4115" descr=""/>
          <p:cNvPicPr/>
          <p:nvPr/>
        </p:nvPicPr>
        <p:blipFill>
          <a:blip r:embed="rId1"/>
          <a:stretch/>
        </p:blipFill>
        <p:spPr>
          <a:xfrm>
            <a:off x="1598760" y="239400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OCR.png"/>
          <p:cNvPicPr/>
          <p:nvPr/>
        </p:nvPicPr>
        <p:blipFill>
          <a:blip r:embed="rId2"/>
          <a:stretch/>
        </p:blipFill>
        <p:spPr>
          <a:xfrm>
            <a:off x="1936800" y="4803840"/>
            <a:ext cx="2774880" cy="203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Rectangle 1117"/>
          <p:cNvSpPr/>
          <p:nvPr/>
        </p:nvSpPr>
        <p:spPr>
          <a:xfrm>
            <a:off x="457200" y="72914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>Send faxes from your desktop using Office 2003 and receive faxes sent to Microsoft in your Outlook Inbox.</dc:description>
  <cp:keywords>get started;getting started;start;first steps;EPE;guide;guides;productivity;learn;help;self;how;tools;solutions;quick;training;resource;fax;outlook;modem;internet;e-mail;optical;OCR;TIFF;attachment;recipient;viewer;phone;fax machine;confirmation;coversheet;</cp:keywords>
  <dc:language>en-US</dc:language>
  <cp:lastModifiedBy>Jim Bevan</cp:lastModifiedBy>
  <cp:lastPrinted>2006-09-25T22:32:54Z</cp:lastPrinted>
  <dcterms:modified xsi:type="dcterms:W3CDTF">2007-05-04T16:06:52Z</dcterms:modified>
  <cp:revision>391</cp:revision>
  <dc:subject/>
  <dc:title>Desktop Faxing Get Start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get started;getting started;start;first steps;EPE;guide;guides;productivity;learn;help;self;how;tools;solutions;quick;training;resource;fax;outlook;modem;internet;e-mail;optical;OCR;TIFF;attachment;recipient;viewer;phone;fax machine;confirmation;covershee</vt:lpwstr>
  </property>
  <property fmtid="{D5CDD505-2E9C-101B-9397-08002B2CF9AE}" pid="7" name="Notes0">
    <vt:lpwstr>Edit complete except for final printing pass. Banner added.</vt:lpwstr>
  </property>
  <property fmtid="{D5CDD505-2E9C-101B-9397-08002B2CF9AE}" pid="8" name="Order">
    <vt:lpwstr>154000.000000000</vt:lpwstr>
  </property>
  <property fmtid="{D5CDD505-2E9C-101B-9397-08002B2CF9AE}" pid="9" name="Slides">
    <vt:lpwstr>3</vt:lpwstr>
  </property>
  <property fmtid="{D5CDD505-2E9C-101B-9397-08002B2CF9AE}" pid="10" name="Subject">
    <vt:lpwstr/>
  </property>
  <property fmtid="{D5CDD505-2E9C-101B-9397-08002B2CF9AE}" pid="11" name="Writer">
    <vt:lpwstr>Chris Wright</vt:lpwstr>
  </property>
  <property fmtid="{D5CDD505-2E9C-101B-9397-08002B2CF9AE}" pid="12" name="_Author">
    <vt:lpwstr>IT Productivity</vt:lpwstr>
  </property>
  <property fmtid="{D5CDD505-2E9C-101B-9397-08002B2CF9AE}" pid="13" name="_Category">
    <vt:lpwstr/>
  </property>
  <property fmtid="{D5CDD505-2E9C-101B-9397-08002B2CF9AE}" pid="14" name="_Comments">
    <vt:lpwstr>Send faxes from your desktop using Office 2003 and receive faxes sent to Microsoft in your Outlook Inbox.</vt:lpwstr>
  </property>
</Properties>
</file>