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0058400" cy="77724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8610480" y="7300800"/>
            <a:ext cx="10000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55D1-8A85-483C-A88B-F7621A6B450E}" type="slidenum">
              <a:rPr b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009900"/>
                </a:solidFill>
                <a:latin typeface="Trebuchet MS"/>
              </a:rPr>
              <a:t> of 2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457200" y="72385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5f5f5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6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086600"/>
            <a:ext cx="10058400" cy="1713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" descr="Delegating Outlook Permissions LM.png"/>
          <p:cNvPicPr/>
          <p:nvPr/>
        </p:nvPicPr>
        <p:blipFill>
          <a:blip r:embed="rId3"/>
          <a:stretch/>
        </p:blipFill>
        <p:spPr>
          <a:xfrm>
            <a:off x="0" y="219240"/>
            <a:ext cx="1005840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9"/>
          <p:cNvSpPr/>
          <p:nvPr/>
        </p:nvSpPr>
        <p:spPr>
          <a:xfrm>
            <a:off x="8610480" y="7300800"/>
            <a:ext cx="10000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EF3F-B203-4550-A421-285E2E50556D}" type="slidenum">
              <a:rPr b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009900"/>
                </a:solidFill>
                <a:latin typeface="Trebuchet MS"/>
              </a:rPr>
              <a:t> of 2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086600"/>
            <a:ext cx="10058400" cy="171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Delegating Outlook Permissions LM.png"/>
          <p:cNvPicPr/>
          <p:nvPr/>
        </p:nvPicPr>
        <p:blipFill>
          <a:blip r:embed="rId3"/>
          <a:stretch/>
        </p:blipFill>
        <p:spPr>
          <a:xfrm>
            <a:off x="0" y="219240"/>
            <a:ext cx="10058400" cy="941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urostil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77"/>
          <p:cNvSpPr/>
          <p:nvPr/>
        </p:nvSpPr>
        <p:spPr>
          <a:xfrm>
            <a:off x="458640" y="1447920"/>
            <a:ext cx="4341960" cy="23619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57200" y="182880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icrosof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utlook 2003 makes it possible to delegate one or more people to read and create items in your Outlook account and to respond to e-mail messages on your behalf. This can be useful if you receive a high volume of e-mail messages and have limited time to respond to each. Using this guide, you will learn how to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32"/>
          <p:cNvSpPr/>
          <p:nvPr/>
        </p:nvSpPr>
        <p:spPr>
          <a:xfrm>
            <a:off x="457200" y="3886200"/>
            <a:ext cx="43434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Add a Delegate</a:t>
            </a:r>
            <a:br>
              <a:rPr sz="16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en you add a delegate to your Outlook account, you share certain selected folders with that person and give him or her permission to take specific actions on your behalf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e thoughtful when providing delegate access to your Outlook folders. Provide access 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onl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o trusted source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457200" y="2622600"/>
            <a:ext cx="43434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90000" tIns="46800" bIns="46800" anchor="t">
            <a:spAutoFit/>
          </a:bodyPr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dd a Delegat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pen a Delegated Outlook Fold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nge Delegate Access Level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move a Delegat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457200" y="51116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19"/>
          <p:cNvSpPr/>
          <p:nvPr/>
        </p:nvSpPr>
        <p:spPr>
          <a:xfrm>
            <a:off x="458280" y="573552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37"/>
          <p:cNvSpPr/>
          <p:nvPr/>
        </p:nvSpPr>
        <p:spPr>
          <a:xfrm>
            <a:off x="628560" y="5181480"/>
            <a:ext cx="167652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menu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, click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legat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ab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 Box 43"/>
          <p:cNvSpPr/>
          <p:nvPr/>
        </p:nvSpPr>
        <p:spPr>
          <a:xfrm>
            <a:off x="457200" y="3352680"/>
            <a:ext cx="4343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or information on sharing calendars, see 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Get Started with Sharing Outlook Calendar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t 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insert your UR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44"/>
          <p:cNvSpPr/>
          <p:nvPr/>
        </p:nvSpPr>
        <p:spPr>
          <a:xfrm>
            <a:off x="458280" y="633420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47"/>
          <p:cNvSpPr/>
          <p:nvPr/>
        </p:nvSpPr>
        <p:spPr>
          <a:xfrm>
            <a:off x="5271480" y="146520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Picture 54" descr="Add delegate_cropped"/>
          <p:cNvPicPr/>
          <p:nvPr/>
        </p:nvPicPr>
        <p:blipFill>
          <a:blip r:embed="rId1"/>
          <a:stretch/>
        </p:blipFill>
        <p:spPr>
          <a:xfrm>
            <a:off x="2562120" y="5129280"/>
            <a:ext cx="2210040" cy="183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2" name="Text Box 55"/>
          <p:cNvSpPr/>
          <p:nvPr/>
        </p:nvSpPr>
        <p:spPr>
          <a:xfrm>
            <a:off x="5299200" y="1523880"/>
            <a:ext cx="182880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dd User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screen, select the name of your delegate and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When you are finished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legate Permiss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, determine the level of permissions for each delegat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y default, delegates have Editor permissions on your Calendar items and Tasks, and receive copies of your meeting-related messages. To modify these levels, or to add permissions for other Outlook categories, click the arrow next to the category and chose a level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61"/>
          <p:cNvSpPr/>
          <p:nvPr/>
        </p:nvSpPr>
        <p:spPr>
          <a:xfrm>
            <a:off x="5258880" y="343836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5257800" y="6095880"/>
            <a:ext cx="4343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automatically send an explanation of permissions to your delegate, select the check box 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legate Permiss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set up access so a delegate receives 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f your meeting requests and responses, and you receive none, select the check box at the bottom of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Picture 70" descr="changing access levels_scrubbed"/>
          <p:cNvPicPr/>
          <p:nvPr/>
        </p:nvPicPr>
        <p:blipFill>
          <a:blip r:embed="rId2"/>
          <a:stretch/>
        </p:blipFill>
        <p:spPr>
          <a:xfrm>
            <a:off x="7334280" y="3598920"/>
            <a:ext cx="2266920" cy="2068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6" name="Picture 73" descr="Add users 2_shortened_scrubbed_external"/>
          <p:cNvPicPr/>
          <p:nvPr/>
        </p:nvPicPr>
        <p:blipFill>
          <a:blip r:embed="rId3"/>
          <a:stretch/>
        </p:blipFill>
        <p:spPr>
          <a:xfrm>
            <a:off x="7286760" y="1343160"/>
            <a:ext cx="2305080" cy="1923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7" name="Picture 75" descr="DelagatePerms"/>
          <p:cNvPicPr/>
          <p:nvPr/>
        </p:nvPicPr>
        <p:blipFill>
          <a:blip r:embed="rId4"/>
          <a:stretch/>
        </p:blipFill>
        <p:spPr>
          <a:xfrm>
            <a:off x="457200" y="1424160"/>
            <a:ext cx="4343400" cy="325440"/>
          </a:xfrm>
          <a:prstGeom prst="rect">
            <a:avLst/>
          </a:prstGeom>
          <a:ln w="0">
            <a:noFill/>
          </a:ln>
        </p:spPr>
      </p:pic>
      <p:sp>
        <p:nvSpPr>
          <p:cNvPr id="98" name="TextBox 19"/>
          <p:cNvSpPr/>
          <p:nvPr/>
        </p:nvSpPr>
        <p:spPr>
          <a:xfrm>
            <a:off x="457200" y="728676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3"/>
          <p:cNvSpPr/>
          <p:nvPr/>
        </p:nvSpPr>
        <p:spPr>
          <a:xfrm>
            <a:off x="457200" y="1285920"/>
            <a:ext cx="43434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Open a Delegated Folder</a:t>
            </a:r>
            <a:br>
              <a:rPr sz="2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en someone has granted you delegate access, you may open that person’s Outlook folder from your own computer and begin your delegate responsibilities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457200" y="2362320"/>
            <a:ext cx="121932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l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menu, point to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ther User’s Fold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20"/>
          <p:cNvSpPr/>
          <p:nvPr/>
        </p:nvSpPr>
        <p:spPr>
          <a:xfrm>
            <a:off x="489960" y="357660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457200" y="5867280"/>
            <a:ext cx="434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489960" y="418932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489960" y="465300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457200" y="229248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457200" y="4267080"/>
            <a:ext cx="411480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the arrow next to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lder Typ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o select the folder to acces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The designated folder opens in a new window, replacing your own folder of that nam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457200" y="36576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ype the full name or alias of the person who granted you delegate access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o browse the Global Address List for the nam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5248440" y="1346040"/>
            <a:ext cx="43434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Change Delegate Access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ou may modify permissions for a delegate at any tim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5257800" y="2008080"/>
            <a:ext cx="434340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938"/>
              </a:spcBef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menu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38"/>
              </a:spcBef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legat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ab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38"/>
              </a:spcBef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lect the name of a delegate and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ermiss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38"/>
              </a:spcBef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or each Outlook folder or item you want to change for this delegate, open the menu and select a new permission level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38"/>
              </a:spcBef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en you are don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30"/>
          <p:cNvSpPr/>
          <p:nvPr/>
        </p:nvSpPr>
        <p:spPr>
          <a:xfrm>
            <a:off x="5248440" y="191304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5262120" y="222732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32"/>
          <p:cNvSpPr/>
          <p:nvPr/>
        </p:nvSpPr>
        <p:spPr>
          <a:xfrm>
            <a:off x="5271480" y="254016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33"/>
          <p:cNvSpPr/>
          <p:nvPr/>
        </p:nvSpPr>
        <p:spPr>
          <a:xfrm>
            <a:off x="5268240" y="285444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5268240" y="330516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35"/>
          <p:cNvSpPr/>
          <p:nvPr/>
        </p:nvSpPr>
        <p:spPr>
          <a:xfrm>
            <a:off x="5257800" y="4286160"/>
            <a:ext cx="335268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938"/>
              </a:spcBef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menu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38"/>
              </a:spcBef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legat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ab, select the Delegate name you wish to remov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38"/>
              </a:spcBef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38"/>
              </a:spcBef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5248440" y="419112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5262120" y="453240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5262120" y="496404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40"/>
          <p:cNvSpPr/>
          <p:nvPr/>
        </p:nvSpPr>
        <p:spPr>
          <a:xfrm>
            <a:off x="5271480" y="529416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41"/>
          <p:cNvSpPr/>
          <p:nvPr/>
        </p:nvSpPr>
        <p:spPr>
          <a:xfrm>
            <a:off x="5257800" y="3914640"/>
            <a:ext cx="19810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Remove a Deleg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42" descr="Other User Flyout 2"/>
          <p:cNvPicPr/>
          <p:nvPr/>
        </p:nvPicPr>
        <p:blipFill>
          <a:blip r:embed="rId1"/>
          <a:stretch/>
        </p:blipFill>
        <p:spPr>
          <a:xfrm>
            <a:off x="1752480" y="2400480"/>
            <a:ext cx="3048120" cy="1069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22" name="Text Box 46"/>
          <p:cNvSpPr/>
          <p:nvPr/>
        </p:nvSpPr>
        <p:spPr>
          <a:xfrm>
            <a:off x="457200" y="5410080"/>
            <a:ext cx="44956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To maintain access to your own Outlook folder as well as the delegated folder, before you begin the process above, right-click the specified folder (Inbox, Calendar, etc.) and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en in New Window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A second instance of the folder appears. Now apply the instructions above to this secondary window. Your original folder will be available while the delegated folder opens in the second window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Box 26"/>
          <p:cNvSpPr/>
          <p:nvPr/>
        </p:nvSpPr>
        <p:spPr>
          <a:xfrm>
            <a:off x="457200" y="729612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8:00:00Z</dcterms:created>
  <dc:creator/>
  <dc:description/>
  <dc:language>en-US</dc:language>
  <cp:lastModifiedBy/>
  <dcterms:modified xsi:type="dcterms:W3CDTF">2007-05-04T16:05:13Z</dcterms:modified>
  <cp:revision>3</cp:revision>
  <dc:subject/>
  <dc:title>Slide 1</dc:title>
</cp:coreProperties>
</file>