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4"/>
          <p:cNvSpPr/>
          <p:nvPr/>
        </p:nvSpPr>
        <p:spPr>
          <a:xfrm>
            <a:off x="9144000" y="7296120"/>
            <a:ext cx="503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27C-2D91-42CC-8C37-0933A8D768F7}" type="slidenum"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i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064280"/>
            <a:ext cx="10058400" cy="171720"/>
          </a:xfrm>
          <a:prstGeom prst="rect">
            <a:avLst/>
          </a:prstGeom>
          <a:ln w="0">
            <a:noFill/>
          </a:ln>
        </p:spPr>
      </p:pic>
      <p:sp>
        <p:nvSpPr>
          <p:cNvPr id="2" name="Footer Placeholder 3"/>
          <p:cNvSpPr/>
          <p:nvPr/>
        </p:nvSpPr>
        <p:spPr>
          <a:xfrm>
            <a:off x="457200" y="72644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9" descr="RSS (Really Simple Syndication).png"/>
          <p:cNvPicPr/>
          <p:nvPr/>
        </p:nvPicPr>
        <p:blipFill>
          <a:blip r:embed="rId3"/>
          <a:stretch/>
        </p:blipFill>
        <p:spPr>
          <a:xfrm>
            <a:off x="0" y="24444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y.msn.com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19"/>
          <p:cNvSpPr/>
          <p:nvPr/>
        </p:nvSpPr>
        <p:spPr>
          <a:xfrm>
            <a:off x="5303880" y="1460520"/>
            <a:ext cx="4297320" cy="35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What’s Simple About It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ll you have to do to subscribe to an RSS feed is click an RSS icon on a Web page. RSS software does the rest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SS feeds are identified by icons that have become widely used on the Web. One such icon is the one that appears above, next to the title of this topi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re are three other common RSS icons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software used to interpret the feeds is called an “RSS reader” or a “news reader” or a “news aggregator.” (“News reader” seems to be the most common term.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SS is made possible by XML coding, but you don’t need to understand XML to use RSS. All you need is a news reader that can understand RSS for you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 model is simple: a publisher makes content available in a format people can subscribe to. A news reader processes the subscription and displays the content in a way and time convenient to the subscrib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AutoShape 385"/>
          <p:cNvSpPr/>
          <p:nvPr/>
        </p:nvSpPr>
        <p:spPr>
          <a:xfrm>
            <a:off x="457200" y="1611360"/>
            <a:ext cx="4297320" cy="20001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127"/>
          <p:cNvSpPr/>
          <p:nvPr/>
        </p:nvSpPr>
        <p:spPr>
          <a:xfrm>
            <a:off x="457200" y="1874880"/>
            <a:ext cx="42973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SS is a method of publishing and distributing content on the Web. Because RSS is easy to subscribe to and easy to manage, it is a popular way to stay up-to-date on topics of interes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re are several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tools you can use to subscribe to RSS content, including Internet Explore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7, Window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Vista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SharePoi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rver 2007, and Microsof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fice Outlook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007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is guide, you’ll find general information about RSS, how it works, and how you can use i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394"/>
          <p:cNvSpPr/>
          <p:nvPr/>
        </p:nvSpPr>
        <p:spPr>
          <a:xfrm>
            <a:off x="457200" y="3924360"/>
            <a:ext cx="429732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What is RSS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SS originally meant “RDF Site Summary,” and then “Rich Site Summary.” Today, it’s usually understood as “Really Simple Syndication.” RSS is similar to traditional newspaper syndication—where one company creates a news article and many newspapers carry it—but updated for the Web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ith RSS, one company generates content on a Web site. They then create “feeds” that funnel this content to interested readers. Readers subscribe to these feeds to have the content delivered directly to them, in a way they can manage, rather than going to the site to find it. Typically, delivery includes a headline, a summary of the article, and a link to the full content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ink of having a newspaper delivered to your home or office every day instead of having to go to the newsstand. This ease of subscription is one of the chief benefits of RS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414" descr="RSS icon 4"/>
          <p:cNvPicPr/>
          <p:nvPr/>
        </p:nvPicPr>
        <p:blipFill>
          <a:blip r:embed="rId1"/>
          <a:stretch/>
        </p:blipFill>
        <p:spPr>
          <a:xfrm>
            <a:off x="7648560" y="150804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24" descr="RSS icon 5"/>
          <p:cNvPicPr/>
          <p:nvPr/>
        </p:nvPicPr>
        <p:blipFill>
          <a:blip r:embed="rId2"/>
          <a:stretch/>
        </p:blipFill>
        <p:spPr>
          <a:xfrm>
            <a:off x="1736640" y="3975120"/>
            <a:ext cx="304920" cy="142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26" descr="XML icon"/>
          <p:cNvPicPr/>
          <p:nvPr/>
        </p:nvPicPr>
        <p:blipFill>
          <a:blip r:embed="rId3"/>
          <a:stretch/>
        </p:blipFill>
        <p:spPr>
          <a:xfrm>
            <a:off x="7680240" y="3041640"/>
            <a:ext cx="343080" cy="13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7" descr="RSS icon3"/>
          <p:cNvPicPr/>
          <p:nvPr/>
        </p:nvPicPr>
        <p:blipFill>
          <a:blip r:embed="rId4"/>
          <a:stretch/>
        </p:blipFill>
        <p:spPr>
          <a:xfrm>
            <a:off x="6858000" y="3041640"/>
            <a:ext cx="41904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28" descr="RSS icon 5"/>
          <p:cNvPicPr/>
          <p:nvPr/>
        </p:nvPicPr>
        <p:blipFill>
          <a:blip r:embed="rId5"/>
          <a:stretch/>
        </p:blipFill>
        <p:spPr>
          <a:xfrm>
            <a:off x="6126120" y="3041640"/>
            <a:ext cx="3049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31"/>
          <p:cNvSpPr/>
          <p:nvPr/>
        </p:nvSpPr>
        <p:spPr>
          <a:xfrm>
            <a:off x="5303880" y="6446880"/>
            <a:ext cx="42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RSS subscription user interface in Internet Explorer 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432" descr="RSS About Box 3"/>
          <p:cNvPicPr/>
          <p:nvPr/>
        </p:nvPicPr>
        <p:blipFill>
          <a:blip r:embed="rId6"/>
          <a:stretch/>
        </p:blipFill>
        <p:spPr>
          <a:xfrm>
            <a:off x="479520" y="1512720"/>
            <a:ext cx="4265640" cy="3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4" descr="RSS_3_edited3"/>
          <p:cNvPicPr/>
          <p:nvPr/>
        </p:nvPicPr>
        <p:blipFill>
          <a:blip r:embed="rId7"/>
          <a:stretch/>
        </p:blipFill>
        <p:spPr>
          <a:xfrm>
            <a:off x="5394240" y="4983120"/>
            <a:ext cx="4210200" cy="133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8"/>
          <p:cNvSpPr/>
          <p:nvPr/>
        </p:nvSpPr>
        <p:spPr>
          <a:xfrm>
            <a:off x="449280" y="1463760"/>
            <a:ext cx="429732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Subscribing to RSS Cont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you have Internet Explorer 7, Outlook 2007, or SharePoint Server 2007, you can subscribe to RSS feeds. Each of these has built-in news reader functionality. You can also use Windows Vista to manage RSS content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ere are also many portal Web sites that let you customize a page with RSS content. An example of this is </a:t>
            </a:r>
            <a:r>
              <a:rPr b="0" lang="en-US" sz="1000" spc="-1" strike="noStrike" u="sng">
                <a:solidFill>
                  <a:srgbClr val="045096"/>
                </a:solidFill>
                <a:uFillTx/>
                <a:latin typeface="Tahoma"/>
                <a:hlinkClick r:id="rId1"/>
              </a:rPr>
              <a:t>http://my.msn.co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 These “create-your-own-page” sites may not use RSS icons or descriptions in providing you with content choices, but RSS is being used to create your pag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 find RSS feeds, look for RSS icons on your favorite sites, or search for “RSS Feeds” in your search engine. The RSS icon on the Internet Explorer 7 toolbar lights up when the browser identifies a site with an RSS feed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26" descr="Before"/>
          <p:cNvPicPr/>
          <p:nvPr/>
        </p:nvPicPr>
        <p:blipFill>
          <a:blip r:embed="rId2"/>
          <a:stretch/>
        </p:blipFill>
        <p:spPr>
          <a:xfrm>
            <a:off x="504720" y="4525920"/>
            <a:ext cx="1905120" cy="62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Picture 27" descr="After"/>
          <p:cNvPicPr/>
          <p:nvPr/>
        </p:nvPicPr>
        <p:blipFill>
          <a:blip r:embed="rId3"/>
          <a:stretch/>
        </p:blipFill>
        <p:spPr>
          <a:xfrm>
            <a:off x="2730600" y="4535640"/>
            <a:ext cx="1933560" cy="61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5" name="Text Box 28"/>
          <p:cNvSpPr/>
          <p:nvPr/>
        </p:nvSpPr>
        <p:spPr>
          <a:xfrm>
            <a:off x="457200" y="5821200"/>
            <a:ext cx="42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The RSS icon on the IE toolbar lights up when an RSS feed is identifie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29"/>
          <p:cNvSpPr/>
          <p:nvPr/>
        </p:nvSpPr>
        <p:spPr>
          <a:xfrm>
            <a:off x="879480" y="4776840"/>
            <a:ext cx="366840" cy="365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3146400" y="4786200"/>
            <a:ext cx="366840" cy="365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31"/>
          <p:cNvSpPr/>
          <p:nvPr/>
        </p:nvSpPr>
        <p:spPr>
          <a:xfrm>
            <a:off x="428760" y="5151600"/>
            <a:ext cx="63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4206960" y="5151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33"/>
          <p:cNvSpPr/>
          <p:nvPr/>
        </p:nvSpPr>
        <p:spPr>
          <a:xfrm>
            <a:off x="1179360" y="5132520"/>
            <a:ext cx="1289160" cy="658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34"/>
          <p:cNvSpPr/>
          <p:nvPr/>
        </p:nvSpPr>
        <p:spPr>
          <a:xfrm flipV="1">
            <a:off x="2743200" y="5151240"/>
            <a:ext cx="549360" cy="63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>Understand the value and uses for RSS within Office 2007 and Vista.</dc:description>
  <cp:keywords>get started;getting started;start;first steps;EPE;guide;guides;productivity;learn;help;self;how;tools;solutions;quick;training;resource</cp:keywords>
  <dc:language>en-US</dc:language>
  <cp:lastModifiedBy/>
  <dcterms:modified xsi:type="dcterms:W3CDTF">2007-05-04T17:00:51Z</dcterms:modified>
  <cp:revision>86</cp:revision>
  <dc:subject/>
  <dc:title>RSS (Really Simple Syndication)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Guide Title">
    <vt:lpwstr>RSS (Really Simple Syndication) Overview</vt:lpwstr>
  </property>
  <property fmtid="{D5CDD505-2E9C-101B-9397-08002B2CF9AE}" pid="7" name="Keywords">
    <vt:lpwstr>get started;getting started;start;first steps;EPE;guide;guides;productivity;learn;help;self;how;tools;solutions;quick;training;resource  </vt:lpwstr>
  </property>
  <property fmtid="{D5CDD505-2E9C-101B-9397-08002B2CF9AE}" pid="8" name="Notes0">
    <vt:lpwstr>All Done.</vt:lpwstr>
  </property>
  <property fmtid="{D5CDD505-2E9C-101B-9397-08002B2CF9AE}" pid="9" name="Order">
    <vt:lpwstr>17900.0000000000</vt:lpwstr>
  </property>
  <property fmtid="{D5CDD505-2E9C-101B-9397-08002B2CF9AE}" pid="10" name="Short Description">
    <vt:lpwstr>Understand the value and uses for RSS within the latest version of Microsoft Office and Windows Vista.</vt:lpwstr>
  </property>
  <property fmtid="{D5CDD505-2E9C-101B-9397-08002B2CF9AE}" pid="11" name="Slides">
    <vt:lpwstr>2</vt:lpwstr>
  </property>
  <property fmtid="{D5CDD505-2E9C-101B-9397-08002B2CF9AE}" pid="12" name="Subject">
    <vt:lpwstr/>
  </property>
  <property fmtid="{D5CDD505-2E9C-101B-9397-08002B2CF9AE}" pid="13" name="Writer">
    <vt:lpwstr>Robert Story</vt:lpwstr>
  </property>
  <property fmtid="{D5CDD505-2E9C-101B-9397-08002B2CF9AE}" pid="14" name="_Author">
    <vt:lpwstr/>
  </property>
  <property fmtid="{D5CDD505-2E9C-101B-9397-08002B2CF9AE}" pid="15" name="_Category">
    <vt:lpwstr/>
  </property>
  <property fmtid="{D5CDD505-2E9C-101B-9397-08002B2CF9AE}" pid="16" name="_Comments">
    <vt:lpwstr>Unserstand the value and uses for RSS within Office 2007 and Vista.  </vt:lpwstr>
  </property>
</Properties>
</file>