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5"/>
          <p:cNvSpPr/>
          <p:nvPr/>
        </p:nvSpPr>
        <p:spPr>
          <a:xfrm>
            <a:off x="9077400" y="739152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C7C9-04D9-4836-B769-D5580CE792BF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5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5320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353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8" descr="Windows Mobile Features and Security.png"/>
          <p:cNvPicPr/>
          <p:nvPr/>
        </p:nvPicPr>
        <p:blipFill>
          <a:blip r:embed="rId3"/>
          <a:stretch/>
        </p:blipFill>
        <p:spPr>
          <a:xfrm>
            <a:off x="0" y="22392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details.aspx?FamilyID=4c254e3f-79d5-4012-8793-d2d180a42dfa&amp;DisplayLang=en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85"/>
          <p:cNvSpPr/>
          <p:nvPr/>
        </p:nvSpPr>
        <p:spPr>
          <a:xfrm>
            <a:off x="457200" y="1442880"/>
            <a:ext cx="4297320" cy="28749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Text Box 376"/>
          <p:cNvSpPr/>
          <p:nvPr/>
        </p:nvSpPr>
        <p:spPr>
          <a:xfrm>
            <a:off x="533520" y="2886120"/>
            <a:ext cx="4297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ndows Mobile 5.0 MSFP Requirem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Install ActiveSync 4.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Configure Exchange ActiveSync using Your Compu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Configure Exchange ActiveSync using Your Devi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Use the Global Address Li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E-Mail Someone from the Global Address Li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Report Your Device Lost or Stol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Reset Your PI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127"/>
          <p:cNvSpPr/>
          <p:nvPr/>
        </p:nvSpPr>
        <p:spPr>
          <a:xfrm>
            <a:off x="457200" y="1773360"/>
            <a:ext cx="42973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Windows Mobil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5.0 MSFP (Messaging and Security Feature Pack) for SmartPhones and Pocket PC Phone Edition devices helps you to use mobile services and protect business informati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th the MSFP, now you can browse the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ddress book on your device and read e-mail protected by S/MIM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398"/>
          <p:cNvSpPr/>
          <p:nvPr/>
        </p:nvSpPr>
        <p:spPr>
          <a:xfrm>
            <a:off x="438120" y="4481640"/>
            <a:ext cx="42973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Windows Mobile 5.0 MSFP Requir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407"/>
          <p:cNvSpPr/>
          <p:nvPr/>
        </p:nvSpPr>
        <p:spPr>
          <a:xfrm>
            <a:off x="457200" y="5318280"/>
            <a:ext cx="429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This guide only applies Windows Mobile 5.0 users with version 14847 or higher pre-installed on their device. To find out what version you have installed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-1126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martPhone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Abo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-1126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PocketPC Phone Edition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System Ta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Abou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421"/>
          <p:cNvSpPr/>
          <p:nvPr/>
        </p:nvSpPr>
        <p:spPr>
          <a:xfrm>
            <a:off x="465120" y="267480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pics in this guide includ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423"/>
          <p:cNvSpPr/>
          <p:nvPr/>
        </p:nvSpPr>
        <p:spPr>
          <a:xfrm>
            <a:off x="5303880" y="2346480"/>
            <a:ext cx="427824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: </a:t>
            </a:r>
            <a:r>
              <a:rPr b="0" lang="en-US" sz="1000" spc="-1" strike="noStrike" u="sng">
                <a:solidFill>
                  <a:srgbClr val="045096"/>
                </a:solidFill>
                <a:uFillTx/>
                <a:latin typeface="Tahoma"/>
                <a:hlinkClick r:id="rId1"/>
              </a:rPr>
              <a:t>http://www.microsoft.com/downloads/details.aspx?FamilyID=4c254e3f-79d5-4012-8793-d2d180a42dfa&amp;DisplayLang=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s in This Downloa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up.ex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Download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 Explorer – Security Warn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alog box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424"/>
          <p:cNvSpPr/>
          <p:nvPr/>
        </p:nvSpPr>
        <p:spPr>
          <a:xfrm>
            <a:off x="5284800" y="1763640"/>
            <a:ext cx="4278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will need to have ActiveSync 4.1 installed on your computer if you want to configure Exchange ActiveSync using your comput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425"/>
          <p:cNvSpPr/>
          <p:nvPr/>
        </p:nvSpPr>
        <p:spPr>
          <a:xfrm>
            <a:off x="5275440" y="2330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426"/>
          <p:cNvSpPr/>
          <p:nvPr/>
        </p:nvSpPr>
        <p:spPr>
          <a:xfrm>
            <a:off x="5299200" y="2954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427"/>
          <p:cNvSpPr/>
          <p:nvPr/>
        </p:nvSpPr>
        <p:spPr>
          <a:xfrm>
            <a:off x="5284800" y="1397160"/>
            <a:ext cx="42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Install ActiveSync 4.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428"/>
          <p:cNvSpPr/>
          <p:nvPr/>
        </p:nvSpPr>
        <p:spPr>
          <a:xfrm>
            <a:off x="5297400" y="38098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429" descr="AS1"/>
          <p:cNvPicPr/>
          <p:nvPr/>
        </p:nvPicPr>
        <p:blipFill>
          <a:blip r:embed="rId2"/>
          <a:stretch/>
        </p:blipFill>
        <p:spPr>
          <a:xfrm>
            <a:off x="7572240" y="3871800"/>
            <a:ext cx="2000520" cy="153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" name="Rectangle 430"/>
          <p:cNvSpPr/>
          <p:nvPr/>
        </p:nvSpPr>
        <p:spPr>
          <a:xfrm>
            <a:off x="5303880" y="3840120"/>
            <a:ext cx="223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icrosoft ActiveSync 4.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zar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36"/>
          <p:cNvSpPr/>
          <p:nvPr/>
        </p:nvSpPr>
        <p:spPr>
          <a:xfrm>
            <a:off x="5303880" y="5587920"/>
            <a:ext cx="42973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cense Agree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 accept the terms in the license agree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er Inform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type you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r 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rganiz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437"/>
          <p:cNvSpPr/>
          <p:nvPr/>
        </p:nvSpPr>
        <p:spPr>
          <a:xfrm>
            <a:off x="5313240" y="562464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438"/>
          <p:cNvSpPr/>
          <p:nvPr/>
        </p:nvSpPr>
        <p:spPr>
          <a:xfrm>
            <a:off x="5303880" y="60991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441"/>
          <p:cNvSpPr/>
          <p:nvPr/>
        </p:nvSpPr>
        <p:spPr>
          <a:xfrm>
            <a:off x="380880" y="4762440"/>
            <a:ext cx="441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hange Server must be running Exchange Server 2003 Service Pack 2 or higher to support the messaging and security features mentioned in this guid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442" descr="AboutWindowsMobileMSFP"/>
          <p:cNvPicPr/>
          <p:nvPr/>
        </p:nvPicPr>
        <p:blipFill>
          <a:blip r:embed="rId3"/>
          <a:stretch/>
        </p:blipFill>
        <p:spPr>
          <a:xfrm>
            <a:off x="452520" y="1419120"/>
            <a:ext cx="429552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8"/>
          <p:cNvSpPr/>
          <p:nvPr/>
        </p:nvSpPr>
        <p:spPr>
          <a:xfrm>
            <a:off x="446040" y="1457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49"/>
          <p:cNvSpPr/>
          <p:nvPr/>
        </p:nvSpPr>
        <p:spPr>
          <a:xfrm>
            <a:off x="438120" y="19335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0720" y="3373560"/>
            <a:ext cx="429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t Connect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zard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ynchronization Setup Wiza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isplays. This wizard helps you to connect your device to the Exchange server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ynchronize directly with a serv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the check box f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ynchronize directly with a server running Microsoft Exchange Serv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28760" y="33526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34880" y="369900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3"/>
          <p:cNvSpPr/>
          <p:nvPr/>
        </p:nvSpPr>
        <p:spPr>
          <a:xfrm>
            <a:off x="439560" y="417816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450720" y="2905200"/>
            <a:ext cx="430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figure Exchange ActiveSync using Your Compu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55"/>
          <p:cNvSpPr/>
          <p:nvPr/>
        </p:nvSpPr>
        <p:spPr>
          <a:xfrm>
            <a:off x="466560" y="1441440"/>
            <a:ext cx="4297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stination Fold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ccept the default folder. Then clic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Instal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the installation is comple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You will be prompted to restart your machin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457200" y="4835520"/>
            <a:ext cx="180972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xchange server credentia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type your Exchange server addres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rver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 Type your user name, password, and domain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gon Credential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.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act your network administrator for your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hange server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60" descr="AS6"/>
          <p:cNvPicPr/>
          <p:nvPr/>
        </p:nvPicPr>
        <p:blipFill>
          <a:blip r:embed="rId1"/>
          <a:stretch/>
        </p:blipFill>
        <p:spPr>
          <a:xfrm>
            <a:off x="7042320" y="1495440"/>
            <a:ext cx="2558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9" name="Text Box 61"/>
          <p:cNvSpPr/>
          <p:nvPr/>
        </p:nvSpPr>
        <p:spPr>
          <a:xfrm>
            <a:off x="5311800" y="1482840"/>
            <a:ext cx="166536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ynchronization 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select the information you want to synchronize with your devic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62"/>
          <p:cNvSpPr/>
          <p:nvPr/>
        </p:nvSpPr>
        <p:spPr>
          <a:xfrm>
            <a:off x="423720" y="4805280"/>
            <a:ext cx="42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63"/>
          <p:cNvSpPr/>
          <p:nvPr/>
        </p:nvSpPr>
        <p:spPr>
          <a:xfrm>
            <a:off x="5283360" y="14508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4"/>
          <p:cNvSpPr/>
          <p:nvPr/>
        </p:nvSpPr>
        <p:spPr>
          <a:xfrm>
            <a:off x="5313240" y="3940200"/>
            <a:ext cx="282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 Exchange Server Alert is displayed on your phon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ccept the polic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5292720" y="39211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67" descr="WM_6"/>
          <p:cNvPicPr/>
          <p:nvPr/>
        </p:nvPicPr>
        <p:blipFill>
          <a:blip r:embed="rId2"/>
          <a:stretch/>
        </p:blipFill>
        <p:spPr>
          <a:xfrm>
            <a:off x="8312040" y="5270400"/>
            <a:ext cx="1255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5" name="Text Box 68"/>
          <p:cNvSpPr/>
          <p:nvPr/>
        </p:nvSpPr>
        <p:spPr>
          <a:xfrm>
            <a:off x="5303880" y="52228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9"/>
          <p:cNvSpPr/>
          <p:nvPr/>
        </p:nvSpPr>
        <p:spPr>
          <a:xfrm>
            <a:off x="5299920" y="5248440"/>
            <a:ext cx="264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date Requir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70"/>
          <p:cNvSpPr/>
          <p:nvPr/>
        </p:nvSpPr>
        <p:spPr>
          <a:xfrm>
            <a:off x="457200" y="2308320"/>
            <a:ext cx="429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fter your computer restarts,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t Connect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zard displays. Follow the instructions below to connect your devi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71" descr="Alert1"/>
          <p:cNvPicPr/>
          <p:nvPr/>
        </p:nvPicPr>
        <p:blipFill>
          <a:blip r:embed="rId3"/>
          <a:stretch/>
        </p:blipFill>
        <p:spPr>
          <a:xfrm>
            <a:off x="8308800" y="3613320"/>
            <a:ext cx="1262160" cy="1574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79" name="Group 78"/>
          <p:cNvGrpSpPr/>
          <p:nvPr/>
        </p:nvGrpSpPr>
        <p:grpSpPr>
          <a:xfrm>
            <a:off x="2316240" y="4879800"/>
            <a:ext cx="2400120" cy="1874880"/>
            <a:chOff x="2316240" y="4879800"/>
            <a:chExt cx="2400120" cy="1874880"/>
          </a:xfrm>
        </p:grpSpPr>
        <p:grpSp>
          <p:nvGrpSpPr>
            <p:cNvPr id="80" name="Group 75"/>
            <p:cNvGrpSpPr/>
            <p:nvPr/>
          </p:nvGrpSpPr>
          <p:grpSpPr>
            <a:xfrm>
              <a:off x="2316240" y="4879800"/>
              <a:ext cx="2400120" cy="1874880"/>
              <a:chOff x="2316240" y="4879800"/>
              <a:chExt cx="2400120" cy="1874880"/>
            </a:xfrm>
          </p:grpSpPr>
          <p:pic>
            <p:nvPicPr>
              <p:cNvPr id="81" name="Picture 58" descr="AS5"/>
              <p:cNvPicPr/>
              <p:nvPr/>
            </p:nvPicPr>
            <p:blipFill>
              <a:blip r:embed="rId4"/>
              <a:stretch/>
            </p:blipFill>
            <p:spPr>
              <a:xfrm>
                <a:off x="2316240" y="4879800"/>
                <a:ext cx="2400120" cy="18748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82" name="Rectangle 73"/>
              <p:cNvSpPr/>
              <p:nvPr/>
            </p:nvSpPr>
            <p:spPr>
              <a:xfrm>
                <a:off x="2909880" y="6114960"/>
                <a:ext cx="237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3" name="Text Box 77"/>
            <p:cNvSpPr/>
            <p:nvPr/>
          </p:nvSpPr>
          <p:spPr>
            <a:xfrm>
              <a:off x="2824200" y="6075360"/>
              <a:ext cx="4525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Tahoma"/>
                </a:rPr>
                <a:t>Domain</a:t>
              </a:r>
              <a:endParaRPr b="0" lang="en-US" sz="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1"/>
          <p:cNvSpPr/>
          <p:nvPr/>
        </p:nvSpPr>
        <p:spPr>
          <a:xfrm>
            <a:off x="457200" y="1486080"/>
            <a:ext cx="2830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word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enter a PIN that complies with your corporate password guidelines. Reenter the password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firm 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449280" y="3252960"/>
            <a:ext cx="429732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figure Exchange ActiveSync using Your Dev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efore you download e-mail and data to your device, you need to configure the Exchange server settings on your devic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o configure Exchange ActiveSync on your device, you must have a data connection set up through your mobile phone service provi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490680" y="4635360"/>
            <a:ext cx="42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tiveSyn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n your devic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Server Sour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28760" y="46069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438120" y="4940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434880" y="530532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48"/>
          <p:cNvSpPr/>
          <p:nvPr/>
        </p:nvSpPr>
        <p:spPr>
          <a:xfrm>
            <a:off x="5313240" y="145404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9" descr="Mobile3"/>
          <p:cNvPicPr/>
          <p:nvPr/>
        </p:nvPicPr>
        <p:blipFill>
          <a:blip r:embed="rId1"/>
          <a:stretch/>
        </p:blipFill>
        <p:spPr>
          <a:xfrm>
            <a:off x="3510000" y="5343480"/>
            <a:ext cx="1212840" cy="151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Rectangle 50"/>
          <p:cNvSpPr/>
          <p:nvPr/>
        </p:nvSpPr>
        <p:spPr>
          <a:xfrm>
            <a:off x="490680" y="5337000"/>
            <a:ext cx="2835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Server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rver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your e-mail server addres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act your network administrator for your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hange server nam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52"/>
          <p:cNvSpPr/>
          <p:nvPr/>
        </p:nvSpPr>
        <p:spPr>
          <a:xfrm>
            <a:off x="5303880" y="1481040"/>
            <a:ext cx="276228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r Inform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ser 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your alias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your password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your domain.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 box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select the items that you want synchronized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 Exchange Server Alert is displayed on your phon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ccept the polic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53"/>
          <p:cNvSpPr/>
          <p:nvPr/>
        </p:nvSpPr>
        <p:spPr>
          <a:xfrm>
            <a:off x="5292720" y="25779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59"/>
          <p:cNvSpPr/>
          <p:nvPr/>
        </p:nvSpPr>
        <p:spPr>
          <a:xfrm>
            <a:off x="447840" y="14526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60" descr="WM_7"/>
          <p:cNvPicPr/>
          <p:nvPr/>
        </p:nvPicPr>
        <p:blipFill>
          <a:blip r:embed="rId2"/>
          <a:stretch/>
        </p:blipFill>
        <p:spPr>
          <a:xfrm>
            <a:off x="3444840" y="1487520"/>
            <a:ext cx="1273320" cy="159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7" name="Text Box 64"/>
          <p:cNvSpPr/>
          <p:nvPr/>
        </p:nvSpPr>
        <p:spPr>
          <a:xfrm>
            <a:off x="5284800" y="33829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66" descr="WM_6"/>
          <p:cNvPicPr/>
          <p:nvPr/>
        </p:nvPicPr>
        <p:blipFill>
          <a:blip r:embed="rId3"/>
          <a:stretch/>
        </p:blipFill>
        <p:spPr>
          <a:xfrm>
            <a:off x="8345520" y="5211720"/>
            <a:ext cx="1255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9" name="Text Box 67"/>
          <p:cNvSpPr/>
          <p:nvPr/>
        </p:nvSpPr>
        <p:spPr>
          <a:xfrm>
            <a:off x="5289480" y="55627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68"/>
          <p:cNvSpPr/>
          <p:nvPr/>
        </p:nvSpPr>
        <p:spPr>
          <a:xfrm>
            <a:off x="5303880" y="5584680"/>
            <a:ext cx="264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date Requir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71" descr="Alert2"/>
          <p:cNvPicPr/>
          <p:nvPr/>
        </p:nvPicPr>
        <p:blipFill>
          <a:blip r:embed="rId4"/>
          <a:stretch/>
        </p:blipFill>
        <p:spPr>
          <a:xfrm>
            <a:off x="8350200" y="3308400"/>
            <a:ext cx="1262160" cy="157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2" name="Group 75"/>
          <p:cNvGrpSpPr/>
          <p:nvPr/>
        </p:nvGrpSpPr>
        <p:grpSpPr>
          <a:xfrm>
            <a:off x="8362800" y="1515960"/>
            <a:ext cx="1212840" cy="1463760"/>
            <a:chOff x="8362800" y="1515960"/>
            <a:chExt cx="1212840" cy="1463760"/>
          </a:xfrm>
        </p:grpSpPr>
        <p:grpSp>
          <p:nvGrpSpPr>
            <p:cNvPr id="103" name="Group 73"/>
            <p:cNvGrpSpPr/>
            <p:nvPr/>
          </p:nvGrpSpPr>
          <p:grpSpPr>
            <a:xfrm>
              <a:off x="8405640" y="1515960"/>
              <a:ext cx="1170000" cy="1463760"/>
              <a:chOff x="8405640" y="1515960"/>
              <a:chExt cx="1170000" cy="1463760"/>
            </a:xfrm>
          </p:grpSpPr>
          <p:pic>
            <p:nvPicPr>
              <p:cNvPr id="104" name="Picture 70" descr="Mobile4"/>
              <p:cNvPicPr/>
              <p:nvPr/>
            </p:nvPicPr>
            <p:blipFill>
              <a:blip r:embed="rId5"/>
              <a:stretch/>
            </p:blipFill>
            <p:spPr>
              <a:xfrm>
                <a:off x="8405640" y="1515960"/>
                <a:ext cx="1170000" cy="1463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105" name="Rectangle 72"/>
              <p:cNvSpPr/>
              <p:nvPr/>
            </p:nvSpPr>
            <p:spPr>
              <a:xfrm>
                <a:off x="8439120" y="2381400"/>
                <a:ext cx="34308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6" name="Text Box 74"/>
            <p:cNvSpPr/>
            <p:nvPr/>
          </p:nvSpPr>
          <p:spPr>
            <a:xfrm>
              <a:off x="8362800" y="2343240"/>
              <a:ext cx="581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ahoma"/>
                </a:rPr>
                <a:t>Domain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8"/>
          <p:cNvSpPr/>
          <p:nvPr/>
        </p:nvSpPr>
        <p:spPr>
          <a:xfrm>
            <a:off x="457200" y="1469880"/>
            <a:ext cx="2830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word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enter a PIN that complies with your corporate password guidelines. Reenter the password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firm passwo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438120" y="14508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5" descr="WM_7"/>
          <p:cNvPicPr/>
          <p:nvPr/>
        </p:nvPicPr>
        <p:blipFill>
          <a:blip r:embed="rId1"/>
          <a:stretch/>
        </p:blipFill>
        <p:spPr>
          <a:xfrm>
            <a:off x="3433680" y="1498680"/>
            <a:ext cx="1273320" cy="159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Text Box 37"/>
          <p:cNvSpPr/>
          <p:nvPr/>
        </p:nvSpPr>
        <p:spPr>
          <a:xfrm>
            <a:off x="5292720" y="1486080"/>
            <a:ext cx="27432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a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to Contac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add the person to your contacts li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457200" y="3259080"/>
            <a:ext cx="42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the Global Address 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466560" y="3587760"/>
            <a:ext cx="430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search the Global Address List (GAL) and add anyone to the contacts on your devi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450720" y="404496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463680" y="43768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465120" y="473220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471600" y="5840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03880" y="14414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5" descr="Mobile1"/>
          <p:cNvPicPr/>
          <p:nvPr/>
        </p:nvPicPr>
        <p:blipFill>
          <a:blip r:embed="rId2"/>
          <a:stretch/>
        </p:blipFill>
        <p:spPr>
          <a:xfrm>
            <a:off x="3355920" y="4776840"/>
            <a:ext cx="13892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9" name="Rectangle 46"/>
          <p:cNvSpPr/>
          <p:nvPr/>
        </p:nvSpPr>
        <p:spPr>
          <a:xfrm>
            <a:off x="476280" y="4075200"/>
            <a:ext cx="429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home page of your devic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ac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3402000" y="6240600"/>
            <a:ext cx="639720" cy="3650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8" descr="Mobile2"/>
          <p:cNvPicPr/>
          <p:nvPr/>
        </p:nvPicPr>
        <p:blipFill>
          <a:blip r:embed="rId3"/>
          <a:stretch/>
        </p:blipFill>
        <p:spPr>
          <a:xfrm>
            <a:off x="8211960" y="1508040"/>
            <a:ext cx="13892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2" name="Oval 49"/>
          <p:cNvSpPr/>
          <p:nvPr/>
        </p:nvSpPr>
        <p:spPr>
          <a:xfrm>
            <a:off x="8437680" y="2513160"/>
            <a:ext cx="1006200" cy="3664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0"/>
          <p:cNvSpPr/>
          <p:nvPr/>
        </p:nvSpPr>
        <p:spPr>
          <a:xfrm>
            <a:off x="457200" y="4718160"/>
            <a:ext cx="2881440" cy="18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person’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-mail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 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(If your search turns up more than 100 results, you will get a message notifying you that only 100 results can be displayed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in the search results, highlight the person’s name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see more information about the pers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1"/>
          <p:cNvSpPr/>
          <p:nvPr/>
        </p:nvSpPr>
        <p:spPr>
          <a:xfrm>
            <a:off x="5292720" y="3497400"/>
            <a:ext cx="4292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E-Mail Someone from the Global Address 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2"/>
          <p:cNvSpPr/>
          <p:nvPr/>
        </p:nvSpPr>
        <p:spPr>
          <a:xfrm>
            <a:off x="5303880" y="382896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294160" y="4294080"/>
            <a:ext cx="1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Group 54"/>
          <p:cNvGrpSpPr/>
          <p:nvPr/>
        </p:nvGrpSpPr>
        <p:grpSpPr>
          <a:xfrm>
            <a:off x="7983360" y="4336920"/>
            <a:ext cx="1617480" cy="1987560"/>
            <a:chOff x="7983360" y="4336920"/>
            <a:chExt cx="1617480" cy="1987560"/>
          </a:xfrm>
        </p:grpSpPr>
        <p:pic>
          <p:nvPicPr>
            <p:cNvPr id="128" name="Picture 55" descr="Mobile5"/>
            <p:cNvPicPr/>
            <p:nvPr/>
          </p:nvPicPr>
          <p:blipFill>
            <a:blip r:embed="rId4"/>
            <a:stretch/>
          </p:blipFill>
          <p:spPr>
            <a:xfrm>
              <a:off x="8076240" y="4336920"/>
              <a:ext cx="1524600" cy="198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29" name="Oval 56"/>
            <p:cNvSpPr/>
            <p:nvPr/>
          </p:nvSpPr>
          <p:spPr>
            <a:xfrm>
              <a:off x="7983360" y="4448160"/>
              <a:ext cx="345600" cy="45180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Oval 57"/>
            <p:cNvSpPr/>
            <p:nvPr/>
          </p:nvSpPr>
          <p:spPr>
            <a:xfrm>
              <a:off x="8613360" y="4868640"/>
              <a:ext cx="778680" cy="27108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Text Box 58"/>
          <p:cNvSpPr/>
          <p:nvPr/>
        </p:nvSpPr>
        <p:spPr>
          <a:xfrm>
            <a:off x="5303880" y="3816360"/>
            <a:ext cx="4297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home page of your devic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utlook E-Mai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erify the cursor i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Recipi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5"/>
          <p:cNvSpPr/>
          <p:nvPr/>
        </p:nvSpPr>
        <p:spPr>
          <a:xfrm>
            <a:off x="457200" y="147492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439560" y="1450800"/>
            <a:ext cx="11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Group 34"/>
          <p:cNvGrpSpPr/>
          <p:nvPr/>
        </p:nvGrpSpPr>
        <p:grpSpPr>
          <a:xfrm>
            <a:off x="3219480" y="1508040"/>
            <a:ext cx="1535040" cy="1919160"/>
            <a:chOff x="3219480" y="1508040"/>
            <a:chExt cx="1535040" cy="1919160"/>
          </a:xfrm>
        </p:grpSpPr>
        <p:pic>
          <p:nvPicPr>
            <p:cNvPr id="135" name="Picture 35" descr="Mobile6"/>
            <p:cNvPicPr/>
            <p:nvPr/>
          </p:nvPicPr>
          <p:blipFill>
            <a:blip r:embed="rId1"/>
            <a:stretch/>
          </p:blipFill>
          <p:spPr>
            <a:xfrm>
              <a:off x="3219480" y="1508040"/>
              <a:ext cx="1535040" cy="1919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36" name="Oval 36"/>
            <p:cNvSpPr/>
            <p:nvPr/>
          </p:nvSpPr>
          <p:spPr>
            <a:xfrm>
              <a:off x="3749760" y="1965240"/>
              <a:ext cx="1004760" cy="3650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" name="Text Box 37"/>
          <p:cNvSpPr/>
          <p:nvPr/>
        </p:nvSpPr>
        <p:spPr>
          <a:xfrm>
            <a:off x="438120" y="1781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438120" y="3008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457200" y="1809720"/>
            <a:ext cx="26496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 Onlin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recipient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-mail addr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 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r search turns up more than 100 results, you will get a message notifying you that only 100 results can be display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a Conta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search results, highlight the recipients name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n proceed with drafting and sending your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nchronize your mobile device with your Exchange server to complete sending the e-mail mess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414360" y="4889520"/>
            <a:ext cx="4297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Reset Your PIN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forget your PIN number, you will need to reformat your device and resynchronize with your Exchange 2007 server. Se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Configure Exchange ActiveSync using Your Devi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this guide. You will be prompted to create a new PIN the first time your device is synchronized with Exchang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46040" y="37623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457200" y="438624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f Exchange ActiveSync is configured to send outgoing items immediately, step 6 will not be necessa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>Learn to install and use the Messaging and Security Feature Pack available for Windows Mobile 5.0 devices.</dc:description>
  <cp:keywords>EPE;guide;guides;productivity;learn;help;self;how;tools;solutions;quick;training;resource;get started;getting started;start;first steps;MSFP;Messaging and Security Feature Pack;Windows Mobile;SmartPhone;Pocket PC;Pocket PC Phone Edition;ActiveSync;Active Sync</cp:keywords>
  <dc:language>en-US</dc:language>
  <cp:lastModifiedBy/>
  <dcterms:modified xsi:type="dcterms:W3CDTF">2007-05-04T17:47:52Z</dcterms:modified>
  <cp:revision>435</cp:revision>
  <dc:subject/>
  <dc:title>Get Started with Windows Mobile 5.0 MSFP</dc:title>
</cp:coreProperties>
</file>