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72835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5f5f5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6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16840"/>
            <a:ext cx="10058400" cy="171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7" descr="Secure Your Network Access BP.png"/>
          <p:cNvPicPr/>
          <p:nvPr/>
        </p:nvPicPr>
        <p:blipFill>
          <a:blip r:embed="rId3"/>
          <a:stretch/>
        </p:blipFill>
        <p:spPr>
          <a:xfrm>
            <a:off x="0" y="246240"/>
            <a:ext cx="1005840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16840"/>
            <a:ext cx="10058400" cy="1713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7" descr="Secure Your Network Access BP.png"/>
          <p:cNvPicPr/>
          <p:nvPr/>
        </p:nvPicPr>
        <p:blipFill>
          <a:blip r:embed="rId3"/>
          <a:stretch/>
        </p:blipFill>
        <p:spPr>
          <a:xfrm>
            <a:off x="0" y="246240"/>
            <a:ext cx="10058400" cy="9428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457200" y="728352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7"/>
          <p:cNvSpPr/>
          <p:nvPr/>
        </p:nvSpPr>
        <p:spPr>
          <a:xfrm>
            <a:off x="452520" y="1733400"/>
            <a:ext cx="4348080" cy="998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1"/>
          <p:cNvSpPr/>
          <p:nvPr/>
        </p:nvSpPr>
        <p:spPr>
          <a:xfrm>
            <a:off x="468360" y="2916360"/>
            <a:ext cx="4343400" cy="14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Use Remote Access Service (RA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Properly</a:t>
            </a:r>
            <a:br>
              <a:rPr sz="16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ith RAS, you can access your corporate network from an external source such as the Internet or a phone line. When you use RAS, you must ensure a secure connection in order to protect the corporate network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2"/>
          <p:cNvSpPr/>
          <p:nvPr/>
        </p:nvSpPr>
        <p:spPr>
          <a:xfrm>
            <a:off x="5261040" y="1490760"/>
            <a:ext cx="43434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Use Smart Cards Properly</a:t>
            </a:r>
            <a:br>
              <a:rPr sz="19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 smart card has a chip with identifying information embedded in it.  Some companies that allow remote access use them to provide an extra level of security when connecting to the corporate networ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4"/>
          <p:cNvSpPr/>
          <p:nvPr/>
        </p:nvSpPr>
        <p:spPr>
          <a:xfrm>
            <a:off x="468360" y="3873600"/>
            <a:ext cx="44816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5360" indent="-22536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Use RAS only when necessary.</a:t>
            </a:r>
            <a:br>
              <a:rPr sz="16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on’t use RAS only to check your e-mail. Instead, consider Outlook Web Access (OWA) or RPC over HTTP. Save RAS for those who need 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Do not share credentials or network connections</a:t>
            </a:r>
            <a:br>
              <a:rPr sz="19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on’t share credentials or network connections with family members or other people, even your coworker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3"/>
          <p:cNvSpPr/>
          <p:nvPr/>
        </p:nvSpPr>
        <p:spPr>
          <a:xfrm>
            <a:off x="5489640" y="5072040"/>
            <a:ext cx="4119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457200" y="1898640"/>
            <a:ext cx="4348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event unauthorized network access to maintain corporate security. By securing your network access, you help protect your company from a virus attack, loss of intellectual property, or even network failure. With your help, the chance of unauthorized access to the corporate network can be significantly reduc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78" descr="SecuringYourNetworkAccess_BP"/>
          <p:cNvPicPr/>
          <p:nvPr/>
        </p:nvPicPr>
        <p:blipFill>
          <a:blip r:embed="rId1"/>
          <a:stretch/>
        </p:blipFill>
        <p:spPr>
          <a:xfrm>
            <a:off x="457200" y="1506600"/>
            <a:ext cx="4343400" cy="3254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0"/>
          <p:cNvSpPr/>
          <p:nvPr/>
        </p:nvSpPr>
        <p:spPr>
          <a:xfrm>
            <a:off x="5240160" y="2394000"/>
            <a:ext cx="4294440" cy="26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437"/>
              </a:spcBef>
              <a:buClr>
                <a:srgbClr val="00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Protect your smart card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tect your smart card and never allow anyone else to use 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37"/>
              </a:spcBef>
              <a:buClr>
                <a:srgbClr val="00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Protect your smart card PIN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ever write down your smart card PIN or reveal it to another.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37"/>
              </a:spcBef>
              <a:buClr>
                <a:srgbClr val="00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Do not modify your smart card contents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ly your IT department may use applications or tools to modify the content on smart cards or to add credentials to the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37"/>
              </a:spcBef>
              <a:buClr>
                <a:srgbClr val="00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Report your lost or stolen smart card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t is your responsibility to protect your smart card and report stolen or lost smart cards to your IT department immediatel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mportant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mart cards may also allow building access, so reporting their loss is cruci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16:03:12Z</dcterms:created>
  <dc:creator>IT Productivity</dc:creator>
  <dc:description>Prevent unauthorized network access by protecting your smart card and network credentials.</dc:description>
  <cp:keywords>EPE;guide;guides;productivity;learn;help;self;how;tools;solutions;quick;training;resource;best practices;best practice;network access;securing network access;</cp:keywords>
  <dc:language>en-US</dc:language>
  <cp:lastModifiedBy>Jim Bevan</cp:lastModifiedBy>
  <dcterms:modified xsi:type="dcterms:W3CDTF">2007-05-04T17:03:39Z</dcterms:modified>
  <cp:revision>172</cp:revision>
  <dc:subject/>
  <dc:title>Secure Your Network Access Best Practi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tatus/Notes">
    <vt:lpwstr>;#Done;#Check Screenshots;#</vt:lpwstr>
  </property>
</Properties>
</file>