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98"/>
          <p:cNvSpPr/>
          <p:nvPr/>
        </p:nvSpPr>
        <p:spPr>
          <a:xfrm>
            <a:off x="8742240" y="7386480"/>
            <a:ext cx="1182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78D-F9F4-4D4B-A0B4-0774D221FC79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0568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3058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SitesWorkspacesSG.jpg"/>
          <p:cNvPicPr/>
          <p:nvPr/>
        </p:nvPicPr>
        <p:blipFill>
          <a:blip r:embed="rId3"/>
          <a:stretch/>
        </p:blipFill>
        <p:spPr>
          <a:xfrm>
            <a:off x="0" y="2588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80"/>
          <p:cNvSpPr/>
          <p:nvPr/>
        </p:nvSpPr>
        <p:spPr>
          <a:xfrm>
            <a:off x="7661160" y="6269040"/>
            <a:ext cx="18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eeting participants must be aware of the site and its lo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579"/>
          <p:cNvSpPr/>
          <p:nvPr/>
        </p:nvSpPr>
        <p:spPr>
          <a:xfrm>
            <a:off x="5832360" y="626904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eview and editing of documents requires corporate network acce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578"/>
          <p:cNvSpPr/>
          <p:nvPr/>
        </p:nvSpPr>
        <p:spPr>
          <a:xfrm>
            <a:off x="3751200" y="6269040"/>
            <a:ext cx="20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Keeping content current and useable may require a site manag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577"/>
          <p:cNvSpPr/>
          <p:nvPr/>
        </p:nvSpPr>
        <p:spPr>
          <a:xfrm>
            <a:off x="1833480" y="6269040"/>
            <a:ext cx="191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section is viewable to all users with corporate network acce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576"/>
          <p:cNvSpPr/>
          <p:nvPr/>
        </p:nvSpPr>
        <p:spPr>
          <a:xfrm>
            <a:off x="455760" y="6269040"/>
            <a:ext cx="1368360" cy="303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570"/>
          <p:cNvSpPr/>
          <p:nvPr/>
        </p:nvSpPr>
        <p:spPr>
          <a:xfrm>
            <a:off x="7661160" y="4616280"/>
            <a:ext cx="18432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ables workspace creation in Outlook 2007 when sending a meeting invit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upports one-time or recurring meeting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nects to a Team Site or My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69"/>
          <p:cNvSpPr/>
          <p:nvPr/>
        </p:nvSpPr>
        <p:spPr>
          <a:xfrm>
            <a:off x="5832360" y="4616280"/>
            <a:ext cx="18288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use of SharePoint Server 2007 features directly from Microsoft  Office system applica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cludes document check in/check out and version contro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nects to a Team Site or My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568"/>
          <p:cNvSpPr/>
          <p:nvPr/>
        </p:nvSpPr>
        <p:spPr>
          <a:xfrm>
            <a:off x="3751200" y="4616280"/>
            <a:ext cx="20811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collaboration on Microsoft Office system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cludes document check in/check out and version control 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site customization and supports multi-purpose team us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67"/>
          <p:cNvSpPr/>
          <p:nvPr/>
        </p:nvSpPr>
        <p:spPr>
          <a:xfrm>
            <a:off x="1833480" y="4616280"/>
            <a:ext cx="1917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private and shared docume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control of private information versus public inform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for site customization and supports multi-purpose us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66"/>
          <p:cNvSpPr/>
          <p:nvPr/>
        </p:nvSpPr>
        <p:spPr>
          <a:xfrm>
            <a:off x="446040" y="4616280"/>
            <a:ext cx="1368360" cy="303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560"/>
          <p:cNvSpPr/>
          <p:nvPr/>
        </p:nvSpPr>
        <p:spPr>
          <a:xfrm>
            <a:off x="7661160" y="3535200"/>
            <a:ext cx="1843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ost meeting agenda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rack action item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documents and other files associated with a meeting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59"/>
          <p:cNvSpPr/>
          <p:nvPr/>
        </p:nvSpPr>
        <p:spPr>
          <a:xfrm>
            <a:off x="5832360" y="3535200"/>
            <a:ext cx="1828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llaborate on documents without using e-mai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multiple docume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information related to document revie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58"/>
          <p:cNvSpPr/>
          <p:nvPr/>
        </p:nvSpPr>
        <p:spPr>
          <a:xfrm>
            <a:off x="3751200" y="3535200"/>
            <a:ext cx="2081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 and coordinate team activiti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, organize, and display team fil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57"/>
          <p:cNvSpPr/>
          <p:nvPr/>
        </p:nvSpPr>
        <p:spPr>
          <a:xfrm>
            <a:off x="1833480" y="3535200"/>
            <a:ext cx="1917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hare business-related information about yourself with your coworker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ivate files or collaborate on shared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556"/>
          <p:cNvSpPr/>
          <p:nvPr/>
        </p:nvSpPr>
        <p:spPr>
          <a:xfrm>
            <a:off x="455760" y="3535200"/>
            <a:ext cx="1368360" cy="303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Best 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550"/>
          <p:cNvSpPr/>
          <p:nvPr/>
        </p:nvSpPr>
        <p:spPr>
          <a:xfrm>
            <a:off x="7661160" y="2892600"/>
            <a:ext cx="18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 manage meeting agenda items, materials, and follow-up ac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549"/>
          <p:cNvSpPr/>
          <p:nvPr/>
        </p:nvSpPr>
        <p:spPr>
          <a:xfrm>
            <a:off x="5832360" y="28926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 collaborate on documents related to a specific project or purpos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548"/>
          <p:cNvSpPr/>
          <p:nvPr/>
        </p:nvSpPr>
        <p:spPr>
          <a:xfrm>
            <a:off x="3751200" y="2892600"/>
            <a:ext cx="2081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eams store and display information; coordinate activities; collaborate on projec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47"/>
          <p:cNvSpPr/>
          <p:nvPr/>
        </p:nvSpPr>
        <p:spPr>
          <a:xfrm>
            <a:off x="1890720" y="2892600"/>
            <a:ext cx="186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s share public information; organize daily activities; store private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546"/>
          <p:cNvSpPr/>
          <p:nvPr/>
        </p:nvSpPr>
        <p:spPr>
          <a:xfrm>
            <a:off x="455760" y="2892600"/>
            <a:ext cx="1368360" cy="303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545"/>
          <p:cNvSpPr/>
          <p:nvPr/>
        </p:nvSpPr>
        <p:spPr>
          <a:xfrm>
            <a:off x="7661160" y="2641680"/>
            <a:ext cx="1843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Meeting Work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44"/>
          <p:cNvSpPr/>
          <p:nvPr/>
        </p:nvSpPr>
        <p:spPr>
          <a:xfrm>
            <a:off x="5832360" y="2641680"/>
            <a:ext cx="1828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Document Work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543"/>
          <p:cNvSpPr/>
          <p:nvPr/>
        </p:nvSpPr>
        <p:spPr>
          <a:xfrm>
            <a:off x="3608280" y="2641680"/>
            <a:ext cx="2081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Team Si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42"/>
          <p:cNvSpPr/>
          <p:nvPr/>
        </p:nvSpPr>
        <p:spPr>
          <a:xfrm>
            <a:off x="1747800" y="264168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My Si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541"/>
          <p:cNvSpPr/>
          <p:nvPr/>
        </p:nvSpPr>
        <p:spPr>
          <a:xfrm>
            <a:off x="465120" y="2603520"/>
            <a:ext cx="136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539"/>
          <p:cNvSpPr/>
          <p:nvPr/>
        </p:nvSpPr>
        <p:spPr>
          <a:xfrm>
            <a:off x="5832360" y="2351520"/>
            <a:ext cx="36720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Workspaces </a:t>
            </a: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(short-term u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537"/>
          <p:cNvSpPr/>
          <p:nvPr/>
        </p:nvSpPr>
        <p:spPr>
          <a:xfrm>
            <a:off x="1795320" y="2342160"/>
            <a:ext cx="3998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Sites </a:t>
            </a: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(long-term u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36"/>
          <p:cNvSpPr/>
          <p:nvPr/>
        </p:nvSpPr>
        <p:spPr>
          <a:xfrm>
            <a:off x="465120" y="22384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587"/>
          <p:cNvSpPr/>
          <p:nvPr/>
        </p:nvSpPr>
        <p:spPr>
          <a:xfrm>
            <a:off x="465120" y="7664400"/>
            <a:ext cx="90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Line 588"/>
          <p:cNvSpPr/>
          <p:nvPr/>
        </p:nvSpPr>
        <p:spPr>
          <a:xfrm>
            <a:off x="465120" y="2238480"/>
            <a:ext cx="0" cy="5425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589"/>
          <p:cNvSpPr/>
          <p:nvPr/>
        </p:nvSpPr>
        <p:spPr>
          <a:xfrm>
            <a:off x="9504360" y="2238480"/>
            <a:ext cx="0" cy="5425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Line 591"/>
          <p:cNvSpPr/>
          <p:nvPr/>
        </p:nvSpPr>
        <p:spPr>
          <a:xfrm>
            <a:off x="465120" y="2898720"/>
            <a:ext cx="9039240" cy="0"/>
          </a:xfrm>
          <a:prstGeom prst="line">
            <a:avLst/>
          </a:prstGeom>
          <a:ln cap="rnd" w="12600">
            <a:solidFill>
              <a:srgbClr val="0c7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Line 608"/>
          <p:cNvSpPr/>
          <p:nvPr/>
        </p:nvSpPr>
        <p:spPr>
          <a:xfrm>
            <a:off x="452520" y="4622760"/>
            <a:ext cx="9039240" cy="0"/>
          </a:xfrm>
          <a:prstGeom prst="line">
            <a:avLst/>
          </a:prstGeom>
          <a:ln cap="rnd" w="12600">
            <a:solidFill>
              <a:srgbClr val="0c7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Line 613"/>
          <p:cNvSpPr/>
          <p:nvPr/>
        </p:nvSpPr>
        <p:spPr>
          <a:xfrm>
            <a:off x="458640" y="6275520"/>
            <a:ext cx="9039240" cy="0"/>
          </a:xfrm>
          <a:prstGeom prst="line">
            <a:avLst/>
          </a:prstGeom>
          <a:ln cap="rnd" w="12600">
            <a:solidFill>
              <a:srgbClr val="0c7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Line 791"/>
          <p:cNvSpPr/>
          <p:nvPr/>
        </p:nvSpPr>
        <p:spPr>
          <a:xfrm>
            <a:off x="463680" y="3529080"/>
            <a:ext cx="9039240" cy="0"/>
          </a:xfrm>
          <a:prstGeom prst="line">
            <a:avLst/>
          </a:prstGeom>
          <a:ln cap="rnd" w="12600">
            <a:solidFill>
              <a:srgbClr val="0c7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455760" y="1419120"/>
            <a:ext cx="9144000" cy="647640"/>
          </a:xfrm>
          <a:prstGeom prst="roundRect">
            <a:avLst>
              <a:gd name="adj" fmla="val 13838"/>
            </a:avLst>
          </a:prstGeom>
          <a:solidFill>
            <a:srgbClr val="c0c0c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455760" y="1327320"/>
            <a:ext cx="9144000" cy="32688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100000">
                <a:srgbClr val="005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307800" y="1324080"/>
            <a:ext cx="53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bout SharePoint Server 2007 Sites and Workspa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0560" y="1709640"/>
            <a:ext cx="9099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Point Server 2007 helps you store and collaborate on information using Web sites and workspaces hosted on the corporate network. No specialized knowledge is needed to create a site or workspace. Use this guide to determine which sites or workspaces are best for your need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91"/>
          <p:cNvSpPr/>
          <p:nvPr/>
        </p:nvSpPr>
        <p:spPr>
          <a:xfrm>
            <a:off x="7085160" y="1430280"/>
            <a:ext cx="248760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Times New Roman"/>
              </a:rPr>
              <a:t>Extranet Sites—Collaborate with External Partners and Custom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ant to use a SharePoint Server 2007 site to collaborate with external business partners, vendors, or customers? Create a SharePoint Extranet Team site. Because Extranet sites are accessed through the Internet, external users can access the content and collaboration featur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 determine if SharePoint Server 2007 Extranet Sites are available in your enterprise, check with your Site  Administrato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5760" y="1504800"/>
          <a:ext cx="6230880" cy="3329280"/>
        </p:xfrm>
        <a:graphic>
          <a:graphicData uri="http://schemas.openxmlformats.org/drawingml/2006/table">
            <a:tbl>
              <a:tblPr/>
              <a:tblGrid>
                <a:gridCol w="2890800"/>
                <a:gridCol w="834840"/>
                <a:gridCol w="835200"/>
                <a:gridCol w="834840"/>
                <a:gridCol w="835200"/>
              </a:tblGrid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ite and Workspace Compari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 w="5760">
                      <a:solidFill>
                        <a:srgbClr val="00990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cume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k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et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k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our Own Work Web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Team Collabor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Document Collabo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Managing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pports Search Fun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lti-purpose, Longer-term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purpose, Shorter-term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vides Public and Private S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se Directly from Office 2003 Applica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reate Using Outlook 20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trol User Access and Privileg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quires Corporate Network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2044"/>
          <p:cNvSpPr/>
          <p:nvPr/>
        </p:nvSpPr>
        <p:spPr>
          <a:xfrm>
            <a:off x="457200" y="5429160"/>
            <a:ext cx="415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Compares purpose, features, best uses, and challenges of Sharepoint My Site, Team Site, Document and Meeting Workspaces.</dc:description>
  <cp:keywords>best practices;best practice;EPE;guide;guides;productivity;learn;help;self;how;tools;solutions;quick;training;resource;comparison;my site;team site;meeting workspace;document workspace;file storage;collaboration;check in;check out;information display;meetings;extranet;</cp:keywords>
  <dc:language>en-US</dc:language>
  <cp:lastModifiedBy>Jim Bevan</cp:lastModifiedBy>
  <dcterms:modified xsi:type="dcterms:W3CDTF">2007-05-04T17:29:48Z</dcterms:modified>
  <cp:revision>535</cp:revision>
  <dc:subject/>
  <dc:title>SharePoint Sites and Workspaces Selection Gu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untry">
    <vt:lpwstr/>
  </property>
  <property fmtid="{D5CDD505-2E9C-101B-9397-08002B2CF9AE}" pid="7" name="DocumentID">
    <vt:lpwstr>D02-DW</vt:lpwstr>
  </property>
  <property fmtid="{D5CDD505-2E9C-101B-9397-08002B2CF9AE}" pid="8" name="DocumentType">
    <vt:lpwstr>Employee Orientation and Education</vt:lpwstr>
  </property>
  <property fmtid="{D5CDD505-2E9C-101B-9397-08002B2CF9AE}" pid="9" name="Group">
    <vt:lpwstr>Client Services</vt:lpwstr>
  </property>
  <property fmtid="{D5CDD505-2E9C-101B-9397-08002B2CF9AE}" pid="10" name="Guide Title">
    <vt:lpwstr>SharePoint Server 2007 Sites and Workspaces Selection Guide</vt:lpwstr>
  </property>
  <property fmtid="{D5CDD505-2E9C-101B-9397-08002B2CF9AE}" pid="11" name="InfoPlus_DocumentOwner">
    <vt:lpwstr>REDMOND\epeowner</vt:lpwstr>
  </property>
  <property fmtid="{D5CDD505-2E9C-101B-9397-08002B2CF9AE}" pid="12" name="InfoPlus_DocumentSubmitter">
    <vt:lpwstr>V-MATKIN</vt:lpwstr>
  </property>
  <property fmtid="{D5CDD505-2E9C-101B-9397-08002B2CF9AE}" pid="13" name="InfoPlus_Title">
    <vt:lpwstr>SharePoint Sites and Workspaces Selection Guide</vt:lpwstr>
  </property>
  <property fmtid="{D5CDD505-2E9C-101B-9397-08002B2CF9AE}" pid="14" name="Keywords">
    <vt:lpwstr>best practices;best practice;EPE;guide;guides;productivity;learn;help;self;how;tools;solutions;quick;training;resource;comparison;my site;team site;meeting workspace;document workspace;file storage;collaboration;check in;check out;information display;meet</vt:lpwstr>
  </property>
  <property fmtid="{D5CDD505-2E9C-101B-9397-08002B2CF9AE}" pid="15" name="Keywords0">
    <vt:lpwstr>best practices;best practice;EPE;guide;guides;productivity;learn;help;self;how;tools;solutions;quick;training;resourcecomparison;my site;team site;meeting workspace;document workspace;file storage;collaboration;check in;check out;information display;meeti</vt:lpwstr>
  </property>
  <property fmtid="{D5CDD505-2E9C-101B-9397-08002B2CF9AE}" pid="16" name="Language">
    <vt:lpwstr/>
  </property>
  <property fmtid="{D5CDD505-2E9C-101B-9397-08002B2CF9AE}" pid="17" name="Notes0">
    <vt:lpwstr>All Done.</vt:lpwstr>
  </property>
  <property fmtid="{D5CDD505-2E9C-101B-9397-08002B2CF9AE}" pid="18" name="Order">
    <vt:lpwstr>18400.0000000000</vt:lpwstr>
  </property>
  <property fmtid="{D5CDD505-2E9C-101B-9397-08002B2CF9AE}" pid="19" name="Phase">
    <vt:lpwstr>1. Plan</vt:lpwstr>
  </property>
  <property fmtid="{D5CDD505-2E9C-101B-9397-08002B2CF9AE}" pid="20" name="Products">
    <vt:lpwstr>SharePoint;</vt:lpwstr>
  </property>
  <property fmtid="{D5CDD505-2E9C-101B-9397-08002B2CF9AE}" pid="21" name="Searchable">
    <vt:lpwstr>1</vt:lpwstr>
  </property>
  <property fmtid="{D5CDD505-2E9C-101B-9397-08002B2CF9AE}" pid="22" name="SecurityLevel">
    <vt:lpwstr>0</vt:lpwstr>
  </property>
  <property fmtid="{D5CDD505-2E9C-101B-9397-08002B2CF9AE}" pid="23" name="Short Description">
    <vt:lpwstr>Compares purpose, features, best uses, and challenges of SharePoint  Server 2007 My Site, Team Site, Document Workspace, and Meeting Workspace.</vt:lpwstr>
  </property>
  <property fmtid="{D5CDD505-2E9C-101B-9397-08002B2CF9AE}" pid="24" name="Slides">
    <vt:lpwstr>2</vt:lpwstr>
  </property>
  <property fmtid="{D5CDD505-2E9C-101B-9397-08002B2CF9AE}" pid="25" name="Subject">
    <vt:lpwstr/>
  </property>
  <property fmtid="{D5CDD505-2E9C-101B-9397-08002B2CF9AE}" pid="26" name="Subteam">
    <vt:lpwstr>Everyday Productivity Education (EPE)</vt:lpwstr>
  </property>
  <property fmtid="{D5CDD505-2E9C-101B-9397-08002B2CF9AE}" pid="27" name="Team">
    <vt:lpwstr>Client Connection</vt:lpwstr>
  </property>
  <property fmtid="{D5CDD505-2E9C-101B-9397-08002B2CF9AE}" pid="28" name="Writer">
    <vt:lpwstr>Eric Bailey</vt:lpwstr>
  </property>
  <property fmtid="{D5CDD505-2E9C-101B-9397-08002B2CF9AE}" pid="29" name="_Author">
    <vt:lpwstr>IT Productivity</vt:lpwstr>
  </property>
  <property fmtid="{D5CDD505-2E9C-101B-9397-08002B2CF9AE}" pid="30" name="_Category">
    <vt:lpwstr/>
  </property>
  <property fmtid="{D5CDD505-2E9C-101B-9397-08002B2CF9AE}" pid="31" name="_Comments">
    <vt:lpwstr>Compares purpose, features, best uses, and challenges of Sharepoint My Site, Team Site, Document and Meeting Workspaces. 
 </vt:lpwstr>
  </property>
</Properties>
</file>