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8381880" y="7415280"/>
            <a:ext cx="12286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8CA5-80E0-4B31-8EA2-803AD68BF29A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5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9784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Multiple Languages For Your Tablet PC GS.png"/>
          <p:cNvPicPr/>
          <p:nvPr/>
        </p:nvPicPr>
        <p:blipFill>
          <a:blip r:embed="rId3"/>
          <a:stretch/>
        </p:blipFill>
        <p:spPr>
          <a:xfrm>
            <a:off x="0" y="204840"/>
            <a:ext cx="10058400" cy="942840"/>
          </a:xfrm>
          <a:prstGeom prst="rect">
            <a:avLst/>
          </a:prstGeom>
          <a:ln w="0">
            <a:noFill/>
          </a:ln>
        </p:spPr>
      </p:pic>
      <p:sp>
        <p:nvSpPr>
          <p:cNvPr id="3" name="Footer Placeholder 3"/>
          <p:cNvSpPr/>
          <p:nvPr/>
        </p:nvSpPr>
        <p:spPr>
          <a:xfrm>
            <a:off x="333360" y="73594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icrosoft.com/downloads/details.aspx?FamilyID=ac1c6f5a-bace-425b-bc60-f8d3331c89a3&amp;displaylang=en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icrosoft.com/downloads/details.aspx?FamilyID=080184dd-5e92-4464-b907-10762e9f918b&amp;displaylang=en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64"/>
          <p:cNvSpPr/>
          <p:nvPr/>
        </p:nvSpPr>
        <p:spPr>
          <a:xfrm>
            <a:off x="460440" y="1460520"/>
            <a:ext cx="4341600" cy="202572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Rectangle 49"/>
          <p:cNvSpPr/>
          <p:nvPr/>
        </p:nvSpPr>
        <p:spPr>
          <a:xfrm>
            <a:off x="5259240" y="1414440"/>
            <a:ext cx="431496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e your IT administrator for the Windows XP Multilanguage installation procedur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egin installation. Follow the instructions, and accept the License Agreemen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57200" y="176832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o you need more than one language accessible on your Tablet PC? This guide provides the information you need to add multiple language capabilities to your Tablet PC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sing this guide, you will learn how to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457200" y="2608200"/>
            <a:ext cx="43434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stall Multiple Languages for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Microsof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®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XP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stall Multiple Languages for Your Tablet P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stall the Tablet PC Recognizer Pac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stall Multiple Languages for Microsoft Office 2003 and Microsoft Windows Medi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lay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457200" y="3963960"/>
            <a:ext cx="43434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1240" indent="-1112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multilanguage packs only work with Windows XP Service Pack 2 (English version). If your computer does not have SP2 installed, you must update Windows XP to SP2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1240" indent="-1112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f you have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ultiple language packs installed on your Tablet PC, the layout of the on-screen keyboard changes to the selected language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Text Box 23"/>
          <p:cNvSpPr/>
          <p:nvPr/>
        </p:nvSpPr>
        <p:spPr>
          <a:xfrm>
            <a:off x="442800" y="3597120"/>
            <a:ext cx="434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Install Multiple Languages for Windows X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5234040" y="1322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457200" y="5045040"/>
            <a:ext cx="434340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1240" indent="-1112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ding multiple languages to your Tablet PC involves three primary steps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1240" indent="-1112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stall Multiple Languages for Windows XP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1240" indent="-1112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stall Multiple Languages for your Tablet P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1240" indent="-1112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stall the Tablet PC Recognizer Pac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460440" y="5869080"/>
            <a:ext cx="43434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ce you have completed these steps, you will go into the Windows XP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rol Pane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configure how you use the multiple languages.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fter you have installed the multilanguage packs for Windows XP and Tablet PC, you may install the multilanguage Tablet PC tutorials for Windows XP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48"/>
          <p:cNvSpPr/>
          <p:nvPr/>
        </p:nvSpPr>
        <p:spPr>
          <a:xfrm>
            <a:off x="5239800" y="180828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50"/>
          <p:cNvSpPr/>
          <p:nvPr/>
        </p:nvSpPr>
        <p:spPr>
          <a:xfrm>
            <a:off x="5248440" y="2362320"/>
            <a:ext cx="255888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indows XP Multilingual User Interface Pac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select the language(s) that you requir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lect your default user settings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When the installation is complete you will be prompted to restart your compute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51" descr="MUI1"/>
          <p:cNvPicPr/>
          <p:nvPr/>
        </p:nvPicPr>
        <p:blipFill>
          <a:blip r:embed="rId1"/>
          <a:stretch/>
        </p:blipFill>
        <p:spPr>
          <a:xfrm>
            <a:off x="7896240" y="2075040"/>
            <a:ext cx="1558800" cy="1795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2" name="Rectangle 52"/>
          <p:cNvSpPr/>
          <p:nvPr/>
        </p:nvSpPr>
        <p:spPr>
          <a:xfrm>
            <a:off x="5238360" y="23097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53"/>
          <p:cNvSpPr/>
          <p:nvPr/>
        </p:nvSpPr>
        <p:spPr>
          <a:xfrm>
            <a:off x="5247720" y="30351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57"/>
          <p:cNvSpPr/>
          <p:nvPr/>
        </p:nvSpPr>
        <p:spPr>
          <a:xfrm>
            <a:off x="5270400" y="4307040"/>
            <a:ext cx="4356360" cy="30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nd the Microsoft Windows XP Tablet PC Edition 2005 Multilingual User Interface (MUI) Pack at: </a:t>
            </a:r>
            <a:r>
              <a:rPr b="0" lang="en-US" sz="1000" spc="-1" strike="noStrike" u="sng">
                <a:solidFill>
                  <a:srgbClr val="045096"/>
                </a:solidFill>
                <a:uFillTx/>
                <a:latin typeface="Tahoma"/>
                <a:hlinkClick r:id="rId2"/>
              </a:rPr>
              <a:t>http://www.microsoft.com/downloads/details.aspx?FamilyID=ac1c6f5a-bace-425b-bc60-f8d3331c89a3&amp;displaylang=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inu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You may receive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enuine Windows Downloa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 asking you to validate Windows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wnloa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le Download – Security Warn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After the file has downloaded,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ternet Explorer – Security Warn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blet PC Edition 2005 Multilingual User Interface (MUI) Pack – Instal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wizard is displayed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ady to Install the Program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stal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58"/>
          <p:cNvSpPr/>
          <p:nvPr/>
        </p:nvSpPr>
        <p:spPr>
          <a:xfrm>
            <a:off x="5247720" y="63500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59"/>
          <p:cNvSpPr/>
          <p:nvPr/>
        </p:nvSpPr>
        <p:spPr>
          <a:xfrm>
            <a:off x="5238360" y="56325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Text Box 60"/>
          <p:cNvSpPr/>
          <p:nvPr/>
        </p:nvSpPr>
        <p:spPr>
          <a:xfrm>
            <a:off x="5251320" y="402120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Install Multiple Languages for Your Tablet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 Box 61"/>
          <p:cNvSpPr/>
          <p:nvPr/>
        </p:nvSpPr>
        <p:spPr>
          <a:xfrm>
            <a:off x="5245200" y="42181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62"/>
          <p:cNvSpPr/>
          <p:nvPr/>
        </p:nvSpPr>
        <p:spPr>
          <a:xfrm>
            <a:off x="5246280" y="51069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63"/>
          <p:cNvSpPr/>
          <p:nvPr/>
        </p:nvSpPr>
        <p:spPr>
          <a:xfrm>
            <a:off x="5277960" y="689148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65" descr="MultiLangTablet"/>
          <p:cNvPicPr/>
          <p:nvPr/>
        </p:nvPicPr>
        <p:blipFill>
          <a:blip r:embed="rId3"/>
          <a:stretch/>
        </p:blipFill>
        <p:spPr>
          <a:xfrm>
            <a:off x="465120" y="1409760"/>
            <a:ext cx="434196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4552920"/>
            <a:ext cx="43434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34880" y="1427040"/>
            <a:ext cx="434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Install the Tablet PC Recognizer P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79520" y="1727280"/>
            <a:ext cx="432108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45096"/>
                </a:solidFill>
                <a:uFillTx/>
                <a:latin typeface="Tahoma"/>
                <a:ea typeface="Times New Roman"/>
                <a:hlinkClick r:id="rId1"/>
              </a:rPr>
              <a:t>http://www.microsoft.com/downloads/details.aspx?FamilyID=080184dd-5e92-4464-b907-10762e9f918b&amp;displaylang=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inu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You may receive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enuine Windows Downloa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 asking you to validate Window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wnloa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le Download – Security Warn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After the file has downloaded,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ternet Explorer – Security Warn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Microsoft Windows Tablet PC Edition 2005 Recognizer Pack Wizar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ccept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cense Agreeme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stomer Informat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ge, type your information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tup Typ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lick the setup you prefer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ady to Install the Program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stal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the installation is complet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ish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38120" y="16318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445680" y="27068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439200" y="339552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448920" y="39909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42440" y="436392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458280" y="485928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25"/>
          <p:cNvSpPr/>
          <p:nvPr/>
        </p:nvSpPr>
        <p:spPr>
          <a:xfrm>
            <a:off x="5281560" y="1712880"/>
            <a:ext cx="2651040" cy="12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a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rol Pane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gional and Language 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gional 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ab, select the language you want to use as well as your location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26"/>
          <p:cNvSpPr/>
          <p:nvPr/>
        </p:nvSpPr>
        <p:spPr>
          <a:xfrm>
            <a:off x="5225400" y="16509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Rectangle 27"/>
          <p:cNvSpPr/>
          <p:nvPr/>
        </p:nvSpPr>
        <p:spPr>
          <a:xfrm>
            <a:off x="5235120" y="24210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5290560" y="1447920"/>
            <a:ext cx="20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oose Your Primary Language</a:t>
            </a:r>
            <a:r>
              <a:rPr b="1" lang="en-US" sz="1000" spc="-1" strike="noStrike">
                <a:solidFill>
                  <a:srgbClr val="045096"/>
                </a:solidFill>
                <a:latin typeface="Tahom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29" descr="RegandLang"/>
          <p:cNvPicPr/>
          <p:nvPr/>
        </p:nvPicPr>
        <p:blipFill>
          <a:blip r:embed="rId2"/>
          <a:stretch/>
        </p:blipFill>
        <p:spPr>
          <a:xfrm>
            <a:off x="8021520" y="1682640"/>
            <a:ext cx="1579680" cy="189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6" name="Picture 31" descr="RegandLang2"/>
          <p:cNvPicPr/>
          <p:nvPr/>
        </p:nvPicPr>
        <p:blipFill>
          <a:blip r:embed="rId3"/>
          <a:stretch/>
        </p:blipFill>
        <p:spPr>
          <a:xfrm>
            <a:off x="7427880" y="4060800"/>
            <a:ext cx="2173320" cy="2610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" name="Rectangle 32"/>
          <p:cNvSpPr/>
          <p:nvPr/>
        </p:nvSpPr>
        <p:spPr>
          <a:xfrm>
            <a:off x="5257800" y="4060800"/>
            <a:ext cx="2087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nguag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ab. 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nguage used in menus and dialo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list, click the language you want to use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33"/>
          <p:cNvSpPr/>
          <p:nvPr/>
        </p:nvSpPr>
        <p:spPr>
          <a:xfrm>
            <a:off x="5241240" y="39924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7" descr="FileExplorerEng"/>
          <p:cNvPicPr/>
          <p:nvPr/>
        </p:nvPicPr>
        <p:blipFill>
          <a:blip r:embed="rId1"/>
          <a:stretch/>
        </p:blipFill>
        <p:spPr>
          <a:xfrm>
            <a:off x="5486400" y="1616040"/>
            <a:ext cx="1986120" cy="244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8" descr="FileExplorerFrn"/>
          <p:cNvPicPr/>
          <p:nvPr/>
        </p:nvPicPr>
        <p:blipFill>
          <a:blip r:embed="rId2"/>
          <a:stretch/>
        </p:blipFill>
        <p:spPr>
          <a:xfrm>
            <a:off x="5497560" y="4718160"/>
            <a:ext cx="2054160" cy="2201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9"/>
          <p:cNvSpPr/>
          <p:nvPr/>
        </p:nvSpPr>
        <p:spPr>
          <a:xfrm>
            <a:off x="5241960" y="4514760"/>
            <a:ext cx="431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rench Language Version of Windows Explor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70"/>
          <p:cNvSpPr/>
          <p:nvPr/>
        </p:nvSpPr>
        <p:spPr>
          <a:xfrm>
            <a:off x="5248440" y="1409760"/>
            <a:ext cx="431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nglish Language Version of Windows Explor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71"/>
          <p:cNvSpPr/>
          <p:nvPr/>
        </p:nvSpPr>
        <p:spPr>
          <a:xfrm>
            <a:off x="446040" y="1444680"/>
            <a:ext cx="434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puter Applications and Windows XP in Multiple Languag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Picture 72" descr="LangChangeFrn"/>
          <p:cNvPicPr/>
          <p:nvPr/>
        </p:nvPicPr>
        <p:blipFill>
          <a:blip r:embed="rId3"/>
          <a:stretch/>
        </p:blipFill>
        <p:spPr>
          <a:xfrm>
            <a:off x="455760" y="3500280"/>
            <a:ext cx="4343400" cy="66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5" name="Picture 73" descr="LangChangeEng"/>
          <p:cNvPicPr/>
          <p:nvPr/>
        </p:nvPicPr>
        <p:blipFill>
          <a:blip r:embed="rId4"/>
          <a:stretch/>
        </p:blipFill>
        <p:spPr>
          <a:xfrm>
            <a:off x="446040" y="2255760"/>
            <a:ext cx="4343400" cy="681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6" name="Text Box 74"/>
          <p:cNvSpPr/>
          <p:nvPr/>
        </p:nvSpPr>
        <p:spPr>
          <a:xfrm>
            <a:off x="449280" y="2081160"/>
            <a:ext cx="431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nglish Language Version of Microsoft Office Outlook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®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75"/>
          <p:cNvSpPr/>
          <p:nvPr/>
        </p:nvSpPr>
        <p:spPr>
          <a:xfrm>
            <a:off x="446040" y="3324240"/>
            <a:ext cx="434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rench Language Version of Outlook 2003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53240" y="1428840"/>
            <a:ext cx="3568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stall the Multiple Language Tablet Tutorials (Optional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38120" y="1676520"/>
            <a:ext cx="434340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o to http://www.microsoft.com/downloads/details.aspx?FamilyID=fc308f6c-0cfb-4ade-835d-5f0082b7ccff&amp;displaylang=en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wnloa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le Download – Security Warn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ternet Explorer – Security Warn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welcome pag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ccept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cense Agreement,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 then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c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ady to Install the Program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stal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33440" y="1579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42440" y="23763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32720" y="29829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40640" y="343692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38120" y="54878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490680" y="55864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act your IT administrator for the Office 2003 Multilanguage Pack C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5248440" y="1604880"/>
            <a:ext cx="183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vailable Languag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lick the language(s) that you would like to use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14" descr="Lang1"/>
          <p:cNvPicPr/>
          <p:nvPr/>
        </p:nvPicPr>
        <p:blipFill>
          <a:blip r:embed="rId1"/>
          <a:stretch/>
        </p:blipFill>
        <p:spPr>
          <a:xfrm>
            <a:off x="7143840" y="1455840"/>
            <a:ext cx="2457360" cy="2138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8" name="Text Box 15"/>
          <p:cNvSpPr/>
          <p:nvPr/>
        </p:nvSpPr>
        <p:spPr>
          <a:xfrm>
            <a:off x="5257800" y="4121280"/>
            <a:ext cx="1752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oose the current language to us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hoose your preferred options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16" descr="lang2"/>
          <p:cNvPicPr/>
          <p:nvPr/>
        </p:nvPicPr>
        <p:blipFill>
          <a:blip r:embed="rId2"/>
          <a:stretch/>
        </p:blipFill>
        <p:spPr>
          <a:xfrm>
            <a:off x="7067520" y="3795840"/>
            <a:ext cx="2533680" cy="220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0" name="Rectangle 17"/>
          <p:cNvSpPr/>
          <p:nvPr/>
        </p:nvSpPr>
        <p:spPr>
          <a:xfrm>
            <a:off x="5238360" y="15429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5239800" y="40640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457200" y="4686480"/>
            <a:ext cx="434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d Multiple Languages to Office 2003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438120" y="408456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Install Multiple Languages for Office 2003 and Windows Media Play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457200" y="49402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you change the language of Office, you can view e-mail messages and other documents in that language correctl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—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racters will not appear distorted or as symbol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465120" y="5965920"/>
            <a:ext cx="434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sert the Office 2003 Multilanguage CD into your CD drive, follow the instructions, and accept the License Agreemen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447120" y="58896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476280" y="1427040"/>
            <a:ext cx="434340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ype of Install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hoose the type of installation that you prefer, as well as the location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stal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the installation is complete, you will see the following message: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icrosoft Office 2003 Multilingual User Interface Pack Setup has completed successfull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28"/>
          <p:cNvSpPr/>
          <p:nvPr/>
        </p:nvSpPr>
        <p:spPr>
          <a:xfrm>
            <a:off x="439200" y="13604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439200" y="196992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438120" y="3276720"/>
            <a:ext cx="4343400" cy="22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o to http://www.microsoft.com/downloads/details.aspx?FamilyID=02106bdb-b012-4327-96cb-73937ae00667&amp;DisplayLang=en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the file with the language that you requir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ternet Explorer – Security Warn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gain in the next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ternet Explorer – Security Warn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Y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MP MUI Setup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Y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accept the end-user license agreement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419040" y="3191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44"/>
          <p:cNvSpPr/>
          <p:nvPr/>
        </p:nvSpPr>
        <p:spPr>
          <a:xfrm>
            <a:off x="429840" y="394668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45"/>
          <p:cNvSpPr/>
          <p:nvPr/>
        </p:nvSpPr>
        <p:spPr>
          <a:xfrm>
            <a:off x="429840" y="441648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426600" y="51116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447840" y="2987640"/>
            <a:ext cx="434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d Multiple Languages to Windows Media Play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48"/>
          <p:cNvSpPr/>
          <p:nvPr/>
        </p:nvSpPr>
        <p:spPr>
          <a:xfrm>
            <a:off x="457200" y="264960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Office will automatically change to the same language as Window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390600" y="5586480"/>
            <a:ext cx="441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The Windows Media Player language that you set up is effective only when you set the Windows XP language to the same languag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07-05-04T16:26:56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mments0">
    <vt:lpwstr/>
  </property>
  <property fmtid="{D5CDD505-2E9C-101B-9397-08002B2CF9AE}" pid="3" name="Notes0">
    <vt:lpwstr/>
  </property>
  <property fmtid="{D5CDD505-2E9C-101B-9397-08002B2CF9AE}" pid="4" name="Writer">
    <vt:lpwstr>TBD</vt:lpwstr>
  </property>
</Properties>
</file>