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026"/>
          <p:cNvSpPr/>
          <p:nvPr/>
        </p:nvSpPr>
        <p:spPr>
          <a:xfrm>
            <a:off x="9144000" y="7296120"/>
            <a:ext cx="503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A755-6E96-4724-ABC6-0FE399BD264B}" type="slidenum"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 of 4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064280"/>
            <a:ext cx="10058400" cy="171720"/>
          </a:xfrm>
          <a:prstGeom prst="rect">
            <a:avLst/>
          </a:prstGeom>
          <a:ln w="0">
            <a:noFill/>
          </a:ln>
        </p:spPr>
      </p:pic>
      <p:sp>
        <p:nvSpPr>
          <p:cNvPr id="2" name="Footer Placeholder 3"/>
          <p:cNvSpPr/>
          <p:nvPr/>
        </p:nvSpPr>
        <p:spPr>
          <a:xfrm>
            <a:off x="457200" y="72644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6" descr="SharingOutlookCalendars.jpg"/>
          <p:cNvPicPr/>
          <p:nvPr/>
        </p:nvPicPr>
        <p:blipFill>
          <a:blip r:embed="rId3"/>
          <a:stretch/>
        </p:blipFill>
        <p:spPr>
          <a:xfrm>
            <a:off x="0" y="24120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lowchart: Alternate Process 13312"/>
          <p:cNvSpPr/>
          <p:nvPr/>
        </p:nvSpPr>
        <p:spPr>
          <a:xfrm>
            <a:off x="457200" y="1508040"/>
            <a:ext cx="4297320" cy="23781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TextBox 13313"/>
          <p:cNvSpPr/>
          <p:nvPr/>
        </p:nvSpPr>
        <p:spPr>
          <a:xfrm>
            <a:off x="457200" y="2754360"/>
            <a:ext cx="429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13716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 Your Calendar with Other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9920" indent="-16992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nge Sharing Permission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9920" indent="-16992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op Sharing Your Calendar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9920" indent="-16992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e Another Person’s Calendar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9920" indent="-16992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e Your Permissions on Another Person’s Shared Calendar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9920" indent="-16992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ve Another Person’s Shared Calendar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Box 13314"/>
          <p:cNvSpPr/>
          <p:nvPr/>
        </p:nvSpPr>
        <p:spPr>
          <a:xfrm>
            <a:off x="457200" y="1849320"/>
            <a:ext cx="429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ke your calendar visible to others and view others’ calendars in Outlook 2007. Seeing another person’s schedule is helpful for planning events, checking availability, and confirming information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Box 13315"/>
          <p:cNvSpPr/>
          <p:nvPr/>
        </p:nvSpPr>
        <p:spPr>
          <a:xfrm>
            <a:off x="447840" y="4002120"/>
            <a:ext cx="42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rebuchet MS"/>
                <a:ea typeface="Calibri"/>
              </a:rPr>
              <a:t>Share Your Calendar with Oth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" name="Rectangle 13316" descr=""/>
          <p:cNvPicPr/>
          <p:nvPr/>
        </p:nvPicPr>
        <p:blipFill>
          <a:blip r:embed="rId1"/>
          <a:stretch/>
        </p:blipFill>
        <p:spPr>
          <a:xfrm>
            <a:off x="457200" y="1496880"/>
            <a:ext cx="4297320" cy="3225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317"/>
          <p:cNvSpPr/>
          <p:nvPr/>
        </p:nvSpPr>
        <p:spPr>
          <a:xfrm>
            <a:off x="648000" y="2562120"/>
            <a:ext cx="117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opics in this guide: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13318"/>
          <p:cNvSpPr/>
          <p:nvPr/>
        </p:nvSpPr>
        <p:spPr>
          <a:xfrm>
            <a:off x="441360" y="4400640"/>
            <a:ext cx="23018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Outlook 2007 navigation pa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hare My 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haring invitat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-mail message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, type the name or names you would like to share your calendar with, or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choose a name or names from the address book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Box 13319"/>
          <p:cNvSpPr/>
          <p:nvPr/>
        </p:nvSpPr>
        <p:spPr>
          <a:xfrm>
            <a:off x="441360" y="43671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Box 13320"/>
          <p:cNvSpPr/>
          <p:nvPr/>
        </p:nvSpPr>
        <p:spPr>
          <a:xfrm>
            <a:off x="446040" y="50356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Box 13321"/>
          <p:cNvSpPr/>
          <p:nvPr/>
        </p:nvSpPr>
        <p:spPr>
          <a:xfrm>
            <a:off x="438120" y="62452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Box 13322"/>
          <p:cNvSpPr/>
          <p:nvPr/>
        </p:nvSpPr>
        <p:spPr>
          <a:xfrm>
            <a:off x="5303880" y="3532320"/>
            <a:ext cx="2579760" cy="14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My Calenda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, right-click the calendar that you are sharing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Change Sharing 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. 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In the calenda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Properti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 dialog box,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 tab, click the user name of the person for whom you want to change permissions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Box 13323"/>
          <p:cNvSpPr/>
          <p:nvPr/>
        </p:nvSpPr>
        <p:spPr>
          <a:xfrm>
            <a:off x="5276880" y="35132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Box 13324"/>
          <p:cNvSpPr/>
          <p:nvPr/>
        </p:nvSpPr>
        <p:spPr>
          <a:xfrm>
            <a:off x="5284800" y="2816280"/>
            <a:ext cx="4297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rebuchet MS"/>
              </a:rPr>
              <a:t>Change Sharing Permission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change individual access levels to your calendar at any time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13325"/>
          <p:cNvSpPr/>
          <p:nvPr/>
        </p:nvSpPr>
        <p:spPr>
          <a:xfrm>
            <a:off x="5284800" y="41403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13327"/>
          <p:cNvSpPr/>
          <p:nvPr/>
        </p:nvSpPr>
        <p:spPr>
          <a:xfrm>
            <a:off x="457200" y="6264360"/>
            <a:ext cx="42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hare this 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ss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13328"/>
          <p:cNvSpPr/>
          <p:nvPr/>
        </p:nvSpPr>
        <p:spPr>
          <a:xfrm>
            <a:off x="5292720" y="1465200"/>
            <a:ext cx="42973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If you do not wish to share everything on your calendar, create a duplicate calendar and move your private items to the duplicate calendar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To request to view the calendar of the recipient of your e-mail message, selec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Request permission to view recipient's 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 check box on the sharing invitation e-mail message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74600" indent="-1746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Rectangle 30" descr=""/>
          <p:cNvPicPr/>
          <p:nvPr/>
        </p:nvPicPr>
        <p:blipFill>
          <a:blip r:embed="rId2"/>
          <a:stretch/>
        </p:blipFill>
        <p:spPr>
          <a:xfrm>
            <a:off x="8159760" y="3587760"/>
            <a:ext cx="1398600" cy="24066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57" name="Oval 13330"/>
          <p:cNvSpPr/>
          <p:nvPr/>
        </p:nvSpPr>
        <p:spPr>
          <a:xfrm>
            <a:off x="8159760" y="3808440"/>
            <a:ext cx="671400" cy="26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13331"/>
          <p:cNvSpPr/>
          <p:nvPr/>
        </p:nvSpPr>
        <p:spPr>
          <a:xfrm>
            <a:off x="8623440" y="5415120"/>
            <a:ext cx="795240" cy="168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22" descr="Picture1"/>
          <p:cNvPicPr/>
          <p:nvPr/>
        </p:nvPicPr>
        <p:blipFill>
          <a:blip r:embed="rId3"/>
          <a:stretch/>
        </p:blipFill>
        <p:spPr>
          <a:xfrm>
            <a:off x="2905200" y="4441680"/>
            <a:ext cx="18162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4336"/>
          <p:cNvSpPr/>
          <p:nvPr/>
        </p:nvSpPr>
        <p:spPr>
          <a:xfrm>
            <a:off x="457200" y="1646280"/>
            <a:ext cx="42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mission Leve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list, click the permission level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14337"/>
          <p:cNvSpPr/>
          <p:nvPr/>
        </p:nvSpPr>
        <p:spPr>
          <a:xfrm>
            <a:off x="439560" y="162252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01640" y="2036880"/>
          <a:ext cx="4052880" cy="4511520"/>
        </p:xfrm>
        <a:graphic>
          <a:graphicData uri="http://schemas.openxmlformats.org/drawingml/2006/table">
            <a:tbl>
              <a:tblPr/>
              <a:tblGrid>
                <a:gridCol w="1346400"/>
                <a:gridCol w="2706480"/>
              </a:tblGrid>
              <a:tr h="2462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ission Lev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iliti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553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, read, modify, and delete all items in your calendar and create subfolders. Can also change permission levels for others. (This level not available to delegates.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blishing Edit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, read, modify, and delete all items and create subfolders. (This level not available to delegates.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it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, read, modify, and delete all items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blishing Auth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 and read items, and modify and delete only items created by the user. (This level not available to delegates.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 and read items, and modify and delete only items created by the user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editing Auth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, read, and delete own items, but can’t edit them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ew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 items only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ibut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 items only. (This level not available to delegates.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e/Busy Time, Subject, Loca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ew Free/Busy times, the subject line, and location of your appointments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e/Busy tim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ew Free/Busy times only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Box 14373"/>
          <p:cNvSpPr/>
          <p:nvPr/>
        </p:nvSpPr>
        <p:spPr>
          <a:xfrm>
            <a:off x="5291280" y="2577960"/>
            <a:ext cx="24080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Calendar Properti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 dialog box,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 tab, click the user name of the person with whom you would like to stop sharing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Remov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Box 14374"/>
          <p:cNvSpPr/>
          <p:nvPr/>
        </p:nvSpPr>
        <p:spPr>
          <a:xfrm>
            <a:off x="5249880" y="18842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Box 14375"/>
          <p:cNvSpPr/>
          <p:nvPr/>
        </p:nvSpPr>
        <p:spPr>
          <a:xfrm>
            <a:off x="5281560" y="1571760"/>
            <a:ext cx="450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rebuchet MS"/>
                <a:ea typeface="Calibri"/>
              </a:rPr>
              <a:t>Stop Sharing Your Calenda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Box 14376"/>
          <p:cNvSpPr/>
          <p:nvPr/>
        </p:nvSpPr>
        <p:spPr>
          <a:xfrm>
            <a:off x="5272200" y="254016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Box 14377"/>
          <p:cNvSpPr/>
          <p:nvPr/>
        </p:nvSpPr>
        <p:spPr>
          <a:xfrm>
            <a:off x="5262480" y="333072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Oval 14379"/>
          <p:cNvSpPr/>
          <p:nvPr/>
        </p:nvSpPr>
        <p:spPr>
          <a:xfrm>
            <a:off x="7802640" y="3067200"/>
            <a:ext cx="1685880" cy="218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Oval 14380"/>
          <p:cNvSpPr/>
          <p:nvPr/>
        </p:nvSpPr>
        <p:spPr>
          <a:xfrm>
            <a:off x="8580600" y="3444840"/>
            <a:ext cx="514080" cy="219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4381"/>
          <p:cNvSpPr/>
          <p:nvPr/>
        </p:nvSpPr>
        <p:spPr>
          <a:xfrm>
            <a:off x="5303880" y="1911240"/>
            <a:ext cx="447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My Calenda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, right-click the calendar that you are sharing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Change Sharing 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. 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13" descr="Dlg Properties.png"/>
          <p:cNvPicPr/>
          <p:nvPr/>
        </p:nvPicPr>
        <p:blipFill>
          <a:blip r:embed="rId1"/>
          <a:stretch/>
        </p:blipFill>
        <p:spPr>
          <a:xfrm>
            <a:off x="7648560" y="2597040"/>
            <a:ext cx="1989000" cy="2762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5360"/>
          <p:cNvSpPr/>
          <p:nvPr/>
        </p:nvSpPr>
        <p:spPr>
          <a:xfrm>
            <a:off x="469800" y="2297160"/>
            <a:ext cx="428472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In the Outlook 2007 navigation pa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Open a Shared 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a Shared 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dialog box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box, type the person’s name, or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to choose it from the Address Book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5361"/>
          <p:cNvSpPr/>
          <p:nvPr/>
        </p:nvSpPr>
        <p:spPr>
          <a:xfrm>
            <a:off x="415800" y="227016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15362"/>
          <p:cNvSpPr/>
          <p:nvPr/>
        </p:nvSpPr>
        <p:spPr>
          <a:xfrm>
            <a:off x="447840" y="1457280"/>
            <a:ext cx="430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rebuchet MS"/>
                <a:ea typeface="Calibri"/>
              </a:rPr>
              <a:t>See Another Person’s Calenda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After another person has given you permission to view his or her calendar, you will need to perform the following steps in order to view their calendar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15363"/>
          <p:cNvSpPr/>
          <p:nvPr/>
        </p:nvSpPr>
        <p:spPr>
          <a:xfrm>
            <a:off x="438120" y="258768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15364"/>
          <p:cNvSpPr/>
          <p:nvPr/>
        </p:nvSpPr>
        <p:spPr>
          <a:xfrm>
            <a:off x="436680" y="29336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5365"/>
          <p:cNvSpPr/>
          <p:nvPr/>
        </p:nvSpPr>
        <p:spPr>
          <a:xfrm>
            <a:off x="457200" y="3684600"/>
            <a:ext cx="19209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son’s calendar appears side-by-side with your main calendar. A check box for this calendar also appears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Calenda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pane. Clear the check box to close the calendar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Rectangle 12" descr=""/>
          <p:cNvPicPr/>
          <p:nvPr/>
        </p:nvPicPr>
        <p:blipFill>
          <a:blip r:embed="rId1"/>
          <a:stretch/>
        </p:blipFill>
        <p:spPr>
          <a:xfrm>
            <a:off x="2400480" y="3666960"/>
            <a:ext cx="2307960" cy="26305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79" name="TextBox 15367"/>
          <p:cNvSpPr/>
          <p:nvPr/>
        </p:nvSpPr>
        <p:spPr>
          <a:xfrm>
            <a:off x="5289480" y="1457280"/>
            <a:ext cx="430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rebuchet MS"/>
              </a:rPr>
              <a:t>See Your Permissions on Another Person’s Shared Calenda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5368"/>
          <p:cNvSpPr/>
          <p:nvPr/>
        </p:nvSpPr>
        <p:spPr>
          <a:xfrm>
            <a:off x="5303880" y="2112840"/>
            <a:ext cx="44798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In the Outlook 2007 navigation pa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In the calendar pane,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People’s Calenda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, right-click a person’s name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Properti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. 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Calendar Properti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 dialog box, 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Summ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 tab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15369"/>
          <p:cNvSpPr/>
          <p:nvPr/>
        </p:nvSpPr>
        <p:spPr>
          <a:xfrm>
            <a:off x="5273640" y="2085840"/>
            <a:ext cx="3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15370"/>
          <p:cNvSpPr/>
          <p:nvPr/>
        </p:nvSpPr>
        <p:spPr>
          <a:xfrm>
            <a:off x="5286240" y="2416320"/>
            <a:ext cx="21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Box 15371"/>
          <p:cNvSpPr/>
          <p:nvPr/>
        </p:nvSpPr>
        <p:spPr>
          <a:xfrm>
            <a:off x="5303880" y="3340080"/>
            <a:ext cx="2119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will be able to see your permissions for that person's calendar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Permission changes can be made only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y the calendar owner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15373"/>
          <p:cNvSpPr/>
          <p:nvPr/>
        </p:nvSpPr>
        <p:spPr>
          <a:xfrm>
            <a:off x="5278320" y="289404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15" descr="Dlg Properties 3.png"/>
          <p:cNvPicPr/>
          <p:nvPr/>
        </p:nvPicPr>
        <p:blipFill>
          <a:blip r:embed="rId2"/>
          <a:stretch/>
        </p:blipFill>
        <p:spPr>
          <a:xfrm>
            <a:off x="7451640" y="3333600"/>
            <a:ext cx="2152800" cy="2762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6384"/>
          <p:cNvSpPr/>
          <p:nvPr/>
        </p:nvSpPr>
        <p:spPr>
          <a:xfrm>
            <a:off x="457200" y="1457280"/>
            <a:ext cx="4387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rebuchet MS"/>
                <a:ea typeface="Calibri"/>
              </a:rPr>
              <a:t>Remove a Shared Calenda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To remove another person’s shared calendar from your People’s Calendars list, follow these instructions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  Removing the shared calendar does not remove your permission to view the calendar. You can add the calendar again if you still have permissions to view the calendar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6385"/>
          <p:cNvSpPr/>
          <p:nvPr/>
        </p:nvSpPr>
        <p:spPr>
          <a:xfrm>
            <a:off x="457200" y="2757600"/>
            <a:ext cx="42973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In the Outlook 2007 navigation pa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In the calendar pane,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People’s Calenda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Calibri"/>
              </a:rPr>
              <a:t>, right-click the person’s name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ahoma"/>
                <a:ea typeface="Calibri"/>
              </a:rPr>
              <a:t>Click </a:t>
            </a:r>
            <a:r>
              <a:rPr b="1" lang="en-US" sz="1000" spc="-1" strike="noStrike">
                <a:solidFill>
                  <a:srgbClr val="0d0d0d"/>
                </a:solidFill>
                <a:latin typeface="Tahoma"/>
                <a:ea typeface="Calibri"/>
              </a:rPr>
              <a:t>Delete “</a:t>
            </a:r>
            <a:r>
              <a:rPr b="0" lang="en-US" sz="1000" spc="-1" strike="noStrike">
                <a:solidFill>
                  <a:srgbClr val="0d0d0d"/>
                </a:solidFill>
                <a:latin typeface="Tahoma"/>
                <a:ea typeface="Calibri"/>
              </a:rPr>
              <a:t>[Person’s Name]</a:t>
            </a:r>
            <a:r>
              <a:rPr b="1" lang="en-US" sz="1000" spc="-1" strike="noStrike">
                <a:solidFill>
                  <a:srgbClr val="0d0d0d"/>
                </a:solidFill>
                <a:latin typeface="Tahoma"/>
                <a:ea typeface="Calibri"/>
              </a:rPr>
              <a:t>”</a:t>
            </a:r>
            <a:r>
              <a:rPr b="0" lang="en-US" sz="1000" spc="-1" strike="noStrike">
                <a:solidFill>
                  <a:srgbClr val="0d0d0d"/>
                </a:solidFill>
                <a:latin typeface="Tahoma"/>
                <a:ea typeface="Calibri"/>
              </a:rPr>
              <a:t>.</a:t>
            </a:r>
            <a:r>
              <a:rPr b="0" lang="en-US" sz="1000" spc="-1" strike="noStrike">
                <a:solidFill>
                  <a:srgbClr val="009900"/>
                </a:solidFill>
                <a:latin typeface="Tahoma"/>
                <a:ea typeface="Calibri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Box 16386"/>
          <p:cNvSpPr/>
          <p:nvPr/>
        </p:nvSpPr>
        <p:spPr>
          <a:xfrm>
            <a:off x="426960" y="2728800"/>
            <a:ext cx="18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Box 16387"/>
          <p:cNvSpPr/>
          <p:nvPr/>
        </p:nvSpPr>
        <p:spPr>
          <a:xfrm>
            <a:off x="439560" y="30607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Rectangle 6" descr=""/>
          <p:cNvPicPr/>
          <p:nvPr/>
        </p:nvPicPr>
        <p:blipFill>
          <a:blip r:embed="rId1"/>
          <a:stretch/>
        </p:blipFill>
        <p:spPr>
          <a:xfrm>
            <a:off x="965160" y="3951360"/>
            <a:ext cx="2967120" cy="28605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91" name="TextBox 16391"/>
          <p:cNvSpPr/>
          <p:nvPr/>
        </p:nvSpPr>
        <p:spPr>
          <a:xfrm>
            <a:off x="431640" y="3541680"/>
            <a:ext cx="3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>Make your calendar visible to others and view others’ calendars in Outlook 2007.</dc:description>
  <cp:keywords>EPE;guide;guides;productivity;learn;help;self;how;tools;solutions;quick;training;resource;get started;getting started;start;first steps;share;permissions;view;access;grant;allow;calendar;schedule;</cp:keywords>
  <dc:language>en-US</dc:language>
  <cp:lastModifiedBy/>
  <dcterms:modified xsi:type="dcterms:W3CDTF">2007-05-04T17:41:28Z</dcterms:modified>
  <cp:revision>75</cp:revision>
  <dc:subject/>
  <dc:title>Sharing Outlook 2007 Calendars Get Started (Beta 2 Technical Refresh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Guide Title">
    <vt:lpwstr>Sharing Outlook 2007 Calendars Get Started</vt:lpwstr>
  </property>
  <property fmtid="{D5CDD505-2E9C-101B-9397-08002B2CF9AE}" pid="7" name="Keywords">
    <vt:lpwstr>EPE;guide;guides;productivity;learn;help;self;how;tools;solutions;quick;training;resource;get started;getting started;start;first steps;share;permissions;view;access;grant;allow;calendar;schedule;</vt:lpwstr>
  </property>
  <property fmtid="{D5CDD505-2E9C-101B-9397-08002B2CF9AE}" pid="8" name="Notes0">
    <vt:lpwstr>All Done.</vt:lpwstr>
  </property>
  <property fmtid="{D5CDD505-2E9C-101B-9397-08002B2CF9AE}" pid="9" name="Order">
    <vt:lpwstr>18800.0000000000</vt:lpwstr>
  </property>
  <property fmtid="{D5CDD505-2E9C-101B-9397-08002B2CF9AE}" pid="10" name="Short Description">
    <vt:lpwstr>Make your calendar visible to others and view others’ calendars in Outlook 2007.</vt:lpwstr>
  </property>
  <property fmtid="{D5CDD505-2E9C-101B-9397-08002B2CF9AE}" pid="11" name="Slides">
    <vt:lpwstr>4</vt:lpwstr>
  </property>
  <property fmtid="{D5CDD505-2E9C-101B-9397-08002B2CF9AE}" pid="12" name="Status/Notes">
    <vt:lpwstr>In Security Review (7/14)</vt:lpwstr>
  </property>
  <property fmtid="{D5CDD505-2E9C-101B-9397-08002B2CF9AE}" pid="13" name="Subject">
    <vt:lpwstr/>
  </property>
  <property fmtid="{D5CDD505-2E9C-101B-9397-08002B2CF9AE}" pid="14" name="Writer">
    <vt:lpwstr>TBD</vt:lpwstr>
  </property>
  <property fmtid="{D5CDD505-2E9C-101B-9397-08002B2CF9AE}" pid="15" name="_Author">
    <vt:lpwstr/>
  </property>
  <property fmtid="{D5CDD505-2E9C-101B-9397-08002B2CF9AE}" pid="16" name="_Category">
    <vt:lpwstr/>
  </property>
  <property fmtid="{D5CDD505-2E9C-101B-9397-08002B2CF9AE}" pid="17" name="_Comments">
    <vt:lpwstr>Make your calendar visible to others and view others’ calendars in Outlook 2007.</vt:lpwstr>
  </property>
</Properties>
</file>