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8594640" y="7400880"/>
            <a:ext cx="10159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8D5C-A69B-4E47-9D03-58DEDB873B6C}" type="slidenum">
              <a:rPr b="1" lang="en-US" sz="16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 of 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9" descr="SharePoint Surveys.png"/>
          <p:cNvPicPr/>
          <p:nvPr/>
        </p:nvPicPr>
        <p:blipFill>
          <a:blip r:embed="rId2"/>
          <a:stretch/>
        </p:blipFill>
        <p:spPr>
          <a:xfrm>
            <a:off x="-4680" y="322200"/>
            <a:ext cx="10058400" cy="941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Blue_AccentBand_rgb_PNG1.png"/>
          <p:cNvPicPr/>
          <p:nvPr/>
        </p:nvPicPr>
        <p:blipFill>
          <a:blip r:embed="rId3"/>
          <a:stretch/>
        </p:blipFill>
        <p:spPr>
          <a:xfrm>
            <a:off x="0" y="7192800"/>
            <a:ext cx="10058400" cy="171720"/>
          </a:xfrm>
          <a:prstGeom prst="rect">
            <a:avLst/>
          </a:prstGeom>
          <a:ln w="0">
            <a:noFill/>
          </a:ln>
        </p:spPr>
      </p:pic>
      <p:sp>
        <p:nvSpPr>
          <p:cNvPr id="3" name="Footer Placeholder 3"/>
          <p:cNvSpPr/>
          <p:nvPr/>
        </p:nvSpPr>
        <p:spPr>
          <a:xfrm>
            <a:off x="457200" y="739296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5"/>
          <p:cNvSpPr/>
          <p:nvPr/>
        </p:nvSpPr>
        <p:spPr>
          <a:xfrm>
            <a:off x="442800" y="1438200"/>
            <a:ext cx="4343400" cy="1763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420840" y="1733400"/>
            <a:ext cx="4343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icrosof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Windows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harePoin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rvices Surveys offer a quick and easy way to gather user opinions about products, features, designs, and ideas—and to measure user satisfaction concerning services, programs, and deployment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sing this guide you will learn to: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57200" y="3724200"/>
            <a:ext cx="434340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en your SharePoint site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top link bar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ge, scroll down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urvey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urve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457200" y="3683160"/>
            <a:ext cx="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458280" y="42465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22"/>
          <p:cNvSpPr/>
          <p:nvPr/>
        </p:nvSpPr>
        <p:spPr>
          <a:xfrm>
            <a:off x="5260320" y="421020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 Box 32"/>
          <p:cNvSpPr/>
          <p:nvPr/>
        </p:nvSpPr>
        <p:spPr>
          <a:xfrm>
            <a:off x="457200" y="3314880"/>
            <a:ext cx="434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reate a Surve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37"/>
          <p:cNvSpPr/>
          <p:nvPr/>
        </p:nvSpPr>
        <p:spPr>
          <a:xfrm>
            <a:off x="458280" y="464040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38"/>
          <p:cNvSpPr/>
          <p:nvPr/>
        </p:nvSpPr>
        <p:spPr>
          <a:xfrm>
            <a:off x="5259240" y="1598760"/>
            <a:ext cx="17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260320" y="28623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270400" y="1630440"/>
            <a:ext cx="196560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Survey Name&gt;: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d Ques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Question and Typ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ction, type the question that you want to ask, and then select the type of answer that you wan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al settings for your ques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ction, select the other options that you want for the answer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 available options depend on the type of answer that you select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 add more questions to the survey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Next Ques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adding all the questions, save the survey by clicking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Finish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12" descr=""/>
          <p:cNvPicPr/>
          <p:nvPr/>
        </p:nvPicPr>
        <p:blipFill>
          <a:blip r:embed="rId1"/>
          <a:stretch/>
        </p:blipFill>
        <p:spPr>
          <a:xfrm>
            <a:off x="639720" y="3989520"/>
            <a:ext cx="2239920" cy="264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8"/>
          <p:cNvSpPr/>
          <p:nvPr/>
        </p:nvSpPr>
        <p:spPr>
          <a:xfrm>
            <a:off x="560520" y="4667400"/>
            <a:ext cx="1736640" cy="26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w Surve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type a name and description for your survey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avigation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ction, select whether a link to the survey appears in the Quick Launch bar of the site’s homepage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Survey Option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ction,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lect whether users' names will appear in survey results, and the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Picture 20" descr=""/>
          <p:cNvPicPr/>
          <p:nvPr/>
        </p:nvPicPr>
        <p:blipFill>
          <a:blip r:embed="rId2"/>
          <a:stretch/>
        </p:blipFill>
        <p:spPr>
          <a:xfrm>
            <a:off x="2278080" y="4670280"/>
            <a:ext cx="2476440" cy="2190960"/>
          </a:xfrm>
          <a:prstGeom prst="rect">
            <a:avLst/>
          </a:prstGeom>
          <a:ln w="324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4" name="Picture 24" descr=""/>
          <p:cNvPicPr/>
          <p:nvPr/>
        </p:nvPicPr>
        <p:blipFill>
          <a:blip r:embed="rId3"/>
          <a:stretch/>
        </p:blipFill>
        <p:spPr>
          <a:xfrm>
            <a:off x="7178760" y="1600200"/>
            <a:ext cx="2352600" cy="4105440"/>
          </a:xfrm>
          <a:prstGeom prst="rect">
            <a:avLst/>
          </a:prstGeom>
          <a:ln w="324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5" name="Text Box 25"/>
          <p:cNvSpPr/>
          <p:nvPr/>
        </p:nvSpPr>
        <p:spPr>
          <a:xfrm>
            <a:off x="5346720" y="5853240"/>
            <a:ext cx="429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ip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choosing answer types, consider how you want to use the collected data. For example, you can easily compare responses to multiple-choice, numerical-rating, and yes-or-no questions. Whereas, open-ended questions are more difficult to compare, but they might be valuable for collecting information that you cannot collect using other types of question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571680" y="251928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reate a Surve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eview a Surve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nd a Survey Lin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iew Resul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5260320" y="466092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28"/>
          <p:cNvSpPr/>
          <p:nvPr/>
        </p:nvSpPr>
        <p:spPr>
          <a:xfrm>
            <a:off x="458280" y="531972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30"/>
          <p:cNvSpPr/>
          <p:nvPr/>
        </p:nvSpPr>
        <p:spPr>
          <a:xfrm>
            <a:off x="458280" y="626904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547560" y="6921360"/>
            <a:ext cx="444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ther users can respond to the same survey multiple times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2295360" y="4681440"/>
            <a:ext cx="1371600" cy="9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34"/>
          <p:cNvSpPr/>
          <p:nvPr/>
        </p:nvSpPr>
        <p:spPr>
          <a:xfrm>
            <a:off x="7226280" y="1643040"/>
            <a:ext cx="16621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Picture 36" descr="AboutSPSurveys"/>
          <p:cNvPicPr/>
          <p:nvPr/>
        </p:nvPicPr>
        <p:blipFill>
          <a:blip r:embed="rId4"/>
          <a:stretch/>
        </p:blipFill>
        <p:spPr>
          <a:xfrm>
            <a:off x="431640" y="1360440"/>
            <a:ext cx="43452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2"/>
          <p:cNvSpPr/>
          <p:nvPr/>
        </p:nvSpPr>
        <p:spPr>
          <a:xfrm>
            <a:off x="5259240" y="13906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Send a Survey Lin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457200" y="13795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Preview a Surve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390600" y="1693800"/>
            <a:ext cx="4298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fter creating the survey, preview the survey to confirm that it looks as intended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Text Box 27"/>
          <p:cNvSpPr/>
          <p:nvPr/>
        </p:nvSpPr>
        <p:spPr>
          <a:xfrm>
            <a:off x="5176800" y="1746360"/>
            <a:ext cx="42991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fter confirming that your survey looks as intended, send out the survey. You can send a URL that takes survey recipients directly to the survey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Text Box 28"/>
          <p:cNvSpPr/>
          <p:nvPr/>
        </p:nvSpPr>
        <p:spPr>
          <a:xfrm>
            <a:off x="457200" y="2241720"/>
            <a:ext cx="427032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your SharePoint sit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cuments and Lis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top link bar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Documents and Lists page, scroll down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urvey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the survey name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457200" y="2187720"/>
            <a:ext cx="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32"/>
          <p:cNvSpPr/>
          <p:nvPr/>
        </p:nvSpPr>
        <p:spPr>
          <a:xfrm>
            <a:off x="457200" y="2676600"/>
            <a:ext cx="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5259240" y="2201760"/>
            <a:ext cx="427068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your SharePoint sit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cuments and Lis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top link bar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Documents and Lists page, scroll down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urvey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the survey name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 Box 35"/>
          <p:cNvSpPr/>
          <p:nvPr/>
        </p:nvSpPr>
        <p:spPr>
          <a:xfrm>
            <a:off x="5257800" y="2700360"/>
            <a:ext cx="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5259240" y="2171880"/>
            <a:ext cx="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 Box 39"/>
          <p:cNvSpPr/>
          <p:nvPr/>
        </p:nvSpPr>
        <p:spPr>
          <a:xfrm>
            <a:off x="457200" y="3197160"/>
            <a:ext cx="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 Box 40"/>
          <p:cNvSpPr/>
          <p:nvPr/>
        </p:nvSpPr>
        <p:spPr>
          <a:xfrm>
            <a:off x="457200" y="4724280"/>
            <a:ext cx="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 Box 41"/>
          <p:cNvSpPr/>
          <p:nvPr/>
        </p:nvSpPr>
        <p:spPr>
          <a:xfrm>
            <a:off x="457200" y="5172120"/>
            <a:ext cx="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259240" y="3225960"/>
            <a:ext cx="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5259240" y="4179960"/>
            <a:ext cx="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47" descr=""/>
          <p:cNvPicPr/>
          <p:nvPr/>
        </p:nvPicPr>
        <p:blipFill>
          <a:blip r:embed="rId1"/>
          <a:stretch/>
        </p:blipFill>
        <p:spPr>
          <a:xfrm>
            <a:off x="7040520" y="3233880"/>
            <a:ext cx="2349720" cy="1782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0" name="Picture 52" descr=""/>
          <p:cNvPicPr/>
          <p:nvPr/>
        </p:nvPicPr>
        <p:blipFill>
          <a:blip r:embed="rId2"/>
          <a:stretch/>
        </p:blipFill>
        <p:spPr>
          <a:xfrm>
            <a:off x="658800" y="3686040"/>
            <a:ext cx="2257560" cy="819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3"/>
          <p:cNvSpPr/>
          <p:nvPr/>
        </p:nvSpPr>
        <p:spPr>
          <a:xfrm>
            <a:off x="569880" y="3246480"/>
            <a:ext cx="38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Survey Name&gt;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spond to this Surve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 Box 54"/>
          <p:cNvSpPr/>
          <p:nvPr/>
        </p:nvSpPr>
        <p:spPr>
          <a:xfrm>
            <a:off x="569880" y="4802040"/>
            <a:ext cx="4114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eview the survey to confirm that it looks as intend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fter previewing the survey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o Back to Surve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5364000" y="3246480"/>
            <a:ext cx="164628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page displaying your survey title, right-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spond to this Surve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nd select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py Shortcu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reate an e-mail message, and then paste the shortcut from Step 3 into the message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386320" y="5245200"/>
            <a:ext cx="429732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ip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drafting the e-mail message to survey recipients, be sure to include the following: 1) a concise description of what data the survey will collect and how the data will be used, 2) how long the survey will take a user to complete, and 3) whether the survey is anonymou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57"/>
          <p:cNvSpPr/>
          <p:nvPr/>
        </p:nvSpPr>
        <p:spPr>
          <a:xfrm>
            <a:off x="2784600" y="3168720"/>
            <a:ext cx="1371600" cy="9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58"/>
          <p:cNvSpPr/>
          <p:nvPr/>
        </p:nvSpPr>
        <p:spPr>
          <a:xfrm>
            <a:off x="7593120" y="3300480"/>
            <a:ext cx="1371600" cy="9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59"/>
          <p:cNvSpPr/>
          <p:nvPr/>
        </p:nvSpPr>
        <p:spPr>
          <a:xfrm>
            <a:off x="1463760" y="3784680"/>
            <a:ext cx="8222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60"/>
          <p:cNvSpPr/>
          <p:nvPr/>
        </p:nvSpPr>
        <p:spPr>
          <a:xfrm>
            <a:off x="1463760" y="3781440"/>
            <a:ext cx="82224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8"/>
          <p:cNvSpPr/>
          <p:nvPr/>
        </p:nvSpPr>
        <p:spPr>
          <a:xfrm>
            <a:off x="5261040" y="14176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rebuchet MS"/>
              </a:rPr>
              <a:t>View a Graphical Summary of All Survey Respon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243400" y="175896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5254200" y="235116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5254200" y="282240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5261040" y="1784520"/>
            <a:ext cx="42973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your SharePoint sit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cuments and Lis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n the top link bar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Documents and Lists page, scroll down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urvey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the survey response you want to view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&lt;Survey Name&gt; pag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raphical Summar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19" descr=""/>
          <p:cNvPicPr/>
          <p:nvPr/>
        </p:nvPicPr>
        <p:blipFill>
          <a:blip r:embed="rId1"/>
          <a:stretch/>
        </p:blipFill>
        <p:spPr>
          <a:xfrm>
            <a:off x="6686640" y="3213000"/>
            <a:ext cx="2743200" cy="2227320"/>
          </a:xfrm>
          <a:prstGeom prst="rect">
            <a:avLst/>
          </a:prstGeom>
          <a:ln w="324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5" name="Text Box 22"/>
          <p:cNvSpPr/>
          <p:nvPr/>
        </p:nvSpPr>
        <p:spPr>
          <a:xfrm>
            <a:off x="447840" y="2698920"/>
            <a:ext cx="42066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your SharePoint sit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cuments and Lis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n the top link bar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Documents and Lists page, scroll down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urvey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the survey response you want to view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Survey Name&gt;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ll Respons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View Response column, click the response that you want to view. An example of an individual response is shown below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447840" y="26575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448920" y="327348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25"/>
          <p:cNvSpPr/>
          <p:nvPr/>
        </p:nvSpPr>
        <p:spPr>
          <a:xfrm>
            <a:off x="480960" y="228600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rebuchet MS"/>
              </a:rPr>
              <a:t>View an Individual Survey Respon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26"/>
          <p:cNvSpPr/>
          <p:nvPr/>
        </p:nvSpPr>
        <p:spPr>
          <a:xfrm>
            <a:off x="448920" y="388764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457200" y="1711440"/>
            <a:ext cx="42973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users respond to your survey, your SharePoint site stores their responses. You can then view individual survey responses or view a graphical summary showing all respons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29"/>
          <p:cNvSpPr/>
          <p:nvPr/>
        </p:nvSpPr>
        <p:spPr>
          <a:xfrm>
            <a:off x="448920" y="5111640"/>
            <a:ext cx="1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30" descr=""/>
          <p:cNvPicPr/>
          <p:nvPr/>
        </p:nvPicPr>
        <p:blipFill>
          <a:blip r:embed="rId2"/>
          <a:stretch/>
        </p:blipFill>
        <p:spPr>
          <a:xfrm>
            <a:off x="630360" y="4227480"/>
            <a:ext cx="3427200" cy="712800"/>
          </a:xfrm>
          <a:prstGeom prst="rect">
            <a:avLst/>
          </a:prstGeom>
          <a:ln w="324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3" name="Picture 31" descr=""/>
          <p:cNvPicPr/>
          <p:nvPr/>
        </p:nvPicPr>
        <p:blipFill>
          <a:blip r:embed="rId3"/>
          <a:stretch/>
        </p:blipFill>
        <p:spPr>
          <a:xfrm>
            <a:off x="638280" y="5587920"/>
            <a:ext cx="2560680" cy="1567080"/>
          </a:xfrm>
          <a:prstGeom prst="rect">
            <a:avLst/>
          </a:prstGeom>
          <a:ln w="324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4" name="Text Box 32"/>
          <p:cNvSpPr/>
          <p:nvPr/>
        </p:nvSpPr>
        <p:spPr>
          <a:xfrm>
            <a:off x="457200" y="13780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View Resul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35"/>
          <p:cNvSpPr/>
          <p:nvPr/>
        </p:nvSpPr>
        <p:spPr>
          <a:xfrm>
            <a:off x="5334120" y="3284640"/>
            <a:ext cx="1207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r SharePoint site then displays graphs of the responses, showing you how many of each response has been recei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8:00:00Z</dcterms:created>
  <dc:creator/>
  <dc:description/>
  <dc:language>en-US</dc:language>
  <cp:lastModifiedBy/>
  <dcterms:modified xsi:type="dcterms:W3CDTF">2007-05-04T17:30:14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hase">
    <vt:lpwstr>6. Revision 2</vt:lpwstr>
  </property>
</Properties>
</file>