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058400" cy="77724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729468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5f5f5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This document is for informational purposes only.  MICROSOFT MAKES NO WARRANTIES, EXPRESS OR IMPLIED, IN THIS DOCUMEN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© 2006 Microsoft Corporation. 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4" descr="Blue_AccentBand_rgb_PNG1.png"/>
          <p:cNvPicPr/>
          <p:nvPr/>
        </p:nvPicPr>
        <p:blipFill>
          <a:blip r:embed="rId2"/>
          <a:stretch/>
        </p:blipFill>
        <p:spPr>
          <a:xfrm>
            <a:off x="0" y="7112160"/>
            <a:ext cx="10058400" cy="1713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7" descr="CreatingStrongPW_BP.png"/>
          <p:cNvPicPr/>
          <p:nvPr/>
        </p:nvPicPr>
        <p:blipFill>
          <a:blip r:embed="rId3"/>
          <a:stretch/>
        </p:blipFill>
        <p:spPr>
          <a:xfrm>
            <a:off x="0" y="223920"/>
            <a:ext cx="1005840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4" descr="Blue_AccentBand_rgb_PNG1.png"/>
          <p:cNvPicPr/>
          <p:nvPr/>
        </p:nvPicPr>
        <p:blipFill>
          <a:blip r:embed="rId2"/>
          <a:stretch/>
        </p:blipFill>
        <p:spPr>
          <a:xfrm>
            <a:off x="0" y="7112160"/>
            <a:ext cx="10058400" cy="1713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7" descr="CreatingStrongPW_BP.png"/>
          <p:cNvPicPr/>
          <p:nvPr/>
        </p:nvPicPr>
        <p:blipFill>
          <a:blip r:embed="rId3"/>
          <a:stretch/>
        </p:blipFill>
        <p:spPr>
          <a:xfrm>
            <a:off x="0" y="223920"/>
            <a:ext cx="10058400" cy="9428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Eurostil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826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Footer Placeholder 3"/>
          <p:cNvSpPr/>
          <p:nvPr/>
        </p:nvSpPr>
        <p:spPr>
          <a:xfrm>
            <a:off x="457200" y="7294680"/>
            <a:ext cx="9144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This document is for informational purposes only.  MICROSOFT MAKES NO WARRANTIES, EXPRESS OR IMPLIED, IN THIS DOCUMEN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© 2006 Microsoft Corporation. 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1"/>
          <p:cNvSpPr/>
          <p:nvPr/>
        </p:nvSpPr>
        <p:spPr>
          <a:xfrm>
            <a:off x="434880" y="2971800"/>
            <a:ext cx="4267440" cy="39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8600" indent="-228600">
              <a:lnSpc>
                <a:spcPct val="100000"/>
              </a:lnSpc>
              <a:spcBef>
                <a:spcPts val="624"/>
              </a:spcBef>
              <a:buClr>
                <a:srgbClr val="0099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Make non-administrator passwords at least 8 characters long.</a:t>
            </a:r>
            <a:br>
              <a:rPr sz="16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trong non-administrator passwords (passwords that allow access to sites and accounts) must have at least eight character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24"/>
              </a:spcBef>
              <a:buClr>
                <a:srgbClr val="0099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Make administrator passwords at least 15 characters long.</a:t>
            </a:r>
            <a:br>
              <a:rPr sz="16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trong administrator passwords (passwords that allow users to control systems, networks, or accounts) must have at least eight character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24"/>
              </a:spcBef>
              <a:buClr>
                <a:srgbClr val="0099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Use both uppercase and lowercase letters</a:t>
            </a:r>
            <a:br>
              <a:rPr sz="16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trong passwords must use a combination of uppercase and lowercase letters. Example: LPtRfWs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24"/>
              </a:spcBef>
              <a:buClr>
                <a:srgbClr val="0099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Include digits and punctuation marks.</a:t>
            </a:r>
            <a:br>
              <a:rPr sz="16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trong passwords should also use digits or punctuation in combination with letters. Example: LP4Rf7W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24"/>
              </a:spcBef>
              <a:buClr>
                <a:srgbClr val="0099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Do not use words in the password.</a:t>
            </a:r>
            <a:br>
              <a:rPr sz="16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Don’t create passwords from words in any language, slang, dialect, or jargon. Passwords should make sense only to you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66"/>
          <p:cNvSpPr/>
          <p:nvPr/>
        </p:nvSpPr>
        <p:spPr>
          <a:xfrm>
            <a:off x="457200" y="1614600"/>
            <a:ext cx="4343400" cy="115416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457200" y="1765440"/>
            <a:ext cx="43434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137160" tIns="0" bIns="0" anchor="t">
            <a:noAutofit/>
          </a:bodyPr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trong passwords protect your data as well as the entire corporate network. A poorly chosen password can be easily guessed. If this happens, a security breach can compromise the entire network. In general, a strong password is one that is long enough and unusual enough that it cannot be readily guess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70" descr="About Box"/>
          <p:cNvPicPr/>
          <p:nvPr/>
        </p:nvPicPr>
        <p:blipFill>
          <a:blip r:embed="rId1"/>
          <a:stretch/>
        </p:blipFill>
        <p:spPr>
          <a:xfrm>
            <a:off x="455760" y="1495440"/>
            <a:ext cx="4343400" cy="3268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3"/>
          <p:cNvSpPr/>
          <p:nvPr/>
        </p:nvSpPr>
        <p:spPr>
          <a:xfrm>
            <a:off x="5256360" y="1590840"/>
            <a:ext cx="4343400" cy="33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8600" indent="-228600">
              <a:lnSpc>
                <a:spcPct val="100000"/>
              </a:lnSpc>
              <a:spcBef>
                <a:spcPts val="624"/>
              </a:spcBef>
              <a:buClr>
                <a:srgbClr val="009900"/>
              </a:buClr>
              <a:buFont typeface="Trebuchet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Do not use words with Os and l’s changed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Don’t try to circumvent the previous practice by changing Os in a word to zeroes, or changing l’s to pipes (vertical bars).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24"/>
              </a:spcBef>
              <a:buClr>
                <a:srgbClr val="009900"/>
              </a:buClr>
              <a:buFont typeface="Trebuchet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Do not use passwords from other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accounts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Don’t use the same passwords, even strong passwords, for different accounts. Each of your accounts should have a unique passwor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24"/>
              </a:spcBef>
              <a:buClr>
                <a:srgbClr val="009900"/>
              </a:buClr>
              <a:buFont typeface="Trebuchet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Do not create passwords based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on names.</a:t>
            </a:r>
            <a:br>
              <a:rPr sz="16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Don’t use personal or family names to create a password. Don’t use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itles either—that is, don’t use the name of a book, a song, or a movi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24"/>
              </a:spcBef>
              <a:buClr>
                <a:srgbClr val="009900"/>
              </a:buClr>
              <a:buFont typeface="Trebuchet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Do not sequence passwords.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Don’t add a number or letter to a previous password to create a new password. For instance, don’t change “LP4Rf7W!” to “LP4Rf7W!2”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4T16:03:12Z</dcterms:created>
  <dc:creator>IT Productivity</dc:creator>
  <dc:description>Create strong passwords to help stop hackers from accessing the corporate network.</dc:description>
  <cp:keywords>best practices;best practice;EPE;guide;guides;productivity;learn;help;self;how;tools;solutions;quick;training;resource;passwords; requirements; guidelines;</cp:keywords>
  <dc:language>en-US</dc:language>
  <cp:lastModifiedBy>jbevan</cp:lastModifiedBy>
  <dcterms:modified xsi:type="dcterms:W3CDTF">2006-12-18T17:52:06Z</dcterms:modified>
  <cp:revision>145</cp:revision>
  <dc:subject/>
  <dc:title>Create Strong Passwords Best Practic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tatus/Notes">
    <vt:lpwstr>;#Done;#Check Screenshots;#</vt:lpwstr>
  </property>
</Properties>
</file>