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5BF-FB9E-4B59-818F-4A8466C7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36B-01F5-4CAB-AD48-965A3C60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8EA-E702-45A9-A3DD-E0F5B9D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33A-BED2-422E-99B7-0AAB9CB9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ACB-8018-4869-80E4-1C68715F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740-306D-4477-8A9B-70E7EB3B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209-9137-4E72-9D5D-6B0CF4D2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32F-E94F-40BD-9D7B-D5E9CFA6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F47-8535-40EE-91EF-84621EE2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7C2-42EB-483B-B0D5-D597297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3B4-97D5-410D-A208-37C8FC5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E55-8C6B-4028-B257-A6F6DDA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D7CB-0348-4DCF-8C05-98B84FE2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20360" cy="6534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56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43600" y="6705720"/>
            <a:ext cx="45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2006 280 Group LLC. All rights reserved. May not be distributed without prior written per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76320" y="-31680"/>
            <a:ext cx="45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2006 280 Group LLC. All rights reserved. May not be distributed without prior written per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duct Roadmap Toolk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 slide narrated seminar cov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oad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tep roadmap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ing features &amp;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types of roadmaps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roduct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olden Feature" Internal/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d Release Internal/E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-Based Internal/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&amp;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ve, Market &amp; Tech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acros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Templates (quarterly, multi-year, combin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prior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prior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30 Minute 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9144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619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ate more compelling and effective Product Roadmaps in less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10400" y="2209680"/>
            <a:ext cx="22669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095880" y="4876920"/>
            <a:ext cx="2057400" cy="1128600"/>
            <a:chOff x="6095880" y="4876920"/>
            <a:chExt cx="2057400" cy="11286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4920120"/>
              <a:ext cx="205740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39080" y="4876920"/>
              <a:ext cx="1997640" cy="11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19720" y="3405240"/>
            <a:ext cx="2514600" cy="1471320"/>
            <a:chOff x="4419720" y="3405240"/>
            <a:chExt cx="2514600" cy="14713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4419720" y="3405240"/>
              <a:ext cx="2514600" cy="14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419720" y="3453840"/>
              <a:ext cx="2502360" cy="142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29400" y="3352680"/>
            <a:ext cx="22384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s Of Roadma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&amp;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2669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4343400" y="4586400"/>
            <a:ext cx="2057400" cy="1128600"/>
            <a:chOff x="4343400" y="4586400"/>
            <a:chExt cx="2057400" cy="11286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343400" y="4629600"/>
              <a:ext cx="205740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86600" y="4586400"/>
              <a:ext cx="1997640" cy="11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581280" y="2971800"/>
            <a:ext cx="2514600" cy="1471320"/>
            <a:chOff x="3581280" y="2971800"/>
            <a:chExt cx="2514600" cy="147132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3581280" y="2971800"/>
              <a:ext cx="2514600" cy="14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81280" y="3020400"/>
              <a:ext cx="2502360" cy="142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91320" y="3124080"/>
            <a:ext cx="223812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tact the 280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Law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, 280 Group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@ 280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280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8-832-1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2:15:29Z</dcterms:created>
  <dc:creator>Brian Lawley</dc:creator>
  <dc:description>Copyright 2006 280 Group LLC. All rights reserved. May not be distributed without prior written permission.</dc:description>
  <cp:keywords>Product Roadmap Toolkit Presentation</cp:keywords>
  <dc:language>en-US</dc:language>
  <cp:lastModifiedBy>Brian Lawley</cp:lastModifiedBy>
  <dcterms:modified xsi:type="dcterms:W3CDTF">2006-06-05T23:35:29Z</dcterms:modified>
  <cp:revision>62</cp:revision>
  <dc:subject>Product Roadmaps</dc:subject>
  <dc:title>Product Roadmap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PCBAUDREPEAT_">
    <vt:lpwstr>255</vt:lpwstr>
  </property>
  <property fmtid="{D5CDD505-2E9C-101B-9397-08002B2CF9AE}" pid="3" name="_TPCBAUDVOL_">
    <vt:lpwstr>100</vt:lpwstr>
  </property>
  <property fmtid="{D5CDD505-2E9C-101B-9397-08002B2CF9AE}" pid="4" name="_TPCBAUD_">
    <vt:lpwstr>0</vt:lpwstr>
  </property>
  <property fmtid="{D5CDD505-2E9C-101B-9397-08002B2CF9AE}" pid="5" name="_TPCNAME_">
    <vt:lpwstr>PRTK Compelling Product Roadmaps</vt:lpwstr>
  </property>
  <property fmtid="{D5CDD505-2E9C-101B-9397-08002B2CF9AE}" pid="6" name="_TPCNOAUDIO_">
    <vt:lpwstr>0</vt:lpwstr>
  </property>
  <property fmtid="{D5CDD505-2E9C-101B-9397-08002B2CF9AE}" pid="7" name="_TPCREQSCORE_">
    <vt:lpwstr>75</vt:lpwstr>
  </property>
  <property fmtid="{D5CDD505-2E9C-101B-9397-08002B2CF9AE}" pid="8" name="_TPCSCORED_">
    <vt:lpwstr>1</vt:lpwstr>
  </property>
  <property fmtid="{D5CDD505-2E9C-101B-9397-08002B2CF9AE}" pid="9" name="_TPCSTIMING_">
    <vt:lpwstr>10.000000</vt:lpwstr>
  </property>
</Properties>
</file>