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CDE3-E324-41C6-8504-3B7F305820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E13D600-8B80-4B6A-8768-21CE1F31216A}" type="datetime10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:2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ldImg"/>
          </p:nvPr>
        </p:nvSpPr>
        <p:spPr>
          <a:xfrm>
            <a:off x="1498320" y="266760"/>
            <a:ext cx="4203720" cy="31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N-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2"/>
          </p:nvPr>
        </p:nvSpPr>
        <p:spPr>
          <a:xfrm>
            <a:off x="-360" y="8792640"/>
            <a:ext cx="566748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Segoe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egoe"/>
                <a:ea typeface="Arial"/>
              </a:rPr>
              <a:t>©2005 Microsoft Corporati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egoe"/>
                <a:ea typeface="Arial"/>
              </a:rPr>
              <a:t>This presentation is for informational purposes only. Microsoft makes no warranties, express or implied, in this summar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3"/>
          </p:nvPr>
        </p:nvSpPr>
        <p:spPr>
          <a:xfrm>
            <a:off x="5582880" y="8799120"/>
            <a:ext cx="12733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AB8C-9AF2-44FC-BE17-45CB0BC82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B955-BFDA-4624-A580-12E06890C45B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C8495B49-D0B9-4F8C-A296-BF9282DF0863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:23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3624-1FFF-4D8E-BB57-CCF0F3937B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9967-3261-43BC-A7FD-558407BB21A3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E67AC3C5-7E65-45B2-B934-B368D7B81FCC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:23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F282-F9A6-4077-A19B-A190DE4BFE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7E23-48A0-437E-970F-75FBC65DFA7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7F1D2F0D-474F-4998-92E8-EEE545D34421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:23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0F4C-2487-4CA5-BF3B-4571E41466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AA90-00F2-47B4-912B-C2D6421B6641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E4B86ADD-95A4-48EF-9394-63E3B399F25B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:23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05D5-57F6-439B-87F2-68CD5C0080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505A-E4D8-49DB-B801-C8E0B174BBAF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651F75E1-2F70-4DC7-8FA9-9B3C7AED9658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:23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C7F7-5ED4-4BD9-B8EE-1170D8BA1D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2A6A-3449-4FDE-9A52-A638195C6BC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A9B2D1A3-117E-47BA-B0BE-5460DC51EEC1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:23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AC59-972F-42FB-8930-21C363B973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F3DC-6522-4F05-A198-320FDEDAD10E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B3B9AC2B-2974-424A-BF2F-C794FE761340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:23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2C31-D7B1-4019-A4F3-1C895338C7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5FE1-31C2-40FD-85EA-1BFCCF44830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5AF7643E-0378-40F5-88C0-FF12A47FB93F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:23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B67D-1031-49C8-B46E-7C0919BADA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3D25-3BA8-4603-BBBD-80C24200A2EE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892F81D2-02BF-4C26-B732-DB3948F5DE46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:23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B0A6-DF6B-4C94-B858-F08BA115CB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1825-F27A-4133-AA49-FD59C36C097A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F8EE7DF8-646D-4E51-A224-DBF6AF6E80C5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:23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3F7B-C3F0-4317-8157-CA4D250BA6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E104-4A85-47F9-B8C5-2E43205F1298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8212CC3E-AEBE-437D-9C2C-8377E84264D6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:23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C52A-2BE1-415B-AFCB-71671D9CCE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5371-7FBD-4718-8396-CA5BE1D6E960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4D9C7E9B-55AE-4119-B42B-9D6198F4E168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:23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908E-04D5-4C32-BFCD-053B7614E0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8C57-F565-4B4C-B1D3-2473431624AB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B3C40177-91F1-4CA9-BB67-B5777F6DD983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:23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6513-DA2B-4FFC-BDB9-BF5A260B66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3043-24E3-47CE-9369-DDE7C21C3155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3026C044-1FF4-43C0-9861-FC74D8ACD920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:23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7910-A54C-4AE8-8B5C-FBF81D714E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B425-5545-46E3-B1C6-60B3199785C4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1F54D5ED-0B5D-48A2-B907-3F83D9843040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:23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4B37-ECA4-44D3-9E37-8509D0588B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3ABC-F594-456E-8C6E-273D0914F257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9021E9C9-3575-4ACF-B2CD-BECD0E9A99CB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:23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51DA-CDC2-4285-8E1D-A3A271152F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2711-FF80-487D-AD42-58EF8B8C1503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FEE81106-1CD9-4973-B934-950B8E86F71A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:23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7082-5D3E-464F-B91B-19C008DB07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0FFF-F404-4A11-A12B-C8B13700E276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B414B504-6D74-4835-A0F2-551BB26005B5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:23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838F-B622-471B-9071-78D0FA8D4B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F93D-B9C2-4B8F-A207-67BA527A9545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236AFBA4-2F07-4AF3-ACF8-CB8CEF49C0B8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:23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4B38-1C83-4F9B-9350-5A5E4CEBF5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0CF7-011E-4D89-B5C6-20886F71A756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6BCD1538-9892-444F-9303-810717853A86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:23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16A8-25F8-4D6C-958C-D7943C1A86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AD83-B32B-459C-A7CB-32C92EDE0A13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71D42107-3D04-4540-9A09-77F15640D759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:23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A506-BA5B-4972-8F93-AB7127352D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5102-2516-473F-8281-B23269F9AD27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D53BD3B8-E348-4CCB-8161-A212DC37B343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:23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0F7A-34C6-41E1-86E6-CB88334202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776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77640" y="198108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77640" y="373248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76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7640" y="198108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08960" y="198108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77640" y="373248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08960" y="373248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776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77640" y="198108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73800" y="198108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69960" y="198108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77640" y="373248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73800" y="373248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69960" y="373248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76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77640" y="1981080"/>
            <a:ext cx="708660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76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7640" y="1981080"/>
            <a:ext cx="7086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76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7640" y="1981080"/>
            <a:ext cx="34581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08960" y="1981080"/>
            <a:ext cx="34581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76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77640" y="38088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76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7640" y="198108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8960" y="1981080"/>
            <a:ext cx="34581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277640" y="373248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776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77640" y="1981080"/>
            <a:ext cx="708660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76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7640" y="1981080"/>
            <a:ext cx="34581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8960" y="198108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08960" y="373248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76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7640" y="198108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8960" y="198108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77640" y="373248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76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7640" y="198108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277640" y="373248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76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7640" y="198108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8960" y="198108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77640" y="373248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908960" y="373248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76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7640" y="198108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73800" y="198108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69960" y="198108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277640" y="373248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73800" y="373248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69960" y="373248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76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77640" y="1981080"/>
            <a:ext cx="708660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76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77640" y="1981080"/>
            <a:ext cx="7086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76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77640" y="1981080"/>
            <a:ext cx="34581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08960" y="1981080"/>
            <a:ext cx="34581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76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76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77640" y="1981080"/>
            <a:ext cx="7086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77640" y="38088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76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77640" y="198108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08960" y="1981080"/>
            <a:ext cx="34581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77640" y="373248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76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77640" y="1981080"/>
            <a:ext cx="34581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08960" y="198108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908960" y="373248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776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7640" y="198108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08960" y="198108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77640" y="373248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776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77640" y="198108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277640" y="373248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76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77640" y="198108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08960" y="198108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77640" y="373248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908960" y="373248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776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7640" y="198108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673800" y="198108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69960" y="198108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277640" y="373248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673800" y="373248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69960" y="373248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776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277640" y="1981080"/>
            <a:ext cx="708660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776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7640" y="1981080"/>
            <a:ext cx="7086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76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7640" y="1981080"/>
            <a:ext cx="34581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08960" y="1981080"/>
            <a:ext cx="34581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76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77640" y="1981080"/>
            <a:ext cx="34581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08960" y="1981080"/>
            <a:ext cx="34581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76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277640" y="38088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776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77640" y="198108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08960" y="1981080"/>
            <a:ext cx="34581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77640" y="373248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776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77640" y="1981080"/>
            <a:ext cx="34581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08960" y="198108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908960" y="373248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76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77640" y="198108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08960" y="198108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77640" y="373248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776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77640" y="198108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277640" y="373248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776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77640" y="198108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08960" y="198108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77640" y="373248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908960" y="373248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776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77640" y="198108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673800" y="198108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69960" y="198108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277640" y="373248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673800" y="373248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69960" y="373248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76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77640" y="38088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76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77640" y="198108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8960" y="1981080"/>
            <a:ext cx="34581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77640" y="373248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776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77640" y="1981080"/>
            <a:ext cx="34581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8960" y="198108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08960" y="373248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776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77640" y="198108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8960" y="198108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77640" y="373248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7320"/>
            <a:ext cx="84441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0320" indent="-4053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249200" indent="-397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584000" indent="-3330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928160" indent="-3427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928160" indent="-3427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928160" indent="-3427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" name="Picture 11" descr="bullet"/>
          <p:cNvPicPr/>
          <p:nvPr/>
        </p:nvPicPr>
        <p:blipFill>
          <a:blip r:embed="rId10"/>
          <a:stretch/>
        </p:blipFill>
        <p:spPr>
          <a:xfrm>
            <a:off x="9336240" y="0"/>
            <a:ext cx="241200" cy="24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GDC07_powerpoint_master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1277640" y="1981080"/>
            <a:ext cx="7086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12776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N-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380880" y="1417320"/>
            <a:ext cx="84441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0320" indent="-4053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249200" indent="-397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584000" indent="-3330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928160" indent="-3427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928160" indent="-3427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928160" indent="-3427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GDC07_pp_art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1277640" y="1981080"/>
            <a:ext cx="7086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2776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N-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msdn.com/directx" TargetMode="External"/><Relationship Id="rId2" Type="http://schemas.openxmlformats.org/officeDocument/2006/relationships/hyperlink" Target="http://forums.microsoft.com/msdn" TargetMode="External"/><Relationship Id="rId3" Type="http://schemas.openxmlformats.org/officeDocument/2006/relationships/hyperlink" Target="http://www.xna.com/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36240" y="1720440"/>
            <a:ext cx="752652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DIN-Black"/>
              </a:rPr>
              <a:t>Advanced Performance Tuning with PIX for Windows</a:t>
            </a: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271520" y="3266640"/>
            <a:ext cx="6878880" cy="12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Segoe"/>
              </a:rPr>
              <a:t>Shanon Drone</a:t>
            </a:r>
            <a:endParaRPr b="0" lang="en-US" sz="2400" spc="-1" strike="noStrike">
              <a:solidFill>
                <a:srgbClr val="000000"/>
              </a:solidFill>
              <a:latin typeface="DIN-Ligh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Segoe"/>
              </a:rPr>
              <a:t>Software Development Engineer</a:t>
            </a:r>
            <a:endParaRPr b="0" lang="en-US" sz="2400" spc="-1" strike="noStrike">
              <a:solidFill>
                <a:srgbClr val="000000"/>
              </a:solidFill>
              <a:latin typeface="DIN-Ligh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Segoe"/>
              </a:rPr>
              <a:t>XNA Developer Connection</a:t>
            </a:r>
            <a:endParaRPr b="0" lang="en-US" sz="2400" spc="-1" strike="noStrike">
              <a:solidFill>
                <a:srgbClr val="000000"/>
              </a:solidFill>
              <a:latin typeface="DIN-Ligh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Segoe"/>
              </a:rPr>
              <a:t>Microsoft</a:t>
            </a:r>
            <a:endParaRPr b="0" lang="en-US" sz="24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5" descr="demo1"/>
          <p:cNvPicPr/>
          <p:nvPr/>
        </p:nvPicPr>
        <p:blipFill>
          <a:blip r:embed="rId1"/>
          <a:stretch/>
        </p:blipFill>
        <p:spPr>
          <a:xfrm>
            <a:off x="1257480" y="1994040"/>
            <a:ext cx="3305160" cy="14191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"/>
          <p:cNvSpPr/>
          <p:nvPr/>
        </p:nvSpPr>
        <p:spPr>
          <a:xfrm>
            <a:off x="1263600" y="228600"/>
            <a:ext cx="749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N-Black"/>
              </a:rPr>
              <a:t>WYSIWYD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3600" y="228240"/>
            <a:ext cx="7499520" cy="11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N-Black"/>
              </a:rPr>
              <a:t>WYSIWYD</a:t>
            </a:r>
            <a:br>
              <a:rPr sz="4000"/>
            </a:br>
            <a:r>
              <a:rPr b="0" lang="en-US" sz="2800" spc="-1" strike="noStrike">
                <a:solidFill>
                  <a:srgbClr val="000066"/>
                </a:solidFill>
                <a:latin typeface="DIN-Black"/>
              </a:rPr>
              <a:t>What you see is what you drew</a:t>
            </a:r>
            <a:endParaRPr b="0" lang="en-US" sz="28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45960" y="1612440"/>
            <a:ext cx="7545240" cy="23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We have thousands of DIP calls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N-Light"/>
              </a:rPr>
              <a:t>D3D9 tends to be batch limited</a:t>
            </a:r>
            <a:endParaRPr b="0" lang="en-US" sz="2400" spc="-1" strike="noStrike">
              <a:solidFill>
                <a:srgbClr val="000000"/>
              </a:solidFill>
              <a:latin typeface="DIN-Light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Mesh view showed that most of these DIP calls were off-screen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N-Light"/>
              </a:rPr>
              <a:t>That’s a pretty good place to optimize</a:t>
            </a:r>
            <a:endParaRPr b="0" lang="en-US" sz="24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PixelDebugging"/>
          <p:cNvPicPr/>
          <p:nvPr/>
        </p:nvPicPr>
        <p:blipFill>
          <a:blip r:embed="rId1"/>
          <a:stretch/>
        </p:blipFill>
        <p:spPr>
          <a:xfrm>
            <a:off x="1271520" y="741240"/>
            <a:ext cx="7321680" cy="56851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25520" y="110880"/>
            <a:ext cx="697536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N-Black"/>
              </a:rPr>
              <a:t>Debugging Pixels</a:t>
            </a: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25520" y="380520"/>
            <a:ext cx="697536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N-Black"/>
              </a:rPr>
              <a:t>Debugging Pixels</a:t>
            </a: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53880" y="1155600"/>
            <a:ext cx="7537320" cy="34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Culling / Batching some of the DIP calls has improved performance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Grass seems to be our next slowdown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FPS is higher with grass disabled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We’re not batch limited because we’re drawing all grass with 1 DIP call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Use Pixel History and Pixel Debugging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5" descr="demo1"/>
          <p:cNvPicPr/>
          <p:nvPr/>
        </p:nvPicPr>
        <p:blipFill>
          <a:blip r:embed="rId1"/>
          <a:stretch/>
        </p:blipFill>
        <p:spPr>
          <a:xfrm>
            <a:off x="1257480" y="1959120"/>
            <a:ext cx="3305160" cy="14191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2"/>
          <p:cNvSpPr/>
          <p:nvPr/>
        </p:nvSpPr>
        <p:spPr>
          <a:xfrm>
            <a:off x="1254240" y="228600"/>
            <a:ext cx="750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N-Black"/>
              </a:rPr>
              <a:t>Debugging Pixel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PixelHistory"/>
          <p:cNvPicPr/>
          <p:nvPr/>
        </p:nvPicPr>
        <p:blipFill>
          <a:blip r:embed="rId1"/>
          <a:stretch/>
        </p:blipFill>
        <p:spPr>
          <a:xfrm>
            <a:off x="1251000" y="770040"/>
            <a:ext cx="7272360" cy="56466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2"/>
          <p:cNvSpPr/>
          <p:nvPr/>
        </p:nvSpPr>
        <p:spPr>
          <a:xfrm>
            <a:off x="1262160" y="141120"/>
            <a:ext cx="75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N-Black"/>
              </a:rPr>
              <a:t>Debugging Pixel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AutoShape 6"/>
          <p:cNvSpPr/>
          <p:nvPr/>
        </p:nvSpPr>
        <p:spPr>
          <a:xfrm rot="1350600">
            <a:off x="4691160" y="4096800"/>
            <a:ext cx="1725480" cy="252720"/>
          </a:xfrm>
          <a:prstGeom prst="leftArrow">
            <a:avLst>
              <a:gd name="adj1" fmla="val 50000"/>
              <a:gd name="adj2" fmla="val 17069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AutoShape 7"/>
          <p:cNvSpPr/>
          <p:nvPr/>
        </p:nvSpPr>
        <p:spPr>
          <a:xfrm rot="19456800">
            <a:off x="4716360" y="5504040"/>
            <a:ext cx="1725840" cy="252360"/>
          </a:xfrm>
          <a:prstGeom prst="leftArrow">
            <a:avLst>
              <a:gd name="adj1" fmla="val 50000"/>
              <a:gd name="adj2" fmla="val 1709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6350040" y="4535640"/>
            <a:ext cx="15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Sam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25520" y="380520"/>
            <a:ext cx="697536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N-Black"/>
              </a:rPr>
              <a:t>Debugging Pixels</a:t>
            </a: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53880" y="1155240"/>
            <a:ext cx="7537320" cy="231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Huge numbers of frame buffer writes that do not actually change the color of the pixel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AKA: We’re doing tons of extra work for no visual impact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scanning2"/>
          <p:cNvPicPr/>
          <p:nvPr/>
        </p:nvPicPr>
        <p:blipFill>
          <a:blip r:embed="rId1"/>
          <a:stretch/>
        </p:blipFill>
        <p:spPr>
          <a:xfrm>
            <a:off x="1252440" y="855720"/>
            <a:ext cx="7209000" cy="5597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25520" y="277560"/>
            <a:ext cx="697536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N-Black"/>
              </a:rPr>
              <a:t>Custom Counters</a:t>
            </a: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25520" y="380520"/>
            <a:ext cx="697536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N-Black"/>
              </a:rPr>
              <a:t>Custom Counters</a:t>
            </a: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53880" y="1155600"/>
            <a:ext cx="7537320" cy="258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Specific to your app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Captured per-frame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You decide what is captured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Results are integrated with PIX data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PIX has many built-in counters as well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5" descr="demo1"/>
          <p:cNvPicPr/>
          <p:nvPr/>
        </p:nvPicPr>
        <p:blipFill>
          <a:blip r:embed="rId1"/>
          <a:stretch/>
        </p:blipFill>
        <p:spPr>
          <a:xfrm>
            <a:off x="1265400" y="2009880"/>
            <a:ext cx="3305160" cy="141912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2"/>
          <p:cNvSpPr/>
          <p:nvPr/>
        </p:nvSpPr>
        <p:spPr>
          <a:xfrm>
            <a:off x="1254240" y="228600"/>
            <a:ext cx="750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N-Black"/>
              </a:rPr>
              <a:t>Custom Counter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25520" y="380520"/>
            <a:ext cx="697536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N-Black"/>
              </a:rPr>
              <a:t>Why is my game slow?</a:t>
            </a: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53880" y="1155240"/>
            <a:ext cx="7537320" cy="206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We don’t know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PIX can help you find out!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API-centric view of what’s happening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Focus on API efficiency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25520" y="380520"/>
            <a:ext cx="697536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N-Black"/>
              </a:rPr>
              <a:t>Recap</a:t>
            </a: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53880" y="1155600"/>
            <a:ext cx="7537320" cy="428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A few minutes with PIX can highlight important high-level performance mistakes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This is the tip of the iceberg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PIX is still improving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Use in conjunction with other performance tools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Extensible through custom counter plugins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25520" y="380520"/>
            <a:ext cx="697536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N-Black"/>
              </a:rPr>
              <a:t>Plug</a:t>
            </a: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61800" y="1155600"/>
            <a:ext cx="7529400" cy="227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Cutting-Edge Game Performance Tuning for Windows and Xbox 360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N-Light"/>
              </a:rPr>
              <a:t>Hands-On!</a:t>
            </a:r>
            <a:endParaRPr b="0" lang="en-US" sz="2400" spc="-1" strike="noStrike">
              <a:solidFill>
                <a:srgbClr val="000000"/>
              </a:solidFill>
              <a:latin typeface="DIN-Ligh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N-Light"/>
              </a:rPr>
              <a:t>CPU performance tuning</a:t>
            </a:r>
            <a:endParaRPr b="0" lang="en-US" sz="2400" spc="-1" strike="noStrike">
              <a:solidFill>
                <a:srgbClr val="000000"/>
              </a:solidFill>
              <a:latin typeface="DIN-Ligh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N-Light"/>
              </a:rPr>
              <a:t>GPU performance tuning using PIX</a:t>
            </a:r>
            <a:endParaRPr b="0" lang="en-US" sz="24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25520" y="380520"/>
            <a:ext cx="697536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N-Black"/>
              </a:rPr>
              <a:t>Resources</a:t>
            </a: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1800" y="1155600"/>
            <a:ext cx="7529400" cy="41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c160"/>
                </a:solidFill>
                <a:latin typeface="DIN-Light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DIN-Light"/>
              </a:rPr>
              <a:t>DirectX Developer Center</a:t>
            </a:r>
            <a:br>
              <a:rPr sz="2800"/>
            </a:br>
            <a:r>
              <a:rPr b="0" lang="en-US" sz="2800" spc="-1" strike="noStrike" u="sng">
                <a:solidFill>
                  <a:srgbClr val="336699"/>
                </a:solidFill>
                <a:uFillTx/>
                <a:latin typeface="DIN-Light"/>
                <a:hlinkClick r:id="rId1"/>
              </a:rPr>
              <a:t>http://www.msdn.com/directx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DIN-Light"/>
              </a:rPr>
              <a:t>Game Development MSDN Forums</a:t>
            </a:r>
            <a:br>
              <a:rPr sz="2800"/>
            </a:br>
            <a:r>
              <a:rPr b="0" lang="en-US" sz="2800" spc="-1" strike="noStrike" u="sng">
                <a:solidFill>
                  <a:srgbClr val="336699"/>
                </a:solidFill>
                <a:uFillTx/>
                <a:latin typeface="DIN-Light"/>
                <a:hlinkClick r:id="rId2"/>
              </a:rPr>
              <a:t>http://forums.microsoft.com/msd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DIN-Light"/>
              </a:rPr>
              <a:t>XNA Website</a:t>
            </a:r>
            <a:br>
              <a:rPr sz="2800"/>
            </a:br>
            <a:r>
              <a:rPr b="0" lang="en-US" sz="2800" spc="-1" strike="noStrike" u="sng">
                <a:solidFill>
                  <a:srgbClr val="336699"/>
                </a:solidFill>
                <a:uFillTx/>
                <a:latin typeface="DIN-Light"/>
                <a:hlinkClick r:id="rId3"/>
              </a:rPr>
              <a:t>http://www.xna.com</a:t>
            </a:r>
            <a:r>
              <a:rPr b="0" lang="en-US" sz="2800" spc="-1" strike="noStrike">
                <a:solidFill>
                  <a:srgbClr val="00cc99"/>
                </a:solidFill>
                <a:latin typeface="DIN-Light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5520" y="380520"/>
            <a:ext cx="697536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N-Black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53880" y="1155240"/>
            <a:ext cx="7537320" cy="249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Capturing Call Data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WYSIWYD (What you see is what you drew)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Debugging pixels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Custom counters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CPUBound_Kernel"/>
          <p:cNvPicPr/>
          <p:nvPr/>
        </p:nvPicPr>
        <p:blipFill>
          <a:blip r:embed="rId1"/>
          <a:stretch/>
        </p:blipFill>
        <p:spPr>
          <a:xfrm>
            <a:off x="1258920" y="754200"/>
            <a:ext cx="7269120" cy="56196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0000" y="142560"/>
            <a:ext cx="697572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N-Black"/>
              </a:rPr>
              <a:t>Case Study</a:t>
            </a: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25520" y="380520"/>
            <a:ext cx="697536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N-Black"/>
              </a:rPr>
              <a:t>Case Study</a:t>
            </a: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53880" y="1155240"/>
            <a:ext cx="7537320" cy="14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After fixing other bottlenecks we’re at 30fps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Let’s capture some data to dig deeper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25520" y="380520"/>
            <a:ext cx="697536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N-Black"/>
              </a:rPr>
              <a:t>Capturing Call Data</a:t>
            </a: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53880" y="1122480"/>
            <a:ext cx="7018200" cy="28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Can capture D3D calls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N-Light"/>
              </a:rPr>
              <a:t>Either all calls for all frames</a:t>
            </a:r>
            <a:endParaRPr b="0" lang="en-US" sz="2400" spc="-1" strike="noStrike">
              <a:solidFill>
                <a:srgbClr val="000000"/>
              </a:solidFill>
              <a:latin typeface="DIN-Ligh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N-Light"/>
              </a:rPr>
              <a:t>Or just when we hit a button</a:t>
            </a:r>
            <a:endParaRPr b="0" lang="en-US" sz="2400" spc="-1" strike="noStrike">
              <a:solidFill>
                <a:srgbClr val="000000"/>
              </a:solidFill>
              <a:latin typeface="DIN-Light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Calls and data are stored in a file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N-Light"/>
              </a:rPr>
              <a:t>Save data for posterity ( or another dev )</a:t>
            </a:r>
            <a:endParaRPr b="0" lang="en-US" sz="2400" spc="-1" strike="noStrike">
              <a:solidFill>
                <a:srgbClr val="000000"/>
              </a:solidFill>
              <a:latin typeface="DIN-Ligh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N-Light"/>
              </a:rPr>
              <a:t>Files are portable*</a:t>
            </a:r>
            <a:endParaRPr b="0" lang="en-US" sz="24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5" descr="demo1"/>
          <p:cNvPicPr/>
          <p:nvPr/>
        </p:nvPicPr>
        <p:blipFill>
          <a:blip r:embed="rId1"/>
          <a:stretch/>
        </p:blipFill>
        <p:spPr>
          <a:xfrm>
            <a:off x="1332000" y="1968480"/>
            <a:ext cx="3305160" cy="1419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2"/>
          <p:cNvSpPr/>
          <p:nvPr/>
        </p:nvSpPr>
        <p:spPr>
          <a:xfrm>
            <a:off x="1246320" y="228600"/>
            <a:ext cx="751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N-Black"/>
              </a:rPr>
              <a:t>Capturing Call Data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WYSIWYD"/>
          <p:cNvPicPr/>
          <p:nvPr/>
        </p:nvPicPr>
        <p:blipFill>
          <a:blip r:embed="rId1"/>
          <a:stretch/>
        </p:blipFill>
        <p:spPr>
          <a:xfrm>
            <a:off x="1246320" y="757080"/>
            <a:ext cx="7326360" cy="56898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6840" y="180720"/>
            <a:ext cx="697536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N-Black"/>
              </a:rPr>
              <a:t>WYSIWYD</a:t>
            </a:r>
            <a:endParaRPr b="0" lang="en-US" sz="4000" spc="-1" strike="noStrike">
              <a:solidFill>
                <a:srgbClr val="000000"/>
              </a:solidFill>
              <a:latin typeface="DIN-Black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46320" y="228240"/>
            <a:ext cx="7516800" cy="11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N-Black"/>
              </a:rPr>
              <a:t>WYSIWYD</a:t>
            </a:r>
            <a:br>
              <a:rPr sz="4000"/>
            </a:br>
            <a:r>
              <a:rPr b="0" lang="en-US" sz="2800" spc="-1" strike="noStrike">
                <a:solidFill>
                  <a:srgbClr val="000066"/>
                </a:solidFill>
                <a:latin typeface="DIN-Black"/>
              </a:rPr>
              <a:t>What you see is what you drew</a:t>
            </a:r>
            <a:endParaRPr b="0" lang="en-US" sz="2800" spc="-1" strike="noStrike">
              <a:solidFill>
                <a:srgbClr val="000000"/>
              </a:solidFill>
              <a:latin typeface="DIN-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53880" y="1612440"/>
            <a:ext cx="7537320" cy="206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Several thousand DIP calls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Most of them give no visual result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What’s going on?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N-Light"/>
              </a:rPr>
              <a:t>Use Mesh view to find out</a:t>
            </a:r>
            <a:endParaRPr b="0" lang="en-US" sz="2800" spc="-1" strike="noStrike">
              <a:solidFill>
                <a:srgbClr val="000000"/>
              </a:solidFill>
              <a:latin typeface="DIN-Light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4T19:54:56Z</dcterms:created>
  <dc:creator/>
  <dc:description/>
  <dc:language>en-US</dc:language>
  <cp:lastModifiedBy/>
  <dcterms:modified xsi:type="dcterms:W3CDTF">2007-02-24T19:55:50Z</dcterms:modified>
  <cp:revision>1</cp:revision>
  <dc:subject/>
  <dc:title/>
</cp:coreProperties>
</file>