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media/image13.png" ContentType="image/png"/>
  <Override PartName="/ppt/media/image9.png" ContentType="image/png"/>
  <Override PartName="/ppt/media/image15.png" ContentType="image/png"/>
  <Override PartName="/ppt/media/image14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11.png" ContentType="image/png"/>
  <Override PartName="/ppt/media/image10.wmf" ContentType="image/x-wmf"/>
  <Override PartName="/ppt/media/image2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8" name="PlaceHolder 1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25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D2DC3-0EE3-4058-8742-625C12A3451A}" type="datetime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fld id="{C1D52240-F46F-4054-90D0-8377AC93AD31}" type="datetime10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ldImg"/>
          </p:nvPr>
        </p:nvSpPr>
        <p:spPr>
          <a:xfrm>
            <a:off x="1498320" y="266760"/>
            <a:ext cx="4203720" cy="3152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Click to move the slide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 type="ftr" idx="2"/>
          </p:nvPr>
        </p:nvSpPr>
        <p:spPr>
          <a:xfrm>
            <a:off x="-360" y="8792640"/>
            <a:ext cx="5667480" cy="351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000000"/>
                </a:solidFill>
                <a:latin typeface="Segoe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egoe"/>
                <a:ea typeface="Arial"/>
              </a:rPr>
              <a:t>©2005 Microsoft Corporation. All rights reserved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Segoe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 type="sldNum" idx="3"/>
          </p:nvPr>
        </p:nvSpPr>
        <p:spPr>
          <a:xfrm>
            <a:off x="5582880" y="8799120"/>
            <a:ext cx="1273320" cy="343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8186C-C128-46E9-A63A-9AB8D314856C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D33F52-8D86-408E-AF0C-0B943F2C0A9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156F223-B4A8-4465-930A-A5255C0EB270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8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BAB23-8C0A-4C01-84B0-A89D94C0D69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3E7B8-659E-4118-B459-C60E8CB19E57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6DBE301-4C82-4CFE-AEBA-49F8CD10937C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6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0FF4BB-D262-410A-B49D-ED6E9816851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D5C212-B3F3-41C3-82F0-BFB7A4EDDC0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0061202F-C791-43AA-A574-3A0A93B89210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0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A2E6BD-4E10-4035-A0BE-EDCD7CDE81B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02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C93E64-56BC-46D6-9057-273A2BEFE2C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7DEE614-98D9-439F-BCCB-0BF871401D55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4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F1D14A-9D87-497C-9862-42A4A5799EE6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F4CB16-16A8-402C-9915-7A30CFF8FA19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7A70DC8C-9A12-4E8D-A1AE-BC1B2E863DAD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8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A5C46-6249-4A05-B2B7-79A8D96453E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D5F3F-EA7F-4FDF-B5CE-D31ED400920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AC24F1E-1993-485B-AFD3-1FC39E366D41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2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3F91F2-E58D-4312-8DCA-D1AEE58D2A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448B53-94F4-49B0-8258-C93A49DBAC3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6AAB8038-0B30-44CB-AE4A-9D209D124F0A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6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327E18-4197-4821-92D7-73060BF64A80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121C86-A20F-42B5-8BC0-0C7AA11DC39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B3E66D97-AB4E-4960-A325-12C74F89B0D9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0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AD3C5-E44A-455A-B6D2-1301D4D85DFD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DBE679-11C1-4B1A-B53C-E5920D61D00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ACD5032C-FF04-4E4B-9DA7-36CDE5407332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4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D6417-0379-45D3-9368-589423A5737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395448-6908-408B-93E9-C1F738C14F93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ED0C82E3-5A65-46C4-816B-832E4D438FF9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8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9FC605-CC9F-4956-BF7C-9CD29F59DB6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8DE7D8-9A42-44F8-AECE-DE6253AB5132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4E44DDD3-402B-4C9F-AE0C-30E46803312E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2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4F5D8-4247-474B-A903-6230F2624F8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Date Placeholder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AB5EC-8552-43E8-961A-EDBF1DDCAFE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A2E7F7AD-279E-4677-8F0B-C379410C6F2E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4" name="Slide Number Placeholder 4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8FCD49-A12B-4E7C-BAF8-FF4FC5380793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16997-8A84-4044-9373-1180ADDBCBDE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43ECE4C3-7AF1-4C51-A2DD-32D2BABAF689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6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081EE4-2C4C-4812-9B7F-08F65F81494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6001C9-C17F-4200-92B0-F96B930817D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E22FD2C2-3B6B-4F8C-A5AE-7C170C8E8990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0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6687C0-6042-46C1-B208-D7E6CD821BD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EFEB8A-39B6-441F-A7CB-23D30025102D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883F074A-9E5E-4EA3-8C60-6E5F715D416B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4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626E3D-DCCD-4864-9E93-562D778F7EF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B5A78B-FACF-4D68-8EF6-CE72BCF45CEB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0754C143-095A-4E81-A5E8-213003BAA0CE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8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131E74-EE0B-4765-A8B7-A6F13708AC1E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55CAB0-08A2-4872-86D0-E225AB66DE78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CEB5189D-F843-407B-8CFD-4C9D8CA9C78D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2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52B420-DF29-4FD1-90D8-08CCCB57BA8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E62855-2755-4F7D-AFDF-17BD4ABB103F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E694A161-DE15-48E5-8EE9-7D9DE45A419B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6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4E1EBD-848A-49E1-8961-5382C52F617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76666D-427E-4525-A9BF-60B2055A4D46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EE1A150-6004-4902-AAE5-A8F4BBF1CB5D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0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C9C04-3ED0-4541-8CAD-C7EBE78CAED8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D6DB4-5B23-4CA9-9617-FE2F05338451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41E50731-6DFC-44C2-932C-874838E00EC6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4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7739DD-DC7B-4974-88D9-50423207540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7C3BCE-F8B5-49E5-965C-3AFD3BBBE8F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4C5A173-6ACE-4EB5-A2BB-9D748C00AEF2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8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B11B00-28FD-4646-82BC-4A0D00C3491C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7BD766-F20A-4A19-9779-0CC69CEAA91A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2CA57150-0B57-4FC9-B74C-DC690E9E06B3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2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44865E-EA89-4BEA-9D5B-3690961FFF01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274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70ABB-04FD-40E2-B0EA-07BCFB158AE5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70894757-2B70-4CA4-84C4-C4692CBDA25A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6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E06AFA-C766-4930-A021-68BFB41E140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EF3B76-9E2E-4D68-BD7B-61969CBB2544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600892EB-0819-4A37-B99E-550E8D425BEC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0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59752-0C78-42DF-81D7-ADEC2AE91A6B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Validating programming assumptions at runtime, then drilling-down into aspects of in-depth debugg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96FE8E-3D39-46D1-B91B-83F28A708840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739D907B-41D7-4CE4-9720-C8A5D5FE7EB1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4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648821-F373-43C0-9CC4-EB7D3FD4981F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DF02A6-F39C-421B-B0F0-4AA28E9E456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582FB222-04F7-44B1-B109-1AEDE95E33FF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8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DBAAA2-7EAD-495D-8164-9CA37563F164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3"/>
          <p:cNvSpPr/>
          <p:nvPr/>
        </p:nvSpPr>
        <p:spPr>
          <a:xfrm>
            <a:off x="3884760" y="0"/>
            <a:ext cx="2971800" cy="25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BE59C4-D67A-4C60-94DA-DB56C0F0AC7C}" type="datetime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7/28/26</a:t>
            </a:fld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fld id="{9310ED3D-B6BA-4E3F-B98C-B6D118A961D8}" type="datetime10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05:37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2" name="Rectangle 7"/>
          <p:cNvSpPr/>
          <p:nvPr/>
        </p:nvSpPr>
        <p:spPr>
          <a:xfrm>
            <a:off x="5583240" y="8799480"/>
            <a:ext cx="1273320" cy="3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4EB06-1007-43AA-BD68-403DE31855FA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498680" y="266760"/>
            <a:ext cx="4203720" cy="315288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342720" y="3555720"/>
            <a:ext cx="6197400" cy="490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44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380880" y="3547080"/>
            <a:ext cx="8444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380880" y="354708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7720" y="354708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6040" y="141732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90840" y="141732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380880" y="354708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6040" y="354708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90840" y="354708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380880" y="1417320"/>
            <a:ext cx="84441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441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323640" y="228600"/>
            <a:ext cx="851508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380880" y="354708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380880" y="1417320"/>
            <a:ext cx="8444160" cy="4077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707720" y="354708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380880" y="3547080"/>
            <a:ext cx="8444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44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380880" y="3547080"/>
            <a:ext cx="8444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380880" y="354708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707720" y="354708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236040" y="141732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090840" y="141732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380880" y="354708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236040" y="354708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090840" y="3547080"/>
            <a:ext cx="271872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84441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23640" y="228600"/>
            <a:ext cx="8515080" cy="653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380880" y="354708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7720" y="354708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38088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7720" y="1417320"/>
            <a:ext cx="41205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380880" y="3547080"/>
            <a:ext cx="8444160" cy="1944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1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image" Target="../media/image6.png"/><Relationship Id="rId11" Type="http://schemas.openxmlformats.org/officeDocument/2006/relationships/slideLayout" Target="../slideLayouts/slideLayout1.xml"/><Relationship Id="rId12" Type="http://schemas.openxmlformats.org/officeDocument/2006/relationships/slideLayout" Target="../slideLayouts/slideLayout2.xml"/><Relationship Id="rId13" Type="http://schemas.openxmlformats.org/officeDocument/2006/relationships/slideLayout" Target="../slideLayouts/slideLayout3.xml"/><Relationship Id="rId14" Type="http://schemas.openxmlformats.org/officeDocument/2006/relationships/slideLayout" Target="../slideLayouts/slideLayout4.xml"/><Relationship Id="rId15" Type="http://schemas.openxmlformats.org/officeDocument/2006/relationships/slideLayout" Target="../slideLayouts/slideLayout5.xml"/><Relationship Id="rId16" Type="http://schemas.openxmlformats.org/officeDocument/2006/relationships/slideLayout" Target="../slideLayouts/slideLayout6.xml"/><Relationship Id="rId17" Type="http://schemas.openxmlformats.org/officeDocument/2006/relationships/slideLayout" Target="../slideLayouts/slideLayout7.xml"/><Relationship Id="rId18" Type="http://schemas.openxmlformats.org/officeDocument/2006/relationships/slideLayout" Target="../slideLayouts/slideLayout8.xml"/><Relationship Id="rId19" Type="http://schemas.openxmlformats.org/officeDocument/2006/relationships/slideLayout" Target="../slideLayouts/slideLayout9.xml"/><Relationship Id="rId20" Type="http://schemas.openxmlformats.org/officeDocument/2006/relationships/slideLayout" Target="../slideLayouts/slideLayout10.xml"/><Relationship Id="rId21" Type="http://schemas.openxmlformats.org/officeDocument/2006/relationships/slideLayout" Target="../slideLayouts/slideLayout11.xml"/><Relationship Id="rId22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7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5.png"/><Relationship Id="rId8" Type="http://schemas.openxmlformats.org/officeDocument/2006/relationships/image" Target="../media/image5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3.xml"/><Relationship Id="rId11" Type="http://schemas.openxmlformats.org/officeDocument/2006/relationships/slideLayout" Target="../slideLayouts/slideLayout14.xml"/><Relationship Id="rId12" Type="http://schemas.openxmlformats.org/officeDocument/2006/relationships/slideLayout" Target="../slideLayouts/slideLayout15.xml"/><Relationship Id="rId13" Type="http://schemas.openxmlformats.org/officeDocument/2006/relationships/slideLayout" Target="../slideLayouts/slideLayout16.xml"/><Relationship Id="rId14" Type="http://schemas.openxmlformats.org/officeDocument/2006/relationships/slideLayout" Target="../slideLayouts/slideLayout17.xml"/><Relationship Id="rId15" Type="http://schemas.openxmlformats.org/officeDocument/2006/relationships/slideLayout" Target="../slideLayouts/slideLayout18.xml"/><Relationship Id="rId16" Type="http://schemas.openxmlformats.org/officeDocument/2006/relationships/slideLayout" Target="../slideLayouts/slideLayout19.xml"/><Relationship Id="rId17" Type="http://schemas.openxmlformats.org/officeDocument/2006/relationships/slideLayout" Target="../slideLayouts/slideLayout20.xml"/><Relationship Id="rId18" Type="http://schemas.openxmlformats.org/officeDocument/2006/relationships/slideLayout" Target="../slideLayouts/slideLayout21.xml"/><Relationship Id="rId19" Type="http://schemas.openxmlformats.org/officeDocument/2006/relationships/slideLayout" Target="../slideLayouts/slideLayout22.xml"/><Relationship Id="rId20" Type="http://schemas.openxmlformats.org/officeDocument/2006/relationships/slideLayout" Target="../slideLayouts/slideLayout23.xml"/><Relationship Id="rId21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80880" y="1417320"/>
            <a:ext cx="84441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0320" indent="-4053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249200" indent="-397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3330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928160" indent="-342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928160" indent="-342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928160" indent="-342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2" name="Picture 11" descr="bullet"/>
          <p:cNvPicPr/>
          <p:nvPr/>
        </p:nvPicPr>
        <p:blipFill>
          <a:blip r:embed="rId10"/>
          <a:stretch/>
        </p:blipFill>
        <p:spPr>
          <a:xfrm>
            <a:off x="9336240" y="0"/>
            <a:ext cx="241200" cy="241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1"/>
    <p:sldLayoutId id="2147483650" r:id="rId12"/>
    <p:sldLayoutId id="2147483651" r:id="rId13"/>
    <p:sldLayoutId id="2147483652" r:id="rId14"/>
    <p:sldLayoutId id="2147483653" r:id="rId15"/>
    <p:sldLayoutId id="2147483654" r:id="rId16"/>
    <p:sldLayoutId id="2147483655" r:id="rId17"/>
    <p:sldLayoutId id="2147483656" r:id="rId18"/>
    <p:sldLayoutId id="2147483657" r:id="rId19"/>
    <p:sldLayoutId id="2147483658" r:id="rId20"/>
    <p:sldLayoutId id="2147483659" r:id="rId21"/>
    <p:sldLayoutId id="2147483660" r:id="rId22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Click to edit the title text format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380880" y="1417320"/>
            <a:ext cx="8444160" cy="407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443160" indent="-44316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0320" indent="-40536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2" marL="1249200" indent="-39744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3" marL="1584000" indent="-33300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4" marL="1928160" indent="-342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5" marL="1928160" indent="-342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6" marL="1928160" indent="-342720">
              <a:lnSpc>
                <a:spcPct val="90000"/>
              </a:lnSpc>
              <a:spcBef>
                <a:spcPts val="11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0"/>
    <p:sldLayoutId id="2147483663" r:id="rId11"/>
    <p:sldLayoutId id="2147483664" r:id="rId12"/>
    <p:sldLayoutId id="2147483665" r:id="rId13"/>
    <p:sldLayoutId id="2147483666" r:id="rId14"/>
    <p:sldLayoutId id="2147483667" r:id="rId15"/>
    <p:sldLayoutId id="2147483668" r:id="rId16"/>
    <p:sldLayoutId id="2147483669" r:id="rId17"/>
    <p:sldLayoutId id="2147483670" r:id="rId18"/>
    <p:sldLayoutId id="2147483671" r:id="rId19"/>
    <p:sldLayoutId id="2147483672" r:id="rId20"/>
    <p:sldLayoutId id="2147483673" r:id="rId21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0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www.xna.com/" TargetMode="External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image" Target="../media/image2.png"/><Relationship Id="rId9" Type="http://schemas.openxmlformats.org/officeDocument/2006/relationships/image" Target="../media/image2.png"/><Relationship Id="rId10" Type="http://schemas.openxmlformats.org/officeDocument/2006/relationships/image" Target="../media/image2.png"/><Relationship Id="rId11" Type="http://schemas.openxmlformats.org/officeDocument/2006/relationships/image" Target="../media/image2.png"/><Relationship Id="rId12" Type="http://schemas.openxmlformats.org/officeDocument/2006/relationships/image" Target="../media/image2.png"/><Relationship Id="rId13" Type="http://schemas.openxmlformats.org/officeDocument/2006/relationships/image" Target="../media/image2.png"/><Relationship Id="rId1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image" Target="../media/image2.png"/><Relationship Id="rId5" Type="http://schemas.openxmlformats.org/officeDocument/2006/relationships/image" Target="../media/image2.png"/><Relationship Id="rId6" Type="http://schemas.openxmlformats.org/officeDocument/2006/relationships/image" Target="../media/image2.png"/><Relationship Id="rId7" Type="http://schemas.openxmlformats.org/officeDocument/2006/relationships/image" Target="../media/image2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794880" y="3579840"/>
            <a:ext cx="8077320" cy="750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2c160"/>
                </a:solidFill>
                <a:latin typeface="Trebuchet MS"/>
              </a:rPr>
              <a:t>Getting Past 30 Hertz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subTitle"/>
          </p:nvPr>
        </p:nvSpPr>
        <p:spPr>
          <a:xfrm>
            <a:off x="606240" y="4893840"/>
            <a:ext cx="8321400" cy="108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Mike Burrows &amp; Matt Le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indent="0" algn="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XNA Developer Connection</a:t>
            </a:r>
            <a:br>
              <a:rPr sz="2400"/>
            </a:b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85" name="Text Box 4"/>
          <p:cNvSpPr/>
          <p:nvPr/>
        </p:nvSpPr>
        <p:spPr>
          <a:xfrm>
            <a:off x="0" y="-641520"/>
            <a:ext cx="8636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Presentation/Presenter Title Slid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/>
          </p:nvPr>
        </p:nvSpPr>
        <p:spPr>
          <a:xfrm>
            <a:off x="380520" y="1612440"/>
            <a:ext cx="8410680" cy="2678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Validating what you rendered is what you expected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For offline us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vasiv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aptures all data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5" name="Rectangle 2"/>
          <p:cNvSpPr/>
          <p:nvPr/>
        </p:nvSpPr>
        <p:spPr>
          <a:xfrm>
            <a:off x="411120" y="189000"/>
            <a:ext cx="83818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Demo: Full Stream Capture</a:t>
            </a:r>
            <a:br>
              <a:rPr sz="4800"/>
            </a:br>
            <a:r>
              <a:rPr b="0" lang="en-US" sz="3600" spc="-1" strike="noStrike">
                <a:solidFill>
                  <a:srgbClr val="fbf3c5"/>
                </a:solidFill>
                <a:latin typeface="Trebuchet MS"/>
              </a:rPr>
              <a:t>What we learned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Picture 15" descr="demo1"/>
          <p:cNvPicPr/>
          <p:nvPr/>
        </p:nvPicPr>
        <p:blipFill>
          <a:blip r:embed="rId1"/>
          <a:stretch/>
        </p:blipFill>
        <p:spPr>
          <a:xfrm>
            <a:off x="870120" y="2009880"/>
            <a:ext cx="3305160" cy="1419120"/>
          </a:xfrm>
          <a:prstGeom prst="rect">
            <a:avLst/>
          </a:prstGeom>
          <a:ln w="0">
            <a:noFill/>
          </a:ln>
        </p:spPr>
      </p:pic>
      <p:sp>
        <p:nvSpPr>
          <p:cNvPr id="107" name="Rectangle 19"/>
          <p:cNvSpPr/>
          <p:nvPr/>
        </p:nvSpPr>
        <p:spPr>
          <a:xfrm>
            <a:off x="1335240" y="2986200"/>
            <a:ext cx="7250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Single Frame Captur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80520" y="1612800"/>
            <a:ext cx="84106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Much less invasive than Full Stream Captur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ull Stream Capture can be source for Single Frame Captur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Useful for when issues are repeatabl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-depth evaluation and debugging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esource verificat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esh view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Vertex and Pixel Shader debugger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9" name="Rectangle 2"/>
          <p:cNvSpPr/>
          <p:nvPr/>
        </p:nvSpPr>
        <p:spPr>
          <a:xfrm>
            <a:off x="411120" y="189000"/>
            <a:ext cx="838188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Demo: Single Frame Capture</a:t>
            </a:r>
            <a:br>
              <a:rPr sz="4800"/>
            </a:br>
            <a:r>
              <a:rPr b="0" lang="en-US" sz="3600" spc="-1" strike="noStrike">
                <a:solidFill>
                  <a:srgbClr val="fbf3c5"/>
                </a:solidFill>
                <a:latin typeface="Trebuchet MS"/>
              </a:rPr>
              <a:t>What we learned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Profiling Flowchart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pic>
        <p:nvPicPr>
          <p:cNvPr id="111" name="Content Placeholder 6" descr="Performance Flowchart.wmf"/>
          <p:cNvPicPr/>
          <p:nvPr/>
        </p:nvPicPr>
        <p:blipFill>
          <a:blip r:embed="rId1"/>
          <a:stretch/>
        </p:blipFill>
        <p:spPr>
          <a:xfrm>
            <a:off x="1757520" y="981000"/>
            <a:ext cx="5628960" cy="5627880"/>
          </a:xfrm>
          <a:prstGeom prst="rect">
            <a:avLst/>
          </a:prstGeom>
          <a:ln w="0">
            <a:noFill/>
          </a:ln>
        </p:spPr>
      </p:pic>
      <p:sp>
        <p:nvSpPr>
          <p:cNvPr id="112" name="Text Box 4"/>
          <p:cNvSpPr/>
          <p:nvPr/>
        </p:nvSpPr>
        <p:spPr>
          <a:xfrm>
            <a:off x="0" y="-641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Standard Slide without subtitl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3" name="Oval 7"/>
          <p:cNvSpPr/>
          <p:nvPr/>
        </p:nvSpPr>
        <p:spPr>
          <a:xfrm>
            <a:off x="3038400" y="2262240"/>
            <a:ext cx="3067200" cy="3065400"/>
          </a:xfrm>
          <a:prstGeom prst="ellipse">
            <a:avLst/>
          </a:prstGeom>
          <a:solidFill>
            <a:srgbClr val="ffffff"/>
          </a:solidFill>
          <a:ln w="763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PIX System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rebuchet MS"/>
              </a:rPr>
              <a:t>Monitor</a:t>
            </a:r>
            <a:endParaRPr b="0" lang="en-US" sz="4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4" name="TextBox 8"/>
          <p:cNvSpPr/>
          <p:nvPr/>
        </p:nvSpPr>
        <p:spPr>
          <a:xfrm>
            <a:off x="2662200" y="5486400"/>
            <a:ext cx="3819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66cc66"/>
                </a:solidFill>
                <a:latin typeface="Trebuchet MS"/>
              </a:rPr>
              <a:t>START</a:t>
            </a:r>
            <a:endParaRPr b="0" lang="en-US" sz="6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5" name="TextBox 9"/>
          <p:cNvSpPr/>
          <p:nvPr/>
        </p:nvSpPr>
        <p:spPr>
          <a:xfrm>
            <a:off x="412920" y="923760"/>
            <a:ext cx="1917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ffb601"/>
                </a:solidFill>
                <a:latin typeface="Trebuchet MS"/>
              </a:rPr>
              <a:t>Sync</a:t>
            </a:r>
            <a:endParaRPr b="0" lang="en-US" sz="6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6" name="TextBox 10"/>
          <p:cNvSpPr/>
          <p:nvPr/>
        </p:nvSpPr>
        <p:spPr>
          <a:xfrm>
            <a:off x="7047000" y="923760"/>
            <a:ext cx="1738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5cb95c"/>
                </a:solidFill>
                <a:latin typeface="Trebuchet MS"/>
              </a:rPr>
              <a:t>GPU</a:t>
            </a:r>
            <a:endParaRPr b="0" lang="en-US" sz="60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17" name="TextBox 11"/>
          <p:cNvSpPr/>
          <p:nvPr/>
        </p:nvSpPr>
        <p:spPr>
          <a:xfrm>
            <a:off x="673200" y="5611680"/>
            <a:ext cx="165708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33c9d1"/>
                </a:solidFill>
                <a:latin typeface="Trebuchet MS"/>
              </a:rPr>
              <a:t>CPU</a:t>
            </a:r>
            <a:endParaRPr b="0" lang="en-US" sz="60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xit" presetID="53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6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" dur="1000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8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" nodeType="withEffect" fill="hold" presetClass="exit" presetID="7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1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" dur="500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" nodeType="withEffect" fill="hold" presetClass="entr" presetID="10">
                                  <p:stCondLst>
                                    <p:cond delay="30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500"/>
                                        <p:tgtEl>
                                          <p:spTgt spid="1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9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PIX System Monitor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80520" y="1155240"/>
            <a:ext cx="8410680" cy="5123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he vital statistics of your gam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er-frame counters graphed over tim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rame time/framerat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PU idle, D3D blocke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PU idle for all 6 HW thread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Rough memory statistic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andwidth stats for major subsystem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XAudio stat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er-defined counters (PIXAddNamedCounter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0" name="Text Box 4"/>
          <p:cNvSpPr/>
          <p:nvPr/>
        </p:nvSpPr>
        <p:spPr>
          <a:xfrm>
            <a:off x="0" y="-641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Standard Slide without subtitl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PIX System Monitor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380520" y="1155600"/>
            <a:ext cx="8410680" cy="4754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Use the counters to find the bottleneck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ynchronization bottleneck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3D blocked &gt; 0%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PU idle &gt; ~3% AND all CPU threads idle &gt; 0%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GPU bottleneck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PU idle &lt; ~3%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CPU bottleneck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ny of the CPU threads idle 0%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3" name="Text Box 4"/>
          <p:cNvSpPr/>
          <p:nvPr/>
        </p:nvSpPr>
        <p:spPr>
          <a:xfrm>
            <a:off x="0" y="-641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Standard Slide without subtitl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Synchronization Bottleneck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80520" y="1155600"/>
            <a:ext cx="8410680" cy="4616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IX Timing Captur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hows GPU activity and 6 CPU HW threads’ activity on a shared timelin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ook for stalls and sync bottleneck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IX labels are essentia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3D block callback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ovides a callback when a lock stall occur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ilter out swap throttles (they are normal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iminate all lock stall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6" name="Text Box 4"/>
          <p:cNvSpPr/>
          <p:nvPr/>
        </p:nvSpPr>
        <p:spPr>
          <a:xfrm>
            <a:off x="0" y="-641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Standard Slide without subtitl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CPU Bottleneck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80520" y="1155600"/>
            <a:ext cx="8410680" cy="42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tart with the sampling profiler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asy to use, very little overhea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ig picture of what the CPU cores are do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ot very fine-grained (800 samples/sec default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deal for locating spikes and other intermittent timing-related problem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Helps locate sync bottlenecks with custom-built sync primitives (spin locks, etc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29" name="Text Box 4"/>
          <p:cNvSpPr/>
          <p:nvPr/>
        </p:nvSpPr>
        <p:spPr>
          <a:xfrm>
            <a:off x="0" y="-641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Standard Slide without subtitl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15" descr="demo1"/>
          <p:cNvPicPr/>
          <p:nvPr/>
        </p:nvPicPr>
        <p:blipFill>
          <a:blip r:embed="rId1"/>
          <a:stretch/>
        </p:blipFill>
        <p:spPr>
          <a:xfrm>
            <a:off x="870120" y="2009880"/>
            <a:ext cx="3305160" cy="1419120"/>
          </a:xfrm>
          <a:prstGeom prst="rect">
            <a:avLst/>
          </a:prstGeom>
          <a:ln w="0">
            <a:noFill/>
          </a:ln>
        </p:spPr>
      </p:pic>
      <p:sp>
        <p:nvSpPr>
          <p:cNvPr id="131" name="Rectangle 19"/>
          <p:cNvSpPr/>
          <p:nvPr/>
        </p:nvSpPr>
        <p:spPr>
          <a:xfrm>
            <a:off x="1335240" y="2986200"/>
            <a:ext cx="7250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Xbox 360 Sampling Profiler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CPU Bottleneck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80520" y="1155240"/>
            <a:ext cx="8410680" cy="5507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strumented profiler for more detai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xact call counts, cycle counts, L2 miss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me overhead (especially system memory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ome code distortion (CallCAP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Trace recording for tight optimizatio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recisely locate L2 misses and load-hit-store penalti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dentify bad uses of write-combined memory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Non-real-time capture and offline analysi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xact instruction counts (NOT cycle counts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4" name="Text Box 4"/>
          <p:cNvSpPr/>
          <p:nvPr/>
        </p:nvSpPr>
        <p:spPr>
          <a:xfrm>
            <a:off x="0" y="-641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Standard Slide without subtitl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2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Prerequisites for Profiling</a:t>
            </a:r>
            <a:br>
              <a:rPr sz="4800"/>
            </a:br>
            <a:r>
              <a:rPr b="0" lang="en-US" sz="3600" spc="-1" strike="noStrike">
                <a:solidFill>
                  <a:srgbClr val="fbf3c5"/>
                </a:solidFill>
                <a:latin typeface="Trebuchet MS"/>
              </a:rPr>
              <a:t>Windows and Xbox 360</a:t>
            </a:r>
            <a:endParaRPr b="0" lang="en-US" sz="36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50640" y="1447920"/>
            <a:ext cx="8443800" cy="340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8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irectX consideration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8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e debug version of Direct3D to ensure no warnings nor error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8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hen make sure you’re running on retail bits when actually profil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1262160" indent="-401760">
              <a:lnSpc>
                <a:spcPct val="80000"/>
              </a:lnSpc>
              <a:spcBef>
                <a:spcPts val="901"/>
              </a:spcBef>
              <a:buSzPct val="102884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ll retail bits, not just Direct3D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8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on’t sync to refresh rat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1262160" indent="-401760">
              <a:lnSpc>
                <a:spcPct val="80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Use D3DPRESENT_INTERVAL_IMMEDIAT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5" name="Picture 15" descr="demo1"/>
          <p:cNvPicPr/>
          <p:nvPr/>
        </p:nvPicPr>
        <p:blipFill>
          <a:blip r:embed="rId1"/>
          <a:stretch/>
        </p:blipFill>
        <p:spPr>
          <a:xfrm>
            <a:off x="870120" y="2009880"/>
            <a:ext cx="3305160" cy="1419120"/>
          </a:xfrm>
          <a:prstGeom prst="rect">
            <a:avLst/>
          </a:prstGeom>
          <a:ln w="0">
            <a:noFill/>
          </a:ln>
        </p:spPr>
      </p:pic>
      <p:sp>
        <p:nvSpPr>
          <p:cNvPr id="136" name="Rectangle 19"/>
          <p:cNvSpPr/>
          <p:nvPr/>
        </p:nvSpPr>
        <p:spPr>
          <a:xfrm>
            <a:off x="1335240" y="2986200"/>
            <a:ext cx="7250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Xbox 360 Trace Analysi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CPU Profiler Comparison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80520" y="1155240"/>
            <a:ext cx="841068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ampling profiler requires no code chang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9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Breaks into app, snapshots the call stack, continues execution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049"/>
              </a:spcBef>
              <a:buSzPct val="117554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strumented profiler adds probes to functions or function call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049"/>
              </a:spcBef>
              <a:buSzPct val="117554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wo instrumentation methods on Xbox 360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9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CallCAP and FastCAP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strumented profiler requires extra system memory on Xbox 360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9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Up to 64MB per hardware thread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39" name="Text Box 4"/>
          <p:cNvSpPr/>
          <p:nvPr/>
        </p:nvSpPr>
        <p:spPr>
          <a:xfrm>
            <a:off x="0" y="-641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Standard Slide without subtitl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CallCAP vs FastCAP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80520" y="1155600"/>
            <a:ext cx="8410680" cy="585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allCAP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9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dds probes at the entry and exit of all functions compiled with /callcap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9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ometimes removes inlining from leaf function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9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oes not see non-instrumented code at all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9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any Xbox 360 libs have a CallCAP version availabl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049"/>
              </a:spcBef>
              <a:buSzPct val="11755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astCAP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901"/>
              </a:spcBef>
              <a:buSzPct val="119919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dds probes before &amp; after function calls in code compiled with /fastcap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901"/>
              </a:spcBef>
              <a:buSzPct val="11991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Sees top level of non-instrumented cod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901"/>
              </a:spcBef>
              <a:buSzPct val="119919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Good for tracking down expensive functions in non-instrumented code (i.e. external libraries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901"/>
              </a:spcBef>
              <a:buSzPct val="11991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More overhead than CallCAP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2" name="Text Box 4"/>
          <p:cNvSpPr/>
          <p:nvPr/>
        </p:nvSpPr>
        <p:spPr>
          <a:xfrm>
            <a:off x="0" y="-641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Standard Slide without subtitl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GPU Bottleneck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80520" y="1155600"/>
            <a:ext cx="8410680" cy="485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GPU captur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Deep scene analysis of a single fram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Frightening amount of per-draw-call information from over 1200 performance counter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nalysis tab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2" marL="1262160" indent="-401760">
              <a:lnSpc>
                <a:spcPct val="90000"/>
              </a:lnSpc>
              <a:spcBef>
                <a:spcPts val="901"/>
              </a:spcBef>
              <a:buSzPct val="102884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Displays parallel and serial operations inside the GPU – identifies each draw call’s bottleneck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262160" indent="-401760">
              <a:lnSpc>
                <a:spcPct val="90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Texture and vertex cache usag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262160" indent="-401760">
              <a:lnSpc>
                <a:spcPct val="90000"/>
              </a:lnSpc>
              <a:spcBef>
                <a:spcPts val="901"/>
              </a:spcBef>
              <a:buSzPct val="102884"/>
              <a:buBlip>
                <a:blip r:embed="rId7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Pixels per quad, MIP levels, aniso levels, triangle clipper histogram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45" name="Text Box 4"/>
          <p:cNvSpPr/>
          <p:nvPr/>
        </p:nvSpPr>
        <p:spPr>
          <a:xfrm>
            <a:off x="0" y="-641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Standard Slide without subtitl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The Analysis Tab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pic>
        <p:nvPicPr>
          <p:cNvPr id="147" name="Content Placeholder 4" descr="PIXWindow.bmp"/>
          <p:cNvPicPr/>
          <p:nvPr/>
        </p:nvPicPr>
        <p:blipFill>
          <a:blip r:embed="rId1"/>
          <a:stretch/>
        </p:blipFill>
        <p:spPr>
          <a:xfrm>
            <a:off x="690480" y="971640"/>
            <a:ext cx="7763040" cy="5738760"/>
          </a:xfrm>
          <a:prstGeom prst="rect">
            <a:avLst/>
          </a:prstGeom>
          <a:ln w="0">
            <a:noFill/>
          </a:ln>
        </p:spPr>
      </p:pic>
      <p:sp>
        <p:nvSpPr>
          <p:cNvPr id="148" name="Text Box 4"/>
          <p:cNvSpPr/>
          <p:nvPr/>
        </p:nvSpPr>
        <p:spPr>
          <a:xfrm>
            <a:off x="0" y="-641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Standard Slide without subtitl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49" name="Picture 5" descr="PIXItemTabs.bmp"/>
          <p:cNvPicPr/>
          <p:nvPr/>
        </p:nvPicPr>
        <p:blipFill>
          <a:blip r:embed="rId2"/>
          <a:stretch/>
        </p:blipFill>
        <p:spPr>
          <a:xfrm>
            <a:off x="4546440" y="2398680"/>
            <a:ext cx="3865680" cy="372960"/>
          </a:xfrm>
          <a:prstGeom prst="rect">
            <a:avLst/>
          </a:prstGeom>
          <a:ln w="0">
            <a:noFill/>
          </a:ln>
        </p:spPr>
      </p:pic>
      <p:sp>
        <p:nvSpPr>
          <p:cNvPr id="150" name="Oval 6"/>
          <p:cNvSpPr/>
          <p:nvPr/>
        </p:nvSpPr>
        <p:spPr>
          <a:xfrm>
            <a:off x="5486400" y="4065480"/>
            <a:ext cx="1171440" cy="522360"/>
          </a:xfrm>
          <a:prstGeom prst="ellipse">
            <a:avLst/>
          </a:prstGeom>
          <a:noFill/>
          <a:ln w="572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remove" presetClass="emph" presetID="9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indefinite"/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opacity</p:attrName>
                                        </p:attrNameLst>
                                      </p:cBhvr>
                                      <p:to>
                                        <p:strVal val="0.5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" nodeType="withEffect" fill="hold" presetClass="path" presetID="49">
                                  <p:stCondLst>
                                    <p:cond delay="0"/>
                                  </p:stCondLst>
                                  <p:childTnLst>
                                    <p:animMotion origin="layout" path="M 3.05556E-006 -1.85185E-006 L -0.21181 0.23634 E">
                                      <p:cBhvr>
                                        <p:cTn id="45" dur="1000" fill="hold"/>
                                        <p:tgtEl>
                                          <p:spTgt spid="14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46" nodeType="with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47" dur="1000" fill="hold"/>
                                        <p:tgtEl>
                                          <p:spTgt spid="149"/>
                                        </p:tgtEl>
                                      </p:cBhvr>
                                      <p:to x="200000" y="2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Content Placeholder 8" descr="AnalysisTimings.bmp"/>
          <p:cNvPicPr/>
          <p:nvPr/>
        </p:nvPicPr>
        <p:blipFill>
          <a:blip r:embed="rId1"/>
          <a:stretch/>
        </p:blipFill>
        <p:spPr>
          <a:xfrm>
            <a:off x="681120" y="1050840"/>
            <a:ext cx="4065480" cy="5450040"/>
          </a:xfrm>
          <a:prstGeom prst="rect">
            <a:avLst/>
          </a:prstGeom>
          <a:ln w="0">
            <a:noFill/>
          </a:ln>
        </p:spPr>
      </p:pic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140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The Analysis Tab: Bottlenecks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0" y="-641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Standard Slide without subtitl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4" name="Rectangle 3"/>
          <p:cNvSpPr/>
          <p:nvPr/>
        </p:nvSpPr>
        <p:spPr>
          <a:xfrm>
            <a:off x="4836960" y="1039680"/>
            <a:ext cx="4104000" cy="4197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ist of GPU operations, both parallel and serial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sterisks form a bar chart – identify the largest item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erial operations appear after the largest parallel operat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Reading the Analysis Tab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380520" y="1155240"/>
            <a:ext cx="8410680" cy="5465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arallel operations run at the same time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LU, texture fetch, vfetch, control flow, interpolation, rasterizat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Largest item dominates the draw call – optimize her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Texture fetches are broken down by fetch type; easier to find the expensive tfetch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Serial operations add to the draw call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Stalls (vfetch, tfetch, alpha/Z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Eliminate stalls to improve performance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Draw can have multiple bottlenecks!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57" name="Text Box 4"/>
          <p:cNvSpPr/>
          <p:nvPr/>
        </p:nvSpPr>
        <p:spPr>
          <a:xfrm>
            <a:off x="0" y="-641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Standard Slide without subtitl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Content Placeholder 8" descr="AnalysisTimings.bmp"/>
          <p:cNvPicPr/>
          <p:nvPr/>
        </p:nvPicPr>
        <p:blipFill>
          <a:blip r:embed="rId1"/>
          <a:stretch/>
        </p:blipFill>
        <p:spPr>
          <a:xfrm>
            <a:off x="676440" y="1050840"/>
            <a:ext cx="3643200" cy="5450040"/>
          </a:xfrm>
          <a:prstGeom prst="rect">
            <a:avLst/>
          </a:prstGeom>
          <a:ln w="0">
            <a:noFill/>
          </a:ln>
        </p:spPr>
      </p:pic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The Analysis Tab: Stats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160" name="Text Box 4"/>
          <p:cNvSpPr/>
          <p:nvPr/>
        </p:nvSpPr>
        <p:spPr>
          <a:xfrm>
            <a:off x="0" y="-641520"/>
            <a:ext cx="6934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Microsoft Sans Serif"/>
              </a:rPr>
              <a:t>Standard Slide without subtitle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1" name="Rectangle 3"/>
          <p:cNvSpPr/>
          <p:nvPr/>
        </p:nvSpPr>
        <p:spPr>
          <a:xfrm>
            <a:off x="4836960" y="1039680"/>
            <a:ext cx="4104000" cy="5631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eneral statistics (most are also in the Event view)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Histograms for many GPU subsystem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905040" indent="-44784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ache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905040" indent="-44784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ull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905040" indent="-44784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lipping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905040" indent="-44784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Pixels per qua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905040" indent="-44784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MIP levels use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905040" indent="-44784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Aniso levels use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2" name="Picture 15" descr="demo1"/>
          <p:cNvPicPr/>
          <p:nvPr/>
        </p:nvPicPr>
        <p:blipFill>
          <a:blip r:embed="rId1"/>
          <a:stretch/>
        </p:blipFill>
        <p:spPr>
          <a:xfrm>
            <a:off x="870120" y="2009880"/>
            <a:ext cx="3305160" cy="14191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19"/>
          <p:cNvSpPr/>
          <p:nvPr/>
        </p:nvSpPr>
        <p:spPr>
          <a:xfrm>
            <a:off x="1335240" y="2986200"/>
            <a:ext cx="7250040" cy="752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Xbox 360 GPU Captur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PIX GPU Analysis Tab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1"/>
          <p:cNvSpPr/>
          <p:nvPr/>
        </p:nvSpPr>
        <p:spPr>
          <a:xfrm>
            <a:off x="38160" y="5985000"/>
            <a:ext cx="9144000" cy="35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© 2007 </a:t>
            </a:r>
            <a:r>
              <a:rPr b="0" lang="en-US" sz="900" spc="-1" strike="noStrike">
                <a:solidFill>
                  <a:srgbClr val="ffffff"/>
                </a:solidFill>
                <a:latin typeface="Trebuchet MS"/>
                <a:ea typeface="Arial"/>
              </a:rPr>
              <a:t>Microsoft</a:t>
            </a:r>
            <a:r>
              <a:rPr b="0" lang="en-US" sz="900" spc="-1" strike="noStrike">
                <a:solidFill>
                  <a:srgbClr val="ffffff"/>
                </a:solidFill>
                <a:latin typeface="Arial"/>
                <a:ea typeface="Arial"/>
              </a:rPr>
              <a:t> Corporation. All rights reserved.</a:t>
            </a:r>
            <a:endParaRPr b="0" lang="en-US" sz="9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ffffff"/>
                </a:solidFill>
                <a:latin typeface="Arial"/>
                <a:ea typeface="Arial"/>
              </a:rPr>
              <a:t>This presentation is for informational purposes only. Microsoft makes no warranties, express or implied, in this summary.</a:t>
            </a:r>
            <a:endParaRPr b="0" lang="en-US" sz="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65" name="Rectangle 13"/>
          <p:cNvSpPr/>
          <p:nvPr/>
        </p:nvSpPr>
        <p:spPr>
          <a:xfrm>
            <a:off x="25560" y="2832120"/>
            <a:ext cx="9144000" cy="190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r>
              <a:rPr b="0" lang="en-US" sz="3200" spc="-1" strike="noStrike" u="sng">
                <a:solidFill>
                  <a:srgbClr val="6699ff"/>
                </a:solidFill>
                <a:uFillTx/>
                <a:latin typeface="Trebuchet MS"/>
                <a:hlinkClick r:id="rId2"/>
              </a:rPr>
              <a:t>www.xna.com</a:t>
            </a: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 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600"/>
            </a:br>
            <a:br>
              <a:rPr sz="1600"/>
            </a:br>
            <a:br>
              <a:rPr sz="1600"/>
            </a:br>
            <a:br>
              <a:rPr sz="1600"/>
            </a:b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pic>
        <p:nvPicPr>
          <p:cNvPr id="166" name="Picture 7" descr="XNA_Logo_FINAL_trans.png"/>
          <p:cNvPicPr/>
          <p:nvPr/>
        </p:nvPicPr>
        <p:blipFill>
          <a:blip r:embed="rId3"/>
          <a:stretch/>
        </p:blipFill>
        <p:spPr>
          <a:xfrm>
            <a:off x="2224080" y="674640"/>
            <a:ext cx="4497480" cy="2106720"/>
          </a:xfrm>
          <a:prstGeom prst="rect">
            <a:avLst/>
          </a:prstGeom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Prerequisites for Profiling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50640" y="1347480"/>
            <a:ext cx="8443800" cy="505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uild consideration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9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Use a “Profile” build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2" marL="1262160" indent="-401760"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Release build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262160" indent="-401760">
              <a:lnSpc>
                <a:spcPct val="90000"/>
              </a:lnSpc>
              <a:spcBef>
                <a:spcPts val="751"/>
              </a:spcBef>
              <a:buSzPct val="123432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No miscellaneous output, test code, memory checks, etc.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9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Generate symbol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901"/>
              </a:spcBef>
              <a:buSzPct val="119919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dd PIX labels for code section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049"/>
              </a:spcBef>
              <a:buSzPct val="117554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Game consideration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751"/>
              </a:spcBef>
              <a:buSzPct val="143869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Deterministic behavior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262160" indent="-401760">
              <a:lnSpc>
                <a:spcPct val="90000"/>
              </a:lnSpc>
              <a:spcBef>
                <a:spcPts val="675"/>
              </a:spcBef>
              <a:buSzPct val="137233"/>
              <a:buBlip>
                <a:blip r:embed="rId9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Remove truly random numbers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336600">
              <a:lnSpc>
                <a:spcPct val="90000"/>
              </a:lnSpc>
              <a:spcBef>
                <a:spcPts val="601"/>
              </a:spcBef>
              <a:buSzPct val="128673"/>
              <a:buBlip>
                <a:blip r:embed="rId10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Use pseudo-based generator with known, repeatable, keys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751"/>
              </a:spcBef>
              <a:buSzPct val="143869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rebuchet MS"/>
              </a:rPr>
              <a:t>Time is no longer physical time</a:t>
            </a:r>
            <a:endParaRPr b="0" lang="en-US" sz="2000" spc="-1" strike="noStrike">
              <a:solidFill>
                <a:srgbClr val="ffffff"/>
              </a:solidFill>
              <a:latin typeface="Trebuchet MS"/>
            </a:endParaRPr>
          </a:p>
          <a:p>
            <a:pPr lvl="2" marL="1262160" indent="-401760">
              <a:lnSpc>
                <a:spcPct val="90000"/>
              </a:lnSpc>
              <a:spcBef>
                <a:spcPts val="675"/>
              </a:spcBef>
              <a:buSzPct val="137233"/>
              <a:buBlip>
                <a:blip r:embed="rId12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rebuchet MS"/>
              </a:rPr>
              <a:t>Affects more than graphics pipeline</a:t>
            </a:r>
            <a:endParaRPr b="0" lang="en-US" sz="1800" spc="-1" strike="noStrike">
              <a:solidFill>
                <a:srgbClr val="ffffff"/>
              </a:solidFill>
              <a:latin typeface="Trebuchet MS"/>
            </a:endParaRPr>
          </a:p>
          <a:p>
            <a:pPr lvl="3" marL="1600200" indent="-336600">
              <a:lnSpc>
                <a:spcPct val="90000"/>
              </a:lnSpc>
              <a:spcBef>
                <a:spcPts val="601"/>
              </a:spcBef>
              <a:buSzPct val="128673"/>
              <a:buBlip>
                <a:blip r:embed="rId13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rebuchet MS"/>
              </a:rPr>
              <a:t>AI, physics, collisions, visibility schemes, game code, etc.</a:t>
            </a:r>
            <a:endParaRPr b="0" lang="en-US" sz="16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0" name="Rectangle 2"/>
          <p:cNvSpPr/>
          <p:nvPr/>
        </p:nvSpPr>
        <p:spPr>
          <a:xfrm>
            <a:off x="324000" y="228600"/>
            <a:ext cx="8515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Prerequisites for Profiling</a:t>
            </a:r>
            <a:br>
              <a:rPr sz="4800"/>
            </a:br>
            <a:r>
              <a:rPr b="0" lang="en-US" sz="3600" spc="-1" strike="noStrike">
                <a:solidFill>
                  <a:srgbClr val="fbf3c5"/>
                </a:solidFill>
                <a:latin typeface="Trebuchet MS"/>
              </a:rPr>
              <a:t>Windows and Xbox 360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23640" y="228600"/>
            <a:ext cx="8515080" cy="750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Prerequisites for Profiling</a:t>
            </a:r>
            <a:endParaRPr b="0" lang="en-US" sz="48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1387080"/>
            <a:ext cx="8443800" cy="225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049"/>
              </a:spcBef>
              <a:buSzPct val="11755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Build configuration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901"/>
              </a:spcBef>
              <a:buSzPct val="119919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Profile”: optimized build, inst libs (d3d9i, xapilibi)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901"/>
              </a:spcBef>
              <a:buSzPct val="119919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Profile Callcap”: optimized build, inst libs, /callcap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901"/>
              </a:spcBef>
              <a:buSzPct val="119919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“</a:t>
            </a: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Final”: full shipping build, LTCG if possibl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901"/>
              </a:spcBef>
              <a:buSzPct val="119919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rebuchet MS"/>
              </a:rPr>
              <a:t>Add PIX labels for threads as well as code section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3" name="Rectangle 2"/>
          <p:cNvSpPr/>
          <p:nvPr/>
        </p:nvSpPr>
        <p:spPr>
          <a:xfrm>
            <a:off x="324000" y="228600"/>
            <a:ext cx="85150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Prerequisites for Profiling</a:t>
            </a:r>
            <a:br>
              <a:rPr sz="4800"/>
            </a:br>
            <a:r>
              <a:rPr b="0" lang="en-US" sz="3600" spc="-1" strike="noStrike">
                <a:solidFill>
                  <a:srgbClr val="fbf3c5"/>
                </a:solidFill>
                <a:latin typeface="Trebuchet MS"/>
              </a:rPr>
              <a:t>Xbox 360 specifics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228600"/>
            <a:ext cx="8382240" cy="125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PIX for Windows</a:t>
            </a:r>
            <a:br>
              <a:rPr sz="4800"/>
            </a:br>
            <a:r>
              <a:rPr b="0" lang="en-US" sz="3600" spc="-1" strike="noStrike">
                <a:solidFill>
                  <a:srgbClr val="fbf3c5"/>
                </a:solidFill>
                <a:latin typeface="Trebuchet MS"/>
              </a:rPr>
              <a:t>Primarily used for</a:t>
            </a:r>
            <a:endParaRPr b="0" lang="en-US" sz="3600" spc="-1" strike="noStrike">
              <a:solidFill>
                <a:srgbClr val="f2c160"/>
              </a:solidFill>
              <a:latin typeface="Trebuchet MS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80520" y="1612800"/>
            <a:ext cx="8410680" cy="171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Validating programming assumption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-depth debugging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Portable repro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380520" y="1612800"/>
            <a:ext cx="8410680" cy="3705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Real-time perf evaluatio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Using counters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-game feedback using overlay view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Offline perf evaluation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Capturing a stream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Validating what you rendered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  <a:p>
            <a:pPr lvl="1" marL="858960" indent="-409680">
              <a:lnSpc>
                <a:spcPct val="90000"/>
              </a:lnSpc>
              <a:spcBef>
                <a:spcPts val="1049"/>
              </a:spcBef>
              <a:buSzPct val="102805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rebuchet MS"/>
              </a:rPr>
              <a:t>In-depth evaluation using PIX</a:t>
            </a:r>
            <a:endParaRPr b="0" lang="en-US" sz="28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97" name="Rectangle 2"/>
          <p:cNvSpPr/>
          <p:nvPr/>
        </p:nvSpPr>
        <p:spPr>
          <a:xfrm>
            <a:off x="411120" y="189000"/>
            <a:ext cx="8381880" cy="12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PIX for Windows</a:t>
            </a:r>
            <a:br>
              <a:rPr sz="4800"/>
            </a:br>
            <a:r>
              <a:rPr b="0" lang="en-US" sz="3600" spc="-1" strike="noStrike">
                <a:solidFill>
                  <a:srgbClr val="fbf3c5"/>
                </a:solidFill>
                <a:latin typeface="Trebuchet MS"/>
              </a:rPr>
              <a:t>Examples today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15" descr="demo1"/>
          <p:cNvPicPr/>
          <p:nvPr/>
        </p:nvPicPr>
        <p:blipFill>
          <a:blip r:embed="rId1"/>
          <a:stretch/>
        </p:blipFill>
        <p:spPr>
          <a:xfrm>
            <a:off x="870120" y="2009880"/>
            <a:ext cx="3305160" cy="1419120"/>
          </a:xfrm>
          <a:prstGeom prst="rect">
            <a:avLst/>
          </a:prstGeom>
          <a:ln w="0">
            <a:noFill/>
          </a:ln>
        </p:spPr>
      </p:pic>
      <p:sp>
        <p:nvSpPr>
          <p:cNvPr id="99" name="Rectangle 19"/>
          <p:cNvSpPr/>
          <p:nvPr/>
        </p:nvSpPr>
        <p:spPr>
          <a:xfrm>
            <a:off x="1335240" y="2986200"/>
            <a:ext cx="7250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Counters and Overlays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380520" y="1612800"/>
            <a:ext cx="841068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Quick way to validate high-level assumption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In-game feedback using overlay view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  <a:p>
            <a:pPr marL="447840" indent="-447840">
              <a:lnSpc>
                <a:spcPct val="90000"/>
              </a:lnSpc>
              <a:spcBef>
                <a:spcPts val="1199"/>
              </a:spcBef>
              <a:buSzPct val="102872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rebuchet MS"/>
              </a:rPr>
              <a:t>Great for finding temporal correlations</a:t>
            </a:r>
            <a:endParaRPr b="0" lang="en-US" sz="3200" spc="-1" strike="noStrike">
              <a:solidFill>
                <a:srgbClr val="ffffff"/>
              </a:solidFill>
              <a:latin typeface="Trebuchet MS"/>
            </a:endParaRPr>
          </a:p>
        </p:txBody>
      </p:sp>
      <p:sp>
        <p:nvSpPr>
          <p:cNvPr id="101" name="Rectangle 2"/>
          <p:cNvSpPr/>
          <p:nvPr/>
        </p:nvSpPr>
        <p:spPr>
          <a:xfrm>
            <a:off x="411120" y="189000"/>
            <a:ext cx="8381880" cy="1902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2c160"/>
                </a:solidFill>
                <a:latin typeface="Trebuchet MS"/>
              </a:rPr>
              <a:t>Demo: Counters and Overlays</a:t>
            </a:r>
            <a:br>
              <a:rPr sz="4800"/>
            </a:br>
            <a:r>
              <a:rPr b="0" lang="en-US" sz="3600" spc="-1" strike="noStrike">
                <a:solidFill>
                  <a:srgbClr val="fbf3c5"/>
                </a:solidFill>
                <a:latin typeface="Trebuchet MS"/>
              </a:rPr>
              <a:t>What we learned</a:t>
            </a:r>
            <a:endParaRPr b="0" lang="en-US" sz="36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15" descr="demo1"/>
          <p:cNvPicPr/>
          <p:nvPr/>
        </p:nvPicPr>
        <p:blipFill>
          <a:blip r:embed="rId1"/>
          <a:stretch/>
        </p:blipFill>
        <p:spPr>
          <a:xfrm>
            <a:off x="870120" y="2009880"/>
            <a:ext cx="3305160" cy="1419120"/>
          </a:xfrm>
          <a:prstGeom prst="rect">
            <a:avLst/>
          </a:prstGeom>
          <a:ln w="0">
            <a:noFill/>
          </a:ln>
        </p:spPr>
      </p:pic>
      <p:sp>
        <p:nvSpPr>
          <p:cNvPr id="103" name="Rectangle 19"/>
          <p:cNvSpPr/>
          <p:nvPr/>
        </p:nvSpPr>
        <p:spPr>
          <a:xfrm>
            <a:off x="1335240" y="2986200"/>
            <a:ext cx="7250040" cy="4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Segoe"/>
              </a:rPr>
              <a:t>Full Stream Capture</a:t>
            </a:r>
            <a:endParaRPr b="0" lang="en-US" sz="2400" spc="-1" strike="noStrike">
              <a:solidFill>
                <a:srgbClr val="ffffff"/>
              </a:solidFill>
              <a:latin typeface="Trebuchet MS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24T20:09:08Z</dcterms:created>
  <dc:creator/>
  <dc:description/>
  <dc:language>en-US</dc:language>
  <cp:lastModifiedBy/>
  <dcterms:modified xsi:type="dcterms:W3CDTF">2007-02-26T20:15:32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ontentType">
    <vt:lpwstr>Document</vt:lpwstr>
  </property>
</Properties>
</file>