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60CC-CEF5-4B7F-AEF9-27B6108C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9DE-F64B-47F9-8E2A-77F294936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90F6-254D-459A-A303-97A599480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402E-7338-4345-9BEB-4DF5DAEF7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D9A8-717B-4E46-87A2-CB8F1138D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FD1-0DD4-4880-806F-F92DB0E1E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7D73-D318-4D5D-8830-2050BB3CD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F52-8150-436B-9CE3-FA1CB1DBA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7FC-26E8-46D0-B775-B9CB80C633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8F7A-79B6-4FDE-8664-CB67D593B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175-95A8-4430-8786-147313C53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5B5-D3E9-4D85-9A05-183FE193F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B742-A309-4679-A47C-2E7212869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BBD3-EF01-462D-B18E-48403500D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C68-3AB9-4402-B14A-FEBC095EC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BA5-8967-48DB-A17B-4C43A0A3D3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0EC5-D7F4-408B-A41C-773B540F3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1B7-E565-4DCB-9033-FA784CCA45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A80-A4F5-4E15-98C5-DE433890F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8602-A64C-49E6-A5E0-A7ECF7CC5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9B97-E528-49FE-A249-9735F3548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629-1D97-45A2-8F25-79C8D4EDF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048-CE01-494B-8D7B-710242F90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79760"/>
            <a:ext cx="50292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794-7417-4978-B621-C42982912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694-7F47-49AD-AD51-D9DE8E30158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63214BF-DED1-4379-81BD-E27CFCE5B21E}" type="datetime10">
              <a:rPr b="0" lang="en-US" sz="1200" spc="-1" strike="noStrike">
                <a:solidFill>
                  <a:srgbClr val="ffffff"/>
                </a:solidFill>
                <a:latin typeface="Arial"/>
              </a:rPr>
              <a:t>01:58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127-AF6A-4B1F-96D3-2E3678F2C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AEA-89F0-4F82-9665-74BCA2E74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1F29-0334-4763-BD72-4E457972DD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59C-E74A-45A8-8A3F-C417AF219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FFD1-D292-4900-9AAD-6E47CD8A4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E14F-55E8-4D3A-926E-01A822445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9F1-5F86-40F6-9963-C7025B630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0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08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0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08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228600"/>
            <a:ext cx="85150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60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08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60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08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3640" y="228600"/>
            <a:ext cx="85150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0" name="Picture 11" descr="bullet"/>
          <p:cNvPicPr/>
          <p:nvPr/>
        </p:nvPicPr>
        <p:blipFill>
          <a:blip r:embed="rId10"/>
          <a:stretch/>
        </p:blipFill>
        <p:spPr>
          <a:xfrm>
            <a:off x="9336240" y="0"/>
            <a:ext cx="24120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xna.com/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5320" y="190188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Tutorial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2819160"/>
            <a:ext cx="91440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cott Selfon ▫ Senior Audio Speciali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ian Schmidt ▫ Audio Program Manag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cott Morgan ▫ Audio Test Ninj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7" descr="Logo-xact"/>
          <p:cNvPicPr/>
          <p:nvPr/>
        </p:nvPicPr>
        <p:blipFill>
          <a:blip r:embed="rId1"/>
          <a:stretch/>
        </p:blipFill>
        <p:spPr>
          <a:xfrm>
            <a:off x="228600" y="152280"/>
            <a:ext cx="3429000" cy="282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4674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Organizing Sound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486640" cy="370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tegories: Hierarchical organization of sound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ent creator view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ch sound can be assigned to one catego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tegory proper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grammer view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time contro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7"/>
          <a:stretch/>
        </p:blipFill>
        <p:spPr>
          <a:xfrm>
            <a:off x="6400800" y="3429000"/>
            <a:ext cx="245736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746748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Introducing the XACT Authoring Tool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ree Basic Workspace Area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108" name="Picture 4" descr="XACT_FullScreen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990720" y="1905120"/>
            <a:ext cx="2209680" cy="2286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657600" y="1828800"/>
            <a:ext cx="2971800" cy="609480"/>
          </a:xfrm>
          <a:prstGeom prst="borderCallout1">
            <a:avLst>
              <a:gd name="adj1" fmla="val 18750"/>
              <a:gd name="adj2" fmla="val -8333"/>
              <a:gd name="adj3" fmla="val 99481"/>
              <a:gd name="adj4" fmla="val -21259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Project Tre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38080" y="3962520"/>
            <a:ext cx="2362320" cy="24382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3657600" y="3505320"/>
            <a:ext cx="2971800" cy="1143000"/>
          </a:xfrm>
          <a:prstGeom prst="borderCallout1">
            <a:avLst>
              <a:gd name="adj1" fmla="val 18750"/>
              <a:gd name="adj2" fmla="val -8333"/>
              <a:gd name="adj3" fmla="val 95833"/>
              <a:gd name="adj4" fmla="val -18324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Property Fram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2895480" y="1828800"/>
            <a:ext cx="4953240" cy="44956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-11160" y="1771560"/>
            <a:ext cx="3178080" cy="1295640"/>
          </a:xfrm>
          <a:prstGeom prst="borderCallout1">
            <a:avLst>
              <a:gd name="adj1" fmla="val 18750"/>
              <a:gd name="adj2" fmla="val -8333"/>
              <a:gd name="adj3" fmla="val 21569"/>
              <a:gd name="adj4" fmla="val 134013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Projec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Workspac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16256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1. The Project Tre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1339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sts all content in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ve bank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und bank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lobal setting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Picture 4" descr="XACT_ProjectTree"/>
          <p:cNvPicPr/>
          <p:nvPr/>
        </p:nvPicPr>
        <p:blipFill>
          <a:blip r:embed="rId5"/>
          <a:stretch/>
        </p:blipFill>
        <p:spPr>
          <a:xfrm>
            <a:off x="533520" y="1523880"/>
            <a:ext cx="3217680" cy="3267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80880" y="4800600"/>
            <a:ext cx="845820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reate new bank from menu, or right-cli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uble-click a bank to open its edito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4678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2. The Property Fram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1068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s all editable properties for objects selected in project tree or property fra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Picture 4" descr="XACT_PropertyFrame"/>
          <p:cNvPicPr/>
          <p:nvPr/>
        </p:nvPicPr>
        <p:blipFill>
          <a:blip r:embed="rId2"/>
          <a:stretch/>
        </p:blipFill>
        <p:spPr>
          <a:xfrm>
            <a:off x="380880" y="2590920"/>
            <a:ext cx="3462480" cy="3620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886200" y="2600280"/>
            <a:ext cx="5257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dit multiple objects of the same type at on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ptions of various properties at bottom of fra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75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3. Project Workspac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343640" cy="32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wave bank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d sound banks ar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iewed and edit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, dele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ty edit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imarily in proper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nd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5" name="Picture 4" descr="XACT_WorkspaceFrame"/>
          <p:cNvPicPr/>
          <p:nvPr/>
        </p:nvPicPr>
        <p:blipFill>
          <a:blip r:embed="rId4"/>
          <a:stretch/>
        </p:blipFill>
        <p:spPr>
          <a:xfrm>
            <a:off x="4876920" y="1523880"/>
            <a:ext cx="3857400" cy="310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ave Bank Editor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79246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rag-and-drop AIFF/WAV files, folde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compress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udition wav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4" descr="XACT_WaveBank"/>
          <p:cNvPicPr/>
          <p:nvPr/>
        </p:nvPicPr>
        <p:blipFill>
          <a:blip r:embed="rId4"/>
          <a:stretch/>
        </p:blipFill>
        <p:spPr>
          <a:xfrm>
            <a:off x="380880" y="1143000"/>
            <a:ext cx="6096240" cy="260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XACT_PlayButtonCallout"/>
          <p:cNvPicPr/>
          <p:nvPr/>
        </p:nvPicPr>
        <p:blipFill>
          <a:blip r:embed="rId5"/>
          <a:stretch/>
        </p:blipFill>
        <p:spPr>
          <a:xfrm>
            <a:off x="4114800" y="5105520"/>
            <a:ext cx="3505320" cy="37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Sound Bank Editor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131" name="Picture 5" descr="XACT_SoundBank"/>
          <p:cNvPicPr/>
          <p:nvPr/>
        </p:nvPicPr>
        <p:blipFill>
          <a:blip r:embed="rId1"/>
          <a:stretch/>
        </p:blipFill>
        <p:spPr>
          <a:xfrm>
            <a:off x="304920" y="1487520"/>
            <a:ext cx="7839000" cy="4913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1523880" y="3705120"/>
            <a:ext cx="3178440" cy="552600"/>
          </a:xfrm>
          <a:prstGeom prst="borderCallout1">
            <a:avLst>
              <a:gd name="adj1" fmla="val 18750"/>
              <a:gd name="adj2" fmla="val -8333"/>
              <a:gd name="adj3" fmla="val -136208"/>
              <a:gd name="adj4" fmla="val -18430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Sound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981080" y="5486400"/>
            <a:ext cx="3178440" cy="552600"/>
          </a:xfrm>
          <a:prstGeom prst="borderCallout1">
            <a:avLst>
              <a:gd name="adj1" fmla="val 18750"/>
              <a:gd name="adj2" fmla="val -8333"/>
              <a:gd name="adj3" fmla="val -29023"/>
              <a:gd name="adj4" fmla="val -20481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Cu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7010280" y="3276720"/>
            <a:ext cx="2057400" cy="1218960"/>
          </a:xfrm>
          <a:prstGeom prst="borderCallout1">
            <a:avLst>
              <a:gd name="adj1" fmla="val 18750"/>
              <a:gd name="adj2" fmla="val -8333"/>
              <a:gd name="adj3" fmla="val -2736"/>
              <a:gd name="adj4" fmla="val -35337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Event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in selected sound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981080" y="2971800"/>
            <a:ext cx="3200400" cy="1962000"/>
          </a:xfrm>
          <a:prstGeom prst="borderCallout1">
            <a:avLst>
              <a:gd name="adj1" fmla="val 18750"/>
              <a:gd name="adj2" fmla="val -8333"/>
              <a:gd name="adj3" fmla="val 108657"/>
              <a:gd name="adj4" fmla="val 110814"/>
            </a:avLst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emibold"/>
              </a:rPr>
              <a:t>Sound Variation List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in selected cu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1544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Building Sounds</a:t>
            </a:r>
            <a:br>
              <a:rPr sz="4800"/>
            </a:b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and Cu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486640" cy="30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ight-click menus (shortcuts easier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d track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d events (adjust properties in property fram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Sound / New Cu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udition sounds and cu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8" name="Picture 4" descr="XACT_PlayButtonCallout"/>
          <p:cNvPicPr/>
          <p:nvPr/>
        </p:nvPicPr>
        <p:blipFill>
          <a:blip r:embed="rId6"/>
          <a:stretch/>
        </p:blipFill>
        <p:spPr>
          <a:xfrm>
            <a:off x="914400" y="4876920"/>
            <a:ext cx="3505320" cy="37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73152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ommon Task Shortcut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4866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umerous drag-and-drop shortcu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to-create cues and sounds from wav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und and wave vari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tracks from wav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ltiple object select for bulk edit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acebar/Escape for play/sto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Agenda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2242800"/>
            <a:ext cx="7419960" cy="23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view: Goals for XACT 2.0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asic XACT Concep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troducing the Authoring Too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utorial Task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elivering Conten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1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settings per bank in project tre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all/default build settings in project’s property fra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3" name="Picture 4" descr="XACT_BuildButton"/>
          <p:cNvPicPr/>
          <p:nvPr/>
        </p:nvPicPr>
        <p:blipFill>
          <a:blip r:embed="rId4"/>
          <a:stretch/>
        </p:blipFill>
        <p:spPr>
          <a:xfrm>
            <a:off x="2209680" y="3200400"/>
            <a:ext cx="2901960" cy="69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Runtime Parameter</a:t>
            </a:r>
            <a:br>
              <a:rPr sz="4800"/>
            </a:b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ontrols (RPCs)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4416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reate variab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reate an RPC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urves map variable(s) to parameter(s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ssociate RPC with sound(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d for 3D, reverb, and envelopes, too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RPC Exampl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714384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6676920" cy="453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6676920" cy="453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990720" y="2057400"/>
            <a:ext cx="667548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and DSP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27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erberation eff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box 360 and Window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t default proper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djust runtime properties via RPC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outing sounds to the rever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utorial Task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384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cused on introduction to XACT functional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urce waves on the tutorial PC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tion with Audition Monitor and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eel free to do your own explor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sk a proctor if you have any ques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lease write up feedback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7"/>
          <a:stretch/>
        </p:blipFill>
        <p:spPr>
          <a:xfrm>
            <a:off x="7010280" y="3352680"/>
            <a:ext cx="53352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hat’s New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44160" cy="311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de-driven XACT API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signed for basic game scenario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x and match with content-driven us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ol at wave/wave bank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nerally not used on “rich” cont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re visibility into ob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hat’s Coming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10680" cy="37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pril 2007 Game Development Ki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pdated property fra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tion monit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grammer’s re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tioning improvem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PC editor enhancem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: The “Executive” Summary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68212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aves programmer ti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ully built engine – don’t need to start from ground u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lows focus on technical concerns (RAM, disk bandwidth, etc.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aves composer/sound designer ti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eful to prototype for/port to other platfor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n’t need to bother/wait for/block programm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Free Swim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ork through the tutorial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ive us feedba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NA and DirectX Newsgroup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ake some noise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910320" y="2743200"/>
            <a:ext cx="144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Fin.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515080" cy="75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ypical Audio Pipelin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3012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grammers design audio eng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ichness driven by time availab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oser/sound designer given list of assets to prov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grammer integrates assets into tit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diting, compression, mix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1"/>
          <p:cNvSpPr/>
          <p:nvPr/>
        </p:nvSpPr>
        <p:spPr>
          <a:xfrm>
            <a:off x="38160" y="5985000"/>
            <a:ext cx="9144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7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  <a:ea typeface="Arial"/>
              </a:rPr>
              <a:t>Microsoft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 Corporation. All rights reserved.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25560" y="283212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3200" spc="-1" strike="noStrike" u="sng">
                <a:solidFill>
                  <a:srgbClr val="6699ff"/>
                </a:solidFill>
                <a:uFillTx/>
                <a:latin typeface="Trebuchet MS"/>
                <a:hlinkClick r:id="rId2"/>
              </a:rPr>
              <a:t>www.xna.co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7" name="Picture 7" descr="XNA_Logo_FINAL_trans.png"/>
          <p:cNvPicPr/>
          <p:nvPr/>
        </p:nvPicPr>
        <p:blipFill>
          <a:blip r:embed="rId3"/>
          <a:stretch/>
        </p:blipFill>
        <p:spPr>
          <a:xfrm>
            <a:off x="2224080" y="674640"/>
            <a:ext cx="4497480" cy="2106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c160"/>
                </a:solidFill>
                <a:latin typeface="Trebuchet MS"/>
              </a:rPr>
              <a:t>XACT Overview</a:t>
            </a:r>
            <a:endParaRPr b="0" lang="en-US" sz="4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oal: Define and separate responsibiliti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CT engine: Manages low-level task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ata bundling, streaming, sequencing, notifications, real-time auditioning, et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grammer: Technica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ent Creator: Creative/Aesthetic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e Two Parts of XAC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791560" cy="297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ndows authoring tool for content creato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box/Windows high-level game eng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tion” vers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ail” vers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(Xbox: library swap; Windows: API switch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696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Authoring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8390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ve in-game auditioning*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o Console or game built w/ audition engi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quencing of waves/settings over ti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ulti-track (polyphonic) sup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pecify sweeps, fad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riation control specified by cont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239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ynamic Audio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827360"/>
            <a:ext cx="845352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untime parameter controls (RPC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p variables to playback parame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teractive audio (IA) cu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p variable to sound selec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fine transition matrix between soun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1508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e XACT</a:t>
            </a:r>
            <a:br>
              <a:rPr sz="4800"/>
            </a:b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Audio Pipelin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oser and programmer decide on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gh-level triggers (cues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ame state audio controls (variables, categories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dependent implement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grammer puts cues/variable updates into gam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oser launches game to author/mi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oser builds content for game integr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onitor sounds triggered in-gam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form final game mi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515080" cy="75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File Format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CT Project File (*.xap): describes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ve Bank (*.xwb): bundled wav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ession, streaming/in-memo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und Banks (*.xsb): sounds and cu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unds: “Instructions for how to play waves”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ues: “What the programmer triggers”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lobal Settings File (*.xg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ties spanning multiple sound bank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20:11:57Z</dcterms:created>
  <dc:creator/>
  <dc:description/>
  <dc:language>en-US</dc:language>
  <cp:lastModifiedBy/>
  <dcterms:modified xsi:type="dcterms:W3CDTF">2007-02-24T20:12:24Z</dcterms:modified>
  <cp:revision>1</cp:revision>
  <dc:subject/>
  <dc:title/>
</cp:coreProperties>
</file>