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8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27.wmf" ContentType="image/x-wmf"/>
  <Override PartName="/ppt/media/image1.jpeg" ContentType="image/jpeg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E303-5532-4BDD-966A-29181B508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3ADD92C-AFBA-438E-B976-B745144E33D1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498320" y="266760"/>
            <a:ext cx="4203720" cy="31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move the slid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-360" y="8792640"/>
            <a:ext cx="566748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Sego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©2005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5582880" y="8799120"/>
            <a:ext cx="1273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CBD-E971-49CC-AB97-E0449E3E9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143E-92F2-406F-89E5-558E8258B77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4972A9A-5C1F-4548-9368-127F563CBD6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BB80-0A9F-4F9E-9CD4-730555D569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DCA5-3A4F-4880-9C77-7E0FEEC9EB1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8CD57E6-1F5C-4058-BB1F-D369E036FA3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E5D-8E0C-487E-9928-902AC27BD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2AE-D9E0-47D4-9C4E-990BD846146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A3A5BD2-0F09-42A4-BD0B-0D5F62307F5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69B-5FE3-49D7-A25A-5C750F151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4E59-0C0C-4A7E-A6EF-37323DE0124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80473E9-2038-4C0D-997F-0F454931BE4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93C-B268-4487-8D89-D4C172D53C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5D3B-333D-4069-9D94-27255B51000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3617039-6017-43BC-A777-28AC06B6F994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8DE-DC82-4B66-918E-A80C2765B5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BA1-7981-469B-9629-DFE2669ED10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60B7D26-FFB9-45ED-B36A-A32E976752B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EC7E-73E6-49E3-B8F2-2A27A64EB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673-D230-483A-87EC-7ED8676C80C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2971239-ABE1-4227-986E-BBED5E8E4A7C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3C8F-5A24-43B8-BF85-97A6D6E94F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C5C-6F54-4DDA-8938-CDB72D3CD87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3581083-75DC-40F8-901B-E653E3DE414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13ED-81A6-4F4C-B758-44970B3739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CCD5-ED1F-4DA4-9D51-4CD0485EA26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7F1B57A-D9A1-4F4A-A68B-F93F608743DC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BA0-8393-4D0E-9933-C042E58B85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C0E-4657-4ED8-B1D7-9C9C8420856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9D6D9A2-E54C-4872-9FAF-15F84161E52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9606-1920-42AD-B322-BB8E74A6E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8F16-97C8-40D6-B99B-C6B49DF1C22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BA0A397-ACFF-4696-B2A6-9C737A0EB01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9E50-33AB-433A-B805-76B6B1F69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EB50-9785-47F3-AF5B-ADB3D952892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8994C4A-513D-4786-BCAC-EB66AC2D68E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203-7C4E-44E1-9042-C89DD06ADF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66BC-1377-4337-B05D-D5825C0A86A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A3A2B61-D019-4852-AA39-3BF06CBBAE87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AC05-1A53-4B41-9289-C08ADA402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689-078B-48D0-B3A7-BF26CF5A304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A110B3B-675B-425A-A4A8-EBCEB844C24B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37D-3C69-4999-B569-314D9E9506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06C1-F065-4EE7-BDFD-7BD92E1F96F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62F1A61-5FE9-49BB-BA4F-6F5709A98178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2FF-06C7-4E64-BB6F-BA5842425E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F1D-1A90-4C04-A812-D3D56E3CE89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62FE498-8856-48B4-AC2C-E855F920C154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F2F9-819C-42E2-95C7-3E570C1AB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FEA3-5D71-4AEA-BE55-834466474F2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B6148D3-183E-4426-98BC-C92CEA2117A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40F8-67BC-4048-9A37-28A242D54C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9373-BE5D-4935-B941-E26BC7FDB45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E49AD32-3FBF-4A3D-BC1A-8BCFDCD351A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90CC-4F9B-42E6-9ADC-40D7793CA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9C76-8D71-4092-A26B-26A4FAD4FB8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50DC5C5-0D45-4EDF-901E-3D9AC29A400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430-6964-440A-8958-BB5F288E7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FFF6-83C5-4070-95AA-64531CD8ED8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56D4E1D-D479-4F51-A5BF-124455EEE917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45F2-082E-4EF0-A555-59B801394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EC21-1245-4B53-AC8B-510863F4361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9A3C046-C501-4567-BD2F-643086E3626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E7D8-5AB1-4133-B81B-72FFAC0E47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C7A0-8D56-4D8B-ADF5-02A5A421B3A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00C5246-A154-4859-8D85-D38FFA1A5DD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8868-B2BA-4F01-888A-418EF6656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998A-EEA9-469E-8D2A-F55D6790BA1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1285FEB-78F7-4355-95BE-714F97E878A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0F3-53DB-47B0-B19B-C2D23EAFC9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F4ED-90A3-4821-B47F-1E10E6E4A4B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98267F7-C900-499A-AA20-DC4C4EF46191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D0E-6940-4CEA-AC87-2FA7A55BB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A251-0BE6-4785-AAA1-AA1B6EEB5F6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192658D-533D-47A0-8ABC-BF613094103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007-A888-4995-BE73-5AAB1D01EA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2960-1380-4A14-A40F-AE6AB054258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969FC23-2438-4B4B-8E42-6FBA91881781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FAE9-99AC-4AD3-825F-4ACD32DF8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F8E5-6FF7-4F97-A33E-4CF7585D5E0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675D21E-4026-470A-9606-EF0E633156A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DA86-27A0-4BF0-9C17-B9078DA47B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0CB-1EED-47D8-9A61-8035F9E21E4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8F59184-42E7-4DF9-BDE1-89D25649A1A2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0227-F2D3-4173-9708-ABB42905C0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20D7-D89C-4703-AEE3-89C20A70D9B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55ADF09-F297-4596-B323-12B49CB318A8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D9A-DC21-429A-BE08-146E294CEE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6BEE-D80D-4586-8953-CDCB4EE7F12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7812662-6EC6-4D3E-B867-7AAB034313B4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EF6D-A486-48AF-A232-E3D9E417B3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10CF-34F6-46DC-BF8B-930FF37DA1C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E2084D2-20A8-4B94-BC08-A3E504C4848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DD5E-6459-4AD8-B21D-C4AD4712F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61E-83E1-4CD7-B147-B3E329B2D65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FC14F67-3F99-4FD2-BE53-723D8F8D6F39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D18-0D7C-4DAD-85B7-04F0D338B4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A96C-13D0-478E-ADA4-115C6EFA732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3F70C1F-89B0-4CA6-98D4-8B19A9788A6A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DC70-D2F4-4CB9-A607-068F5FF69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85B-4443-4A69-AAE8-053FFAF40B2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C3BB69D-7DBC-4D72-87C2-42007BF57FC7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EFA0-FF66-4D58-B1A9-BEDBEB793E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DAC1-C786-4090-9C21-CA0905198DA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0DF22BA-A085-4EA7-BD5D-35E539463DD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:19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5C1-3B6E-4295-BC4B-BA4BF35FF6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0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08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0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08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3640" y="228600"/>
            <a:ext cx="85150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" name="Picture 11" descr="bullet"/>
          <p:cNvPicPr/>
          <p:nvPr/>
        </p:nvPicPr>
        <p:blipFill>
          <a:blip r:embed="rId10"/>
          <a:stretch/>
        </p:blipFill>
        <p:spPr>
          <a:xfrm>
            <a:off x="9336240" y="0"/>
            <a:ext cx="24120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msdn.microsoft.com/directxhttps://x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xna.com/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359160"/>
            <a:ext cx="876132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c160"/>
                </a:solidFill>
                <a:latin typeface="Trebuchet MS"/>
              </a:rPr>
              <a:t>The Future of Audio on Windows and Xbox 360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895400" y="4847760"/>
            <a:ext cx="687888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Brian  Schmid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Program Manag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XNA Professional Game Platform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-64152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Presentation/Presenter Titl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Wave Playback API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63240"/>
            <a:ext cx="844416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ACT traditionally content drive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und designer creates content with too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livers black box content to programm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metimes programmer just wants to play waves directl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de-driven gam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pecific situations where having programmer play waves is more effici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ialog, et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troduced in the December SDK/XD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116"/>
          <p:cNvGraphicFramePr/>
          <p:nvPr/>
        </p:nvGraphicFramePr>
        <p:xfrm>
          <a:off x="1009800" y="3954600"/>
          <a:ext cx="4225680" cy="14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3954600"/>
                    <a:ext cx="4225680" cy="14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119"/>
          <p:cNvGraphicFramePr/>
          <p:nvPr/>
        </p:nvGraphicFramePr>
        <p:xfrm>
          <a:off x="5006880" y="3940200"/>
          <a:ext cx="2854440" cy="14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1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3940200"/>
                    <a:ext cx="28544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13"/>
          <p:cNvGraphicFramePr/>
          <p:nvPr/>
        </p:nvGraphicFramePr>
        <p:xfrm>
          <a:off x="1019160" y="5145120"/>
          <a:ext cx="684072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1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9160" y="5145120"/>
                    <a:ext cx="684072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78" name="Object 122"/>
          <p:cNvGraphicFramePr/>
          <p:nvPr/>
        </p:nvGraphicFramePr>
        <p:xfrm>
          <a:off x="1913040" y="1403280"/>
          <a:ext cx="2365200" cy="178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Object 1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13040" y="1403280"/>
                    <a:ext cx="23652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25"/>
          <p:cNvGraphicFramePr/>
          <p:nvPr/>
        </p:nvGraphicFramePr>
        <p:xfrm>
          <a:off x="4998960" y="1455840"/>
          <a:ext cx="2546280" cy="17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Object 1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98960" y="1455840"/>
                    <a:ext cx="25462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26"/>
          <p:cNvGraphicFramePr/>
          <p:nvPr/>
        </p:nvGraphicFramePr>
        <p:xfrm>
          <a:off x="2820960" y="3152880"/>
          <a:ext cx="552600" cy="86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Object 1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0960" y="3152880"/>
                    <a:ext cx="552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27"/>
          <p:cNvGraphicFramePr/>
          <p:nvPr/>
        </p:nvGraphicFramePr>
        <p:xfrm>
          <a:off x="6014880" y="3146400"/>
          <a:ext cx="552600" cy="88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" name="Object 1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4880" y="3146400"/>
                    <a:ext cx="5526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8200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ode-driven vs. Content Driven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1200" y="1039320"/>
            <a:ext cx="8444160" cy="719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ent-drive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und is a black box to programm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grammer has limited control over how sounds are played, creat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ACT GUI used by sound designer to create cont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de-drive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grammer directly affects how sounds are play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content files required other than the actual wave fil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avebanks are supported for bundled wave asset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Why XACT Wave Playback API?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ACT has a lot of useful co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k stream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fficient playback from bundled cont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ave pars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ACT Wave Playback APIs enable programmers to use that code directl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ful for applications that want easy and basic audio playba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Wave Playback featur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09160"/>
            <a:ext cx="8444160" cy="57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reaming play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irectly from wave/aiff fi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om bundled streaming wavebank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-memory play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om Wave/aiff file or raw data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rom bundled wavebank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t Pitch/Volume/Streaming paramet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ultichannel/Surround suppor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tifica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/O hook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n mix and match code and content driven metapho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Wave Playback API:</a:t>
            </a:r>
            <a:br>
              <a:rPr sz="4800"/>
            </a:b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Using Wavebank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00080"/>
            <a:ext cx="8444160" cy="40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reaming or in-memo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ypically more efficient than playing individual .wav fi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 XACT Tool to create a project with only wavebank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n optionally strip friendly names to use index-based playback for more efficient memory us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515080" cy="8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2c160"/>
                </a:solidFill>
                <a:latin typeface="Trebuchet MS"/>
              </a:rPr>
              <a:t>XAudio 2</a:t>
            </a:r>
            <a:endParaRPr b="0" lang="en-US" sz="54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45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800280" y="922320"/>
          <a:ext cx="6681600" cy="57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22320"/>
                    <a:ext cx="668160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515080" cy="8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2c160"/>
                </a:solidFill>
                <a:latin typeface="Trebuchet MS"/>
              </a:rPr>
              <a:t>XAudio 2</a:t>
            </a:r>
            <a:endParaRPr b="0" lang="en-US" sz="54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450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798480" y="922320"/>
          <a:ext cx="6684840" cy="57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922320"/>
                    <a:ext cx="668484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412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ross-Platform Foundation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44160" cy="467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ave begun laying foundation for cross platform audio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igh-level audio authoring/playback via XAC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3DAudio libra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oving to common low-level audio AP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urrent working name: XAudio 2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Bit of History…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1996: DirectSound release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igh Performance” CPU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ntium, 133 MHz (no MMX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rectSound3D API introduced (1997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SA sound cards w/ on-board memo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Game Audio Pipelin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1219320" y="976320"/>
          <a:ext cx="6464160" cy="55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76320"/>
                    <a:ext cx="646416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Fast Forward to 2007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316160"/>
            <a:ext cx="8444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lti-core, 3+ GHz CPU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D motherboard audio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rround soun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igh fidelit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MD floating point architectur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igh-level audio tool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600" y="1409760"/>
            <a:ext cx="8515440" cy="317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c160"/>
                </a:solidFill>
                <a:latin typeface="Trebuchet MS"/>
              </a:rPr>
              <a:t>New generation of processing power and PC architectures requires new generation of audio APIs</a:t>
            </a:r>
            <a:br>
              <a:rPr sz="4400"/>
            </a:br>
            <a:endParaRPr b="0" lang="en-US" sz="44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udio 2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55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New low-level Audio API for Windows XP, Windows Vista and Xbox 360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ersedes DirectSound for game developmen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volved from Xbox 360’s XAudio AP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rite once, compile twice” for cross-platform developmen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Signal processing layer for high-level audio APIs such as XAC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udio 2 Design Goal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5760" y="1188720"/>
            <a:ext cx="8443800" cy="52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ddress DirectSound weakness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mp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t a lot of interfaces for basic stuff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reater emphasis on signal processing (DSP FX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rite and integrate your own DSP FX fairly easily in ‘C’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mix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llow more flexibility for 3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pport Microsoft gaming platfor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udio 2 Featur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1840" y="988560"/>
            <a:ext cx="8443800" cy="68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paration of sound data from “voice”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oint XAudio 2 at some sound data and Play(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bmix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ulti-rate process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r-voice filter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rogrammable voi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ffects processing, SRC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ftware DS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hanced Surround Sound suppor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ative compressed data suppor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9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XMA on Xbox 360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9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PCM on Window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9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xtensib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udio 2 Component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6440" y="1025640"/>
            <a:ext cx="8104320" cy="54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70000"/>
              </a:lnSpc>
              <a:spcBef>
                <a:spcPts val="9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ource Voi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ads data from XMA decoder /ADPCM or PC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RC, Volume, N-way P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n optionally insert arbitrary FX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ulti-channel suppor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70000"/>
              </a:lnSpc>
              <a:spcBef>
                <a:spcPts val="9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ubmix Voice(s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put from one or voices &amp; submixes them togeth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N-way Pa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n insert arbitrary FX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n send to additional submix voic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70000"/>
              </a:lnSpc>
              <a:spcBef>
                <a:spcPts val="9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astering Voic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akes final 5.1 mix as inpu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n insert arbitrary FX (compression, etc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70000"/>
              </a:lnSpc>
              <a:spcBef>
                <a:spcPts val="9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utputs data to system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udio 2 Source Voic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10960" y="1079640"/>
          <a:ext cx="876312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079640"/>
                    <a:ext cx="876312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5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152280" y="4757760"/>
          <a:ext cx="885672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757760"/>
                    <a:ext cx="885672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7"/>
          <p:cNvSpPr/>
          <p:nvPr/>
        </p:nvSpPr>
        <p:spPr>
          <a:xfrm>
            <a:off x="457200" y="3551400"/>
            <a:ext cx="7378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160"/>
                </a:solidFill>
                <a:latin typeface="Trebuchet MS"/>
              </a:rPr>
              <a:t>XAudio 2 Submix Voic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57320" y="2066760"/>
          <a:ext cx="8839080" cy="23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2066760"/>
                    <a:ext cx="88390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324000" y="444600"/>
            <a:ext cx="8515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Example: Submixing Voices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Example: Reverb Send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0" y="2620800"/>
          <a:ext cx="864540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0800"/>
                    <a:ext cx="864540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Example: Low Rate Submix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311040" y="2138400"/>
          <a:ext cx="858996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2138400"/>
                    <a:ext cx="858996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Game Audio Pipelin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52" name="Object 10"/>
          <p:cNvGraphicFramePr/>
          <p:nvPr/>
        </p:nvGraphicFramePr>
        <p:xfrm>
          <a:off x="1219320" y="976320"/>
          <a:ext cx="6464160" cy="55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76320"/>
                    <a:ext cx="646416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3D/Surround Sound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201320"/>
            <a:ext cx="844416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3D Audio handled differently from DirectSound3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Audio 2 provides enhanced Surround Suppor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plicit multichannel panning/mapp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3D handled as a separate, replaceable libra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Audio 2 takes multichannel speaker volum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3DAudio library transforms source/listener coordinates into speaker volumes and other synthesis paramet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5150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c160"/>
                </a:solidFill>
                <a:latin typeface="Trebuchet MS"/>
              </a:rPr>
              <a:t>Other  Differences from DirectSound</a:t>
            </a:r>
            <a:br>
              <a:rPr sz="4400"/>
            </a:br>
            <a:r>
              <a:rPr b="0" lang="en-US" sz="4400" spc="-1" strike="noStrike">
                <a:solidFill>
                  <a:srgbClr val="f2c16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44416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ata and voices are separate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cket-base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 submit packets of data to a voi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lume levels are floats, not d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0.0 = 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∞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;  1.0 = full volume (0dB); 2.0 ≈ +6dB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 inherent 3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dividual speaker volumes accessibl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eometry from a separate library (X3DAudio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Differences from Xbox 360 XAudio API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7920" y="2322360"/>
            <a:ext cx="8597880" cy="384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t-in filter per voi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n set overall sampling ra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ubmixes can have their own sampling rat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duce CPU usag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n-blocking API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t limited to 6 channel source dat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When is XAudio 2 available?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1000" y="2173320"/>
            <a:ext cx="8443800" cy="31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ady for preliminary feedback so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lease slated for later this yea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eck back a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ff"/>
                </a:solidFill>
                <a:uFillTx/>
                <a:latin typeface="Trebuchet MS"/>
                <a:hlinkClick r:id="rId4"/>
              </a:rPr>
              <a:t>http://www.msdn.com/directx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Summary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1308240"/>
            <a:ext cx="8443800" cy="40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aying foundation for top to bottom audio APIs across Microsoft gaming platform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ftware-based audio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ross-pollination of Xbox 360 and Windows technologi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lexible DSP, submixing, signal process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1"/>
          <p:cNvSpPr/>
          <p:nvPr/>
        </p:nvSpPr>
        <p:spPr>
          <a:xfrm>
            <a:off x="38160" y="5985000"/>
            <a:ext cx="9144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7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  <a:ea typeface="Arial"/>
              </a:rPr>
              <a:t>Microsoft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 Corporation. All rights reserved.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25560" y="283212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3200" spc="-1" strike="noStrike" u="sng">
                <a:solidFill>
                  <a:srgbClr val="6699ff"/>
                </a:solidFill>
                <a:uFillTx/>
                <a:latin typeface="Trebuchet MS"/>
                <a:hlinkClick r:id="rId1"/>
              </a:rPr>
              <a:t>www.xna.co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9" name="Picture 7" descr="XNA_Logo_FINAL_trans.png"/>
          <p:cNvPicPr/>
          <p:nvPr/>
        </p:nvPicPr>
        <p:blipFill>
          <a:blip r:embed="rId2"/>
          <a:stretch/>
        </p:blipFill>
        <p:spPr>
          <a:xfrm>
            <a:off x="2224080" y="674640"/>
            <a:ext cx="4497480" cy="21067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Game Audio Pipeline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55" name="Object 3"/>
          <p:cNvGraphicFramePr/>
          <p:nvPr/>
        </p:nvGraphicFramePr>
        <p:xfrm>
          <a:off x="1219320" y="976320"/>
          <a:ext cx="6464160" cy="55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76320"/>
                    <a:ext cx="646416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520" y="2825640"/>
            <a:ext cx="85154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Enhancement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5200" y="3098520"/>
            <a:ext cx="844416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Authoring Tool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444160" cy="355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ontinue development in the authoring tool and eng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bility and feature enhancem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n-dockable, live property pages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grammer’s repor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udition monito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rformance improvemen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 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76280" y="673200"/>
            <a:ext cx="7412040" cy="555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Runtim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885960" y="1025640"/>
          <a:ext cx="621972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025640"/>
                    <a:ext cx="621972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XACT Runtim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graphicFrame>
        <p:nvGraphicFramePr>
          <p:cNvPr id="67" name="Object 5"/>
          <p:cNvGraphicFramePr/>
          <p:nvPr/>
        </p:nvGraphicFramePr>
        <p:xfrm>
          <a:off x="885960" y="1025640"/>
          <a:ext cx="622116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025640"/>
                    <a:ext cx="622116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20:15:05Z</dcterms:created>
  <dc:creator/>
  <dc:description/>
  <dc:language>en-US</dc:language>
  <cp:lastModifiedBy/>
  <dcterms:modified xsi:type="dcterms:W3CDTF">2007-02-24T20:15:42Z</dcterms:modified>
  <cp:revision>1</cp:revision>
  <dc:subject/>
  <dc:title/>
</cp:coreProperties>
</file>