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053D-4EA3-4B95-A001-38F286C48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72EC-000F-4C4E-8732-D28DFF29C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5F48-A289-45FD-924E-CFFE9B02B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80E3-8456-41BD-BFDA-558FE5DC4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876B-4AD7-4F1D-BAED-7A8B7D42A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1308-70DE-49B3-9305-62D4D468F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9886-BA0C-452F-BB45-5D635D19A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3A39-5A5B-4FBD-9735-2862B5518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4F79-19BD-4147-8E13-8BE32FD19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A4F3-3014-4AD6-9572-AEB11799A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944E-1760-4ADE-8C5D-9922F9F7B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B146-1E3E-4DAA-905C-A08D3DD81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F8F92-6512-4575-9BE9-BD9EE096A38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11:49:47Z</dcterms:created>
  <dc:creator/>
  <dc:description/>
  <dc:language>en-US</dc:language>
  <cp:lastModifiedBy>Alexey Zhilin</cp:lastModifiedBy>
  <dcterms:modified xsi:type="dcterms:W3CDTF">2009-01-26T12:06:22Z</dcterms:modified>
  <cp:revision>7</cp:revision>
  <dc:subject/>
  <dc:title>Slide 1</dc:title>
</cp:coreProperties>
</file>