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F8F-432B-4D42-B2C8-DA3E5E63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D24-83CD-422D-861D-A63C5103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03F-B4CA-469A-8197-1B489BBA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4C8-79A4-4542-90C5-650FB1BB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E60-3D8A-4445-A337-7FF77B4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6A1-82C6-4929-8F4F-ED4B236F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C8F-1694-4E75-AF22-5D14E46F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BCE-003C-4615-984C-9B7937A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45E-804A-41AD-B1DA-64BE120D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969-D364-4C53-9922-0159B25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7E6-7D76-443E-8589-7DECE37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2BD-292D-4CF8-9811-CA4025D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6CA8-8960-437E-AA42-B2888B6F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33336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826920" y="69372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826920" y="69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42920" y="981000"/>
            <a:ext cx="2320560" cy="734760"/>
            <a:chOff x="1042920" y="981000"/>
            <a:chExt cx="2320560" cy="734760"/>
          </a:xfrm>
        </p:grpSpPr>
        <p:sp>
          <p:nvSpPr>
            <p:cNvPr id="45" name=""/>
            <p:cNvSpPr/>
            <p:nvPr/>
          </p:nvSpPr>
          <p:spPr>
            <a:xfrm>
              <a:off x="1054800" y="992880"/>
              <a:ext cx="2308680" cy="71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41000" y="1254600"/>
              <a:ext cx="1080" cy="4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54800" y="992880"/>
              <a:ext cx="2307240" cy="255240"/>
            </a:xfrm>
            <a:custGeom>
              <a:avLst/>
              <a:gdLst>
                <a:gd name="textAreaLeft" fmla="*/ 507240 w 2307240"/>
                <a:gd name="textAreaRight" fmla="*/ 1800000 w 23072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2920" y="981000"/>
              <a:ext cx="22932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k user if they want to p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54800" y="1388160"/>
              <a:ext cx="11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41000" y="138816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455920" y="19875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7200" y="207504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ogram ex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170172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239920" y="1701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26920" y="170172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826920" y="1701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198900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048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the variables are 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2435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58912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01880" y="2604960"/>
            <a:ext cx="15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andom word is selected from a 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0160" y="301788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30160" y="30178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328932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0160" y="3305160"/>
            <a:ext cx="129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user makes a gu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432160" y="4970520"/>
            <a:ext cx="2318760" cy="734760"/>
            <a:chOff x="2432160" y="4970520"/>
            <a:chExt cx="2318760" cy="734760"/>
          </a:xfrm>
        </p:grpSpPr>
        <p:sp>
          <p:nvSpPr>
            <p:cNvPr id="67" name=""/>
            <p:cNvSpPr/>
            <p:nvPr/>
          </p:nvSpPr>
          <p:spPr>
            <a:xfrm>
              <a:off x="2444040" y="4982400"/>
              <a:ext cx="2306880" cy="71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29520" y="5244120"/>
              <a:ext cx="1080" cy="4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44040" y="4982400"/>
              <a:ext cx="2305440" cy="255240"/>
            </a:xfrm>
            <a:custGeom>
              <a:avLst/>
              <a:gdLst>
                <a:gd name="textAreaLeft" fmla="*/ 506880 w 2305440"/>
                <a:gd name="textAreaRight" fmla="*/ 1798560 w 23054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32160" y="4970520"/>
              <a:ext cx="22914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s this letter been guessed bef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44040" y="5377680"/>
              <a:ext cx="118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29520" y="5377680"/>
              <a:ext cx="105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023840" y="3975120"/>
            <a:ext cx="2320560" cy="734760"/>
            <a:chOff x="1023840" y="3975120"/>
            <a:chExt cx="2320560" cy="734760"/>
          </a:xfrm>
        </p:grpSpPr>
        <p:sp>
          <p:nvSpPr>
            <p:cNvPr id="74" name=""/>
            <p:cNvSpPr/>
            <p:nvPr/>
          </p:nvSpPr>
          <p:spPr>
            <a:xfrm>
              <a:off x="1035720" y="3987000"/>
              <a:ext cx="2308680" cy="71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21920" y="4248720"/>
              <a:ext cx="1080" cy="4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35720" y="3987000"/>
              <a:ext cx="2307240" cy="255240"/>
            </a:xfrm>
            <a:custGeom>
              <a:avLst/>
              <a:gdLst>
                <a:gd name="textAreaLeft" fmla="*/ 507240 w 2307240"/>
                <a:gd name="textAreaRight" fmla="*/ 1800000 w 23072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3840" y="3975120"/>
              <a:ext cx="22932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 the guess a num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35720" y="4382280"/>
              <a:ext cx="11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21920" y="438228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830160" y="372276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830160" y="37227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14360" y="470052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214360" y="4700520"/>
            <a:ext cx="27756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30160" y="470052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830160" y="47005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1760" y="4965840"/>
            <a:ext cx="136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490068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a message indicating that a number has been gu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24120" y="569124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623760" y="5691240"/>
            <a:ext cx="236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40080" y="595620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30280" y="5905440"/>
            <a:ext cx="160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lay a message indicating that the letter has been guessed alrea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22280" y="568800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222280" y="568800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5920" y="5384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76280" y="35128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280" y="35132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76280" y="49528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75920" y="63928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60640" y="5961240"/>
            <a:ext cx="2320560" cy="734400"/>
            <a:chOff x="3860640" y="5961240"/>
            <a:chExt cx="2320560" cy="734400"/>
          </a:xfrm>
        </p:grpSpPr>
        <p:sp>
          <p:nvSpPr>
            <p:cNvPr id="100" name=""/>
            <p:cNvSpPr/>
            <p:nvPr/>
          </p:nvSpPr>
          <p:spPr>
            <a:xfrm>
              <a:off x="3872520" y="5973120"/>
              <a:ext cx="2308680" cy="7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58720" y="6234840"/>
              <a:ext cx="108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2520" y="5973120"/>
              <a:ext cx="2307240" cy="255240"/>
            </a:xfrm>
            <a:custGeom>
              <a:avLst/>
              <a:gdLst>
                <a:gd name="textAreaLeft" fmla="*/ 507240 w 2307240"/>
                <a:gd name="textAreaRight" fmla="*/ 1800000 w 23072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60640" y="5961240"/>
              <a:ext cx="22932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 this letter in the wo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72520" y="6368040"/>
              <a:ext cx="11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58720" y="636804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658440" y="6680160"/>
            <a:ext cx="326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75440" y="696924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2320" y="6985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lace the relevant ‘?’ with the le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475160" y="8236080"/>
            <a:ext cx="2320560" cy="734400"/>
            <a:chOff x="4475160" y="8236080"/>
            <a:chExt cx="2320560" cy="734400"/>
          </a:xfrm>
        </p:grpSpPr>
        <p:sp>
          <p:nvSpPr>
            <p:cNvPr id="110" name=""/>
            <p:cNvSpPr/>
            <p:nvPr/>
          </p:nvSpPr>
          <p:spPr>
            <a:xfrm>
              <a:off x="4487040" y="8247960"/>
              <a:ext cx="2308680" cy="7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3240" y="8509680"/>
              <a:ext cx="108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87040" y="8247960"/>
              <a:ext cx="2307240" cy="255240"/>
            </a:xfrm>
            <a:custGeom>
              <a:avLst/>
              <a:gdLst>
                <a:gd name="textAreaLeft" fmla="*/ 507240 w 2307240"/>
                <a:gd name="textAreaRight" fmla="*/ 1800000 w 23072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75160" y="8236080"/>
              <a:ext cx="22932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s all the letters been gues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7040" y="8642880"/>
              <a:ext cx="11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73240" y="864288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703760" y="927108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75040" y="927252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ward sound and image displa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86440" y="992160"/>
            <a:ext cx="0" cy="813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57360" y="992160"/>
            <a:ext cx="350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421000" y="3511080"/>
            <a:ext cx="4248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7920" y="6810480"/>
            <a:ext cx="2320560" cy="734400"/>
            <a:chOff x="907920" y="6810480"/>
            <a:chExt cx="2320560" cy="734400"/>
          </a:xfrm>
        </p:grpSpPr>
        <p:sp>
          <p:nvSpPr>
            <p:cNvPr id="122" name=""/>
            <p:cNvSpPr/>
            <p:nvPr/>
          </p:nvSpPr>
          <p:spPr>
            <a:xfrm>
              <a:off x="919800" y="6822360"/>
              <a:ext cx="2308680" cy="7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6000" y="7084080"/>
              <a:ext cx="108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9800" y="6822360"/>
              <a:ext cx="2307240" cy="255240"/>
            </a:xfrm>
            <a:custGeom>
              <a:avLst/>
              <a:gdLst>
                <a:gd name="textAreaLeft" fmla="*/ 507240 w 2307240"/>
                <a:gd name="textAreaRight" fmla="*/ 1800000 w 23072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7920" y="6810480"/>
              <a:ext cx="22932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 the word guessed correc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9800" y="7217280"/>
              <a:ext cx="11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6000" y="721728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36480" y="660888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Solve bu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70240" y="668196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070240" y="66819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289400" y="7981560"/>
            <a:ext cx="1084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292640" y="7976880"/>
            <a:ext cx="20304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895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668640" y="3512880"/>
            <a:ext cx="150840" cy="54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60600" y="897084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260600" y="8970480"/>
            <a:ext cx="463320" cy="3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33960" y="9705960"/>
            <a:ext cx="8240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92920" y="7391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2200" y="754524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7510320"/>
            <a:ext cx="163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sound and a message indicating a correct guess is displayed and play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6880" y="780876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2960" y="7819920"/>
            <a:ext cx="129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 the next part of the gallows'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57160" y="9067680"/>
            <a:ext cx="2320560" cy="734760"/>
            <a:chOff x="857160" y="9067680"/>
            <a:chExt cx="2320560" cy="734760"/>
          </a:xfrm>
        </p:grpSpPr>
        <p:sp>
          <p:nvSpPr>
            <p:cNvPr id="144" name=""/>
            <p:cNvSpPr/>
            <p:nvPr/>
          </p:nvSpPr>
          <p:spPr>
            <a:xfrm>
              <a:off x="869040" y="9079560"/>
              <a:ext cx="2308680" cy="71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5240" y="9341280"/>
              <a:ext cx="1080" cy="4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9040" y="9079560"/>
              <a:ext cx="2307240" cy="255240"/>
            </a:xfrm>
            <a:custGeom>
              <a:avLst/>
              <a:gdLst>
                <a:gd name="textAreaLeft" fmla="*/ 507240 w 2307240"/>
                <a:gd name="textAreaRight" fmla="*/ 1800000 w 2307240"/>
                <a:gd name="textAreaTop" fmla="*/ 56160 h 255240"/>
                <a:gd name="textAreaBottom" fmla="*/ 199080 h 2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7160" y="9067680"/>
              <a:ext cx="229320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 the gallows comple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040" y="9474840"/>
              <a:ext cx="11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5240" y="947484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654120" y="881856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54120" y="88059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28840" y="9361440"/>
            <a:ext cx="1368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10040" y="9334440"/>
            <a:ext cx="160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sound is played and a image displayed indicating that the game is l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6280" y="9747000"/>
            <a:ext cx="3938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76480" y="97884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91920" y="754236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91920" y="7542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1400" y="66819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" y="624852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6960" y="8229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76240" y="838368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00" y="8348760"/>
            <a:ext cx="163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sound and a message indicating a incorrect guess is displayed and play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97000" y="9791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8640" y="979164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9360" y="186048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00640" y="194796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clicks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36520"/>
            <a:ext cx="981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1560"/>
            <a:ext cx="96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clicks new g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568520"/>
            <a:ext cx="1052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32200" y="128592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03840" y="137304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clicks ex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01800" y="170964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601800" y="17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29360" y="257652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00640" y="266400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p is displa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13360" y="227952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3360" y="227916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47960" y="98280"/>
            <a:ext cx="39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ed Design Chart (SDC)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4:47Z</dcterms:created>
  <dc:creator>Ben</dc:creator>
  <dc:description/>
  <dc:language>en-US</dc:language>
  <cp:lastModifiedBy>Ben</cp:lastModifiedBy>
  <dcterms:modified xsi:type="dcterms:W3CDTF">2007-10-25T16:25:42Z</dcterms:modified>
  <cp:revision>1</cp:revision>
  <dc:subject/>
  <dc:title>Slide 1</dc:title>
</cp:coreProperties>
</file>