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78E-F339-4255-85F7-CBA9788E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A76-2874-4890-B1D5-D80C1122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95-48CA-477F-8F23-E5AB160B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555-A5D7-4723-A8C8-AD2B1749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EF8-AF2B-4DAD-AAC6-0579A03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38F-39FD-47E0-AC4F-C2B8FAC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8B5-DD47-42CA-9C88-38D8DE44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720-9897-4FA2-B9D7-0A878B9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CAF-F413-4C61-9D89-055A586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941-6D51-4043-A795-0A00B12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2C-1ADC-4EB6-BFF4-54BC267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5F9-3131-4004-B710-784E344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10F-EE29-4FA2-989B-F169628D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6115320" cy="638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-572040"/>
            <a:ext cx="582912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95220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lcom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1447920"/>
            <a:ext cx="3809880" cy="8076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600200"/>
            <a:ext cx="3352680" cy="4038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791320"/>
            <a:ext cx="24382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5791320"/>
            <a:ext cx="7621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6419880"/>
            <a:ext cx="7621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6419880"/>
            <a:ext cx="762120" cy="5335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7086600"/>
            <a:ext cx="335268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6419880"/>
            <a:ext cx="152388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8839080"/>
            <a:ext cx="22860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2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ows Draw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616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29280" y="6477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7880" y="641988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ter been guessed be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24200" y="7543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creen QWERT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9154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ters you have already gu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-666720"/>
            <a:ext cx="58291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57160"/>
            <a:ext cx="6858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ned Gam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6115320" cy="63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-666720"/>
            <a:ext cx="58291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857160"/>
            <a:ext cx="48006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m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76520" y="1523880"/>
            <a:ext cx="3809880" cy="807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676520"/>
            <a:ext cx="3352680" cy="4038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Over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867280"/>
            <a:ext cx="3352680" cy="2362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6858000"/>
            <a:ext cx="1371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7467480"/>
            <a:ext cx="13716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6324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want to play ag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6934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7543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-666720"/>
            <a:ext cx="58291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57160"/>
            <a:ext cx="6858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ned Win/Loss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6115320" cy="6380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-666720"/>
            <a:ext cx="58291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857160"/>
            <a:ext cx="48006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n/Loss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01:42Z</dcterms:created>
  <dc:creator>Ben</dc:creator>
  <dc:description/>
  <dc:language>en-US</dc:language>
  <cp:lastModifiedBy>Ben</cp:lastModifiedBy>
  <dcterms:modified xsi:type="dcterms:W3CDTF">2007-10-24T12:32:28Z</dcterms:modified>
  <cp:revision>4</cp:revision>
  <dc:subject/>
  <dc:title>Slide 1</dc:title>
</cp:coreProperties>
</file>