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62D5-B531-413A-9EB5-FF7E1949A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AE1F-031F-4A4C-B630-D14FFC1DC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D2AE-8614-4CE7-8162-7D8561A42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154B-03DC-4178-A905-985630DDF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0F1F-3932-4790-8550-A997FB572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2B1D-EBB3-476C-94E3-4752B120A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FA96-9C29-4221-A83A-DACCAF139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0CB1-A1D6-47F1-A397-5FFAF21BE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EA3F-1094-43AC-8995-EC2CC7927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50D3-3ACA-46E9-87B6-C59AB9C6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3CD3-824E-4550-BCA6-E8C30C36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F46B-C448-49DB-B2A2-AAC6A66E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EE04E-2B08-4DFE-B60A-CE6CF0880B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06:05:03Z</dcterms:created>
  <dc:creator>HttpCommander</dc:creator>
  <dc:description/>
  <dc:language>en-US</dc:language>
  <cp:lastModifiedBy>HttpCommander</cp:lastModifiedBy>
  <dcterms:modified xsi:type="dcterms:W3CDTF">2011-02-09T06:05:32Z</dcterms:modified>
  <cp:revision>1</cp:revision>
  <dc:subject/>
  <dc:title>PowerPoint Presentation</dc:title>
</cp:coreProperties>
</file>