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EC8-39F4-4941-91B2-3B0C424E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258-A4AE-47A1-97F3-15390CDF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2E20-B550-4FF4-9E23-C2D85527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CF4-D1C0-4537-891D-4B1CD52C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2E47-E52B-4180-B1D3-64F3FAC3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46CF-6441-4461-A436-520D695C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D87-014B-440E-960D-7BE3BEB0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C9D1-C0A1-4622-86E5-0BC7D570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2EC3-F04B-4488-A62C-3ECDE35D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A6EE-F1E0-499D-A7AD-24D9DA98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88B1-39F1-4617-A46E-82F9C83D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908E-C468-4803-A4CC-797D6127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0D3F-5778-40A0-A8AB-571E0E787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6:05:03Z</dcterms:created>
  <dc:creator>HttpCommander</dc:creator>
  <dc:description/>
  <dc:language>en-US</dc:language>
  <cp:lastModifiedBy>HttpCommander</cp:lastModifiedBy>
  <dcterms:modified xsi:type="dcterms:W3CDTF">2011-02-09T06:05:32Z</dcterms:modified>
  <cp:revision>1</cp:revision>
  <dc:subject/>
  <dc:title>PowerPoint Presentation</dc:title>
</cp:coreProperties>
</file>