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BEC-05E4-4CAA-B71D-A5974B4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BEC-1CFF-4641-991B-CCFEB93B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F2B-C8F7-4ECC-9D6B-EB7B3885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9A2-B74D-42F7-84DF-E1D55327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9BF-BAA1-417A-BF05-5659FF0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59E-9F91-4487-B848-C25728E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107-F86E-45C1-8E0C-A1B51B7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ADA-5E1C-4908-899D-2625ACC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4BF-1527-43BD-B8D5-2845D1E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79A-C1BC-45ED-A020-EE18964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201-8CFC-40F0-99AD-780BC17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0B6-C467-4FAA-840E-5454EA5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CA1-E1AA-4525-9179-00B2EFE48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20360" cy="6534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56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43600" y="6705720"/>
            <a:ext cx="45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2006 280 Group LLC. All rights reserved. May not be distributed without prior written per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76320" y="-31680"/>
            <a:ext cx="45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2006 280 Group LLC. All rights reserved. May not be distributed without prior written per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duct Roadmap Toolk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 slide narrated seminar cov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tep roadmap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ing features &amp;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types of roadmaps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roduct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lden Feature" Internal/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d Release Internal/E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-Based Internal/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&amp;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ve, Market &amp; Tech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acros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Templates (quarterly, multi-year, combi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prior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prior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0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30 Minute 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9144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619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ate more compelling and effective Product Roadmaps in les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10400" y="2209680"/>
            <a:ext cx="22669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095880" y="4876920"/>
            <a:ext cx="2057400" cy="1128600"/>
            <a:chOff x="6095880" y="4876920"/>
            <a:chExt cx="2057400" cy="11286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4920120"/>
              <a:ext cx="205740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39080" y="4876920"/>
              <a:ext cx="1997640" cy="11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19720" y="3405240"/>
            <a:ext cx="2514600" cy="1471320"/>
            <a:chOff x="4419720" y="3405240"/>
            <a:chExt cx="2514600" cy="14713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4419720" y="3405240"/>
              <a:ext cx="2514600" cy="14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19720" y="3453840"/>
              <a:ext cx="2502360" cy="142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3352680"/>
            <a:ext cx="22384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s Of Roadma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&amp;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2669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343400" y="4586400"/>
            <a:ext cx="2057400" cy="1128600"/>
            <a:chOff x="4343400" y="4586400"/>
            <a:chExt cx="2057400" cy="11286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343400" y="4629600"/>
              <a:ext cx="205740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86600" y="4586400"/>
              <a:ext cx="1997640" cy="11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81280" y="2971800"/>
            <a:ext cx="2514600" cy="1471320"/>
            <a:chOff x="3581280" y="2971800"/>
            <a:chExt cx="2514600" cy="147132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3581280" y="2971800"/>
              <a:ext cx="2514600" cy="14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81280" y="3020400"/>
              <a:ext cx="2502360" cy="142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91320" y="3124080"/>
            <a:ext cx="223812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193840"/>
            <a:ext cx="8077320" cy="533520"/>
          </a:xfrm>
          <a:prstGeom prst="rightArrow">
            <a:avLst>
              <a:gd name="adj1" fmla="val 58333"/>
              <a:gd name="adj2" fmla="val 60138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arterly Timed Release Roadma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70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2270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505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39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2600" y="539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39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5622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6228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622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5622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46440" y="539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18520" y="539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38080" y="3184560"/>
            <a:ext cx="2438280" cy="1816920"/>
            <a:chOff x="838080" y="3184560"/>
            <a:chExt cx="2438280" cy="1816920"/>
          </a:xfrm>
        </p:grpSpPr>
        <p:sp>
          <p:nvSpPr>
            <p:cNvPr id="82" name=""/>
            <p:cNvSpPr/>
            <p:nvPr/>
          </p:nvSpPr>
          <p:spPr>
            <a:xfrm>
              <a:off x="990360" y="3184560"/>
              <a:ext cx="838440" cy="50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3841920"/>
              <a:ext cx="2438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17640" y="3184560"/>
            <a:ext cx="2438640" cy="1816920"/>
            <a:chOff x="2717640" y="3184560"/>
            <a:chExt cx="2438640" cy="1816920"/>
          </a:xfrm>
        </p:grpSpPr>
        <p:sp>
          <p:nvSpPr>
            <p:cNvPr id="85" name=""/>
            <p:cNvSpPr/>
            <p:nvPr/>
          </p:nvSpPr>
          <p:spPr>
            <a:xfrm>
              <a:off x="2870280" y="3184560"/>
              <a:ext cx="8380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7640" y="3841920"/>
              <a:ext cx="2438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97560" y="3184560"/>
            <a:ext cx="2438280" cy="1816920"/>
            <a:chOff x="4597560" y="3184560"/>
            <a:chExt cx="2438280" cy="1816920"/>
          </a:xfrm>
        </p:grpSpPr>
        <p:sp>
          <p:nvSpPr>
            <p:cNvPr id="88" name=""/>
            <p:cNvSpPr/>
            <p:nvPr/>
          </p:nvSpPr>
          <p:spPr>
            <a:xfrm>
              <a:off x="4749840" y="3184560"/>
              <a:ext cx="837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97560" y="3841920"/>
              <a:ext cx="2438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477120" y="3184560"/>
            <a:ext cx="2438280" cy="1816920"/>
            <a:chOff x="6477120" y="3184560"/>
            <a:chExt cx="2438280" cy="1816920"/>
          </a:xfrm>
        </p:grpSpPr>
        <p:sp>
          <p:nvSpPr>
            <p:cNvPr id="91" name=""/>
            <p:cNvSpPr/>
            <p:nvPr/>
          </p:nvSpPr>
          <p:spPr>
            <a:xfrm>
              <a:off x="6629400" y="3184560"/>
              <a:ext cx="837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3841920"/>
              <a:ext cx="2438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ve Year “Theme-Based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al Product Roadma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4920" y="1646280"/>
            <a:ext cx="1447200" cy="1066680"/>
            <a:chOff x="304920" y="1646280"/>
            <a:chExt cx="1447200" cy="1066680"/>
          </a:xfrm>
        </p:grpSpPr>
        <p:sp>
          <p:nvSpPr>
            <p:cNvPr id="95" name=""/>
            <p:cNvSpPr/>
            <p:nvPr/>
          </p:nvSpPr>
          <p:spPr>
            <a:xfrm>
              <a:off x="304920" y="2179440"/>
              <a:ext cx="1447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Code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6360" y="16462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04920" y="2666880"/>
            <a:ext cx="24382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154320"/>
            <a:ext cx="24382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57400" y="2057400"/>
            <a:ext cx="1447560" cy="1066680"/>
            <a:chOff x="2057400" y="2057400"/>
            <a:chExt cx="1447560" cy="1066680"/>
          </a:xfrm>
        </p:grpSpPr>
        <p:sp>
          <p:nvSpPr>
            <p:cNvPr id="100" name=""/>
            <p:cNvSpPr/>
            <p:nvPr/>
          </p:nvSpPr>
          <p:spPr>
            <a:xfrm>
              <a:off x="2057400" y="2590560"/>
              <a:ext cx="1447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Code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8840" y="205740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809880" y="3581280"/>
            <a:ext cx="24386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9880" y="2438280"/>
            <a:ext cx="1447560" cy="1066680"/>
            <a:chOff x="3809880" y="2438280"/>
            <a:chExt cx="1447560" cy="1066680"/>
          </a:xfrm>
        </p:grpSpPr>
        <p:sp>
          <p:nvSpPr>
            <p:cNvPr id="104" name=""/>
            <p:cNvSpPr/>
            <p:nvPr/>
          </p:nvSpPr>
          <p:spPr>
            <a:xfrm>
              <a:off x="3809880" y="2971440"/>
              <a:ext cx="1447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Code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320" y="24382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562720" y="3932280"/>
            <a:ext cx="24382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62720" y="2789280"/>
            <a:ext cx="1447200" cy="1066680"/>
            <a:chOff x="5562720" y="2789280"/>
            <a:chExt cx="1447200" cy="1066680"/>
          </a:xfrm>
        </p:grpSpPr>
        <p:sp>
          <p:nvSpPr>
            <p:cNvPr id="108" name=""/>
            <p:cNvSpPr/>
            <p:nvPr/>
          </p:nvSpPr>
          <p:spPr>
            <a:xfrm>
              <a:off x="5562720" y="3322440"/>
              <a:ext cx="1447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Code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24160" y="27892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467480" y="4267080"/>
            <a:ext cx="24386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315200" y="3124080"/>
            <a:ext cx="1447560" cy="1066680"/>
            <a:chOff x="7315200" y="3124080"/>
            <a:chExt cx="1447560" cy="1066680"/>
          </a:xfrm>
        </p:grpSpPr>
        <p:sp>
          <p:nvSpPr>
            <p:cNvPr id="112" name=""/>
            <p:cNvSpPr/>
            <p:nvPr/>
          </p:nvSpPr>
          <p:spPr>
            <a:xfrm>
              <a:off x="7315200" y="3657240"/>
              <a:ext cx="1447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Code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76640" y="3124080"/>
              <a:ext cx="10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act the 280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Law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, 280 Group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@ 280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280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8-834-75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2:15:29Z</dcterms:created>
  <dc:creator>Brian Lawley</dc:creator>
  <dc:description>Copyright 2006 280 Group LLC. All rights reserved. May not be distributed without prior written permission.</dc:description>
  <cp:keywords>Product Roadmap Toolkit Presentation</cp:keywords>
  <dc:language>en-US</dc:language>
  <cp:lastModifiedBy>Brian Lawley</cp:lastModifiedBy>
  <dcterms:modified xsi:type="dcterms:W3CDTF">2006-12-31T01:34:25Z</dcterms:modified>
  <cp:revision>63</cp:revision>
  <dc:subject>Product Roadmaps</dc:subject>
  <dc:title>Product Roadmap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PCBAUDREPEAT_">
    <vt:lpwstr>255</vt:lpwstr>
  </property>
  <property fmtid="{D5CDD505-2E9C-101B-9397-08002B2CF9AE}" pid="3" name="_TPCBAUDVOL_">
    <vt:lpwstr>100</vt:lpwstr>
  </property>
  <property fmtid="{D5CDD505-2E9C-101B-9397-08002B2CF9AE}" pid="4" name="_TPCBAUD_">
    <vt:lpwstr>0</vt:lpwstr>
  </property>
  <property fmtid="{D5CDD505-2E9C-101B-9397-08002B2CF9AE}" pid="5" name="_TPCNAME_">
    <vt:lpwstr>PRTK Compelling Product Roadmaps</vt:lpwstr>
  </property>
  <property fmtid="{D5CDD505-2E9C-101B-9397-08002B2CF9AE}" pid="6" name="_TPCNOAUDIO_">
    <vt:lpwstr>0</vt:lpwstr>
  </property>
  <property fmtid="{D5CDD505-2E9C-101B-9397-08002B2CF9AE}" pid="7" name="_TPCREQSCORE_">
    <vt:lpwstr>75</vt:lpwstr>
  </property>
  <property fmtid="{D5CDD505-2E9C-101B-9397-08002B2CF9AE}" pid="8" name="_TPCSCORED_">
    <vt:lpwstr>1</vt:lpwstr>
  </property>
  <property fmtid="{D5CDD505-2E9C-101B-9397-08002B2CF9AE}" pid="9" name="_TPCSTIMING_">
    <vt:lpwstr>10.000000</vt:lpwstr>
  </property>
</Properties>
</file>