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665-0642-4593-BAA5-04B35CAF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a snapshot view of development builds, seeding builds, deadlines for developer commitments, and key marketing opportunities for developers who have committed to support your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77D-4182-4820-BC35-D79183B7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05A-E60B-4899-9392-94AB47E8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731-B122-4B81-9D2F-BCAA9413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A26-FC8D-45C6-ABC1-DD289425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9FD-B8C8-4358-989C-1B40A2AA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0D7-6EE0-48CA-9B33-64640BE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527-9690-4F90-BEB4-D8DB24D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161-3F8C-4170-8256-74FF289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A48-3522-4048-85A7-3A3E9D10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001-2500-439E-902A-B490964B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05C-06E8-4835-9533-E0A3020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5B6-180A-43D7-A767-1A52C40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280group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5854-B4D3-42B9-8A99-677CF8B08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20360" cy="6534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>
            <a:hlinkClick r:id="rId2"/>
          </p:cNvPr>
          <p:cNvPicPr/>
          <p:nvPr/>
        </p:nvPicPr>
        <p:blipFill>
          <a:blip r:embed="rId3"/>
          <a:srcRect l="0" t="0" r="17750" b="0"/>
          <a:stretch/>
        </p:blipFill>
        <p:spPr>
          <a:xfrm>
            <a:off x="8069400" y="237960"/>
            <a:ext cx="814320" cy="433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6600" y="66801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2006 280 Group LL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veloper Program Toolk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ated seminar teaches best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 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r Evangelism Plan Guide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r Briefing Guide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Year Roadmap Guide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oadmap Guide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s &amp;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gelism Pla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Evangelism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ing Program Invitatio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r Database (Excel &amp; FileMaker forma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gelism Project Cost Estim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gelism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r Briefing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Year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Technology and Tools Road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Developer Training Road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Marketing Opportunity Road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Program Agre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0 Group White Papers &amp;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inute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280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447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thing you need to effectively recruit develop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438280" cy="180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34320" y="2057400"/>
            <a:ext cx="165564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vangelism Time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609588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182844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72000" y="182844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858000" y="182844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6720" y="6248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73800" y="5186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i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53341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4480" y="53341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3480" y="53341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30680" y="53341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4876920"/>
            <a:ext cx="8076960" cy="9903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886200"/>
            <a:ext cx="8076960" cy="99072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-10440" y="42051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21040" y="42670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2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98040" y="4267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1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48960" y="4267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3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1000" y="42670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C1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2600" y="42670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C3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828800"/>
            <a:ext cx="8076960" cy="2057400"/>
          </a:xfrm>
          <a:prstGeom prst="rect">
            <a:avLst/>
          </a:prstGeom>
          <a:solidFill>
            <a:srgbClr val="ff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264600" y="2319480"/>
            <a:ext cx="150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67320" y="251460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7400" y="2971800"/>
            <a:ext cx="12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e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51360" y="297180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 for D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D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95200" y="3232080"/>
            <a:ext cx="15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 Solu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trade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213372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/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35400" y="1936800"/>
            <a:ext cx="9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2400" y="254628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e on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905120"/>
            <a:ext cx="838440" cy="1828800"/>
          </a:xfrm>
          <a:prstGeom prst="rightArrowCallout">
            <a:avLst>
              <a:gd name="adj1" fmla="val 54535"/>
              <a:gd name="adj2" fmla="val 54530"/>
              <a:gd name="adj3" fmla="val 16667"/>
              <a:gd name="adj4" fmla="val 66667"/>
            </a:avLst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38440" cy="914400"/>
          </a:xfrm>
          <a:prstGeom prst="rightArrowCallout">
            <a:avLst>
              <a:gd name="adj1" fmla="val 27267"/>
              <a:gd name="adj2" fmla="val 27265"/>
              <a:gd name="adj3" fmla="val 16667"/>
              <a:gd name="adj4" fmla="val 66667"/>
            </a:avLst>
          </a:prstGeom>
          <a:solidFill>
            <a:srgbClr val="0000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886200"/>
            <a:ext cx="838440" cy="914400"/>
          </a:xfrm>
          <a:prstGeom prst="rightArrowCallout">
            <a:avLst>
              <a:gd name="adj1" fmla="val 27267"/>
              <a:gd name="adj2" fmla="val 27265"/>
              <a:gd name="adj3" fmla="val 16667"/>
              <a:gd name="adj4" fmla="val 66667"/>
            </a:avLst>
          </a:prstGeom>
          <a:solidFill>
            <a:srgbClr val="00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4:28:32Z</dcterms:created>
  <dc:creator>Aaron Hyde/280 Group</dc:creator>
  <dc:description>Copyright 2006, 280 Group LLC and Aaron Hyde. All rights reserved.</dc:description>
  <dc:language>en-US</dc:language>
  <cp:lastModifiedBy>Brian Lawley</cp:lastModifiedBy>
  <dcterms:modified xsi:type="dcterms:W3CDTF">2006-08-24T00:11:50Z</dcterms:modified>
  <cp:revision>10</cp:revision>
  <dc:subject/>
  <dc:title>Evangelism Timeline Template</dc:title>
</cp:coreProperties>
</file>