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B33-C300-446B-B95B-60EF091E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9640" y="4003920"/>
            <a:ext cx="8415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99D-3993-4D20-A4E9-26352C4F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41065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51720" y="1483920"/>
            <a:ext cx="41065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39640" y="4003920"/>
            <a:ext cx="41065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851720" y="4003920"/>
            <a:ext cx="41065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1D03-39BF-435A-B596-1AEFD611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2709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84720" y="1483920"/>
            <a:ext cx="2709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30160" y="1483920"/>
            <a:ext cx="2709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39640" y="4003920"/>
            <a:ext cx="2709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84720" y="4003920"/>
            <a:ext cx="2709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230160" y="4003920"/>
            <a:ext cx="2709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8A16-09F3-4A57-BE8F-4F9A1264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9AED-6B7E-40C7-A452-3300FC58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F861-7037-4CBF-A02A-F9D54BE9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CA68-2AD2-473D-A58B-BC59F789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4106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51720" y="1483920"/>
            <a:ext cx="4106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11F3-8428-4B3A-9DEF-4C27D964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7C36-E5C5-439D-8F51-BB005533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50560" y="188640"/>
            <a:ext cx="77929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584C-6307-44F7-A6DF-D17020D6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41065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51720" y="1483920"/>
            <a:ext cx="4106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9640" y="4003920"/>
            <a:ext cx="41065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4140-C532-4D0E-B649-A329D2C7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4F9D-5334-42A7-8174-0D05D771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4106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51720" y="1483920"/>
            <a:ext cx="41065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51720" y="4003920"/>
            <a:ext cx="41065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5BA0-AAA9-4124-8670-AE5E0CF2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41065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51720" y="1483920"/>
            <a:ext cx="41065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9640" y="4003920"/>
            <a:ext cx="8415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27DE-60BC-437A-962D-4ACDF1FF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9640" y="4003920"/>
            <a:ext cx="8415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28A6-A065-4997-AF23-7BB2B6A6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41065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51720" y="1483920"/>
            <a:ext cx="41065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9640" y="4003920"/>
            <a:ext cx="41065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51720" y="4003920"/>
            <a:ext cx="41065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5A50-5456-47FF-9BB2-50B7F0DF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2709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84720" y="1483920"/>
            <a:ext cx="2709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30160" y="1483920"/>
            <a:ext cx="2709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39640" y="4003920"/>
            <a:ext cx="2709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84720" y="4003920"/>
            <a:ext cx="2709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230160" y="4003920"/>
            <a:ext cx="2709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303B-79FD-4616-B1AC-DDE395E8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533B-3A85-42E4-9FD7-93F61D21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4106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51720" y="1483920"/>
            <a:ext cx="4106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0E6-6737-458B-B6F8-526EBBD0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E17E-42F8-4FC3-888F-A0729292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50560" y="188640"/>
            <a:ext cx="77929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0F2-5D52-4C56-9DEE-1B976AD1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41065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1720" y="1483920"/>
            <a:ext cx="4106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03920"/>
            <a:ext cx="41065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564-5D1D-4974-B725-0142528B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4106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51720" y="1483920"/>
            <a:ext cx="41065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851720" y="4003920"/>
            <a:ext cx="41065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63D-CD54-4CDA-AF10-7B5C3984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41065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51720" y="1483920"/>
            <a:ext cx="41065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9640" y="4003920"/>
            <a:ext cx="8415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7EC0-553D-4B92-B0BE-073ECF16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627280" y="6453360"/>
            <a:ext cx="1008000" cy="404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280" y="6356520"/>
            <a:ext cx="252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57240" y="6356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41960" y="6356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0F86-57CC-4178-AC84-AA48A058563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64533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7600" y="46836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00280" y="46836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41440" y="89064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911160" y="89064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7080" y="81756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62120" y="36036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42800" y="11509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68360" y="64533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911160" y="89064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62120" y="36036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442800" y="11509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3"/>
          <a:stretch/>
        </p:blipFill>
        <p:spPr>
          <a:xfrm>
            <a:off x="6588000" y="6556320"/>
            <a:ext cx="360360" cy="301680"/>
          </a:xfrm>
          <a:prstGeom prst="rect">
            <a:avLst/>
          </a:prstGeom>
          <a:ln w="0">
            <a:noFill/>
          </a:ln>
        </p:spPr>
      </p:pic>
      <p:pic>
        <p:nvPicPr>
          <p:cNvPr id="19" name="" descr=""/>
          <p:cNvPicPr/>
          <p:nvPr/>
        </p:nvPicPr>
        <p:blipFill>
          <a:blip r:embed="rId4"/>
          <a:stretch/>
        </p:blipFill>
        <p:spPr>
          <a:xfrm>
            <a:off x="108000" y="6165720"/>
            <a:ext cx="64908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4920" y="2438280"/>
            <a:ext cx="9009000" cy="1052640"/>
            <a:chOff x="34920" y="2438280"/>
            <a:chExt cx="9009000" cy="1052640"/>
          </a:xfrm>
        </p:grpSpPr>
        <p:grpSp>
          <p:nvGrpSpPr>
            <p:cNvPr id="57" name=""/>
            <p:cNvGrpSpPr/>
            <p:nvPr/>
          </p:nvGrpSpPr>
          <p:grpSpPr>
            <a:xfrm>
              <a:off x="325440" y="2546280"/>
              <a:ext cx="711360" cy="474840"/>
              <a:chOff x="325440" y="2546280"/>
              <a:chExt cx="711360" cy="474840"/>
            </a:xfrm>
          </p:grpSpPr>
          <p:sp>
            <p:nvSpPr>
              <p:cNvPr id="58" name=""/>
              <p:cNvSpPr/>
              <p:nvPr/>
            </p:nvSpPr>
            <p:spPr>
              <a:xfrm>
                <a:off x="32544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0848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49280" y="2968560"/>
              <a:ext cx="737640" cy="474840"/>
              <a:chOff x="449280" y="2968560"/>
              <a:chExt cx="737640" cy="474840"/>
            </a:xfrm>
          </p:grpSpPr>
          <p:sp>
            <p:nvSpPr>
              <p:cNvPr id="61" name=""/>
              <p:cNvSpPr/>
              <p:nvPr/>
            </p:nvSpPr>
            <p:spPr>
              <a:xfrm>
                <a:off x="44928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1792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3492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996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5100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611280" y="6248520"/>
            <a:ext cx="27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19F3-7E1B-4E85-99B0-546162915B52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62373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62373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280" y="1676160"/>
            <a:ext cx="80643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Getting started with OpenCCM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Tutori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4360" y="3429000"/>
            <a:ext cx="79912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 OpenCCM application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demo3 “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Client / Server-Producer / Consume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08360" y="404640"/>
            <a:ext cx="1211400" cy="1011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651640" y="333360"/>
            <a:ext cx="2857320" cy="114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43280" y="5373720"/>
            <a:ext cx="331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Areski Flissi (IR CNRS / LIFL)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flissi@lifl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58920" y="260280"/>
            <a:ext cx="151272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BDC8-2C12-4C4A-86C0-2999AD1260E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fining a base component typ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 base type for named com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d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** The identifier name property.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ttribute string nam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e primary key to identify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type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PrimaryKe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: ::Components::PrimaryKey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** Just a string name.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/*string*/ long nam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54B9-F595-4F7C-AE0A-B8A4654A67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Service Interface and Event valuetyp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display(in string tex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e Event valuetype published by the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mponent and consumed by its Consumer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venttype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Tex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** Just contains a string.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ring tex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4F3-F31F-475A-BD94-29FE8759A39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Server Compon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e Server component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Serv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d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rovides a Service to its Client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vid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Servi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the_servic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ublishes Events to its Consumer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sh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Text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to_consume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// Simple home for instantiating Server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ServerHo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5796000" y="2276640"/>
            <a:ext cx="719280" cy="122364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156360" y="333360"/>
            <a:ext cx="2866680" cy="2088720"/>
            <a:chOff x="6156360" y="333360"/>
            <a:chExt cx="2866680" cy="2088720"/>
          </a:xfrm>
        </p:grpSpPr>
        <p:grpSp>
          <p:nvGrpSpPr>
            <p:cNvPr id="258" name=""/>
            <p:cNvGrpSpPr/>
            <p:nvPr/>
          </p:nvGrpSpPr>
          <p:grpSpPr>
            <a:xfrm>
              <a:off x="6156360" y="333360"/>
              <a:ext cx="2376000" cy="2088720"/>
              <a:chOff x="6156360" y="333360"/>
              <a:chExt cx="2376000" cy="208872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6156360" y="1466640"/>
                <a:ext cx="1211400" cy="662040"/>
                <a:chOff x="6156360" y="1466640"/>
                <a:chExt cx="1211400" cy="662040"/>
              </a:xfrm>
            </p:grpSpPr>
            <p:sp>
              <p:nvSpPr>
                <p:cNvPr id="260" name=""/>
                <p:cNvSpPr/>
                <p:nvPr/>
              </p:nvSpPr>
              <p:spPr>
                <a:xfrm flipH="1">
                  <a:off x="6696360" y="1797480"/>
                  <a:ext cx="67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156360" y="1466640"/>
                  <a:ext cx="649080" cy="662040"/>
                </a:xfrm>
                <a:prstGeom prst="ellipse">
                  <a:avLst/>
                </a:prstGeom>
                <a:solidFill>
                  <a:srgbClr val="ffcf0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7516080" y="333360"/>
                <a:ext cx="650880" cy="840600"/>
                <a:chOff x="7516080" y="333360"/>
                <a:chExt cx="650880" cy="840600"/>
              </a:xfrm>
            </p:grpSpPr>
            <p:sp>
              <p:nvSpPr>
                <p:cNvPr id="263" name=""/>
                <p:cNvSpPr/>
                <p:nvPr/>
              </p:nvSpPr>
              <p:spPr>
                <a:xfrm flipV="1">
                  <a:off x="7841520" y="492120"/>
                  <a:ext cx="0" cy="681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5400000">
                  <a:off x="7512120" y="336960"/>
                  <a:ext cx="658800" cy="65088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7151400" y="1174680"/>
                <a:ext cx="1380960" cy="124740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mpon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8388360" y="1413000"/>
              <a:ext cx="634680" cy="503640"/>
              <a:chOff x="8388360" y="1413000"/>
              <a:chExt cx="634680" cy="5036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8388360" y="1510200"/>
                <a:ext cx="505080" cy="406440"/>
                <a:chOff x="8388360" y="1510200"/>
                <a:chExt cx="505080" cy="406440"/>
              </a:xfrm>
            </p:grpSpPr>
            <p:sp>
              <p:nvSpPr>
                <p:cNvPr id="268" name=""/>
                <p:cNvSpPr/>
                <p:nvPr/>
              </p:nvSpPr>
              <p:spPr>
                <a:xfrm flipH="1">
                  <a:off x="8490600" y="1713600"/>
                  <a:ext cx="205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388360" y="1616040"/>
                  <a:ext cx="101160" cy="19440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664120" y="1510200"/>
                  <a:ext cx="229320" cy="406440"/>
                </a:xfrm>
                <a:custGeom>
                  <a:avLst/>
                  <a:gdLst>
                    <a:gd name="textAreaLeft" fmla="*/ 0 w 229320"/>
                    <a:gd name="textAreaRight" fmla="*/ 229680 w 22932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8839440" y="1413000"/>
                <a:ext cx="18360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6516720" y="2060640"/>
            <a:ext cx="2232000" cy="237636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1D56-B277-4D46-BCD0-5C0CE00EF00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Server Compon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e Server component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Serv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d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rovides a Service to its Client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vid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Servi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the_servic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ublishes Events to its Consumer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sh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Text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to_consume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// Simple home for instantiating Server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ServerHo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156360" y="115920"/>
            <a:ext cx="2879640" cy="2736720"/>
            <a:chOff x="6156360" y="115920"/>
            <a:chExt cx="2879640" cy="2736720"/>
          </a:xfrm>
        </p:grpSpPr>
        <p:sp>
          <p:nvSpPr>
            <p:cNvPr id="276" name=""/>
            <p:cNvSpPr/>
            <p:nvPr/>
          </p:nvSpPr>
          <p:spPr>
            <a:xfrm>
              <a:off x="6156360" y="549360"/>
              <a:ext cx="2879640" cy="230328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rverHo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227640" y="1989000"/>
              <a:ext cx="815760" cy="415800"/>
              <a:chOff x="6227640" y="1989000"/>
              <a:chExt cx="815760" cy="415800"/>
            </a:xfrm>
          </p:grpSpPr>
          <p:sp>
            <p:nvSpPr>
              <p:cNvPr id="278" name=""/>
              <p:cNvSpPr/>
              <p:nvPr/>
            </p:nvSpPr>
            <p:spPr>
              <a:xfrm flipH="1">
                <a:off x="6591240" y="2196720"/>
                <a:ext cx="45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27640" y="1989000"/>
                <a:ext cx="437040" cy="415800"/>
              </a:xfrm>
              <a:prstGeom prst="ellipse">
                <a:avLst/>
              </a:prstGeom>
              <a:solidFill>
                <a:srgbClr val="ffcf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7596360" y="1052640"/>
              <a:ext cx="339120" cy="431280"/>
              <a:chOff x="7596360" y="1052640"/>
              <a:chExt cx="339120" cy="43128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7765920" y="1134000"/>
                <a:ext cx="0" cy="34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5400000">
                <a:off x="7596720" y="1051920"/>
                <a:ext cx="338040" cy="3391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804000" y="1484280"/>
              <a:ext cx="1728720" cy="12240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8388360" y="1844640"/>
              <a:ext cx="563040" cy="503640"/>
              <a:chOff x="8388360" y="1844640"/>
              <a:chExt cx="563040" cy="50364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8388360" y="1941840"/>
                <a:ext cx="448200" cy="406440"/>
                <a:chOff x="8388360" y="1941840"/>
                <a:chExt cx="448200" cy="406440"/>
              </a:xfrm>
            </p:grpSpPr>
            <p:sp>
              <p:nvSpPr>
                <p:cNvPr id="286" name=""/>
                <p:cNvSpPr/>
                <p:nvPr/>
              </p:nvSpPr>
              <p:spPr>
                <a:xfrm flipH="1">
                  <a:off x="8479080" y="2145240"/>
                  <a:ext cx="18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388360" y="2047680"/>
                  <a:ext cx="89640" cy="19440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633160" y="1941840"/>
                  <a:ext cx="203400" cy="406440"/>
                </a:xfrm>
                <a:custGeom>
                  <a:avLst/>
                  <a:gdLst>
                    <a:gd name="textAreaLeft" fmla="*/ 0 w 203400"/>
                    <a:gd name="textAreaRight" fmla="*/ 203760 w 2034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" name=""/>
              <p:cNvSpPr/>
              <p:nvPr/>
            </p:nvSpPr>
            <p:spPr>
              <a:xfrm>
                <a:off x="8788680" y="1844640"/>
                <a:ext cx="16272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7380000" y="115920"/>
              <a:ext cx="323640" cy="411120"/>
              <a:chOff x="7380000" y="115920"/>
              <a:chExt cx="323640" cy="411120"/>
            </a:xfrm>
          </p:grpSpPr>
          <p:sp>
            <p:nvSpPr>
              <p:cNvPr id="291" name=""/>
              <p:cNvSpPr/>
              <p:nvPr/>
            </p:nvSpPr>
            <p:spPr>
              <a:xfrm flipV="1">
                <a:off x="7542000" y="19368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7380720" y="114840"/>
                <a:ext cx="322200" cy="3236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3" name=""/>
          <p:cNvSpPr/>
          <p:nvPr/>
        </p:nvSpPr>
        <p:spPr>
          <a:xfrm>
            <a:off x="5867280" y="2924280"/>
            <a:ext cx="2952720" cy="280980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24360" y="2492280"/>
            <a:ext cx="719280" cy="86544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2421000"/>
            <a:ext cx="2232000" cy="201600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9D9-282F-4F2D-B1CC-5456EC59AAE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Server Compon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e home for managing Server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ServerManag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nages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key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PrimaryKe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o create a new Server identified by the n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tory create_server(in string 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o find a Server identified by the n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er find_server(in string 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6156360" y="549360"/>
            <a:ext cx="2808360" cy="230328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erver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300720" y="1125360"/>
            <a:ext cx="2722320" cy="1582920"/>
            <a:chOff x="6300720" y="1125360"/>
            <a:chExt cx="2722320" cy="1582920"/>
          </a:xfrm>
        </p:grpSpPr>
        <p:sp>
          <p:nvSpPr>
            <p:cNvPr id="300" name=""/>
            <p:cNvSpPr/>
            <p:nvPr/>
          </p:nvSpPr>
          <p:spPr>
            <a:xfrm flipH="1">
              <a:off x="6751800" y="2214720"/>
              <a:ext cx="65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00720" y="1989000"/>
              <a:ext cx="414360" cy="41616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7740720" y="1197000"/>
              <a:ext cx="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7595640" y="1125360"/>
              <a:ext cx="360720" cy="3603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77080" y="1628640"/>
              <a:ext cx="1655640" cy="10796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8459640" y="1916280"/>
              <a:ext cx="563400" cy="503640"/>
              <a:chOff x="8459640" y="1916280"/>
              <a:chExt cx="563400" cy="50364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8459640" y="2013480"/>
                <a:ext cx="448560" cy="406440"/>
                <a:chOff x="8459640" y="2013480"/>
                <a:chExt cx="448560" cy="40644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8550360" y="2216880"/>
                  <a:ext cx="18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8459640" y="2119320"/>
                  <a:ext cx="90000" cy="19440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8704440" y="2013480"/>
                  <a:ext cx="203760" cy="40644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8859960" y="1916280"/>
                <a:ext cx="163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7380000" y="115920"/>
            <a:ext cx="323640" cy="411120"/>
            <a:chOff x="7380000" y="115920"/>
            <a:chExt cx="323640" cy="411120"/>
          </a:xfrm>
        </p:grpSpPr>
        <p:sp>
          <p:nvSpPr>
            <p:cNvPr id="312" name=""/>
            <p:cNvSpPr/>
            <p:nvPr/>
          </p:nvSpPr>
          <p:spPr>
            <a:xfrm flipV="1">
              <a:off x="7542000" y="1936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5400000">
              <a:off x="7380720" y="114840"/>
              <a:ext cx="322200" cy="323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867280" y="2852640"/>
            <a:ext cx="1873440" cy="64764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33EB-0D6C-405E-B01C-E0F17E32BC5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Client Compon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e Client component ty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Cli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d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ses the service provided by the Server 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s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Servic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the_servic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imple home for instanciating Client compon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ClientHo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nages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e home for managing Client compon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ClientManag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nages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key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PrimaryKe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 To create a new Client identified by the name. *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ctory create_client(in string 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 To find a Client identified by the name. *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er find_client(in string 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4788000" y="1700280"/>
            <a:ext cx="3960720" cy="100800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877080" y="476280"/>
            <a:ext cx="2131920" cy="1655640"/>
            <a:chOff x="6877080" y="476280"/>
            <a:chExt cx="2131920" cy="1655640"/>
          </a:xfrm>
        </p:grpSpPr>
        <p:grpSp>
          <p:nvGrpSpPr>
            <p:cNvPr id="319" name=""/>
            <p:cNvGrpSpPr/>
            <p:nvPr/>
          </p:nvGrpSpPr>
          <p:grpSpPr>
            <a:xfrm>
              <a:off x="6877080" y="476280"/>
              <a:ext cx="1728720" cy="1655640"/>
              <a:chOff x="6877080" y="476280"/>
              <a:chExt cx="1728720" cy="165564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7669440" y="476280"/>
                <a:ext cx="339120" cy="431280"/>
                <a:chOff x="7669440" y="476280"/>
                <a:chExt cx="339120" cy="431280"/>
              </a:xfrm>
            </p:grpSpPr>
            <p:sp>
              <p:nvSpPr>
                <p:cNvPr id="321" name=""/>
                <p:cNvSpPr/>
                <p:nvPr/>
              </p:nvSpPr>
              <p:spPr>
                <a:xfrm flipV="1">
                  <a:off x="7839000" y="557640"/>
                  <a:ext cx="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rot="5400000">
                  <a:off x="7669800" y="475560"/>
                  <a:ext cx="338040" cy="3391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" name=""/>
              <p:cNvSpPr/>
              <p:nvPr/>
            </p:nvSpPr>
            <p:spPr>
              <a:xfrm>
                <a:off x="6877080" y="907920"/>
                <a:ext cx="1728720" cy="122400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mpon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8532720" y="1413000"/>
              <a:ext cx="476280" cy="280800"/>
              <a:chOff x="8532720" y="1413000"/>
              <a:chExt cx="476280" cy="28080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8532720" y="1537920"/>
                <a:ext cx="146520" cy="39240"/>
                <a:chOff x="8532720" y="1537920"/>
                <a:chExt cx="146520" cy="39240"/>
              </a:xfrm>
            </p:grpSpPr>
            <p:sp>
              <p:nvSpPr>
                <p:cNvPr id="326" name=""/>
                <p:cNvSpPr/>
                <p:nvPr/>
              </p:nvSpPr>
              <p:spPr>
                <a:xfrm flipH="1">
                  <a:off x="8569440" y="155736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8532720" y="153792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 rot="16200000">
                <a:off x="8704800" y="1389600"/>
                <a:ext cx="28080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4859280" y="620640"/>
            <a:ext cx="2736720" cy="1295280"/>
            <a:chOff x="4859280" y="620640"/>
            <a:chExt cx="2736720" cy="1295280"/>
          </a:xfrm>
        </p:grpSpPr>
        <p:sp>
          <p:nvSpPr>
            <p:cNvPr id="330" name=""/>
            <p:cNvSpPr/>
            <p:nvPr/>
          </p:nvSpPr>
          <p:spPr>
            <a:xfrm>
              <a:off x="4859280" y="1915920"/>
              <a:ext cx="15350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394320" y="620640"/>
              <a:ext cx="0" cy="1295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94320" y="620640"/>
              <a:ext cx="12016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8CEE-8A10-48C2-9760-E6394F8403C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Client Compon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e Client component typ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Clien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dCompon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es the service provided by the Server compon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Servi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he_servic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imple home for instanciating Client compon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ClientHo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nages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e home for managing Client compon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ClientManag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nages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key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PrimaryKe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* To create a new Client identified by the name. *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tory create_client(in string name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* To find a Client identified by the name. *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er find_client(in string name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72360" y="115920"/>
            <a:ext cx="2663640" cy="2305080"/>
            <a:chOff x="6372360" y="115920"/>
            <a:chExt cx="2663640" cy="2305080"/>
          </a:xfrm>
        </p:grpSpPr>
        <p:sp>
          <p:nvSpPr>
            <p:cNvPr id="336" name=""/>
            <p:cNvSpPr/>
            <p:nvPr/>
          </p:nvSpPr>
          <p:spPr>
            <a:xfrm>
              <a:off x="6372360" y="404640"/>
              <a:ext cx="2663640" cy="201636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lientHo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6588000" y="836640"/>
              <a:ext cx="2132280" cy="1366560"/>
              <a:chOff x="6588000" y="836640"/>
              <a:chExt cx="2132280" cy="136656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6588000" y="836640"/>
                <a:ext cx="1728720" cy="1366560"/>
                <a:chOff x="6588000" y="836640"/>
                <a:chExt cx="1728720" cy="136656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7380360" y="836640"/>
                  <a:ext cx="339120" cy="356040"/>
                  <a:chOff x="7380360" y="836640"/>
                  <a:chExt cx="339120" cy="35604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flipV="1">
                    <a:off x="7549920" y="903960"/>
                    <a:ext cx="0" cy="28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5400000">
                    <a:off x="7410240" y="806400"/>
                    <a:ext cx="279000" cy="339120"/>
                  </a:xfrm>
                  <a:prstGeom prst="ellipse">
                    <a:avLst/>
                  </a:prstGeom>
                  <a:solidFill>
                    <a:srgbClr val="3333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" name=""/>
                <p:cNvSpPr/>
                <p:nvPr/>
              </p:nvSpPr>
              <p:spPr>
                <a:xfrm>
                  <a:off x="6588000" y="1192680"/>
                  <a:ext cx="1728720" cy="1010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Cli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8244000" y="1557360"/>
                <a:ext cx="476280" cy="280800"/>
                <a:chOff x="8244000" y="1557360"/>
                <a:chExt cx="476280" cy="280800"/>
              </a:xfrm>
            </p:grpSpPr>
            <p:grpSp>
              <p:nvGrpSpPr>
                <p:cNvPr id="344" name=""/>
                <p:cNvGrpSpPr/>
                <p:nvPr/>
              </p:nvGrpSpPr>
              <p:grpSpPr>
                <a:xfrm>
                  <a:off x="8244000" y="1682280"/>
                  <a:ext cx="146520" cy="39240"/>
                  <a:chOff x="8244000" y="1682280"/>
                  <a:chExt cx="146520" cy="3924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>
                    <a:off x="8280720" y="1701720"/>
                    <a:ext cx="109800" cy="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8244000" y="1682280"/>
                    <a:ext cx="54360" cy="392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7" name=""/>
                <p:cNvSpPr/>
                <p:nvPr/>
              </p:nvSpPr>
              <p:spPr>
                <a:xfrm rot="16200000">
                  <a:off x="8416080" y="1533960"/>
                  <a:ext cx="280800" cy="32724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8" name=""/>
            <p:cNvGrpSpPr/>
            <p:nvPr/>
          </p:nvGrpSpPr>
          <p:grpSpPr>
            <a:xfrm>
              <a:off x="7451280" y="115920"/>
              <a:ext cx="289080" cy="294840"/>
              <a:chOff x="7451280" y="115920"/>
              <a:chExt cx="289080" cy="294840"/>
            </a:xfrm>
          </p:grpSpPr>
          <p:sp>
            <p:nvSpPr>
              <p:cNvPr id="349" name=""/>
              <p:cNvSpPr/>
              <p:nvPr/>
            </p:nvSpPr>
            <p:spPr>
              <a:xfrm flipV="1">
                <a:off x="7596000" y="171360"/>
                <a:ext cx="0" cy="23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400000">
                <a:off x="7480080" y="86760"/>
                <a:ext cx="231120" cy="2890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1" name=""/>
          <p:cNvSpPr/>
          <p:nvPr/>
        </p:nvSpPr>
        <p:spPr>
          <a:xfrm>
            <a:off x="4284720" y="2492280"/>
            <a:ext cx="4392720" cy="158436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356000" y="1052280"/>
            <a:ext cx="2952720" cy="864000"/>
            <a:chOff x="4356000" y="1052280"/>
            <a:chExt cx="2952720" cy="864000"/>
          </a:xfrm>
        </p:grpSpPr>
        <p:sp>
          <p:nvSpPr>
            <p:cNvPr id="353" name=""/>
            <p:cNvSpPr/>
            <p:nvPr/>
          </p:nvSpPr>
          <p:spPr>
            <a:xfrm>
              <a:off x="4356000" y="1916280"/>
              <a:ext cx="1656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012000" y="1052280"/>
              <a:ext cx="0" cy="863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12000" y="1052640"/>
              <a:ext cx="1296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140360" y="3284640"/>
            <a:ext cx="4535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84720" y="1844640"/>
            <a:ext cx="4174920" cy="79236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2302-8BDA-4B14-BFDC-ED07E3C144D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Consumer Compon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e Consumer component typ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Consumer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dCompon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umes Events published by Server compon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um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TextEve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rom_servers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imple home for instanciating Client compon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ConsumerHo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nages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Consu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e home for managing Client compon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ConsumerManag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nages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Consu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key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PrimaryKe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* To create a new Consumer identified by the name. *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tory create_consumer(in string name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* To find a Consumer identified by the name. *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er find_consumer(in string name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5219640" y="1844640"/>
            <a:ext cx="1440000" cy="79236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572000" y="620640"/>
            <a:ext cx="2952720" cy="1295280"/>
            <a:chOff x="4572000" y="620640"/>
            <a:chExt cx="2952720" cy="1295280"/>
          </a:xfrm>
        </p:grpSpPr>
        <p:sp>
          <p:nvSpPr>
            <p:cNvPr id="362" name=""/>
            <p:cNvSpPr/>
            <p:nvPr/>
          </p:nvSpPr>
          <p:spPr>
            <a:xfrm>
              <a:off x="4572000" y="1915920"/>
              <a:ext cx="1656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28000" y="620640"/>
              <a:ext cx="0" cy="1295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228000" y="620640"/>
              <a:ext cx="1296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443640" y="404640"/>
            <a:ext cx="2449080" cy="1584360"/>
            <a:chOff x="6443640" y="404640"/>
            <a:chExt cx="2449080" cy="1584360"/>
          </a:xfrm>
        </p:grpSpPr>
        <p:sp>
          <p:nvSpPr>
            <p:cNvPr id="366" name=""/>
            <p:cNvSpPr/>
            <p:nvPr/>
          </p:nvSpPr>
          <p:spPr>
            <a:xfrm>
              <a:off x="7109640" y="952200"/>
              <a:ext cx="1783080" cy="10368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nsu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443640" y="1268280"/>
              <a:ext cx="698040" cy="404280"/>
              <a:chOff x="6443640" y="1268280"/>
              <a:chExt cx="698040" cy="404280"/>
            </a:xfrm>
          </p:grpSpPr>
          <p:sp>
            <p:nvSpPr>
              <p:cNvPr id="368" name=""/>
              <p:cNvSpPr/>
              <p:nvPr/>
            </p:nvSpPr>
            <p:spPr>
              <a:xfrm flipH="1">
                <a:off x="6781320" y="146808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443640" y="1268280"/>
                <a:ext cx="360360" cy="4042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7813080" y="404640"/>
              <a:ext cx="375840" cy="546840"/>
              <a:chOff x="7813080" y="404640"/>
              <a:chExt cx="375840" cy="546840"/>
            </a:xfrm>
          </p:grpSpPr>
          <p:sp>
            <p:nvSpPr>
              <p:cNvPr id="371" name=""/>
              <p:cNvSpPr/>
              <p:nvPr/>
            </p:nvSpPr>
            <p:spPr>
              <a:xfrm flipV="1">
                <a:off x="8001000" y="507600"/>
                <a:ext cx="0" cy="44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5400000">
                <a:off x="7786440" y="430920"/>
                <a:ext cx="428760" cy="3758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ACAD-54DD-4885-ADBC-F46EF5D2B5E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Consumer Compon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e Consumer component typ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Consumer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dCompon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umes Events published by Server compon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um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TextEve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rom_servers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imple home for instanciating Client compon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ConsumerHo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nages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Consu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e home for managing Client compon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ConsumerManag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nages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Consu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key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PrimaryKe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* To create a new Consumer identified by the name. *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tory create_consumer(in string name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* To find a Consumer identified by the name. *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er find_consumer(in string name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372360" y="115920"/>
            <a:ext cx="2663640" cy="2521080"/>
            <a:chOff x="6372360" y="115920"/>
            <a:chExt cx="2663640" cy="2521080"/>
          </a:xfrm>
        </p:grpSpPr>
        <p:sp>
          <p:nvSpPr>
            <p:cNvPr id="376" name=""/>
            <p:cNvSpPr/>
            <p:nvPr/>
          </p:nvSpPr>
          <p:spPr>
            <a:xfrm>
              <a:off x="6372360" y="404640"/>
              <a:ext cx="2663640" cy="223236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nsumerHo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950240" y="1197000"/>
              <a:ext cx="648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6443640" y="981000"/>
              <a:ext cx="2378160" cy="1440000"/>
              <a:chOff x="6443640" y="981000"/>
              <a:chExt cx="2378160" cy="1440000"/>
            </a:xfrm>
          </p:grpSpPr>
          <p:sp>
            <p:nvSpPr>
              <p:cNvPr id="379" name=""/>
              <p:cNvSpPr/>
              <p:nvPr/>
            </p:nvSpPr>
            <p:spPr>
              <a:xfrm>
                <a:off x="7093080" y="1384200"/>
                <a:ext cx="1728720" cy="103680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nsum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6746760" y="190008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443640" y="1700280"/>
                <a:ext cx="324000" cy="4046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5400000">
                <a:off x="7823520" y="969120"/>
                <a:ext cx="282600" cy="306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7524360" y="115920"/>
              <a:ext cx="289080" cy="294840"/>
              <a:chOff x="7524360" y="115920"/>
              <a:chExt cx="289080" cy="294840"/>
            </a:xfrm>
          </p:grpSpPr>
          <p:sp>
            <p:nvSpPr>
              <p:cNvPr id="384" name=""/>
              <p:cNvSpPr/>
              <p:nvPr/>
            </p:nvSpPr>
            <p:spPr>
              <a:xfrm flipV="1">
                <a:off x="7669080" y="171360"/>
                <a:ext cx="0" cy="23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5400000">
                <a:off x="7553160" y="86760"/>
                <a:ext cx="231120" cy="2890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6" name=""/>
          <p:cNvSpPr/>
          <p:nvPr/>
        </p:nvSpPr>
        <p:spPr>
          <a:xfrm>
            <a:off x="4608360" y="3284640"/>
            <a:ext cx="320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788000" y="4076640"/>
            <a:ext cx="3024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812000" y="2636640"/>
            <a:ext cx="0" cy="1439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0" y="1125000"/>
            <a:ext cx="2952720" cy="791280"/>
            <a:chOff x="4572000" y="1125000"/>
            <a:chExt cx="2952720" cy="791280"/>
          </a:xfrm>
        </p:grpSpPr>
        <p:sp>
          <p:nvSpPr>
            <p:cNvPr id="390" name=""/>
            <p:cNvSpPr/>
            <p:nvPr/>
          </p:nvSpPr>
          <p:spPr>
            <a:xfrm>
              <a:off x="4572000" y="1916280"/>
              <a:ext cx="1656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228000" y="1125000"/>
              <a:ext cx="0" cy="7909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28000" y="1125360"/>
              <a:ext cx="1296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219640" y="2133720"/>
            <a:ext cx="1368360" cy="50328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B8D-C4B6-4A4E-A677-E4685D2037C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terconnections between CORBA component instances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539640" y="1413000"/>
            <a:ext cx="8423280" cy="4892400"/>
            <a:chOff x="539640" y="1413000"/>
            <a:chExt cx="8423280" cy="4892400"/>
          </a:xfrm>
        </p:grpSpPr>
        <p:grpSp>
          <p:nvGrpSpPr>
            <p:cNvPr id="396" name=""/>
            <p:cNvGrpSpPr/>
            <p:nvPr/>
          </p:nvGrpSpPr>
          <p:grpSpPr>
            <a:xfrm>
              <a:off x="3419640" y="2421000"/>
              <a:ext cx="2520720" cy="2736720"/>
              <a:chOff x="3419640" y="2421000"/>
              <a:chExt cx="2520720" cy="2736720"/>
            </a:xfrm>
          </p:grpSpPr>
          <p:sp>
            <p:nvSpPr>
              <p:cNvPr id="397" name=""/>
              <p:cNvSpPr/>
              <p:nvPr/>
            </p:nvSpPr>
            <p:spPr>
              <a:xfrm>
                <a:off x="3419640" y="2854440"/>
                <a:ext cx="2520720" cy="2303280"/>
              </a:xfrm>
              <a:prstGeom prst="roundRect">
                <a:avLst>
                  <a:gd name="adj" fmla="val 16667"/>
                </a:avLst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Ho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4490640" y="2421000"/>
                <a:ext cx="284040" cy="411120"/>
                <a:chOff x="4490640" y="2421000"/>
                <a:chExt cx="284040" cy="411120"/>
              </a:xfrm>
            </p:grpSpPr>
            <p:sp>
              <p:nvSpPr>
                <p:cNvPr id="399" name=""/>
                <p:cNvSpPr/>
                <p:nvPr/>
              </p:nvSpPr>
              <p:spPr>
                <a:xfrm flipV="1">
                  <a:off x="4632840" y="249876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5400000">
                  <a:off x="4471560" y="2440080"/>
                  <a:ext cx="322200" cy="28404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401" name=""/>
            <p:cNvGraphicFramePr/>
            <p:nvPr/>
          </p:nvGraphicFramePr>
          <p:xfrm>
            <a:off x="542880" y="1486080"/>
            <a:ext cx="8420040" cy="481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2880" y="1486080"/>
                      <a:ext cx="8420040" cy="48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03" name=""/>
            <p:cNvGrpSpPr/>
            <p:nvPr/>
          </p:nvGrpSpPr>
          <p:grpSpPr>
            <a:xfrm>
              <a:off x="3481560" y="4294080"/>
              <a:ext cx="713520" cy="415800"/>
              <a:chOff x="3481560" y="4294080"/>
              <a:chExt cx="713520" cy="415800"/>
            </a:xfrm>
          </p:grpSpPr>
          <p:sp>
            <p:nvSpPr>
              <p:cNvPr id="404" name=""/>
              <p:cNvSpPr/>
              <p:nvPr/>
            </p:nvSpPr>
            <p:spPr>
              <a:xfrm flipH="1">
                <a:off x="3799440" y="4501800"/>
                <a:ext cx="39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481560" y="4294080"/>
                <a:ext cx="382320" cy="415800"/>
              </a:xfrm>
              <a:prstGeom prst="ellipse">
                <a:avLst/>
              </a:prstGeom>
              <a:solidFill>
                <a:srgbClr val="ffcf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4680000" y="3357720"/>
              <a:ext cx="296640" cy="431280"/>
              <a:chOff x="4680000" y="3357720"/>
              <a:chExt cx="296640" cy="431280"/>
            </a:xfrm>
          </p:grpSpPr>
          <p:sp>
            <p:nvSpPr>
              <p:cNvPr id="407" name=""/>
              <p:cNvSpPr/>
              <p:nvPr/>
            </p:nvSpPr>
            <p:spPr>
              <a:xfrm flipV="1">
                <a:off x="4828320" y="3439080"/>
                <a:ext cx="0" cy="34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5400000">
                <a:off x="4659120" y="3378240"/>
                <a:ext cx="338040" cy="296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3986280" y="3789360"/>
              <a:ext cx="1512720" cy="12240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00720" y="1844640"/>
              <a:ext cx="2521080" cy="4248360"/>
            </a:xfrm>
            <a:custGeom>
              <a:avLst/>
              <a:gdLst>
                <a:gd name="textAreaLeft" fmla="*/ 122760 w 2521080"/>
                <a:gd name="textAreaRight" fmla="*/ 2398320 w 2521080"/>
                <a:gd name="textAreaTop" fmla="*/ 122760 h 4248360"/>
                <a:gd name="textAreaBottom" fmla="*/ 4125600 h 4248360"/>
              </a:gdLst>
              <a:ahLst/>
              <a:rect l="textAreaLeft" t="textAreaTop" r="textAreaRight" b="textAreaBottom"/>
              <a:pathLst>
                <a:path w="21600" h="36397">
                  <a:moveTo>
                    <a:pt x="3600" y="0"/>
                  </a:moveTo>
                  <a:arcTo wR="3600" hR="3600" stAng="16200000" swAng="-5400000"/>
                  <a:lnTo>
                    <a:pt x="0" y="32797"/>
                  </a:lnTo>
                  <a:arcTo wR="3600" hR="3600" stAng="10800000" swAng="-5400000"/>
                  <a:lnTo>
                    <a:pt x="18000" y="363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nsumerHo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524360" y="1413000"/>
              <a:ext cx="284040" cy="411120"/>
              <a:chOff x="7524360" y="1413000"/>
              <a:chExt cx="284040" cy="411120"/>
            </a:xfrm>
          </p:grpSpPr>
          <p:sp>
            <p:nvSpPr>
              <p:cNvPr id="412" name=""/>
              <p:cNvSpPr/>
              <p:nvPr/>
            </p:nvSpPr>
            <p:spPr>
              <a:xfrm flipV="1">
                <a:off x="7666560" y="149076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5400000">
                <a:off x="7505280" y="1432080"/>
                <a:ext cx="322200" cy="2840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539640" y="1916280"/>
              <a:ext cx="2521080" cy="4105080"/>
            </a:xfrm>
            <a:custGeom>
              <a:avLst/>
              <a:gdLst>
                <a:gd name="textAreaLeft" fmla="*/ 122760 w 2521080"/>
                <a:gd name="textAreaRight" fmla="*/ 2398320 w 2521080"/>
                <a:gd name="textAreaTop" fmla="*/ 122760 h 4105080"/>
                <a:gd name="textAreaBottom" fmla="*/ 3982320 h 4105080"/>
              </a:gdLst>
              <a:ahLst/>
              <a:rect l="textAreaLeft" t="textAreaTop" r="textAreaRight" b="textAreaBottom"/>
              <a:pathLst>
                <a:path w="21600" h="35169">
                  <a:moveTo>
                    <a:pt x="3600" y="0"/>
                  </a:moveTo>
                  <a:arcTo wR="3600" hR="3600" stAng="16200000" swAng="-5400000"/>
                  <a:lnTo>
                    <a:pt x="0" y="31569"/>
                  </a:lnTo>
                  <a:arcTo wR="3600" hR="3600" stAng="10800000" swAng="-5400000"/>
                  <a:lnTo>
                    <a:pt x="18000" y="351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lientHo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1618920" y="1484280"/>
              <a:ext cx="284040" cy="411120"/>
              <a:chOff x="1618920" y="1484280"/>
              <a:chExt cx="284040" cy="411120"/>
            </a:xfrm>
          </p:grpSpPr>
          <p:sp>
            <p:nvSpPr>
              <p:cNvPr id="416" name=""/>
              <p:cNvSpPr/>
              <p:nvPr/>
            </p:nvSpPr>
            <p:spPr>
              <a:xfrm flipV="1">
                <a:off x="1761120" y="156204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5400000">
                <a:off x="1599840" y="1503360"/>
                <a:ext cx="322200" cy="2840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7080120" y="2631960"/>
              <a:ext cx="1308240" cy="725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nsu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818040" y="2992320"/>
              <a:ext cx="2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88000" y="2852640"/>
              <a:ext cx="244440" cy="28440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5400000">
              <a:off x="7641360" y="2332800"/>
              <a:ext cx="198720" cy="2318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588000" y="3573360"/>
              <a:ext cx="1800000" cy="1008000"/>
              <a:chOff x="6588000" y="3573360"/>
              <a:chExt cx="1800000" cy="1008000"/>
            </a:xfrm>
          </p:grpSpPr>
          <p:sp>
            <p:nvSpPr>
              <p:cNvPr id="423" name=""/>
              <p:cNvSpPr/>
              <p:nvPr/>
            </p:nvSpPr>
            <p:spPr>
              <a:xfrm>
                <a:off x="7079400" y="3855600"/>
                <a:ext cx="1308600" cy="72576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nsum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816960" y="4216680"/>
                <a:ext cx="24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588000" y="4076640"/>
                <a:ext cx="245160" cy="282960"/>
              </a:xfrm>
              <a:custGeom>
                <a:avLst/>
                <a:gdLst>
                  <a:gd name="textAreaLeft" fmla="*/ 0 w 245160"/>
                  <a:gd name="textAreaRight" fmla="*/ 245520 w 24516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5400000">
                <a:off x="7640640" y="3556080"/>
                <a:ext cx="197640" cy="2318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6588000" y="4724280"/>
              <a:ext cx="1800000" cy="1008000"/>
              <a:chOff x="6588000" y="4724280"/>
              <a:chExt cx="1800000" cy="1008000"/>
            </a:xfrm>
          </p:grpSpPr>
          <p:sp>
            <p:nvSpPr>
              <p:cNvPr id="428" name=""/>
              <p:cNvSpPr/>
              <p:nvPr/>
            </p:nvSpPr>
            <p:spPr>
              <a:xfrm>
                <a:off x="7079400" y="5006520"/>
                <a:ext cx="1308600" cy="72576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nsum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6816960" y="5367600"/>
                <a:ext cx="24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88000" y="5227920"/>
                <a:ext cx="245160" cy="283320"/>
              </a:xfrm>
              <a:custGeom>
                <a:avLst/>
                <a:gdLst>
                  <a:gd name="textAreaLeft" fmla="*/ 0 w 245160"/>
                  <a:gd name="textAreaRight" fmla="*/ 245520 w 24516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5400000">
                <a:off x="7640640" y="4707000"/>
                <a:ext cx="197640" cy="2318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1042920" y="2492280"/>
              <a:ext cx="1401840" cy="1008000"/>
              <a:chOff x="1042920" y="2492280"/>
              <a:chExt cx="1401840" cy="10080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1685160" y="2492280"/>
                <a:ext cx="275040" cy="262800"/>
                <a:chOff x="1685160" y="2492280"/>
                <a:chExt cx="275040" cy="262800"/>
              </a:xfrm>
            </p:grpSpPr>
            <p:sp>
              <p:nvSpPr>
                <p:cNvPr id="434" name=""/>
                <p:cNvSpPr/>
                <p:nvPr/>
              </p:nvSpPr>
              <p:spPr>
                <a:xfrm flipV="1">
                  <a:off x="1822680" y="2541960"/>
                  <a:ext cx="0" cy="213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5400000">
                  <a:off x="1719720" y="2457720"/>
                  <a:ext cx="205920" cy="27504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1042920" y="2755080"/>
                <a:ext cx="1401840" cy="74520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1042920" y="3645000"/>
              <a:ext cx="1401840" cy="1008000"/>
              <a:chOff x="1042920" y="3645000"/>
              <a:chExt cx="1401840" cy="100800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1685160" y="3645000"/>
                <a:ext cx="275040" cy="262800"/>
                <a:chOff x="1685160" y="3645000"/>
                <a:chExt cx="275040" cy="262800"/>
              </a:xfrm>
            </p:grpSpPr>
            <p:sp>
              <p:nvSpPr>
                <p:cNvPr id="439" name=""/>
                <p:cNvSpPr/>
                <p:nvPr/>
              </p:nvSpPr>
              <p:spPr>
                <a:xfrm flipV="1">
                  <a:off x="1822680" y="3694680"/>
                  <a:ext cx="0" cy="213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5400000">
                  <a:off x="1719720" y="3610440"/>
                  <a:ext cx="205920" cy="27504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1042920" y="3907800"/>
                <a:ext cx="1401840" cy="74520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1042920" y="4797360"/>
              <a:ext cx="1401840" cy="1008000"/>
              <a:chOff x="1042920" y="4797360"/>
              <a:chExt cx="1401840" cy="1008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1685160" y="4797360"/>
                <a:ext cx="275040" cy="262800"/>
                <a:chOff x="1685160" y="4797360"/>
                <a:chExt cx="275040" cy="262800"/>
              </a:xfrm>
            </p:grpSpPr>
            <p:sp>
              <p:nvSpPr>
                <p:cNvPr id="444" name=""/>
                <p:cNvSpPr/>
                <p:nvPr/>
              </p:nvSpPr>
              <p:spPr>
                <a:xfrm flipV="1">
                  <a:off x="1822680" y="4847040"/>
                  <a:ext cx="0" cy="213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5400000">
                  <a:off x="1719720" y="4762800"/>
                  <a:ext cx="205920" cy="27504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1042920" y="5060160"/>
                <a:ext cx="1401840" cy="74520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2386080" y="3024000"/>
              <a:ext cx="456840" cy="260280"/>
              <a:chOff x="2386080" y="3024000"/>
              <a:chExt cx="456840" cy="26028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2386080" y="3024000"/>
                <a:ext cx="456840" cy="260280"/>
                <a:chOff x="2386080" y="3024000"/>
                <a:chExt cx="456840" cy="260280"/>
              </a:xfrm>
            </p:grpSpPr>
            <p:grpSp>
              <p:nvGrpSpPr>
                <p:cNvPr id="449" name=""/>
                <p:cNvGrpSpPr/>
                <p:nvPr/>
              </p:nvGrpSpPr>
              <p:grpSpPr>
                <a:xfrm>
                  <a:off x="2386080" y="3140280"/>
                  <a:ext cx="140400" cy="36360"/>
                  <a:chOff x="2386080" y="3140280"/>
                  <a:chExt cx="140400" cy="3636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flipH="1">
                    <a:off x="2421000" y="3158280"/>
                    <a:ext cx="105480" cy="2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2386080" y="3140280"/>
                    <a:ext cx="52200" cy="363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2" name=""/>
                <p:cNvSpPr/>
                <p:nvPr/>
              </p:nvSpPr>
              <p:spPr>
                <a:xfrm rot="16200000">
                  <a:off x="2555640" y="2997000"/>
                  <a:ext cx="260280" cy="31392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3" name=""/>
              <p:cNvSpPr/>
              <p:nvPr/>
            </p:nvSpPr>
            <p:spPr>
              <a:xfrm>
                <a:off x="2627280" y="3068640"/>
                <a:ext cx="115920" cy="144360"/>
              </a:xfrm>
              <a:prstGeom prst="ellipse">
                <a:avLst/>
              </a:prstGeom>
              <a:solidFill>
                <a:srgbClr val="ffcf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2411280" y="4149360"/>
              <a:ext cx="456840" cy="260280"/>
              <a:chOff x="2411280" y="4149360"/>
              <a:chExt cx="456840" cy="260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2411280" y="4149360"/>
                <a:ext cx="456840" cy="260280"/>
                <a:chOff x="2411280" y="4149360"/>
                <a:chExt cx="456840" cy="260280"/>
              </a:xfrm>
            </p:grpSpPr>
            <p:grpSp>
              <p:nvGrpSpPr>
                <p:cNvPr id="456" name=""/>
                <p:cNvGrpSpPr/>
                <p:nvPr/>
              </p:nvGrpSpPr>
              <p:grpSpPr>
                <a:xfrm>
                  <a:off x="2411280" y="4265640"/>
                  <a:ext cx="140400" cy="36360"/>
                  <a:chOff x="2411280" y="4265640"/>
                  <a:chExt cx="140400" cy="3636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 flipH="1">
                    <a:off x="2446200" y="4283640"/>
                    <a:ext cx="105480" cy="2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411280" y="4265640"/>
                    <a:ext cx="52200" cy="363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9" name=""/>
                <p:cNvSpPr/>
                <p:nvPr/>
              </p:nvSpPr>
              <p:spPr>
                <a:xfrm rot="16200000">
                  <a:off x="2580840" y="4122360"/>
                  <a:ext cx="260280" cy="31392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2652480" y="4194000"/>
                <a:ext cx="115920" cy="144360"/>
              </a:xfrm>
              <a:prstGeom prst="ellipse">
                <a:avLst/>
              </a:prstGeom>
              <a:solidFill>
                <a:srgbClr val="ffcf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411280" y="5300280"/>
              <a:ext cx="456840" cy="260280"/>
              <a:chOff x="2411280" y="5300280"/>
              <a:chExt cx="456840" cy="26028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2411280" y="5300280"/>
                <a:ext cx="456840" cy="260280"/>
                <a:chOff x="2411280" y="5300280"/>
                <a:chExt cx="456840" cy="260280"/>
              </a:xfrm>
            </p:grpSpPr>
            <p:grpSp>
              <p:nvGrpSpPr>
                <p:cNvPr id="463" name=""/>
                <p:cNvGrpSpPr/>
                <p:nvPr/>
              </p:nvGrpSpPr>
              <p:grpSpPr>
                <a:xfrm>
                  <a:off x="2411280" y="5416560"/>
                  <a:ext cx="140400" cy="36360"/>
                  <a:chOff x="2411280" y="5416560"/>
                  <a:chExt cx="140400" cy="3636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flipH="1">
                    <a:off x="2446200" y="5434560"/>
                    <a:ext cx="105480" cy="2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2411280" y="5416560"/>
                    <a:ext cx="52200" cy="363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6" name=""/>
                <p:cNvSpPr/>
                <p:nvPr/>
              </p:nvSpPr>
              <p:spPr>
                <a:xfrm rot="16200000">
                  <a:off x="2580840" y="5273280"/>
                  <a:ext cx="260280" cy="31392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>
                <a:off x="2652480" y="5344920"/>
                <a:ext cx="115920" cy="144360"/>
              </a:xfrm>
              <a:prstGeom prst="ellipse">
                <a:avLst/>
              </a:prstGeom>
              <a:solidFill>
                <a:srgbClr val="ffcf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2752560" y="3143160"/>
              <a:ext cx="743040" cy="1352520"/>
            </a:xfrm>
            <a:custGeom>
              <a:avLst/>
              <a:gdLst/>
              <a:ahLst/>
              <a:rect l="l" t="t" r="r" b="b"/>
              <a:pathLst>
                <a:path w="468" h="852">
                  <a:moveTo>
                    <a:pt x="0" y="0"/>
                  </a:moveTo>
                  <a:cubicBezTo>
                    <a:pt x="33" y="11"/>
                    <a:pt x="120" y="50"/>
                    <a:pt x="144" y="78"/>
                  </a:cubicBezTo>
                  <a:cubicBezTo>
                    <a:pt x="146" y="80"/>
                    <a:pt x="171" y="113"/>
                    <a:pt x="174" y="120"/>
                  </a:cubicBezTo>
                  <a:cubicBezTo>
                    <a:pt x="179" y="132"/>
                    <a:pt x="182" y="144"/>
                    <a:pt x="186" y="156"/>
                  </a:cubicBezTo>
                  <a:cubicBezTo>
                    <a:pt x="188" y="162"/>
                    <a:pt x="192" y="174"/>
                    <a:pt x="192" y="174"/>
                  </a:cubicBezTo>
                  <a:cubicBezTo>
                    <a:pt x="190" y="215"/>
                    <a:pt x="192" y="273"/>
                    <a:pt x="180" y="318"/>
                  </a:cubicBezTo>
                  <a:cubicBezTo>
                    <a:pt x="166" y="370"/>
                    <a:pt x="139" y="415"/>
                    <a:pt x="126" y="468"/>
                  </a:cubicBezTo>
                  <a:cubicBezTo>
                    <a:pt x="134" y="574"/>
                    <a:pt x="153" y="696"/>
                    <a:pt x="240" y="768"/>
                  </a:cubicBezTo>
                  <a:cubicBezTo>
                    <a:pt x="289" y="808"/>
                    <a:pt x="282" y="801"/>
                    <a:pt x="336" y="828"/>
                  </a:cubicBezTo>
                  <a:cubicBezTo>
                    <a:pt x="355" y="838"/>
                    <a:pt x="396" y="852"/>
                    <a:pt x="396" y="852"/>
                  </a:cubicBezTo>
                  <a:cubicBezTo>
                    <a:pt x="420" y="850"/>
                    <a:pt x="468" y="846"/>
                    <a:pt x="468" y="846"/>
                  </a:cubicBezTo>
                </a:path>
              </a:pathLst>
            </a:custGeom>
            <a:noFill/>
            <a:ln w="28440">
              <a:solidFill>
                <a:srgbClr val="ffc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81360" y="4257720"/>
              <a:ext cx="714240" cy="276120"/>
            </a:xfrm>
            <a:custGeom>
              <a:avLst/>
              <a:gdLst/>
              <a:ahLst/>
              <a:rect l="l" t="t" r="r" b="b"/>
              <a:pathLst>
                <a:path w="450" h="174">
                  <a:moveTo>
                    <a:pt x="0" y="0"/>
                  </a:moveTo>
                  <a:cubicBezTo>
                    <a:pt x="32" y="11"/>
                    <a:pt x="13" y="2"/>
                    <a:pt x="54" y="30"/>
                  </a:cubicBezTo>
                  <a:cubicBezTo>
                    <a:pt x="60" y="34"/>
                    <a:pt x="72" y="42"/>
                    <a:pt x="72" y="42"/>
                  </a:cubicBezTo>
                  <a:cubicBezTo>
                    <a:pt x="126" y="124"/>
                    <a:pt x="148" y="157"/>
                    <a:pt x="252" y="174"/>
                  </a:cubicBezTo>
                  <a:cubicBezTo>
                    <a:pt x="298" y="172"/>
                    <a:pt x="344" y="171"/>
                    <a:pt x="390" y="168"/>
                  </a:cubicBezTo>
                  <a:cubicBezTo>
                    <a:pt x="405" y="167"/>
                    <a:pt x="450" y="162"/>
                    <a:pt x="450" y="144"/>
                  </a:cubicBezTo>
                </a:path>
              </a:pathLst>
            </a:custGeom>
            <a:noFill/>
            <a:ln w="28440">
              <a:solidFill>
                <a:srgbClr val="ffc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62280" y="4514760"/>
              <a:ext cx="723960" cy="924120"/>
            </a:xfrm>
            <a:custGeom>
              <a:avLst/>
              <a:gdLst/>
              <a:ahLst/>
              <a:rect l="l" t="t" r="r" b="b"/>
              <a:pathLst>
                <a:path w="456" h="582">
                  <a:moveTo>
                    <a:pt x="0" y="582"/>
                  </a:moveTo>
                  <a:cubicBezTo>
                    <a:pt x="39" y="575"/>
                    <a:pt x="42" y="578"/>
                    <a:pt x="66" y="552"/>
                  </a:cubicBezTo>
                  <a:cubicBezTo>
                    <a:pt x="77" y="539"/>
                    <a:pt x="102" y="516"/>
                    <a:pt x="102" y="516"/>
                  </a:cubicBezTo>
                  <a:cubicBezTo>
                    <a:pt x="124" y="450"/>
                    <a:pt x="87" y="548"/>
                    <a:pt x="126" y="486"/>
                  </a:cubicBezTo>
                  <a:cubicBezTo>
                    <a:pt x="140" y="463"/>
                    <a:pt x="146" y="422"/>
                    <a:pt x="150" y="396"/>
                  </a:cubicBezTo>
                  <a:cubicBezTo>
                    <a:pt x="156" y="290"/>
                    <a:pt x="158" y="175"/>
                    <a:pt x="246" y="102"/>
                  </a:cubicBezTo>
                  <a:cubicBezTo>
                    <a:pt x="265" y="86"/>
                    <a:pt x="272" y="65"/>
                    <a:pt x="294" y="54"/>
                  </a:cubicBezTo>
                  <a:cubicBezTo>
                    <a:pt x="330" y="36"/>
                    <a:pt x="363" y="27"/>
                    <a:pt x="402" y="18"/>
                  </a:cubicBezTo>
                  <a:cubicBezTo>
                    <a:pt x="451" y="7"/>
                    <a:pt x="439" y="17"/>
                    <a:pt x="456" y="0"/>
                  </a:cubicBezTo>
                </a:path>
              </a:pathLst>
            </a:custGeom>
            <a:noFill/>
            <a:ln w="28440">
              <a:solidFill>
                <a:srgbClr val="ffc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5435640" y="4292640"/>
              <a:ext cx="576000" cy="366840"/>
              <a:chOff x="5435640" y="4292640"/>
              <a:chExt cx="576000" cy="36684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5435640" y="4292640"/>
                <a:ext cx="465480" cy="366840"/>
                <a:chOff x="5435640" y="4292640"/>
                <a:chExt cx="465480" cy="366840"/>
              </a:xfrm>
            </p:grpSpPr>
            <p:grpSp>
              <p:nvGrpSpPr>
                <p:cNvPr id="473" name=""/>
                <p:cNvGrpSpPr/>
                <p:nvPr/>
              </p:nvGrpSpPr>
              <p:grpSpPr>
                <a:xfrm>
                  <a:off x="5435640" y="4326480"/>
                  <a:ext cx="348840" cy="142560"/>
                  <a:chOff x="5435640" y="4326480"/>
                  <a:chExt cx="348840" cy="14256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H="1">
                    <a:off x="5505840" y="4397760"/>
                    <a:ext cx="14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5435640" y="4363560"/>
                    <a:ext cx="69840" cy="68040"/>
                  </a:xfrm>
                  <a:prstGeom prst="rect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626080" y="4326480"/>
                    <a:ext cx="158400" cy="142560"/>
                  </a:xfrm>
                  <a:custGeom>
                    <a:avLst/>
                    <a:gdLst>
                      <a:gd name="textAreaLeft" fmla="*/ 0 w 158400"/>
                      <a:gd name="textAreaRight" fmla="*/ 158760 w 158400"/>
                      <a:gd name="textAreaTop" fmla="*/ 0 h 142560"/>
                      <a:gd name="textAreaBottom" fmla="*/ 142920 h 142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e4a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7" name=""/>
                <p:cNvSpPr/>
                <p:nvPr/>
              </p:nvSpPr>
              <p:spPr>
                <a:xfrm>
                  <a:off x="5716440" y="4292640"/>
                  <a:ext cx="18468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>
                <a:off x="5756040" y="4338000"/>
                <a:ext cx="255600" cy="13680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6010200" y="3000240"/>
              <a:ext cx="628560" cy="1400400"/>
            </a:xfrm>
            <a:custGeom>
              <a:avLst/>
              <a:gdLst/>
              <a:ahLst/>
              <a:rect l="l" t="t" r="r" b="b"/>
              <a:pathLst>
                <a:path w="396" h="882">
                  <a:moveTo>
                    <a:pt x="0" y="882"/>
                  </a:moveTo>
                  <a:cubicBezTo>
                    <a:pt x="86" y="825"/>
                    <a:pt x="67" y="703"/>
                    <a:pt x="72" y="612"/>
                  </a:cubicBezTo>
                  <a:cubicBezTo>
                    <a:pt x="68" y="519"/>
                    <a:pt x="63" y="428"/>
                    <a:pt x="48" y="336"/>
                  </a:cubicBezTo>
                  <a:cubicBezTo>
                    <a:pt x="50" y="296"/>
                    <a:pt x="51" y="256"/>
                    <a:pt x="54" y="216"/>
                  </a:cubicBezTo>
                  <a:cubicBezTo>
                    <a:pt x="58" y="169"/>
                    <a:pt x="120" y="120"/>
                    <a:pt x="156" y="96"/>
                  </a:cubicBezTo>
                  <a:cubicBezTo>
                    <a:pt x="181" y="58"/>
                    <a:pt x="277" y="31"/>
                    <a:pt x="324" y="18"/>
                  </a:cubicBezTo>
                  <a:cubicBezTo>
                    <a:pt x="359" y="8"/>
                    <a:pt x="324" y="15"/>
                    <a:pt x="366" y="6"/>
                  </a:cubicBezTo>
                  <a:cubicBezTo>
                    <a:pt x="376" y="4"/>
                    <a:pt x="396" y="0"/>
                    <a:pt x="396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10200" y="4210200"/>
              <a:ext cx="619200" cy="199800"/>
            </a:xfrm>
            <a:custGeom>
              <a:avLst/>
              <a:gdLst/>
              <a:ahLst/>
              <a:rect l="l" t="t" r="r" b="b"/>
              <a:pathLst>
                <a:path w="390" h="126">
                  <a:moveTo>
                    <a:pt x="0" y="126"/>
                  </a:moveTo>
                  <a:cubicBezTo>
                    <a:pt x="44" y="120"/>
                    <a:pt x="103" y="115"/>
                    <a:pt x="144" y="96"/>
                  </a:cubicBezTo>
                  <a:cubicBezTo>
                    <a:pt x="189" y="75"/>
                    <a:pt x="226" y="38"/>
                    <a:pt x="270" y="18"/>
                  </a:cubicBezTo>
                  <a:cubicBezTo>
                    <a:pt x="311" y="0"/>
                    <a:pt x="344" y="0"/>
                    <a:pt x="39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10200" y="4419720"/>
              <a:ext cx="644760" cy="977760"/>
            </a:xfrm>
            <a:custGeom>
              <a:avLst/>
              <a:gdLst/>
              <a:ahLst/>
              <a:rect l="l" t="t" r="r" b="b"/>
              <a:pathLst>
                <a:path w="406" h="616">
                  <a:moveTo>
                    <a:pt x="0" y="0"/>
                  </a:moveTo>
                  <a:cubicBezTo>
                    <a:pt x="31" y="47"/>
                    <a:pt x="48" y="62"/>
                    <a:pt x="60" y="120"/>
                  </a:cubicBezTo>
                  <a:cubicBezTo>
                    <a:pt x="62" y="212"/>
                    <a:pt x="62" y="304"/>
                    <a:pt x="66" y="396"/>
                  </a:cubicBezTo>
                  <a:cubicBezTo>
                    <a:pt x="67" y="424"/>
                    <a:pt x="78" y="439"/>
                    <a:pt x="90" y="462"/>
                  </a:cubicBezTo>
                  <a:cubicBezTo>
                    <a:pt x="151" y="583"/>
                    <a:pt x="232" y="588"/>
                    <a:pt x="354" y="612"/>
                  </a:cubicBezTo>
                  <a:cubicBezTo>
                    <a:pt x="399" y="606"/>
                    <a:pt x="406" y="616"/>
                    <a:pt x="390" y="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4CE-C617-4C8C-B30E-7B7A87E2156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utorial Objectiv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penCCM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sign, build, implement, compile, deploy and execute an application according to the OMG CORBA Component Model with the OpenCCM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ustrated with a concrete example : demo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 Client / Server-Producer / Consum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 with OpenCCM 0.4 and ORBacus 4.1 and Java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73A5-FC9D-46CA-85FE-09B482A28EC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genda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MG IDL3 : design the application by defining components and assembling component insta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enCCM compilation and generation chain for the demo3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penCCM execution chain for the demo3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ckage, assembly and deploy the CCM application with XML descriptors (edited using simple GU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733-B4AC-4A87-8E1C-57E6337CBF0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ff"/>
                </a:solidFill>
                <a:latin typeface="Tahoma"/>
              </a:rPr>
              <a:t>2.</a:t>
            </a:r>
            <a:r>
              <a:rPr b="0" lang="fr-FR" sz="2800" spc="-1" strike="noStrike">
                <a:solidFill>
                  <a:srgbClr val="333399"/>
                </a:solidFill>
                <a:latin typeface="Tahoma"/>
              </a:rPr>
              <a:t> OpenCCM compilation and generation chain for the demo3 exampl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oading the OpenCCM environ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rt the OpenCCM's OMG IDL3 Repository (named IR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hecking the demo3.idl3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ing the demo3.idl3 file into the OpenCCM's IR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nerating equivalent OMG IDL 2.4 mapping for demo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nerating the Java OpenCCM skeletons for demo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ing the Client/Server–Producer/Consumer 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iling generated Java CORBA 2 stubs, generated Java OpenCCM skeletons, all Java implementation sources and building archive demo3.j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BF2-F3DF-4C6D-9CA1-4A3E4274D92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oading the OpenCCM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suming OpenCCM is compiled and installed in C:\OpenCCM with ORBacus-4.1 under Windows NT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69696"/>
                </a:solidFill>
                <a:latin typeface="Courier New"/>
                <a:ea typeface="Times New Roman"/>
              </a:rPr>
              <a:t>C:\OpenCCM&gt;ORBacus-4.1\bin\envi_OpenCCM.b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o have access to all OpenCCM’s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8CA-6FF2-4F74-8FF9-187CC68AC5F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Start the OpenCCM's OMG IDL3 Repositor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69696"/>
                </a:solidFill>
                <a:latin typeface="Courier New"/>
                <a:ea typeface="Courier New"/>
              </a:rPr>
              <a:t>C:\OpenCCM\demo\demo3&gt;ir3_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tart the OpenCCM’s IR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eed the OpenCCM's IR3 with the IFR_3_0.idl 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eed the OpenCCM's IR3 with the Components.idl fi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is script automatically creates the $OpenCCM_CONFIG_DIR direc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892F-1839-4B57-80EF-375F464FCE2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Checking the demo3.idl3 fi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69696"/>
                </a:solidFill>
                <a:latin typeface="Courier New"/>
                <a:ea typeface="Courier New"/>
              </a:rPr>
              <a:t>C:\OpenCCM\demo\demo3&gt;idl3_check demo3.idl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69696"/>
                </a:solidFill>
                <a:latin typeface="Courier New"/>
                <a:ea typeface="Courier New"/>
              </a:rPr>
              <a:t>OpenCCM's OMG IDL 3.0 Compiler 0.5.0: Reading from file demo3.idl3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69696"/>
                </a:solidFill>
                <a:latin typeface="Courier New"/>
                <a:ea typeface="Courier New"/>
              </a:rPr>
              <a:t>OpenCCM's OMG IDL 3.0 Compiler 0.5.0: Preprocessing file demo3.idl3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69696"/>
                </a:solidFill>
                <a:latin typeface="Courier New"/>
                <a:ea typeface="Courier New"/>
              </a:rPr>
              <a:t>OpenCCM's OMG IDL 3.0 Compiler 0.5.0: File demo3.idl3 preprocess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69696"/>
                </a:solidFill>
                <a:latin typeface="Courier New"/>
                <a:ea typeface="Courier New"/>
              </a:rPr>
              <a:t>OpenCCM's OMG IDL 3.0 Compiler 0.5.0: Feeding the Interface Repository 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69696"/>
                </a:solidFill>
                <a:latin typeface="Courier New"/>
                <a:ea typeface="Courier New"/>
              </a:rPr>
              <a:t>OpenCCM's OMG IDL 3.0 Compiler 0.5.0: Compilation completed: 0 warning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is script checks i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specified OMG IDL 3.0 file “demo3.idl3” is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294-43F8-4C48-9BF6-17E0DFE189B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eeding the demo3.idl3 file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to the OpenCCM's IR3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69696"/>
                </a:solidFill>
                <a:latin typeface="Courier New"/>
                <a:ea typeface="Courier New"/>
              </a:rPr>
              <a:t>C:\OpenCCM\demo\demo3&gt;ir3_feed demo3.idl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69696"/>
                </a:solidFill>
                <a:latin typeface="Courier New"/>
                <a:ea typeface="Courier New"/>
              </a:rPr>
              <a:t>OpenCCM's OMG IDL 3.0 Compiler 0.5.0: Reading from file demo3.idl3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69696"/>
                </a:solidFill>
                <a:latin typeface="Courier New"/>
                <a:ea typeface="Courier New"/>
              </a:rPr>
              <a:t>OpenCCM's OMG IDL 3.0 Compiler 0.5.0: Preprocessing file demo3.idl3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69696"/>
                </a:solidFill>
                <a:latin typeface="Courier New"/>
                <a:ea typeface="Courier New"/>
              </a:rPr>
              <a:t>OpenCCM's OMG IDL 3.0 Compiler 0.5.0: File demo3.idl3 preprocess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69696"/>
                </a:solidFill>
                <a:latin typeface="Courier New"/>
                <a:ea typeface="Courier New"/>
              </a:rPr>
              <a:t>OpenCCM's OMG IDL 3.0 Compiler 0.5.0: Feeding the Interface Repository 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69696"/>
                </a:solidFill>
                <a:latin typeface="Courier New"/>
                <a:ea typeface="Courier New"/>
              </a:rPr>
              <a:t>OpenCCM's OMG IDL 3.0 Compiler 0.5.0: Compilation completed: 0 warning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ir3_feed script allows to compile demo3.idl3 file and to feed the OpenCCM's IR3 (necessary to use any of the OpenCCM tool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060B-F436-4A2D-A1EE-FB9511F0974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Tahoma"/>
              </a:rPr>
              <a:t>Generating equivalent OMG IDL 2.4 </a:t>
            </a:r>
            <a:br>
              <a:rPr sz="2800"/>
            </a:br>
            <a:r>
              <a:rPr b="0" lang="fr-FR" sz="2800" spc="-1" strike="noStrike">
                <a:solidFill>
                  <a:srgbClr val="333399"/>
                </a:solidFill>
                <a:latin typeface="Tahoma"/>
              </a:rPr>
              <a:t>mapping for the demo3 IR3 objec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ir3_idl2 script generates the OMG IDL 2.4 CCM's mapping associated to an OpenCCM's IR3 object (demo3.idl)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69696"/>
                </a:solidFill>
                <a:latin typeface="Courier New"/>
                <a:ea typeface="Courier New"/>
              </a:rPr>
              <a:t>	</a:t>
            </a:r>
            <a:r>
              <a:rPr b="1" lang="en-GB" sz="2400" spc="-1" strike="noStrike">
                <a:solidFill>
                  <a:srgbClr val="969696"/>
                </a:solidFill>
                <a:latin typeface="Courier New"/>
                <a:ea typeface="Courier New"/>
              </a:rPr>
              <a:t>C:\OpenCCM\demo\demo3&gt;ir3_idl2 demo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d –o filename option to produce an output file and  –i option to add the #include statement, ie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69696"/>
                </a:solidFill>
                <a:latin typeface="Courier New"/>
                <a:ea typeface="Courier New"/>
              </a:rPr>
              <a:t>	</a:t>
            </a:r>
            <a:r>
              <a:rPr b="1" lang="en-GB" sz="2400" spc="-1" strike="noStrike">
                <a:solidFill>
                  <a:srgbClr val="969696"/>
                </a:solidFill>
                <a:latin typeface="Courier New"/>
                <a:ea typeface="Courier New"/>
              </a:rPr>
              <a:t>C:\OpenCCM\demo\demo3&gt;ir3_idl2 -i Components.idl -o demo3.idl demo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is case,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“-i Components.idl”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roduces th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“#include Components.idl”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in the demo3.idl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720-1A93-4C9E-84EB-0730881B28E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Tahoma"/>
              </a:rPr>
              <a:t>Client-side</a:t>
            </a:r>
            <a:r>
              <a:rPr b="0" lang="fr-FR" sz="32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i="1" lang="fr-FR" sz="3200" spc="-1" strike="noStrike">
                <a:solidFill>
                  <a:srgbClr val="333399"/>
                </a:solidFill>
                <a:latin typeface="Tahoma"/>
              </a:rPr>
              <a:t>Server-side</a:t>
            </a:r>
            <a:r>
              <a:rPr b="0" lang="fr-FR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0" lang="fr-FR" sz="3200" spc="-1" strike="noStrike">
                <a:solidFill>
                  <a:srgbClr val="333399"/>
                </a:solidFill>
                <a:latin typeface="Tahoma"/>
              </a:rPr>
              <a:t>OMG IDL Mapping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79280" y="5157720"/>
            <a:ext cx="1810440" cy="921240"/>
            <a:chOff x="179280" y="5157720"/>
            <a:chExt cx="1810440" cy="921240"/>
          </a:xfrm>
        </p:grpSpPr>
        <p:sp>
          <p:nvSpPr>
            <p:cNvPr id="499" name=""/>
            <p:cNvSpPr/>
            <p:nvPr/>
          </p:nvSpPr>
          <p:spPr>
            <a:xfrm>
              <a:off x="179280" y="5236920"/>
              <a:ext cx="230400" cy="2185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9280" y="5528880"/>
              <a:ext cx="230400" cy="21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9280" y="5819400"/>
              <a:ext cx="230400" cy="2188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8640" y="5157720"/>
              <a:ext cx="135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ser writ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2960" y="5449680"/>
              <a:ext cx="104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pi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8200" y="5741640"/>
              <a:ext cx="163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enerated fi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144000" y="1413000"/>
            <a:ext cx="8999640" cy="4910040"/>
            <a:chOff x="144000" y="1413000"/>
            <a:chExt cx="8999640" cy="4910040"/>
          </a:xfrm>
        </p:grpSpPr>
        <p:grpSp>
          <p:nvGrpSpPr>
            <p:cNvPr id="506" name=""/>
            <p:cNvGrpSpPr/>
            <p:nvPr/>
          </p:nvGrpSpPr>
          <p:grpSpPr>
            <a:xfrm>
              <a:off x="3961800" y="1413000"/>
              <a:ext cx="1361880" cy="1113480"/>
              <a:chOff x="3961800" y="1413000"/>
              <a:chExt cx="1361880" cy="1113480"/>
            </a:xfrm>
          </p:grpSpPr>
          <p:sp>
            <p:nvSpPr>
              <p:cNvPr id="507" name=""/>
              <p:cNvSpPr/>
              <p:nvPr/>
            </p:nvSpPr>
            <p:spPr>
              <a:xfrm>
                <a:off x="3961800" y="1945800"/>
                <a:ext cx="1361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ahoma"/>
                  </a:rPr>
                  <a:t>Compon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ahoma"/>
                  </a:rPr>
                  <a:t>Design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4512960" y="1413000"/>
                <a:ext cx="256320" cy="579240"/>
                <a:chOff x="4512960" y="1413000"/>
                <a:chExt cx="256320" cy="57924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4589280" y="1413000"/>
                  <a:ext cx="103320" cy="114120"/>
                </a:xfrm>
                <a:custGeom>
                  <a:avLst/>
                  <a:gdLst/>
                  <a:ahLst/>
                  <a:rect l="l" t="t" r="r" b="b"/>
                  <a:pathLst>
                    <a:path w="80" h="78">
                      <a:moveTo>
                        <a:pt x="80" y="39"/>
                      </a:moveTo>
                      <a:lnTo>
                        <a:pt x="78" y="27"/>
                      </a:lnTo>
                      <a:lnTo>
                        <a:pt x="74" y="17"/>
                      </a:lnTo>
                      <a:lnTo>
                        <a:pt x="66" y="9"/>
                      </a:lnTo>
                      <a:lnTo>
                        <a:pt x="57" y="2"/>
                      </a:lnTo>
                      <a:lnTo>
                        <a:pt x="46" y="0"/>
                      </a:lnTo>
                      <a:lnTo>
                        <a:pt x="34" y="0"/>
                      </a:lnTo>
                      <a:lnTo>
                        <a:pt x="24" y="2"/>
                      </a:lnTo>
                      <a:lnTo>
                        <a:pt x="14" y="9"/>
                      </a:lnTo>
                      <a:lnTo>
                        <a:pt x="6" y="17"/>
                      </a:lnTo>
                      <a:lnTo>
                        <a:pt x="2" y="27"/>
                      </a:lnTo>
                      <a:lnTo>
                        <a:pt x="0" y="39"/>
                      </a:lnTo>
                      <a:lnTo>
                        <a:pt x="2" y="50"/>
                      </a:lnTo>
                      <a:lnTo>
                        <a:pt x="6" y="60"/>
                      </a:lnTo>
                      <a:lnTo>
                        <a:pt x="14" y="69"/>
                      </a:lnTo>
                      <a:lnTo>
                        <a:pt x="24" y="75"/>
                      </a:lnTo>
                      <a:lnTo>
                        <a:pt x="34" y="78"/>
                      </a:lnTo>
                      <a:lnTo>
                        <a:pt x="46" y="78"/>
                      </a:lnTo>
                      <a:lnTo>
                        <a:pt x="57" y="75"/>
                      </a:lnTo>
                      <a:lnTo>
                        <a:pt x="66" y="69"/>
                      </a:lnTo>
                      <a:lnTo>
                        <a:pt x="74" y="60"/>
                      </a:lnTo>
                      <a:lnTo>
                        <a:pt x="78" y="50"/>
                      </a:lnTo>
                      <a:lnTo>
                        <a:pt x="80" y="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512960" y="1527120"/>
                  <a:ext cx="256320" cy="465120"/>
                </a:xfrm>
                <a:custGeom>
                  <a:avLst/>
                  <a:gdLst/>
                  <a:ahLst/>
                  <a:rect l="l" t="t" r="r" b="b"/>
                  <a:pathLst>
                    <a:path w="198" h="318">
                      <a:moveTo>
                        <a:pt x="101" y="164"/>
                      </a:moveTo>
                      <a:lnTo>
                        <a:pt x="147" y="318"/>
                      </a:lnTo>
                      <a:lnTo>
                        <a:pt x="184" y="318"/>
                      </a:lnTo>
                      <a:lnTo>
                        <a:pt x="147" y="139"/>
                      </a:lnTo>
                      <a:lnTo>
                        <a:pt x="147" y="35"/>
                      </a:lnTo>
                      <a:lnTo>
                        <a:pt x="175" y="120"/>
                      </a:lnTo>
                      <a:lnTo>
                        <a:pt x="198" y="104"/>
                      </a:lnTo>
                      <a:lnTo>
                        <a:pt x="166" y="0"/>
                      </a:lnTo>
                      <a:lnTo>
                        <a:pt x="101" y="5"/>
                      </a:lnTo>
                      <a:lnTo>
                        <a:pt x="37" y="0"/>
                      </a:lnTo>
                      <a:lnTo>
                        <a:pt x="0" y="109"/>
                      </a:lnTo>
                      <a:lnTo>
                        <a:pt x="27" y="120"/>
                      </a:lnTo>
                      <a:lnTo>
                        <a:pt x="55" y="35"/>
                      </a:lnTo>
                      <a:lnTo>
                        <a:pt x="55" y="139"/>
                      </a:lnTo>
                      <a:lnTo>
                        <a:pt x="18" y="318"/>
                      </a:lnTo>
                      <a:lnTo>
                        <a:pt x="55" y="318"/>
                      </a:lnTo>
                      <a:lnTo>
                        <a:pt x="101" y="1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1" name=""/>
            <p:cNvGrpSpPr/>
            <p:nvPr/>
          </p:nvGrpSpPr>
          <p:grpSpPr>
            <a:xfrm>
              <a:off x="4029120" y="2535480"/>
              <a:ext cx="1445760" cy="1033200"/>
              <a:chOff x="4029120" y="2535480"/>
              <a:chExt cx="1445760" cy="1033200"/>
            </a:xfrm>
          </p:grpSpPr>
          <p:sp>
            <p:nvSpPr>
              <p:cNvPr id="512" name=""/>
              <p:cNvSpPr/>
              <p:nvPr/>
            </p:nvSpPr>
            <p:spPr>
              <a:xfrm>
                <a:off x="4029120" y="2535480"/>
                <a:ext cx="1445760" cy="1033200"/>
              </a:xfrm>
              <a:custGeom>
                <a:avLst/>
                <a:gdLst/>
                <a:ahLst/>
                <a:rect l="l" t="t" r="r" b="b"/>
                <a:pathLst>
                  <a:path w="324" h="433">
                    <a:moveTo>
                      <a:pt x="217" y="0"/>
                    </a:moveTo>
                    <a:lnTo>
                      <a:pt x="324" y="109"/>
                    </a:lnTo>
                    <a:lnTo>
                      <a:pt x="217" y="109"/>
                    </a:lnTo>
                    <a:lnTo>
                      <a:pt x="217" y="0"/>
                    </a:lnTo>
                    <a:close/>
                    <a:moveTo>
                      <a:pt x="0" y="0"/>
                    </a:moveTo>
                    <a:lnTo>
                      <a:pt x="0" y="433"/>
                    </a:lnTo>
                    <a:lnTo>
                      <a:pt x="324" y="433"/>
                    </a:lnTo>
                    <a:lnTo>
                      <a:pt x="324" y="109"/>
                    </a:lnTo>
                    <a:lnTo>
                      <a:pt x="217" y="109"/>
                    </a:lnTo>
                    <a:lnTo>
                      <a:pt x="2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100760" y="2781720"/>
                <a:ext cx="1300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ahoma"/>
                  </a:rPr>
                  <a:t>OMG ID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ahoma"/>
                  </a:rPr>
                  <a:t>3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6469200" y="4119840"/>
              <a:ext cx="1807560" cy="966600"/>
              <a:chOff x="6469200" y="4119840"/>
              <a:chExt cx="1807560" cy="966600"/>
            </a:xfrm>
          </p:grpSpPr>
          <p:sp>
            <p:nvSpPr>
              <p:cNvPr id="515" name=""/>
              <p:cNvSpPr/>
              <p:nvPr/>
            </p:nvSpPr>
            <p:spPr>
              <a:xfrm>
                <a:off x="6469200" y="4119840"/>
                <a:ext cx="1807560" cy="966600"/>
              </a:xfrm>
              <a:custGeom>
                <a:avLst/>
                <a:gdLst/>
                <a:ahLst/>
                <a:rect l="l" t="t" r="r" b="b"/>
                <a:pathLst>
                  <a:path w="324" h="433">
                    <a:moveTo>
                      <a:pt x="217" y="0"/>
                    </a:moveTo>
                    <a:lnTo>
                      <a:pt x="324" y="109"/>
                    </a:lnTo>
                    <a:lnTo>
                      <a:pt x="217" y="109"/>
                    </a:lnTo>
                    <a:lnTo>
                      <a:pt x="217" y="0"/>
                    </a:lnTo>
                    <a:close/>
                    <a:moveTo>
                      <a:pt x="0" y="0"/>
                    </a:moveTo>
                    <a:lnTo>
                      <a:pt x="0" y="433"/>
                    </a:lnTo>
                    <a:lnTo>
                      <a:pt x="324" y="433"/>
                    </a:lnTo>
                    <a:lnTo>
                      <a:pt x="324" y="109"/>
                    </a:lnTo>
                    <a:lnTo>
                      <a:pt x="217" y="109"/>
                    </a:lnTo>
                    <a:lnTo>
                      <a:pt x="2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558480" y="4242600"/>
                <a:ext cx="16286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ahoma"/>
                  </a:rPr>
                  <a:t>Lo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ahoma"/>
                  </a:rPr>
                  <a:t>server-si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ahoma"/>
                  </a:rPr>
                  <a:t>OMG IDL 2.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2925720" y="5634360"/>
              <a:ext cx="1445760" cy="688680"/>
              <a:chOff x="2925720" y="5634360"/>
              <a:chExt cx="1445760" cy="688680"/>
            </a:xfrm>
          </p:grpSpPr>
          <p:sp>
            <p:nvSpPr>
              <p:cNvPr id="518" name=""/>
              <p:cNvSpPr/>
              <p:nvPr/>
            </p:nvSpPr>
            <p:spPr>
              <a:xfrm>
                <a:off x="2925720" y="5634360"/>
                <a:ext cx="1445760" cy="688680"/>
              </a:xfrm>
              <a:custGeom>
                <a:avLst/>
                <a:gdLst/>
                <a:ahLst/>
                <a:rect l="l" t="t" r="r" b="b"/>
                <a:pathLst>
                  <a:path w="324" h="433">
                    <a:moveTo>
                      <a:pt x="217" y="0"/>
                    </a:moveTo>
                    <a:lnTo>
                      <a:pt x="324" y="109"/>
                    </a:lnTo>
                    <a:lnTo>
                      <a:pt x="217" y="109"/>
                    </a:lnTo>
                    <a:lnTo>
                      <a:pt x="217" y="0"/>
                    </a:lnTo>
                    <a:close/>
                    <a:moveTo>
                      <a:pt x="0" y="0"/>
                    </a:moveTo>
                    <a:lnTo>
                      <a:pt x="0" y="433"/>
                    </a:lnTo>
                    <a:lnTo>
                      <a:pt x="324" y="433"/>
                    </a:lnTo>
                    <a:lnTo>
                      <a:pt x="324" y="109"/>
                    </a:lnTo>
                    <a:lnTo>
                      <a:pt x="217" y="109"/>
                    </a:lnTo>
                    <a:lnTo>
                      <a:pt x="2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997000" y="5723640"/>
                <a:ext cx="1302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ahoma"/>
                  </a:rPr>
                  <a:t>Cli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ahoma"/>
                  </a:rPr>
                  <a:t>Stu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7481880" y="2535480"/>
              <a:ext cx="1661760" cy="1033200"/>
              <a:chOff x="7481880" y="2535480"/>
              <a:chExt cx="1661760" cy="1033200"/>
            </a:xfrm>
          </p:grpSpPr>
          <p:sp>
            <p:nvSpPr>
              <p:cNvPr id="521" name=""/>
              <p:cNvSpPr/>
              <p:nvPr/>
            </p:nvSpPr>
            <p:spPr>
              <a:xfrm>
                <a:off x="7590240" y="2535480"/>
                <a:ext cx="1445040" cy="1033200"/>
              </a:xfrm>
              <a:custGeom>
                <a:avLst/>
                <a:gdLst/>
                <a:ahLst/>
                <a:rect l="l" t="t" r="r" b="b"/>
                <a:pathLst>
                  <a:path w="324" h="433">
                    <a:moveTo>
                      <a:pt x="217" y="0"/>
                    </a:moveTo>
                    <a:lnTo>
                      <a:pt x="324" y="109"/>
                    </a:lnTo>
                    <a:lnTo>
                      <a:pt x="217" y="109"/>
                    </a:lnTo>
                    <a:lnTo>
                      <a:pt x="217" y="0"/>
                    </a:lnTo>
                    <a:close/>
                    <a:moveTo>
                      <a:pt x="0" y="0"/>
                    </a:moveTo>
                    <a:lnTo>
                      <a:pt x="0" y="433"/>
                    </a:lnTo>
                    <a:lnTo>
                      <a:pt x="324" y="433"/>
                    </a:lnTo>
                    <a:lnTo>
                      <a:pt x="324" y="109"/>
                    </a:lnTo>
                    <a:lnTo>
                      <a:pt x="217" y="109"/>
                    </a:lnTo>
                    <a:lnTo>
                      <a:pt x="2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481880" y="2782080"/>
                <a:ext cx="1661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ahoma"/>
                  </a:rPr>
                  <a:t>Compon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Execu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5168880" y="5634360"/>
              <a:ext cx="1661760" cy="688680"/>
              <a:chOff x="5168880" y="5634360"/>
              <a:chExt cx="1661760" cy="688680"/>
            </a:xfrm>
          </p:grpSpPr>
          <p:sp>
            <p:nvSpPr>
              <p:cNvPr id="524" name=""/>
              <p:cNvSpPr/>
              <p:nvPr/>
            </p:nvSpPr>
            <p:spPr>
              <a:xfrm>
                <a:off x="5277240" y="5634360"/>
                <a:ext cx="1445040" cy="688680"/>
              </a:xfrm>
              <a:custGeom>
                <a:avLst/>
                <a:gdLst/>
                <a:ahLst/>
                <a:rect l="l" t="t" r="r" b="b"/>
                <a:pathLst>
                  <a:path w="324" h="433">
                    <a:moveTo>
                      <a:pt x="217" y="0"/>
                    </a:moveTo>
                    <a:lnTo>
                      <a:pt x="324" y="109"/>
                    </a:lnTo>
                    <a:lnTo>
                      <a:pt x="217" y="109"/>
                    </a:lnTo>
                    <a:lnTo>
                      <a:pt x="217" y="0"/>
                    </a:lnTo>
                    <a:close/>
                    <a:moveTo>
                      <a:pt x="0" y="0"/>
                    </a:moveTo>
                    <a:lnTo>
                      <a:pt x="0" y="433"/>
                    </a:lnTo>
                    <a:lnTo>
                      <a:pt x="324" y="433"/>
                    </a:lnTo>
                    <a:lnTo>
                      <a:pt x="324" y="109"/>
                    </a:lnTo>
                    <a:lnTo>
                      <a:pt x="217" y="109"/>
                    </a:lnTo>
                    <a:lnTo>
                      <a:pt x="2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168880" y="5723640"/>
                <a:ext cx="1661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ahoma"/>
                  </a:rPr>
                  <a:t>Compon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ahoma"/>
                  </a:rPr>
                  <a:t>Skelet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4010040" y="4122720"/>
              <a:ext cx="1447920" cy="827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OMG IDL 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ompi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1117440" y="4098960"/>
              <a:ext cx="1881000" cy="965160"/>
              <a:chOff x="1117440" y="4098960"/>
              <a:chExt cx="1881000" cy="965160"/>
            </a:xfrm>
          </p:grpSpPr>
          <p:sp>
            <p:nvSpPr>
              <p:cNvPr id="528" name=""/>
              <p:cNvSpPr/>
              <p:nvPr/>
            </p:nvSpPr>
            <p:spPr>
              <a:xfrm>
                <a:off x="1117440" y="4098960"/>
                <a:ext cx="1881000" cy="965160"/>
              </a:xfrm>
              <a:custGeom>
                <a:avLst/>
                <a:gdLst/>
                <a:ahLst/>
                <a:rect l="l" t="t" r="r" b="b"/>
                <a:pathLst>
                  <a:path w="324" h="433">
                    <a:moveTo>
                      <a:pt x="217" y="0"/>
                    </a:moveTo>
                    <a:lnTo>
                      <a:pt x="324" y="109"/>
                    </a:lnTo>
                    <a:lnTo>
                      <a:pt x="217" y="109"/>
                    </a:lnTo>
                    <a:lnTo>
                      <a:pt x="217" y="0"/>
                    </a:lnTo>
                    <a:close/>
                    <a:moveTo>
                      <a:pt x="0" y="0"/>
                    </a:moveTo>
                    <a:lnTo>
                      <a:pt x="0" y="433"/>
                    </a:lnTo>
                    <a:lnTo>
                      <a:pt x="324" y="433"/>
                    </a:lnTo>
                    <a:lnTo>
                      <a:pt x="324" y="109"/>
                    </a:lnTo>
                    <a:lnTo>
                      <a:pt x="217" y="109"/>
                    </a:lnTo>
                    <a:lnTo>
                      <a:pt x="2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210320" y="4220280"/>
                <a:ext cx="16945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ahoma"/>
                  </a:rPr>
                  <a:t>Client-si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ahoma"/>
                  </a:rPr>
                  <a:t>OMG IDL 2.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144000" y="1413000"/>
              <a:ext cx="1361880" cy="1113480"/>
              <a:chOff x="144000" y="1413000"/>
              <a:chExt cx="1361880" cy="1113480"/>
            </a:xfrm>
          </p:grpSpPr>
          <p:sp>
            <p:nvSpPr>
              <p:cNvPr id="531" name=""/>
              <p:cNvSpPr/>
              <p:nvPr/>
            </p:nvSpPr>
            <p:spPr>
              <a:xfrm>
                <a:off x="144000" y="1945800"/>
                <a:ext cx="1361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ahoma"/>
                  </a:rPr>
                  <a:t>Compon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ahoma"/>
                  </a:rPr>
                  <a:t>Cli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695160" y="1413000"/>
                <a:ext cx="256320" cy="579240"/>
                <a:chOff x="695160" y="1413000"/>
                <a:chExt cx="256320" cy="57924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71480" y="1413000"/>
                  <a:ext cx="103320" cy="114120"/>
                </a:xfrm>
                <a:custGeom>
                  <a:avLst/>
                  <a:gdLst/>
                  <a:ahLst/>
                  <a:rect l="l" t="t" r="r" b="b"/>
                  <a:pathLst>
                    <a:path w="80" h="78">
                      <a:moveTo>
                        <a:pt x="80" y="39"/>
                      </a:moveTo>
                      <a:lnTo>
                        <a:pt x="78" y="27"/>
                      </a:lnTo>
                      <a:lnTo>
                        <a:pt x="74" y="17"/>
                      </a:lnTo>
                      <a:lnTo>
                        <a:pt x="66" y="9"/>
                      </a:lnTo>
                      <a:lnTo>
                        <a:pt x="57" y="2"/>
                      </a:lnTo>
                      <a:lnTo>
                        <a:pt x="46" y="0"/>
                      </a:lnTo>
                      <a:lnTo>
                        <a:pt x="34" y="0"/>
                      </a:lnTo>
                      <a:lnTo>
                        <a:pt x="24" y="2"/>
                      </a:lnTo>
                      <a:lnTo>
                        <a:pt x="14" y="9"/>
                      </a:lnTo>
                      <a:lnTo>
                        <a:pt x="6" y="17"/>
                      </a:lnTo>
                      <a:lnTo>
                        <a:pt x="2" y="27"/>
                      </a:lnTo>
                      <a:lnTo>
                        <a:pt x="0" y="39"/>
                      </a:lnTo>
                      <a:lnTo>
                        <a:pt x="2" y="50"/>
                      </a:lnTo>
                      <a:lnTo>
                        <a:pt x="6" y="60"/>
                      </a:lnTo>
                      <a:lnTo>
                        <a:pt x="14" y="69"/>
                      </a:lnTo>
                      <a:lnTo>
                        <a:pt x="24" y="75"/>
                      </a:lnTo>
                      <a:lnTo>
                        <a:pt x="34" y="78"/>
                      </a:lnTo>
                      <a:lnTo>
                        <a:pt x="46" y="78"/>
                      </a:lnTo>
                      <a:lnTo>
                        <a:pt x="57" y="75"/>
                      </a:lnTo>
                      <a:lnTo>
                        <a:pt x="66" y="69"/>
                      </a:lnTo>
                      <a:lnTo>
                        <a:pt x="74" y="60"/>
                      </a:lnTo>
                      <a:lnTo>
                        <a:pt x="78" y="50"/>
                      </a:lnTo>
                      <a:lnTo>
                        <a:pt x="80" y="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95160" y="1527120"/>
                  <a:ext cx="256320" cy="465120"/>
                </a:xfrm>
                <a:custGeom>
                  <a:avLst/>
                  <a:gdLst/>
                  <a:ahLst/>
                  <a:rect l="l" t="t" r="r" b="b"/>
                  <a:pathLst>
                    <a:path w="198" h="318">
                      <a:moveTo>
                        <a:pt x="101" y="164"/>
                      </a:moveTo>
                      <a:lnTo>
                        <a:pt x="147" y="318"/>
                      </a:lnTo>
                      <a:lnTo>
                        <a:pt x="184" y="318"/>
                      </a:lnTo>
                      <a:lnTo>
                        <a:pt x="147" y="139"/>
                      </a:lnTo>
                      <a:lnTo>
                        <a:pt x="147" y="35"/>
                      </a:lnTo>
                      <a:lnTo>
                        <a:pt x="175" y="120"/>
                      </a:lnTo>
                      <a:lnTo>
                        <a:pt x="198" y="104"/>
                      </a:lnTo>
                      <a:lnTo>
                        <a:pt x="166" y="0"/>
                      </a:lnTo>
                      <a:lnTo>
                        <a:pt x="101" y="5"/>
                      </a:lnTo>
                      <a:lnTo>
                        <a:pt x="37" y="0"/>
                      </a:lnTo>
                      <a:lnTo>
                        <a:pt x="0" y="109"/>
                      </a:lnTo>
                      <a:lnTo>
                        <a:pt x="27" y="120"/>
                      </a:lnTo>
                      <a:lnTo>
                        <a:pt x="55" y="35"/>
                      </a:lnTo>
                      <a:lnTo>
                        <a:pt x="55" y="139"/>
                      </a:lnTo>
                      <a:lnTo>
                        <a:pt x="18" y="318"/>
                      </a:lnTo>
                      <a:lnTo>
                        <a:pt x="55" y="318"/>
                      </a:lnTo>
                      <a:lnTo>
                        <a:pt x="101" y="1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7484400" y="1413000"/>
              <a:ext cx="1523520" cy="1113480"/>
              <a:chOff x="7484400" y="1413000"/>
              <a:chExt cx="1523520" cy="1113480"/>
            </a:xfrm>
          </p:grpSpPr>
          <p:sp>
            <p:nvSpPr>
              <p:cNvPr id="536" name=""/>
              <p:cNvSpPr/>
              <p:nvPr/>
            </p:nvSpPr>
            <p:spPr>
              <a:xfrm>
                <a:off x="7484400" y="1945800"/>
                <a:ext cx="1523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ahoma"/>
                  </a:rPr>
                  <a:t>Compon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Implemen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8114040" y="1413000"/>
                <a:ext cx="256320" cy="579240"/>
                <a:chOff x="8114040" y="1413000"/>
                <a:chExt cx="256320" cy="5792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8190360" y="1413000"/>
                  <a:ext cx="103320" cy="114120"/>
                </a:xfrm>
                <a:custGeom>
                  <a:avLst/>
                  <a:gdLst/>
                  <a:ahLst/>
                  <a:rect l="l" t="t" r="r" b="b"/>
                  <a:pathLst>
                    <a:path w="80" h="78">
                      <a:moveTo>
                        <a:pt x="80" y="39"/>
                      </a:moveTo>
                      <a:lnTo>
                        <a:pt x="78" y="27"/>
                      </a:lnTo>
                      <a:lnTo>
                        <a:pt x="74" y="17"/>
                      </a:lnTo>
                      <a:lnTo>
                        <a:pt x="66" y="9"/>
                      </a:lnTo>
                      <a:lnTo>
                        <a:pt x="57" y="2"/>
                      </a:lnTo>
                      <a:lnTo>
                        <a:pt x="46" y="0"/>
                      </a:lnTo>
                      <a:lnTo>
                        <a:pt x="34" y="0"/>
                      </a:lnTo>
                      <a:lnTo>
                        <a:pt x="24" y="2"/>
                      </a:lnTo>
                      <a:lnTo>
                        <a:pt x="14" y="9"/>
                      </a:lnTo>
                      <a:lnTo>
                        <a:pt x="6" y="17"/>
                      </a:lnTo>
                      <a:lnTo>
                        <a:pt x="2" y="27"/>
                      </a:lnTo>
                      <a:lnTo>
                        <a:pt x="0" y="39"/>
                      </a:lnTo>
                      <a:lnTo>
                        <a:pt x="2" y="50"/>
                      </a:lnTo>
                      <a:lnTo>
                        <a:pt x="6" y="60"/>
                      </a:lnTo>
                      <a:lnTo>
                        <a:pt x="14" y="69"/>
                      </a:lnTo>
                      <a:lnTo>
                        <a:pt x="24" y="75"/>
                      </a:lnTo>
                      <a:lnTo>
                        <a:pt x="34" y="78"/>
                      </a:lnTo>
                      <a:lnTo>
                        <a:pt x="46" y="78"/>
                      </a:lnTo>
                      <a:lnTo>
                        <a:pt x="57" y="75"/>
                      </a:lnTo>
                      <a:lnTo>
                        <a:pt x="66" y="69"/>
                      </a:lnTo>
                      <a:lnTo>
                        <a:pt x="74" y="60"/>
                      </a:lnTo>
                      <a:lnTo>
                        <a:pt x="78" y="50"/>
                      </a:lnTo>
                      <a:lnTo>
                        <a:pt x="80" y="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114040" y="1527120"/>
                  <a:ext cx="256320" cy="465120"/>
                </a:xfrm>
                <a:custGeom>
                  <a:avLst/>
                  <a:gdLst/>
                  <a:ahLst/>
                  <a:rect l="l" t="t" r="r" b="b"/>
                  <a:pathLst>
                    <a:path w="198" h="318">
                      <a:moveTo>
                        <a:pt x="101" y="164"/>
                      </a:moveTo>
                      <a:lnTo>
                        <a:pt x="147" y="318"/>
                      </a:lnTo>
                      <a:lnTo>
                        <a:pt x="184" y="318"/>
                      </a:lnTo>
                      <a:lnTo>
                        <a:pt x="147" y="139"/>
                      </a:lnTo>
                      <a:lnTo>
                        <a:pt x="147" y="35"/>
                      </a:lnTo>
                      <a:lnTo>
                        <a:pt x="175" y="120"/>
                      </a:lnTo>
                      <a:lnTo>
                        <a:pt x="198" y="104"/>
                      </a:lnTo>
                      <a:lnTo>
                        <a:pt x="166" y="0"/>
                      </a:lnTo>
                      <a:lnTo>
                        <a:pt x="101" y="5"/>
                      </a:lnTo>
                      <a:lnTo>
                        <a:pt x="37" y="0"/>
                      </a:lnTo>
                      <a:lnTo>
                        <a:pt x="0" y="109"/>
                      </a:lnTo>
                      <a:lnTo>
                        <a:pt x="27" y="120"/>
                      </a:lnTo>
                      <a:lnTo>
                        <a:pt x="55" y="35"/>
                      </a:lnTo>
                      <a:lnTo>
                        <a:pt x="55" y="139"/>
                      </a:lnTo>
                      <a:lnTo>
                        <a:pt x="18" y="318"/>
                      </a:lnTo>
                      <a:lnTo>
                        <a:pt x="55" y="318"/>
                      </a:lnTo>
                      <a:lnTo>
                        <a:pt x="101" y="1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0" name=""/>
            <p:cNvGrpSpPr/>
            <p:nvPr/>
          </p:nvGrpSpPr>
          <p:grpSpPr>
            <a:xfrm>
              <a:off x="179280" y="2535480"/>
              <a:ext cx="1661760" cy="1033200"/>
              <a:chOff x="179280" y="2535480"/>
              <a:chExt cx="1661760" cy="1033200"/>
            </a:xfrm>
          </p:grpSpPr>
          <p:sp>
            <p:nvSpPr>
              <p:cNvPr id="541" name=""/>
              <p:cNvSpPr/>
              <p:nvPr/>
            </p:nvSpPr>
            <p:spPr>
              <a:xfrm>
                <a:off x="287640" y="2535480"/>
                <a:ext cx="1445040" cy="1033200"/>
              </a:xfrm>
              <a:custGeom>
                <a:avLst/>
                <a:gdLst/>
                <a:ahLst/>
                <a:rect l="l" t="t" r="r" b="b"/>
                <a:pathLst>
                  <a:path w="324" h="433">
                    <a:moveTo>
                      <a:pt x="217" y="0"/>
                    </a:moveTo>
                    <a:lnTo>
                      <a:pt x="324" y="109"/>
                    </a:lnTo>
                    <a:lnTo>
                      <a:pt x="217" y="109"/>
                    </a:lnTo>
                    <a:lnTo>
                      <a:pt x="217" y="0"/>
                    </a:lnTo>
                    <a:close/>
                    <a:moveTo>
                      <a:pt x="0" y="0"/>
                    </a:moveTo>
                    <a:lnTo>
                      <a:pt x="0" y="433"/>
                    </a:lnTo>
                    <a:lnTo>
                      <a:pt x="324" y="433"/>
                    </a:lnTo>
                    <a:lnTo>
                      <a:pt x="324" y="109"/>
                    </a:lnTo>
                    <a:lnTo>
                      <a:pt x="217" y="109"/>
                    </a:lnTo>
                    <a:lnTo>
                      <a:pt x="2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79280" y="2783160"/>
                <a:ext cx="1661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ahoma"/>
                  </a:rPr>
                  <a:t>Cli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43" name=""/>
            <p:cNvCxnSpPr/>
            <p:nvPr/>
          </p:nvCxnSpPr>
          <p:spPr>
            <a:xfrm>
              <a:off x="4733640" y="3635280"/>
              <a:ext cx="1080" cy="346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4" name=""/>
            <p:cNvCxnSpPr/>
            <p:nvPr/>
          </p:nvCxnSpPr>
          <p:spPr>
            <a:xfrm>
              <a:off x="5601960" y="4533840"/>
              <a:ext cx="7959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5" name=""/>
            <p:cNvCxnSpPr/>
            <p:nvPr/>
          </p:nvCxnSpPr>
          <p:spPr>
            <a:xfrm>
              <a:off x="3070080" y="4533840"/>
              <a:ext cx="7977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546" name=""/>
            <p:cNvSpPr/>
            <p:nvPr/>
          </p:nvSpPr>
          <p:spPr>
            <a:xfrm flipH="1">
              <a:off x="4227480" y="5015160"/>
              <a:ext cx="217440" cy="48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95800" y="5015160"/>
              <a:ext cx="216000" cy="48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7769160" y="3635640"/>
              <a:ext cx="217440" cy="48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117440" y="3635640"/>
              <a:ext cx="217800" cy="48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65360" y="5153040"/>
              <a:ext cx="217440" cy="482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6615000" y="5131080"/>
              <a:ext cx="216000" cy="48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99640" y="370368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Tahoma"/>
                </a:rPr>
                <a:t>u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40680" y="5221440"/>
              <a:ext cx="162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Tahoma"/>
                </a:rPr>
                <a:t>implemented b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1760" y="5268960"/>
              <a:ext cx="12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Tahoma"/>
                </a:rPr>
                <a:t>delegates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119360" y="3703680"/>
              <a:ext cx="162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Tahoma"/>
                </a:rPr>
                <a:t>implemented b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444920" y="5772240"/>
              <a:ext cx="723960" cy="549360"/>
            </a:xfrm>
            <a:prstGeom prst="leftRightArrow">
              <a:avLst>
                <a:gd name="adj1" fmla="val 50000"/>
                <a:gd name="adj2" fmla="val 26234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OR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5EF-9925-4ECA-B0FA-707D032AA76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Client-Side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OMG IDL Mapping ru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ype is mapped to an interface inheriting fro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s::CCM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Face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event sin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mapped to an operation for obtaining the associated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Receptacl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mapped to operations for connecting, disconnecting, and getting the associated reference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Event sour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mapped to operations for subscribing and unsubscribing to produced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3438-12A3-40D4-B109-F65E228B52B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Client-Side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OMG IDL Mapping ru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event typ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mapped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heriting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s::EventB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sumer interfa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heriting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s::EventConsumer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ho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ype is mapped to three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for explicit operations user-defin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heriting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s::CCMHo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for implicit operations gener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inheriting from both previous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974-9AFA-4AF2-8BAC-4DCA14CE33A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genda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MG IDL3 : design the application by defining components and assembling component insta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penCCM compilation and generation chain for the demo3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penCCM execution chain for the demo3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ckage, assembly and deploy the CCM application with XML descriptors (edited using simple GU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AC4B-7303-4571-9BE0-838D341B27C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Client-Side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OMG IDL Mapping ru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Text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venttype is mapped to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venttyp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TextEv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** Just contains a string. *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ring tex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typ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TextEv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: ::Components::EventB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ring tex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EventConsumer : ::Components::EventConsumerB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ush_TextEvent(in ::demo3::TextEvent the_texteven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>
            <a:off x="2700360" y="3357720"/>
            <a:ext cx="425124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mapp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F6D-7774-4245-9C1F-56447B03B4C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Client-Side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MG IDL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pping rul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Serv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Serve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d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ovid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Servic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the_servic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sh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TextEv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to_consume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Serv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: ::demo3::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d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:demo3::Service </a:t>
            </a:r>
            <a:r>
              <a:rPr b="1" lang="en-US" sz="1600" spc="-1" strike="noStrike">
                <a:solidFill>
                  <a:srgbClr val="ffcf01"/>
                </a:solidFill>
                <a:latin typeface="Courier New"/>
                <a:ea typeface="Courier New"/>
              </a:rPr>
              <a:t>provide_the_servic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:Components::Cookie </a:t>
            </a:r>
            <a:r>
              <a:rPr b="1" lang="en-US" sz="1600" spc="-1" strike="noStrike">
                <a:solidFill>
                  <a:srgbClr val="00e4a8"/>
                </a:solidFill>
                <a:latin typeface="Courier New"/>
                <a:ea typeface="Courier New"/>
              </a:rPr>
              <a:t>subscribe_to_consumers(in </a:t>
            </a:r>
            <a:r>
              <a:rPr b="1" lang="en-US" sz="1600" spc="-1" strike="noStrike">
                <a:solidFill>
                  <a:srgbClr val="00e4a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e4a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e4a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e4a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e4a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e4a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e4a8"/>
                </a:solidFill>
                <a:latin typeface="Courier New"/>
                <a:ea typeface="Courier New"/>
              </a:rPr>
              <a:t>::demo3::TextEventConsumer consumer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:demo3::TextEventConsumer </a:t>
            </a:r>
            <a:r>
              <a:rPr b="1" lang="en-US" sz="1600" spc="-1" strike="noStrike">
                <a:solidFill>
                  <a:srgbClr val="00e4a8"/>
                </a:solidFill>
                <a:latin typeface="Courier New"/>
                <a:ea typeface="Courier New"/>
              </a:rPr>
              <a:t>unsubscribe_to_consumers(in </a:t>
            </a:r>
            <a:r>
              <a:rPr b="1" lang="en-US" sz="1600" spc="-1" strike="noStrike">
                <a:solidFill>
                  <a:srgbClr val="00e4a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e4a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e4a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e4a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e4a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e4a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e4a8"/>
                </a:solidFill>
                <a:latin typeface="Courier New"/>
                <a:ea typeface="Courier New"/>
              </a:rPr>
              <a:t>::Components::Cookie ck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"/>
          <p:cNvSpPr/>
          <p:nvPr/>
        </p:nvSpPr>
        <p:spPr>
          <a:xfrm>
            <a:off x="2627280" y="3141720"/>
            <a:ext cx="396072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mapp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5796000" y="404640"/>
            <a:ext cx="2866680" cy="2088720"/>
            <a:chOff x="5796000" y="404640"/>
            <a:chExt cx="2866680" cy="2088720"/>
          </a:xfrm>
        </p:grpSpPr>
        <p:grpSp>
          <p:nvGrpSpPr>
            <p:cNvPr id="568" name=""/>
            <p:cNvGrpSpPr/>
            <p:nvPr/>
          </p:nvGrpSpPr>
          <p:grpSpPr>
            <a:xfrm>
              <a:off x="5796000" y="404640"/>
              <a:ext cx="2376000" cy="2088720"/>
              <a:chOff x="5796000" y="404640"/>
              <a:chExt cx="2376000" cy="208872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5796000" y="1537920"/>
                <a:ext cx="1211400" cy="662040"/>
                <a:chOff x="5796000" y="1537920"/>
                <a:chExt cx="1211400" cy="662040"/>
              </a:xfrm>
            </p:grpSpPr>
            <p:sp>
              <p:nvSpPr>
                <p:cNvPr id="570" name=""/>
                <p:cNvSpPr/>
                <p:nvPr/>
              </p:nvSpPr>
              <p:spPr>
                <a:xfrm flipH="1">
                  <a:off x="6336000" y="1868760"/>
                  <a:ext cx="67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796000" y="1537920"/>
                  <a:ext cx="649080" cy="662040"/>
                </a:xfrm>
                <a:prstGeom prst="ellipse">
                  <a:avLst/>
                </a:prstGeom>
                <a:solidFill>
                  <a:srgbClr val="ffcf0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7155720" y="404640"/>
                <a:ext cx="650880" cy="840600"/>
                <a:chOff x="7155720" y="404640"/>
                <a:chExt cx="650880" cy="840600"/>
              </a:xfrm>
            </p:grpSpPr>
            <p:sp>
              <p:nvSpPr>
                <p:cNvPr id="573" name=""/>
                <p:cNvSpPr/>
                <p:nvPr/>
              </p:nvSpPr>
              <p:spPr>
                <a:xfrm flipV="1">
                  <a:off x="7481160" y="563400"/>
                  <a:ext cx="0" cy="681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rot="5400000">
                  <a:off x="7151760" y="408240"/>
                  <a:ext cx="658800" cy="65088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5" name=""/>
              <p:cNvSpPr/>
              <p:nvPr/>
            </p:nvSpPr>
            <p:spPr>
              <a:xfrm>
                <a:off x="6791040" y="1245960"/>
                <a:ext cx="1380960" cy="124740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mpon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8028000" y="1484280"/>
              <a:ext cx="634680" cy="503640"/>
              <a:chOff x="8028000" y="1484280"/>
              <a:chExt cx="634680" cy="50364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8028000" y="1581480"/>
                <a:ext cx="505080" cy="406440"/>
                <a:chOff x="8028000" y="1581480"/>
                <a:chExt cx="505080" cy="406440"/>
              </a:xfrm>
            </p:grpSpPr>
            <p:sp>
              <p:nvSpPr>
                <p:cNvPr id="578" name=""/>
                <p:cNvSpPr/>
                <p:nvPr/>
              </p:nvSpPr>
              <p:spPr>
                <a:xfrm flipH="1">
                  <a:off x="8130240" y="1784880"/>
                  <a:ext cx="205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8028000" y="1687320"/>
                  <a:ext cx="101160" cy="19440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8303760" y="1581480"/>
                  <a:ext cx="229320" cy="406440"/>
                </a:xfrm>
                <a:custGeom>
                  <a:avLst/>
                  <a:gdLst>
                    <a:gd name="textAreaLeft" fmla="*/ 0 w 229320"/>
                    <a:gd name="textAreaRight" fmla="*/ 229680 w 22932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8479080" y="1484280"/>
                <a:ext cx="18360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3BE-F366-4307-A2C7-FEB5388C6C6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Client-Side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MG IDL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Mapping rul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me </a:t>
            </a: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ServerHo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ServerHo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nages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HomeExplicit : ::Components::CCMHo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HomeImplicit : ::Components::KeylessCCMHo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:demo3::Server creat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Home 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:demo3::ServerHomeExplicit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:demo3::ServerHomeImplic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2050920" y="2349360"/>
            <a:ext cx="39610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mapp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156360" y="115920"/>
            <a:ext cx="2879640" cy="2736720"/>
            <a:chOff x="6156360" y="115920"/>
            <a:chExt cx="2879640" cy="2736720"/>
          </a:xfrm>
        </p:grpSpPr>
        <p:sp>
          <p:nvSpPr>
            <p:cNvPr id="586" name=""/>
            <p:cNvSpPr/>
            <p:nvPr/>
          </p:nvSpPr>
          <p:spPr>
            <a:xfrm>
              <a:off x="6156360" y="549360"/>
              <a:ext cx="2879640" cy="230328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rverHo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6227640" y="1989000"/>
              <a:ext cx="815760" cy="415800"/>
              <a:chOff x="6227640" y="1989000"/>
              <a:chExt cx="815760" cy="415800"/>
            </a:xfrm>
          </p:grpSpPr>
          <p:sp>
            <p:nvSpPr>
              <p:cNvPr id="588" name=""/>
              <p:cNvSpPr/>
              <p:nvPr/>
            </p:nvSpPr>
            <p:spPr>
              <a:xfrm flipH="1">
                <a:off x="6591240" y="2196720"/>
                <a:ext cx="45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227640" y="1989000"/>
                <a:ext cx="437040" cy="415800"/>
              </a:xfrm>
              <a:prstGeom prst="ellipse">
                <a:avLst/>
              </a:prstGeom>
              <a:solidFill>
                <a:srgbClr val="ffcf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7596360" y="1052640"/>
              <a:ext cx="339120" cy="431280"/>
              <a:chOff x="7596360" y="1052640"/>
              <a:chExt cx="339120" cy="431280"/>
            </a:xfrm>
          </p:grpSpPr>
          <p:sp>
            <p:nvSpPr>
              <p:cNvPr id="591" name=""/>
              <p:cNvSpPr/>
              <p:nvPr/>
            </p:nvSpPr>
            <p:spPr>
              <a:xfrm flipV="1">
                <a:off x="7765920" y="1134000"/>
                <a:ext cx="0" cy="34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400000">
                <a:off x="7596720" y="1051920"/>
                <a:ext cx="338040" cy="3391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6804000" y="1484280"/>
              <a:ext cx="1728720" cy="12240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8388360" y="1844640"/>
              <a:ext cx="563040" cy="503640"/>
              <a:chOff x="8388360" y="1844640"/>
              <a:chExt cx="563040" cy="50364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8388360" y="1941840"/>
                <a:ext cx="448200" cy="406440"/>
                <a:chOff x="8388360" y="1941840"/>
                <a:chExt cx="448200" cy="406440"/>
              </a:xfrm>
            </p:grpSpPr>
            <p:sp>
              <p:nvSpPr>
                <p:cNvPr id="596" name=""/>
                <p:cNvSpPr/>
                <p:nvPr/>
              </p:nvSpPr>
              <p:spPr>
                <a:xfrm flipH="1">
                  <a:off x="8479080" y="2145240"/>
                  <a:ext cx="18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8388360" y="2047680"/>
                  <a:ext cx="89640" cy="19440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8633160" y="1941840"/>
                  <a:ext cx="203400" cy="406440"/>
                </a:xfrm>
                <a:custGeom>
                  <a:avLst/>
                  <a:gdLst>
                    <a:gd name="textAreaLeft" fmla="*/ 0 w 203400"/>
                    <a:gd name="textAreaRight" fmla="*/ 203760 w 2034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8788680" y="1844640"/>
                <a:ext cx="16272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7380000" y="115920"/>
              <a:ext cx="323640" cy="411120"/>
              <a:chOff x="7380000" y="115920"/>
              <a:chExt cx="323640" cy="411120"/>
            </a:xfrm>
          </p:grpSpPr>
          <p:sp>
            <p:nvSpPr>
              <p:cNvPr id="601" name=""/>
              <p:cNvSpPr/>
              <p:nvPr/>
            </p:nvSpPr>
            <p:spPr>
              <a:xfrm flipV="1">
                <a:off x="7542000" y="19368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5400000">
                <a:off x="7380720" y="114840"/>
                <a:ext cx="322200" cy="3236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8F0-6EA6-4341-94E7-F2F75DB4A5B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Client-Side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MG IDL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pping rul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e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Server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ServerManag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nages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key NamePrimaryKe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tory create_server(in string 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er find_server(in string 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2195640" y="5300640"/>
            <a:ext cx="396072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mapp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6156360" y="115920"/>
            <a:ext cx="2879640" cy="2736720"/>
            <a:chOff x="6156360" y="115920"/>
            <a:chExt cx="2879640" cy="2736720"/>
          </a:xfrm>
        </p:grpSpPr>
        <p:sp>
          <p:nvSpPr>
            <p:cNvPr id="607" name=""/>
            <p:cNvSpPr/>
            <p:nvPr/>
          </p:nvSpPr>
          <p:spPr>
            <a:xfrm>
              <a:off x="6156360" y="549360"/>
              <a:ext cx="2879640" cy="230328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rver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6227640" y="1989000"/>
              <a:ext cx="815760" cy="415800"/>
              <a:chOff x="6227640" y="1989000"/>
              <a:chExt cx="815760" cy="415800"/>
            </a:xfrm>
          </p:grpSpPr>
          <p:sp>
            <p:nvSpPr>
              <p:cNvPr id="609" name=""/>
              <p:cNvSpPr/>
              <p:nvPr/>
            </p:nvSpPr>
            <p:spPr>
              <a:xfrm flipH="1">
                <a:off x="6591240" y="2196720"/>
                <a:ext cx="45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27640" y="1989000"/>
                <a:ext cx="437040" cy="415800"/>
              </a:xfrm>
              <a:prstGeom prst="ellipse">
                <a:avLst/>
              </a:prstGeom>
              <a:solidFill>
                <a:srgbClr val="ffcf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7596360" y="1052640"/>
              <a:ext cx="339120" cy="431280"/>
              <a:chOff x="7596360" y="1052640"/>
              <a:chExt cx="339120" cy="431280"/>
            </a:xfrm>
          </p:grpSpPr>
          <p:sp>
            <p:nvSpPr>
              <p:cNvPr id="612" name=""/>
              <p:cNvSpPr/>
              <p:nvPr/>
            </p:nvSpPr>
            <p:spPr>
              <a:xfrm flipV="1">
                <a:off x="7765920" y="1134000"/>
                <a:ext cx="0" cy="34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5400000">
                <a:off x="7596720" y="1051920"/>
                <a:ext cx="338040" cy="3391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6804000" y="1484280"/>
              <a:ext cx="1728720" cy="12240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8388360" y="1844640"/>
              <a:ext cx="563040" cy="503640"/>
              <a:chOff x="8388360" y="1844640"/>
              <a:chExt cx="563040" cy="50364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8388360" y="1941840"/>
                <a:ext cx="448200" cy="406440"/>
                <a:chOff x="8388360" y="1941840"/>
                <a:chExt cx="448200" cy="406440"/>
              </a:xfrm>
            </p:grpSpPr>
            <p:sp>
              <p:nvSpPr>
                <p:cNvPr id="617" name=""/>
                <p:cNvSpPr/>
                <p:nvPr/>
              </p:nvSpPr>
              <p:spPr>
                <a:xfrm flipH="1">
                  <a:off x="8479080" y="2145240"/>
                  <a:ext cx="18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8388360" y="2047680"/>
                  <a:ext cx="89640" cy="19440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8633160" y="1941840"/>
                  <a:ext cx="203400" cy="406440"/>
                </a:xfrm>
                <a:custGeom>
                  <a:avLst/>
                  <a:gdLst>
                    <a:gd name="textAreaLeft" fmla="*/ 0 w 203400"/>
                    <a:gd name="textAreaRight" fmla="*/ 203760 w 2034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0" name=""/>
              <p:cNvSpPr/>
              <p:nvPr/>
            </p:nvSpPr>
            <p:spPr>
              <a:xfrm>
                <a:off x="8788680" y="1844640"/>
                <a:ext cx="16272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7380000" y="115920"/>
              <a:ext cx="323640" cy="411120"/>
              <a:chOff x="7380000" y="115920"/>
              <a:chExt cx="323640" cy="411120"/>
            </a:xfrm>
          </p:grpSpPr>
          <p:sp>
            <p:nvSpPr>
              <p:cNvPr id="622" name=""/>
              <p:cNvSpPr/>
              <p:nvPr/>
            </p:nvSpPr>
            <p:spPr>
              <a:xfrm flipV="1">
                <a:off x="7542000" y="19368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5400000">
                <a:off x="7380720" y="114840"/>
                <a:ext cx="322200" cy="3236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89C-7E5D-45B2-9A1D-CD3D16A3C6C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Client-Side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OMG IDL Mapping ru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me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Server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ManagerExplicit : ::Components::CCMHo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:demo3::Server create_server(in string 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:demo3::Server find_server(in string 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ManagerImplic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:demo3::Server create(in ::demo3::NamePrimaryKey key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:demo3::Server find_by_primary_key(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:demo3::NamePrimaryKey key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remove(in ::demo3::NamePrimaryKey key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:demo3::NamePrimaryKey get_primary_key(in ::demo3::Serve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Manager : ::demo3::ServerManagerExplicit, ::demo3::ServerManagerImplicit  { 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"/>
          <p:cNvSpPr/>
          <p:nvPr/>
        </p:nvSpPr>
        <p:spPr>
          <a:xfrm>
            <a:off x="4932360" y="1268280"/>
            <a:ext cx="396072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mapp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E8B-9F49-4E84-BE8F-3A43FE6D69A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Client-Side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MG IDL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pping rul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Cli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Clie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d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us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Servi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the_servic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Cli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: ::demo3::NamedCompon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cf01"/>
                </a:solidFill>
                <a:latin typeface="Courier New"/>
                <a:ea typeface="Courier New"/>
              </a:rPr>
              <a:t>void connect_the_service(in ::demo3::Service connexi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cf01"/>
                </a:solidFill>
                <a:latin typeface="Courier New"/>
                <a:ea typeface="Courier New"/>
              </a:rPr>
              <a:t>::demo3::Service disconnect_the_servic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cf01"/>
                </a:solidFill>
                <a:latin typeface="Courier New"/>
                <a:ea typeface="Courier New"/>
              </a:rPr>
              <a:t>::demo3::Service get_connection_the_servic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627280" y="3213000"/>
            <a:ext cx="396072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mapp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6588000" y="404640"/>
            <a:ext cx="2131920" cy="1655640"/>
            <a:chOff x="6588000" y="404640"/>
            <a:chExt cx="2131920" cy="1655640"/>
          </a:xfrm>
        </p:grpSpPr>
        <p:grpSp>
          <p:nvGrpSpPr>
            <p:cNvPr id="631" name=""/>
            <p:cNvGrpSpPr/>
            <p:nvPr/>
          </p:nvGrpSpPr>
          <p:grpSpPr>
            <a:xfrm>
              <a:off x="6588000" y="404640"/>
              <a:ext cx="1728720" cy="1655640"/>
              <a:chOff x="6588000" y="404640"/>
              <a:chExt cx="1728720" cy="1655640"/>
            </a:xfrm>
          </p:grpSpPr>
          <p:grpSp>
            <p:nvGrpSpPr>
              <p:cNvPr id="632" name=""/>
              <p:cNvGrpSpPr/>
              <p:nvPr/>
            </p:nvGrpSpPr>
            <p:grpSpPr>
              <a:xfrm>
                <a:off x="7380360" y="404640"/>
                <a:ext cx="339120" cy="431280"/>
                <a:chOff x="7380360" y="404640"/>
                <a:chExt cx="339120" cy="431280"/>
              </a:xfrm>
            </p:grpSpPr>
            <p:sp>
              <p:nvSpPr>
                <p:cNvPr id="633" name=""/>
                <p:cNvSpPr/>
                <p:nvPr/>
              </p:nvSpPr>
              <p:spPr>
                <a:xfrm flipV="1">
                  <a:off x="7549920" y="486000"/>
                  <a:ext cx="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5400000">
                  <a:off x="7380720" y="403920"/>
                  <a:ext cx="338040" cy="3391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5" name=""/>
              <p:cNvSpPr/>
              <p:nvPr/>
            </p:nvSpPr>
            <p:spPr>
              <a:xfrm>
                <a:off x="6588000" y="836280"/>
                <a:ext cx="1728720" cy="122400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mpon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8243640" y="1341360"/>
              <a:ext cx="476280" cy="280800"/>
              <a:chOff x="8243640" y="1341360"/>
              <a:chExt cx="476280" cy="280800"/>
            </a:xfrm>
          </p:grpSpPr>
          <p:grpSp>
            <p:nvGrpSpPr>
              <p:cNvPr id="637" name=""/>
              <p:cNvGrpSpPr/>
              <p:nvPr/>
            </p:nvGrpSpPr>
            <p:grpSpPr>
              <a:xfrm>
                <a:off x="8243640" y="1466280"/>
                <a:ext cx="146520" cy="39240"/>
                <a:chOff x="8243640" y="1466280"/>
                <a:chExt cx="146520" cy="39240"/>
              </a:xfrm>
            </p:grpSpPr>
            <p:sp>
              <p:nvSpPr>
                <p:cNvPr id="638" name=""/>
                <p:cNvSpPr/>
                <p:nvPr/>
              </p:nvSpPr>
              <p:spPr>
                <a:xfrm flipH="1">
                  <a:off x="8280360" y="148572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243640" y="146628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0" name=""/>
              <p:cNvSpPr/>
              <p:nvPr/>
            </p:nvSpPr>
            <p:spPr>
              <a:xfrm rot="16200000">
                <a:off x="8415720" y="1317960"/>
                <a:ext cx="28080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F308-3915-40D2-9D07-3B2E4FB4713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Client-Side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MG IDL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pping rul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Consum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Consum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d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ume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TextEve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from_server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Consume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: ::demo3::Named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:demo3::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TextEve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um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get_consumer_from_servers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2340000" y="3429000"/>
            <a:ext cx="396072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mapp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6443640" y="404640"/>
            <a:ext cx="2449080" cy="1584360"/>
            <a:chOff x="6443640" y="404640"/>
            <a:chExt cx="2449080" cy="1584360"/>
          </a:xfrm>
        </p:grpSpPr>
        <p:sp>
          <p:nvSpPr>
            <p:cNvPr id="645" name=""/>
            <p:cNvSpPr/>
            <p:nvPr/>
          </p:nvSpPr>
          <p:spPr>
            <a:xfrm>
              <a:off x="7109640" y="952200"/>
              <a:ext cx="1783080" cy="10368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nsu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6443640" y="1268280"/>
              <a:ext cx="698040" cy="404280"/>
              <a:chOff x="6443640" y="1268280"/>
              <a:chExt cx="698040" cy="404280"/>
            </a:xfrm>
          </p:grpSpPr>
          <p:sp>
            <p:nvSpPr>
              <p:cNvPr id="647" name=""/>
              <p:cNvSpPr/>
              <p:nvPr/>
            </p:nvSpPr>
            <p:spPr>
              <a:xfrm flipH="1">
                <a:off x="6781320" y="146808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443640" y="1268280"/>
                <a:ext cx="360360" cy="4042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7813080" y="404640"/>
              <a:ext cx="375840" cy="546840"/>
              <a:chOff x="7813080" y="404640"/>
              <a:chExt cx="375840" cy="546840"/>
            </a:xfrm>
          </p:grpSpPr>
          <p:sp>
            <p:nvSpPr>
              <p:cNvPr id="650" name=""/>
              <p:cNvSpPr/>
              <p:nvPr/>
            </p:nvSpPr>
            <p:spPr>
              <a:xfrm flipV="1">
                <a:off x="8001000" y="507600"/>
                <a:ext cx="0" cy="44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5400000">
                <a:off x="7786440" y="430920"/>
                <a:ext cx="428760" cy="3758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530-88AA-44BF-9C3D-0316DE3857F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Server-Side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OMG IDL Mapping ru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compon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ype is mapped to three local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ain component executor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eriting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s::EnterpriseCompon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onolithic component executor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s to obtain facet executors and receive ev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ponent specific context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s to access component receptacles and event sour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h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ype is mapped to three local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explicit operations user-defin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eriting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s::HomeExecutorB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implicit operations gener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inheriting from both previous interf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2BF-8C4C-43FB-A6C3-DE90F0BB4BA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Server-Side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MG IDL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pping rules : 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NamedCompon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631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ain component executor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local interface CCM_NamedComponent_Executor : ::Components::EnterpriseCompon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attribute string nam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onolithic component executor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local interface CCM_NamedComponent : ::demo3::CCM_NamedComponent_Execu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e4a8"/>
                </a:solidFill>
                <a:latin typeface="Courier New"/>
                <a:ea typeface="Courier New"/>
              </a:rPr>
              <a:t>// no operations to obtain facet executors and receive ev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mponent-specific context interfa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local interface CCM_NamedComponent_Context : ::Components::CCMCon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e4a8"/>
                </a:solidFill>
                <a:latin typeface="Courier New"/>
                <a:ea typeface="Courier New"/>
              </a:rPr>
              <a:t>// no operations to access component receptacles and event sour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877080" y="476280"/>
            <a:ext cx="1800360" cy="1872720"/>
            <a:chOff x="6877080" y="476280"/>
            <a:chExt cx="1800360" cy="1872720"/>
          </a:xfrm>
        </p:grpSpPr>
        <p:grpSp>
          <p:nvGrpSpPr>
            <p:cNvPr id="657" name=""/>
            <p:cNvGrpSpPr/>
            <p:nvPr/>
          </p:nvGrpSpPr>
          <p:grpSpPr>
            <a:xfrm>
              <a:off x="7669440" y="476280"/>
              <a:ext cx="354960" cy="482040"/>
              <a:chOff x="7669440" y="476280"/>
              <a:chExt cx="354960" cy="482040"/>
            </a:xfrm>
          </p:grpSpPr>
          <p:sp>
            <p:nvSpPr>
              <p:cNvPr id="658" name=""/>
              <p:cNvSpPr/>
              <p:nvPr/>
            </p:nvSpPr>
            <p:spPr>
              <a:xfrm flipV="1">
                <a:off x="7846920" y="567360"/>
                <a:ext cx="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5400000">
                <a:off x="7657920" y="487800"/>
                <a:ext cx="378000" cy="3549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" name=""/>
            <p:cNvSpPr/>
            <p:nvPr/>
          </p:nvSpPr>
          <p:spPr>
            <a:xfrm>
              <a:off x="6877080" y="981000"/>
              <a:ext cx="1800360" cy="13680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Named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name = x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E5A-8D48-400B-A363-02C7F32C8E8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Server-Side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MG IDL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pping rules : 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Server Compon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ain component executor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local interface CCM_Server_Executor : ::demo3::CCM_NamedComponent_Execu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onolithic component executor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local interface CCM_Server : ::demo3::CCM_Server_Execu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::demo3::CCM_Service </a:t>
            </a:r>
            <a:r>
              <a:rPr b="1" lang="en-US" sz="1800" spc="-1" strike="noStrike">
                <a:solidFill>
                  <a:srgbClr val="ffcf01"/>
                </a:solidFill>
                <a:latin typeface="Courier New"/>
                <a:ea typeface="Courier New"/>
              </a:rPr>
              <a:t>get_the_servic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mponent-specific context interfa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local interface CCM_Server_Context : ::demo3::CCM_NamedComponent_Con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void </a:t>
            </a:r>
            <a:r>
              <a:rPr b="1" lang="en-US" sz="1800" spc="-1" strike="noStrike">
                <a:solidFill>
                  <a:srgbClr val="00e4a8"/>
                </a:solidFill>
                <a:latin typeface="Courier New"/>
                <a:ea typeface="Courier New"/>
              </a:rPr>
              <a:t>push_to_consumers(in ::demo3::Text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516720" y="907920"/>
            <a:ext cx="2434680" cy="1730520"/>
            <a:chOff x="6516720" y="907920"/>
            <a:chExt cx="2434680" cy="1730520"/>
          </a:xfrm>
        </p:grpSpPr>
        <p:grpSp>
          <p:nvGrpSpPr>
            <p:cNvPr id="664" name=""/>
            <p:cNvGrpSpPr/>
            <p:nvPr/>
          </p:nvGrpSpPr>
          <p:grpSpPr>
            <a:xfrm>
              <a:off x="6516720" y="1682640"/>
              <a:ext cx="779760" cy="450720"/>
              <a:chOff x="6516720" y="1682640"/>
              <a:chExt cx="779760" cy="450720"/>
            </a:xfrm>
          </p:grpSpPr>
          <p:sp>
            <p:nvSpPr>
              <p:cNvPr id="665" name=""/>
              <p:cNvSpPr/>
              <p:nvPr/>
            </p:nvSpPr>
            <p:spPr>
              <a:xfrm flipH="1">
                <a:off x="6864120" y="1908000"/>
                <a:ext cx="43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516720" y="1682640"/>
                <a:ext cx="417960" cy="450720"/>
              </a:xfrm>
              <a:prstGeom prst="ellipse">
                <a:avLst/>
              </a:prstGeom>
              <a:solidFill>
                <a:srgbClr val="ffcf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7596720" y="907920"/>
              <a:ext cx="428040" cy="482040"/>
              <a:chOff x="7596720" y="907920"/>
              <a:chExt cx="428040" cy="482040"/>
            </a:xfrm>
          </p:grpSpPr>
          <p:sp>
            <p:nvSpPr>
              <p:cNvPr id="668" name=""/>
              <p:cNvSpPr/>
              <p:nvPr/>
            </p:nvSpPr>
            <p:spPr>
              <a:xfrm flipV="1">
                <a:off x="7810920" y="998640"/>
                <a:ext cx="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5400000">
                <a:off x="7621560" y="882720"/>
                <a:ext cx="378000" cy="4280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7080120" y="1390680"/>
              <a:ext cx="1381320" cy="1247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8317080" y="1628640"/>
              <a:ext cx="634320" cy="504000"/>
              <a:chOff x="8317080" y="1628640"/>
              <a:chExt cx="634320" cy="50400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8317080" y="1725840"/>
                <a:ext cx="505080" cy="406800"/>
                <a:chOff x="8317080" y="1725840"/>
                <a:chExt cx="505080" cy="406800"/>
              </a:xfrm>
            </p:grpSpPr>
            <p:sp>
              <p:nvSpPr>
                <p:cNvPr id="673" name=""/>
                <p:cNvSpPr/>
                <p:nvPr/>
              </p:nvSpPr>
              <p:spPr>
                <a:xfrm flipH="1">
                  <a:off x="8418960" y="1929600"/>
                  <a:ext cx="205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8317080" y="1832040"/>
                  <a:ext cx="101160" cy="19440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8592840" y="1725840"/>
                  <a:ext cx="229320" cy="406800"/>
                </a:xfrm>
                <a:custGeom>
                  <a:avLst/>
                  <a:gdLst>
                    <a:gd name="textAreaLeft" fmla="*/ 0 w 229320"/>
                    <a:gd name="textAreaRight" fmla="*/ 229680 w 229320"/>
                    <a:gd name="textAreaTop" fmla="*/ 0 h 406800"/>
                    <a:gd name="textAreaBottom" fmla="*/ 407160 h 40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6" name=""/>
              <p:cNvSpPr/>
              <p:nvPr/>
            </p:nvSpPr>
            <p:spPr>
              <a:xfrm>
                <a:off x="8767800" y="1628640"/>
                <a:ext cx="183600" cy="36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3676-1C9A-435A-88DB-A2279275AAF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uilding a CCM application with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enCCM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is very easy..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50920" y="1844640"/>
            <a:ext cx="790560" cy="720720"/>
            <a:chOff x="250920" y="1844640"/>
            <a:chExt cx="790560" cy="720720"/>
          </a:xfrm>
        </p:grpSpPr>
        <p:sp>
          <p:nvSpPr>
            <p:cNvPr id="122" name=""/>
            <p:cNvSpPr/>
            <p:nvPr/>
          </p:nvSpPr>
          <p:spPr>
            <a:xfrm>
              <a:off x="302400" y="1844640"/>
              <a:ext cx="687240" cy="72072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0920" y="2017440"/>
              <a:ext cx="79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IDL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971640" y="2924280"/>
            <a:ext cx="1224000" cy="57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I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835280" y="3716280"/>
            <a:ext cx="792000" cy="792360"/>
            <a:chOff x="1835280" y="3716280"/>
            <a:chExt cx="792000" cy="792360"/>
          </a:xfrm>
        </p:grpSpPr>
        <p:sp>
          <p:nvSpPr>
            <p:cNvPr id="126" name=""/>
            <p:cNvSpPr/>
            <p:nvPr/>
          </p:nvSpPr>
          <p:spPr>
            <a:xfrm>
              <a:off x="1835280" y="3716280"/>
              <a:ext cx="792000" cy="79236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74160" y="3816000"/>
              <a:ext cx="713520" cy="5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ahoma"/>
                </a:rPr>
                <a:t>OMG IDL 2.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924360" y="4941720"/>
            <a:ext cx="649080" cy="792360"/>
          </a:xfrm>
          <a:prstGeom prst="flowChartMultidocumen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3500280"/>
            <a:ext cx="649080" cy="792360"/>
          </a:xfrm>
          <a:prstGeom prst="flowChartMultidocumen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1773360"/>
            <a:ext cx="649440" cy="792000"/>
          </a:xfrm>
          <a:prstGeom prst="flowChartMultidocumen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649080" cy="792000"/>
          </a:xfrm>
          <a:prstGeom prst="flowChartMultidocumen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580536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Java OpenCCM Skelet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64000" y="429264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Java Corba 2 stu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1268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Java implementation patte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285264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User’s Java implemen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2565360"/>
            <a:ext cx="287280" cy="3589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3500280"/>
            <a:ext cx="287640" cy="28908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249228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2565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ff"/>
                </a:solidFill>
                <a:latin typeface="Arial"/>
              </a:rPr>
              <a:t>ir3_f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357336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ff"/>
                </a:solidFill>
                <a:latin typeface="Arial"/>
              </a:rPr>
              <a:t>ir3_idl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0360" y="4508640"/>
            <a:ext cx="863640" cy="7207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79736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ff"/>
                </a:solidFill>
                <a:latin typeface="Arial"/>
              </a:rPr>
              <a:t>ir3_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700360" y="4005000"/>
            <a:ext cx="863640" cy="21564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700360" y="2349360"/>
            <a:ext cx="792000" cy="151128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87640" y="3716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ff"/>
                </a:solidFill>
                <a:latin typeface="Arial"/>
              </a:rPr>
              <a:t>ji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7082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ff"/>
                </a:solidFill>
                <a:latin typeface="Arial"/>
              </a:rPr>
              <a:t>ir3_jim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92720" y="3789360"/>
            <a:ext cx="1150920" cy="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19640" y="328464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ff"/>
                </a:solidFill>
                <a:latin typeface="Arial"/>
              </a:rPr>
              <a:t>Compile and Build arch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2781360"/>
            <a:ext cx="504720" cy="10080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788000" y="3789360"/>
            <a:ext cx="50472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859280" y="3789360"/>
            <a:ext cx="433440" cy="10080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16720" y="3429000"/>
            <a:ext cx="719280" cy="576360"/>
          </a:xfrm>
          <a:custGeom>
            <a:avLst/>
            <a:gdLst/>
            <a:ahLst/>
            <a:rect l="l" t="t" r="r" b="b"/>
            <a:pathLst>
              <a:path w="577" h="343">
                <a:moveTo>
                  <a:pt x="0" y="54"/>
                </a:moveTo>
                <a:lnTo>
                  <a:pt x="54" y="0"/>
                </a:lnTo>
                <a:lnTo>
                  <a:pt x="235" y="0"/>
                </a:lnTo>
                <a:lnTo>
                  <a:pt x="289" y="54"/>
                </a:lnTo>
                <a:lnTo>
                  <a:pt x="0" y="54"/>
                </a:lnTo>
                <a:close/>
                <a:moveTo>
                  <a:pt x="0" y="343"/>
                </a:moveTo>
                <a:lnTo>
                  <a:pt x="577" y="343"/>
                </a:lnTo>
                <a:lnTo>
                  <a:pt x="577" y="54"/>
                </a:lnTo>
                <a:lnTo>
                  <a:pt x="0" y="54"/>
                </a:lnTo>
                <a:lnTo>
                  <a:pt x="0" y="343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155736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demo3.id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72360" y="306864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demo3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92360" y="450864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demo3.i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6720" y="4581360"/>
            <a:ext cx="23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ff"/>
                </a:solidFill>
                <a:latin typeface="Arial"/>
              </a:rPr>
              <a:t>Packaging, Assembling and Deployment done by XML descrip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48360" y="4149720"/>
            <a:ext cx="360360" cy="4316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32720" y="1492200"/>
            <a:ext cx="230040" cy="219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1784520"/>
            <a:ext cx="230040" cy="217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32720" y="2075040"/>
            <a:ext cx="230040" cy="2188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62760" y="141300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 written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26040" y="170496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11640" y="1996920"/>
            <a:ext cx="163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ted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667640" y="5734080"/>
            <a:ext cx="792000" cy="792000"/>
            <a:chOff x="7667640" y="5734080"/>
            <a:chExt cx="792000" cy="792000"/>
          </a:xfrm>
        </p:grpSpPr>
        <p:sp>
          <p:nvSpPr>
            <p:cNvPr id="165" name=""/>
            <p:cNvSpPr/>
            <p:nvPr/>
          </p:nvSpPr>
          <p:spPr>
            <a:xfrm>
              <a:off x="7667640" y="5734080"/>
              <a:ext cx="792000" cy="79200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06520" y="5833440"/>
              <a:ext cx="713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810560" y="5589720"/>
            <a:ext cx="792000" cy="792000"/>
            <a:chOff x="7810560" y="5589720"/>
            <a:chExt cx="792000" cy="792000"/>
          </a:xfrm>
        </p:grpSpPr>
        <p:sp>
          <p:nvSpPr>
            <p:cNvPr id="168" name=""/>
            <p:cNvSpPr/>
            <p:nvPr/>
          </p:nvSpPr>
          <p:spPr>
            <a:xfrm>
              <a:off x="7810560" y="5589720"/>
              <a:ext cx="792000" cy="79200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49440" y="5689080"/>
              <a:ext cx="713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956720" y="5373720"/>
            <a:ext cx="720720" cy="863640"/>
            <a:chOff x="7956720" y="5373720"/>
            <a:chExt cx="720720" cy="863640"/>
          </a:xfrm>
        </p:grpSpPr>
        <p:sp>
          <p:nvSpPr>
            <p:cNvPr id="171" name=""/>
            <p:cNvSpPr/>
            <p:nvPr/>
          </p:nvSpPr>
          <p:spPr>
            <a:xfrm>
              <a:off x="7956720" y="5373720"/>
              <a:ext cx="720720" cy="86364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92360" y="5482080"/>
              <a:ext cx="6490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796000" y="5661000"/>
            <a:ext cx="1224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0000" y="6021360"/>
            <a:ext cx="647640" cy="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7596000" y="5157360"/>
            <a:ext cx="360360" cy="35892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86880" y="5661000"/>
            <a:ext cx="869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XM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scrip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DA0-99D1-42E8-984E-517CBF1CA34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Server-Side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MG IDL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pping rules : 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Server Compon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urier New"/>
                <a:ea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6732720" y="189000"/>
            <a:ext cx="2171160" cy="1512360"/>
            <a:chOff x="6732720" y="189000"/>
            <a:chExt cx="2171160" cy="1512360"/>
          </a:xfrm>
        </p:grpSpPr>
        <p:grpSp>
          <p:nvGrpSpPr>
            <p:cNvPr id="680" name=""/>
            <p:cNvGrpSpPr/>
            <p:nvPr/>
          </p:nvGrpSpPr>
          <p:grpSpPr>
            <a:xfrm>
              <a:off x="6732720" y="189000"/>
              <a:ext cx="1781640" cy="1512360"/>
              <a:chOff x="6732720" y="189000"/>
              <a:chExt cx="1781640" cy="151236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6732720" y="1009800"/>
                <a:ext cx="908280" cy="479520"/>
                <a:chOff x="6732720" y="1009800"/>
                <a:chExt cx="908280" cy="479520"/>
              </a:xfrm>
            </p:grpSpPr>
            <p:sp>
              <p:nvSpPr>
                <p:cNvPr id="682" name=""/>
                <p:cNvSpPr/>
                <p:nvPr/>
              </p:nvSpPr>
              <p:spPr>
                <a:xfrm flipH="1">
                  <a:off x="7137720" y="1249560"/>
                  <a:ext cx="503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732720" y="1009800"/>
                  <a:ext cx="486720" cy="479520"/>
                </a:xfrm>
                <a:prstGeom prst="ellipse">
                  <a:avLst/>
                </a:prstGeom>
                <a:solidFill>
                  <a:srgbClr val="ffcf0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7751880" y="189000"/>
                <a:ext cx="488160" cy="608040"/>
                <a:chOff x="7751880" y="189000"/>
                <a:chExt cx="488160" cy="608040"/>
              </a:xfrm>
            </p:grpSpPr>
            <p:sp>
              <p:nvSpPr>
                <p:cNvPr id="685" name=""/>
                <p:cNvSpPr/>
                <p:nvPr/>
              </p:nvSpPr>
              <p:spPr>
                <a:xfrm flipV="1">
                  <a:off x="7995960" y="303480"/>
                  <a:ext cx="0" cy="49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rot="5400000">
                  <a:off x="7757280" y="183240"/>
                  <a:ext cx="477000" cy="4881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" name=""/>
              <p:cNvSpPr/>
              <p:nvPr/>
            </p:nvSpPr>
            <p:spPr>
              <a:xfrm>
                <a:off x="7479000" y="798120"/>
                <a:ext cx="1035360" cy="90324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Compon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8406720" y="970560"/>
              <a:ext cx="497160" cy="365040"/>
              <a:chOff x="8406720" y="970560"/>
              <a:chExt cx="497160" cy="365040"/>
            </a:xfrm>
          </p:grpSpPr>
          <p:grpSp>
            <p:nvGrpSpPr>
              <p:cNvPr id="689" name=""/>
              <p:cNvGrpSpPr/>
              <p:nvPr/>
            </p:nvGrpSpPr>
            <p:grpSpPr>
              <a:xfrm>
                <a:off x="8406720" y="1040760"/>
                <a:ext cx="378360" cy="294480"/>
                <a:chOff x="8406720" y="1040760"/>
                <a:chExt cx="378360" cy="294480"/>
              </a:xfrm>
            </p:grpSpPr>
            <p:sp>
              <p:nvSpPr>
                <p:cNvPr id="690" name=""/>
                <p:cNvSpPr/>
                <p:nvPr/>
              </p:nvSpPr>
              <p:spPr>
                <a:xfrm flipH="1">
                  <a:off x="8483400" y="1188000"/>
                  <a:ext cx="15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8406720" y="1117440"/>
                  <a:ext cx="75600" cy="14076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8613360" y="1040760"/>
                  <a:ext cx="171720" cy="294480"/>
                </a:xfrm>
                <a:custGeom>
                  <a:avLst/>
                  <a:gdLst>
                    <a:gd name="textAreaLeft" fmla="*/ 0 w 171720"/>
                    <a:gd name="textAreaRight" fmla="*/ 172080 w 171720"/>
                    <a:gd name="textAreaTop" fmla="*/ 0 h 294480"/>
                    <a:gd name="textAreaBottom" fmla="*/ 294840 h 29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3" name=""/>
              <p:cNvSpPr/>
              <p:nvPr/>
            </p:nvSpPr>
            <p:spPr>
              <a:xfrm>
                <a:off x="8721000" y="970560"/>
                <a:ext cx="18288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4" name=""/>
          <p:cNvGrpSpPr/>
          <p:nvPr/>
        </p:nvGrpSpPr>
        <p:grpSpPr>
          <a:xfrm>
            <a:off x="480240" y="1457280"/>
            <a:ext cx="8098560" cy="4559400"/>
            <a:chOff x="480240" y="1457280"/>
            <a:chExt cx="8098560" cy="4559400"/>
          </a:xfrm>
        </p:grpSpPr>
        <p:sp>
          <p:nvSpPr>
            <p:cNvPr id="695" name=""/>
            <p:cNvSpPr/>
            <p:nvPr/>
          </p:nvSpPr>
          <p:spPr>
            <a:xfrm>
              <a:off x="1233360" y="2200320"/>
              <a:ext cx="7345440" cy="381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615960" y="3749760"/>
              <a:ext cx="601560" cy="323640"/>
              <a:chOff x="615960" y="3749760"/>
              <a:chExt cx="601560" cy="323640"/>
            </a:xfrm>
          </p:grpSpPr>
          <p:sp>
            <p:nvSpPr>
              <p:cNvPr id="697" name=""/>
              <p:cNvSpPr/>
              <p:nvPr/>
            </p:nvSpPr>
            <p:spPr>
              <a:xfrm flipH="1">
                <a:off x="884160" y="391140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5960" y="3749760"/>
                <a:ext cx="322200" cy="323640"/>
              </a:xfrm>
              <a:prstGeom prst="ellipse">
                <a:avLst/>
              </a:prstGeom>
              <a:solidFill>
                <a:srgbClr val="ffcf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2139840" y="1789200"/>
              <a:ext cx="324000" cy="411120"/>
              <a:chOff x="2139840" y="1789200"/>
              <a:chExt cx="324000" cy="411120"/>
            </a:xfrm>
          </p:grpSpPr>
          <p:sp>
            <p:nvSpPr>
              <p:cNvPr id="700" name=""/>
              <p:cNvSpPr/>
              <p:nvPr/>
            </p:nvSpPr>
            <p:spPr>
              <a:xfrm flipV="1">
                <a:off x="2301840" y="186696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5400000">
                <a:off x="2140560" y="1788120"/>
                <a:ext cx="322200" cy="32400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2241720" y="3278160"/>
              <a:ext cx="4032000" cy="151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onolithic execu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93720" y="5440320"/>
              <a:ext cx="532944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23160" y="2631960"/>
              <a:ext cx="1368360" cy="309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1954080" y="3784680"/>
              <a:ext cx="288360" cy="231840"/>
              <a:chOff x="1954080" y="3784680"/>
              <a:chExt cx="288360" cy="231840"/>
            </a:xfrm>
          </p:grpSpPr>
          <p:sp>
            <p:nvSpPr>
              <p:cNvPr id="706" name=""/>
              <p:cNvSpPr/>
              <p:nvPr/>
            </p:nvSpPr>
            <p:spPr>
              <a:xfrm flipH="1">
                <a:off x="2008080" y="3900600"/>
                <a:ext cx="23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954080" y="3784680"/>
                <a:ext cx="226440" cy="231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2386080" y="2990880"/>
              <a:ext cx="231840" cy="288360"/>
              <a:chOff x="2386080" y="2990880"/>
              <a:chExt cx="231840" cy="288360"/>
            </a:xfrm>
          </p:grpSpPr>
          <p:sp>
            <p:nvSpPr>
              <p:cNvPr id="709" name=""/>
              <p:cNvSpPr/>
              <p:nvPr/>
            </p:nvSpPr>
            <p:spPr>
              <a:xfrm flipV="1">
                <a:off x="2502000" y="3045240"/>
                <a:ext cx="0" cy="23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5400000">
                <a:off x="2388960" y="2988000"/>
                <a:ext cx="226080" cy="231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5492520" y="2990880"/>
              <a:ext cx="231480" cy="288360"/>
              <a:chOff x="5492520" y="2990880"/>
              <a:chExt cx="231480" cy="288360"/>
            </a:xfrm>
          </p:grpSpPr>
          <p:sp>
            <p:nvSpPr>
              <p:cNvPr id="712" name=""/>
              <p:cNvSpPr/>
              <p:nvPr/>
            </p:nvSpPr>
            <p:spPr>
              <a:xfrm flipV="1">
                <a:off x="5608440" y="3045240"/>
                <a:ext cx="0" cy="23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5400000">
                <a:off x="5495040" y="2988000"/>
                <a:ext cx="226080" cy="2314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4141800" y="5146560"/>
              <a:ext cx="231840" cy="288360"/>
              <a:chOff x="4141800" y="5146560"/>
              <a:chExt cx="231840" cy="288360"/>
            </a:xfrm>
          </p:grpSpPr>
          <p:sp>
            <p:nvSpPr>
              <p:cNvPr id="715" name=""/>
              <p:cNvSpPr/>
              <p:nvPr/>
            </p:nvSpPr>
            <p:spPr>
              <a:xfrm flipV="1">
                <a:off x="4257720" y="5200560"/>
                <a:ext cx="0" cy="23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5400000">
                <a:off x="4144320" y="5143680"/>
                <a:ext cx="226440" cy="231840"/>
              </a:xfrm>
              <a:prstGeom prst="ellipse">
                <a:avLst/>
              </a:pr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6634080" y="4000680"/>
              <a:ext cx="288360" cy="231480"/>
              <a:chOff x="6634080" y="4000680"/>
              <a:chExt cx="288360" cy="231480"/>
            </a:xfrm>
          </p:grpSpPr>
          <p:sp>
            <p:nvSpPr>
              <p:cNvPr id="718" name=""/>
              <p:cNvSpPr/>
              <p:nvPr/>
            </p:nvSpPr>
            <p:spPr>
              <a:xfrm flipH="1">
                <a:off x="6688080" y="4116240"/>
                <a:ext cx="23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634080" y="4000680"/>
                <a:ext cx="226440" cy="231480"/>
              </a:xfrm>
              <a:prstGeom prst="ellipse">
                <a:avLst/>
              </a:pr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6202440" y="410544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26120" y="4038480"/>
              <a:ext cx="73080" cy="144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25120" y="2660760"/>
              <a:ext cx="136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CCM_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512000" y="34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ahoma"/>
                </a:rPr>
                <a:t>CCM_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996160" y="3668760"/>
              <a:ext cx="22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ahoma"/>
                </a:rPr>
                <a:t>CCM_Server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34400" y="1457280"/>
              <a:ext cx="83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0240" y="3402000"/>
              <a:ext cx="90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341440" y="2273400"/>
              <a:ext cx="142920" cy="431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58920" y="393048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725720" y="2660760"/>
              <a:ext cx="211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ssion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680" y="4838760"/>
              <a:ext cx="173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ssion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64000" y="2344680"/>
              <a:ext cx="144720" cy="360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8250120" y="4797360"/>
            <a:ext cx="642960" cy="304920"/>
            <a:chOff x="8250120" y="4797360"/>
            <a:chExt cx="642960" cy="304920"/>
          </a:xfrm>
        </p:grpSpPr>
        <p:sp>
          <p:nvSpPr>
            <p:cNvPr id="733" name=""/>
            <p:cNvSpPr/>
            <p:nvPr/>
          </p:nvSpPr>
          <p:spPr>
            <a:xfrm flipH="1">
              <a:off x="8380440" y="495000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250120" y="4876920"/>
              <a:ext cx="128880" cy="1458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601120" y="4797360"/>
              <a:ext cx="291960" cy="30492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476-EF0D-4C91-9AB5-98CBBCC87BD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Server-Side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MG IDL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pping rules : 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Client Compon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ain component executor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local interface CCM_Client_Executor : ::demo3::CCM_NamedComponent_Execu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pt-B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pt-B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onolithic component executor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local interface CCM_Client : ::demo3::CCM_Client_Execu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pt-B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pt-B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mponent-specific context interfa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local interface CCM_Client_Context : ::demo3::CCM_NamedComponent_Con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::demo3::Service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 get_connection_the_servic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6877080" y="476280"/>
            <a:ext cx="2131920" cy="1655640"/>
            <a:chOff x="6877080" y="476280"/>
            <a:chExt cx="2131920" cy="1655640"/>
          </a:xfrm>
        </p:grpSpPr>
        <p:grpSp>
          <p:nvGrpSpPr>
            <p:cNvPr id="739" name=""/>
            <p:cNvGrpSpPr/>
            <p:nvPr/>
          </p:nvGrpSpPr>
          <p:grpSpPr>
            <a:xfrm>
              <a:off x="6877080" y="476280"/>
              <a:ext cx="1728720" cy="1655640"/>
              <a:chOff x="6877080" y="476280"/>
              <a:chExt cx="1728720" cy="1655640"/>
            </a:xfrm>
          </p:grpSpPr>
          <p:grpSp>
            <p:nvGrpSpPr>
              <p:cNvPr id="740" name=""/>
              <p:cNvGrpSpPr/>
              <p:nvPr/>
            </p:nvGrpSpPr>
            <p:grpSpPr>
              <a:xfrm>
                <a:off x="7669440" y="476280"/>
                <a:ext cx="339120" cy="431280"/>
                <a:chOff x="7669440" y="476280"/>
                <a:chExt cx="339120" cy="431280"/>
              </a:xfrm>
            </p:grpSpPr>
            <p:sp>
              <p:nvSpPr>
                <p:cNvPr id="741" name=""/>
                <p:cNvSpPr/>
                <p:nvPr/>
              </p:nvSpPr>
              <p:spPr>
                <a:xfrm flipV="1">
                  <a:off x="7839000" y="557640"/>
                  <a:ext cx="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rot="5400000">
                  <a:off x="7669800" y="475560"/>
                  <a:ext cx="338040" cy="3391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3" name=""/>
              <p:cNvSpPr/>
              <p:nvPr/>
            </p:nvSpPr>
            <p:spPr>
              <a:xfrm>
                <a:off x="6877080" y="907920"/>
                <a:ext cx="1728720" cy="122400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mpon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8532720" y="1413000"/>
              <a:ext cx="476280" cy="280800"/>
              <a:chOff x="8532720" y="1413000"/>
              <a:chExt cx="476280" cy="280800"/>
            </a:xfrm>
          </p:grpSpPr>
          <p:grpSp>
            <p:nvGrpSpPr>
              <p:cNvPr id="745" name=""/>
              <p:cNvGrpSpPr/>
              <p:nvPr/>
            </p:nvGrpSpPr>
            <p:grpSpPr>
              <a:xfrm>
                <a:off x="8532720" y="1537920"/>
                <a:ext cx="146520" cy="39240"/>
                <a:chOff x="8532720" y="1537920"/>
                <a:chExt cx="146520" cy="39240"/>
              </a:xfrm>
            </p:grpSpPr>
            <p:sp>
              <p:nvSpPr>
                <p:cNvPr id="746" name=""/>
                <p:cNvSpPr/>
                <p:nvPr/>
              </p:nvSpPr>
              <p:spPr>
                <a:xfrm flipH="1">
                  <a:off x="8569440" y="155736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8532720" y="153792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 rot="16200000">
                <a:off x="8704800" y="1389600"/>
                <a:ext cx="28080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4B43-2D83-4811-858A-F6B2F4EEA74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Server-Side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MG IDL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pping rules : 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Client Compon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urier New"/>
                <a:ea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6877080" y="260280"/>
            <a:ext cx="2131920" cy="1655640"/>
            <a:chOff x="6877080" y="260280"/>
            <a:chExt cx="2131920" cy="1655640"/>
          </a:xfrm>
        </p:grpSpPr>
        <p:grpSp>
          <p:nvGrpSpPr>
            <p:cNvPr id="752" name=""/>
            <p:cNvGrpSpPr/>
            <p:nvPr/>
          </p:nvGrpSpPr>
          <p:grpSpPr>
            <a:xfrm>
              <a:off x="6877080" y="260280"/>
              <a:ext cx="1728720" cy="1655640"/>
              <a:chOff x="6877080" y="260280"/>
              <a:chExt cx="1728720" cy="1655640"/>
            </a:xfrm>
          </p:grpSpPr>
          <p:grpSp>
            <p:nvGrpSpPr>
              <p:cNvPr id="753" name=""/>
              <p:cNvGrpSpPr/>
              <p:nvPr/>
            </p:nvGrpSpPr>
            <p:grpSpPr>
              <a:xfrm>
                <a:off x="7669440" y="260280"/>
                <a:ext cx="339120" cy="431280"/>
                <a:chOff x="7669440" y="260280"/>
                <a:chExt cx="339120" cy="431280"/>
              </a:xfrm>
            </p:grpSpPr>
            <p:sp>
              <p:nvSpPr>
                <p:cNvPr id="754" name=""/>
                <p:cNvSpPr/>
                <p:nvPr/>
              </p:nvSpPr>
              <p:spPr>
                <a:xfrm flipV="1">
                  <a:off x="7839000" y="341640"/>
                  <a:ext cx="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rot="5400000">
                  <a:off x="7669800" y="259560"/>
                  <a:ext cx="338040" cy="3391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6" name=""/>
              <p:cNvSpPr/>
              <p:nvPr/>
            </p:nvSpPr>
            <p:spPr>
              <a:xfrm>
                <a:off x="6877080" y="691920"/>
                <a:ext cx="1728720" cy="122400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mpon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8532720" y="1197000"/>
              <a:ext cx="476280" cy="280800"/>
              <a:chOff x="8532720" y="1197000"/>
              <a:chExt cx="476280" cy="280800"/>
            </a:xfrm>
          </p:grpSpPr>
          <p:grpSp>
            <p:nvGrpSpPr>
              <p:cNvPr id="758" name=""/>
              <p:cNvGrpSpPr/>
              <p:nvPr/>
            </p:nvGrpSpPr>
            <p:grpSpPr>
              <a:xfrm>
                <a:off x="8532720" y="1321920"/>
                <a:ext cx="146520" cy="39240"/>
                <a:chOff x="8532720" y="1321920"/>
                <a:chExt cx="146520" cy="39240"/>
              </a:xfrm>
            </p:grpSpPr>
            <p:sp>
              <p:nvSpPr>
                <p:cNvPr id="759" name=""/>
                <p:cNvSpPr/>
                <p:nvPr/>
              </p:nvSpPr>
              <p:spPr>
                <a:xfrm flipH="1">
                  <a:off x="8569440" y="134136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8532720" y="132192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1" name=""/>
              <p:cNvSpPr/>
              <p:nvPr/>
            </p:nvSpPr>
            <p:spPr>
              <a:xfrm rot="16200000">
                <a:off x="8704800" y="1173600"/>
                <a:ext cx="28080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2" name=""/>
          <p:cNvGrpSpPr/>
          <p:nvPr/>
        </p:nvGrpSpPr>
        <p:grpSpPr>
          <a:xfrm>
            <a:off x="684360" y="1557360"/>
            <a:ext cx="7785720" cy="4559400"/>
            <a:chOff x="684360" y="1557360"/>
            <a:chExt cx="7785720" cy="4559400"/>
          </a:xfrm>
        </p:grpSpPr>
        <p:sp>
          <p:nvSpPr>
            <p:cNvPr id="763" name=""/>
            <p:cNvSpPr/>
            <p:nvPr/>
          </p:nvSpPr>
          <p:spPr>
            <a:xfrm>
              <a:off x="684360" y="2300400"/>
              <a:ext cx="7345080" cy="381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1590120" y="1889280"/>
              <a:ext cx="323640" cy="411120"/>
              <a:chOff x="1590120" y="1889280"/>
              <a:chExt cx="323640" cy="411120"/>
            </a:xfrm>
          </p:grpSpPr>
          <p:sp>
            <p:nvSpPr>
              <p:cNvPr id="765" name=""/>
              <p:cNvSpPr/>
              <p:nvPr/>
            </p:nvSpPr>
            <p:spPr>
              <a:xfrm flipV="1">
                <a:off x="1752120" y="196704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5400000">
                <a:off x="1590840" y="1888560"/>
                <a:ext cx="32220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" name=""/>
            <p:cNvSpPr/>
            <p:nvPr/>
          </p:nvSpPr>
          <p:spPr>
            <a:xfrm>
              <a:off x="1692360" y="3378240"/>
              <a:ext cx="4031640" cy="151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onolithic execu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44360" y="5540400"/>
              <a:ext cx="532908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373800" y="2732040"/>
              <a:ext cx="1368000" cy="309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1836360" y="3090960"/>
              <a:ext cx="231480" cy="288360"/>
              <a:chOff x="1836360" y="3090960"/>
              <a:chExt cx="231480" cy="288360"/>
            </a:xfrm>
          </p:grpSpPr>
          <p:sp>
            <p:nvSpPr>
              <p:cNvPr id="771" name=""/>
              <p:cNvSpPr/>
              <p:nvPr/>
            </p:nvSpPr>
            <p:spPr>
              <a:xfrm flipV="1">
                <a:off x="1952280" y="3145320"/>
                <a:ext cx="0" cy="23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5400000">
                <a:off x="1838880" y="3088080"/>
                <a:ext cx="226080" cy="231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4943520" y="3090960"/>
              <a:ext cx="231120" cy="288360"/>
              <a:chOff x="4943520" y="3090960"/>
              <a:chExt cx="231120" cy="288360"/>
            </a:xfrm>
          </p:grpSpPr>
          <p:sp>
            <p:nvSpPr>
              <p:cNvPr id="774" name=""/>
              <p:cNvSpPr/>
              <p:nvPr/>
            </p:nvSpPr>
            <p:spPr>
              <a:xfrm flipV="1">
                <a:off x="5059080" y="3145320"/>
                <a:ext cx="0" cy="23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5400000">
                <a:off x="4946040" y="3088440"/>
                <a:ext cx="226080" cy="2311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3592080" y="5246640"/>
              <a:ext cx="231480" cy="288360"/>
              <a:chOff x="3592080" y="5246640"/>
              <a:chExt cx="231480" cy="288360"/>
            </a:xfrm>
          </p:grpSpPr>
          <p:sp>
            <p:nvSpPr>
              <p:cNvPr id="777" name=""/>
              <p:cNvSpPr/>
              <p:nvPr/>
            </p:nvSpPr>
            <p:spPr>
              <a:xfrm flipV="1">
                <a:off x="3708000" y="5300640"/>
                <a:ext cx="0" cy="23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5400000">
                <a:off x="3594600" y="5244120"/>
                <a:ext cx="226440" cy="231480"/>
              </a:xfrm>
              <a:prstGeom prst="ellipse">
                <a:avLst/>
              </a:pr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6084720" y="4100760"/>
              <a:ext cx="288360" cy="231480"/>
              <a:chOff x="6084720" y="4100760"/>
              <a:chExt cx="288360" cy="231480"/>
            </a:xfrm>
          </p:grpSpPr>
          <p:sp>
            <p:nvSpPr>
              <p:cNvPr id="780" name=""/>
              <p:cNvSpPr/>
              <p:nvPr/>
            </p:nvSpPr>
            <p:spPr>
              <a:xfrm flipH="1">
                <a:off x="6139080" y="4216320"/>
                <a:ext cx="23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084720" y="4100760"/>
                <a:ext cx="226080" cy="231480"/>
              </a:xfrm>
              <a:prstGeom prst="ellipse">
                <a:avLst/>
              </a:pr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2" name=""/>
            <p:cNvSpPr/>
            <p:nvPr/>
          </p:nvSpPr>
          <p:spPr>
            <a:xfrm>
              <a:off x="5653080" y="4205520"/>
              <a:ext cx="36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76760" y="4138560"/>
              <a:ext cx="72720" cy="144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167120" y="2760840"/>
              <a:ext cx="13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CCM_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38520" y="3768840"/>
              <a:ext cx="21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ahoma"/>
                </a:rPr>
                <a:t>CCM_Client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076760" y="1557360"/>
              <a:ext cx="7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ahoma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92080" y="2373480"/>
              <a:ext cx="142560" cy="431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176360" y="2760840"/>
              <a:ext cx="211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ssion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956320" y="4938840"/>
              <a:ext cx="173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ssion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814640" y="2444760"/>
              <a:ext cx="144360" cy="360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7694640" y="3600360"/>
              <a:ext cx="775440" cy="609840"/>
              <a:chOff x="7694640" y="3600360"/>
              <a:chExt cx="775440" cy="60984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7694640" y="3871800"/>
                <a:ext cx="238680" cy="85680"/>
                <a:chOff x="7694640" y="3871800"/>
                <a:chExt cx="238680" cy="85680"/>
              </a:xfrm>
            </p:grpSpPr>
            <p:sp>
              <p:nvSpPr>
                <p:cNvPr id="793" name=""/>
                <p:cNvSpPr/>
                <p:nvPr/>
              </p:nvSpPr>
              <p:spPr>
                <a:xfrm flipH="1">
                  <a:off x="7754400" y="3914640"/>
                  <a:ext cx="178920" cy="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7694640" y="3871800"/>
                  <a:ext cx="88560" cy="856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 rot="16200000">
                <a:off x="7898760" y="3638880"/>
                <a:ext cx="609840" cy="5328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8A67-0A9A-430F-993B-D8F4A0247DE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Server-Side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MG IDL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pping rules : 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Consumer Compon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local interface CCM_TextEventConsum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void push(in ::demo3::Text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ain component executor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local interface CCM_Consumer_Executor : ::demo3::CCM_NamedComponent_Execu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pt-B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pt-B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onolithic component executor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local interface CCM_Consumer : ::demo3::CCM_Consumer_Execu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pt-B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    </a:t>
            </a:r>
            <a:r>
              <a:rPr b="1" lang="pt-B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void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push_from_servers(in ::demo3::Text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pt-B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};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mponent-specific context interfa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local interface CCM_Consumer_Context : ::demo3::CCM_NamedComponent_Con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pt-B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{ 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6443640" y="549360"/>
            <a:ext cx="2449080" cy="1584360"/>
            <a:chOff x="6443640" y="549360"/>
            <a:chExt cx="2449080" cy="1584360"/>
          </a:xfrm>
        </p:grpSpPr>
        <p:sp>
          <p:nvSpPr>
            <p:cNvPr id="799" name=""/>
            <p:cNvSpPr/>
            <p:nvPr/>
          </p:nvSpPr>
          <p:spPr>
            <a:xfrm>
              <a:off x="7109640" y="1096920"/>
              <a:ext cx="1783080" cy="10368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nsu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6443640" y="1413000"/>
              <a:ext cx="698040" cy="404280"/>
              <a:chOff x="6443640" y="1413000"/>
              <a:chExt cx="698040" cy="404280"/>
            </a:xfrm>
          </p:grpSpPr>
          <p:sp>
            <p:nvSpPr>
              <p:cNvPr id="801" name=""/>
              <p:cNvSpPr/>
              <p:nvPr/>
            </p:nvSpPr>
            <p:spPr>
              <a:xfrm flipH="1">
                <a:off x="6781320" y="161280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43640" y="1413000"/>
                <a:ext cx="360360" cy="4042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7813080" y="549360"/>
              <a:ext cx="375840" cy="546840"/>
              <a:chOff x="7813080" y="549360"/>
              <a:chExt cx="375840" cy="546840"/>
            </a:xfrm>
          </p:grpSpPr>
          <p:sp>
            <p:nvSpPr>
              <p:cNvPr id="804" name=""/>
              <p:cNvSpPr/>
              <p:nvPr/>
            </p:nvSpPr>
            <p:spPr>
              <a:xfrm flipV="1">
                <a:off x="8001000" y="652320"/>
                <a:ext cx="0" cy="44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5400000">
                <a:off x="7786440" y="575640"/>
                <a:ext cx="428760" cy="3758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8AB-A2A9-4FF5-ABC8-A06D4B995274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Server-Side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MG IDL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pping rules : 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Consumer Compon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urier New"/>
                <a:ea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48960" y="1457280"/>
            <a:ext cx="8569800" cy="4559400"/>
            <a:chOff x="48960" y="1457280"/>
            <a:chExt cx="8569800" cy="4559400"/>
          </a:xfrm>
        </p:grpSpPr>
        <p:sp>
          <p:nvSpPr>
            <p:cNvPr id="809" name=""/>
            <p:cNvSpPr/>
            <p:nvPr/>
          </p:nvSpPr>
          <p:spPr>
            <a:xfrm>
              <a:off x="1233360" y="2200320"/>
              <a:ext cx="7345440" cy="381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2139840" y="1789200"/>
              <a:ext cx="324000" cy="411120"/>
              <a:chOff x="2139840" y="1789200"/>
              <a:chExt cx="324000" cy="411120"/>
            </a:xfrm>
          </p:grpSpPr>
          <p:sp>
            <p:nvSpPr>
              <p:cNvPr id="811" name=""/>
              <p:cNvSpPr/>
              <p:nvPr/>
            </p:nvSpPr>
            <p:spPr>
              <a:xfrm flipV="1">
                <a:off x="2301840" y="186696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5400000">
                <a:off x="2140560" y="1788120"/>
                <a:ext cx="322200" cy="32400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2241720" y="3278160"/>
              <a:ext cx="4032000" cy="151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onolithic Execu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93720" y="5440320"/>
              <a:ext cx="532944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923160" y="2631960"/>
              <a:ext cx="1368360" cy="309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1954080" y="3784680"/>
              <a:ext cx="288360" cy="231840"/>
              <a:chOff x="1954080" y="3784680"/>
              <a:chExt cx="288360" cy="231840"/>
            </a:xfrm>
          </p:grpSpPr>
          <p:sp>
            <p:nvSpPr>
              <p:cNvPr id="817" name=""/>
              <p:cNvSpPr/>
              <p:nvPr/>
            </p:nvSpPr>
            <p:spPr>
              <a:xfrm flipH="1">
                <a:off x="2008080" y="3900600"/>
                <a:ext cx="23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954080" y="3784680"/>
                <a:ext cx="226440" cy="231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2386080" y="2990880"/>
              <a:ext cx="231840" cy="288360"/>
              <a:chOff x="2386080" y="2990880"/>
              <a:chExt cx="231840" cy="28836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2502000" y="3045240"/>
                <a:ext cx="0" cy="23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5400000">
                <a:off x="2388960" y="2988000"/>
                <a:ext cx="226080" cy="231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5492520" y="2990880"/>
              <a:ext cx="231480" cy="288360"/>
              <a:chOff x="5492520" y="2990880"/>
              <a:chExt cx="231480" cy="288360"/>
            </a:xfrm>
          </p:grpSpPr>
          <p:sp>
            <p:nvSpPr>
              <p:cNvPr id="823" name=""/>
              <p:cNvSpPr/>
              <p:nvPr/>
            </p:nvSpPr>
            <p:spPr>
              <a:xfrm flipV="1">
                <a:off x="5608440" y="3045240"/>
                <a:ext cx="0" cy="23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5400000">
                <a:off x="5495040" y="2988000"/>
                <a:ext cx="226080" cy="2314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4141800" y="5146560"/>
              <a:ext cx="231840" cy="288360"/>
              <a:chOff x="4141800" y="5146560"/>
              <a:chExt cx="231840" cy="288360"/>
            </a:xfrm>
          </p:grpSpPr>
          <p:sp>
            <p:nvSpPr>
              <p:cNvPr id="826" name=""/>
              <p:cNvSpPr/>
              <p:nvPr/>
            </p:nvSpPr>
            <p:spPr>
              <a:xfrm flipV="1">
                <a:off x="4257720" y="5200560"/>
                <a:ext cx="0" cy="23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5400000">
                <a:off x="4144320" y="5143680"/>
                <a:ext cx="226440" cy="231840"/>
              </a:xfrm>
              <a:prstGeom prst="ellipse">
                <a:avLst/>
              </a:pr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6634080" y="4000680"/>
              <a:ext cx="288360" cy="231480"/>
              <a:chOff x="6634080" y="4000680"/>
              <a:chExt cx="288360" cy="231480"/>
            </a:xfrm>
          </p:grpSpPr>
          <p:sp>
            <p:nvSpPr>
              <p:cNvPr id="829" name=""/>
              <p:cNvSpPr/>
              <p:nvPr/>
            </p:nvSpPr>
            <p:spPr>
              <a:xfrm flipH="1">
                <a:off x="6688080" y="4116240"/>
                <a:ext cx="23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634080" y="4000680"/>
                <a:ext cx="226440" cy="231480"/>
              </a:xfrm>
              <a:prstGeom prst="ellipse">
                <a:avLst/>
              </a:pr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6202440" y="410544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26120" y="4038480"/>
              <a:ext cx="73080" cy="144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716120" y="266076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CCM_Consu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508040" y="3452760"/>
              <a:ext cx="275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CCM_TextEventConsu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987520" y="3668760"/>
              <a:ext cx="263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CCM_Consumer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625760" y="1457280"/>
              <a:ext cx="121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ahoma"/>
                </a:rPr>
                <a:t>Consu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960" y="4172040"/>
              <a:ext cx="222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ahoma"/>
                </a:rPr>
                <a:t>TextEventConsu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341440" y="2273400"/>
              <a:ext cx="142920" cy="431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58920" y="393048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725720" y="2660760"/>
              <a:ext cx="211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Session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505680" y="4838760"/>
              <a:ext cx="173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ssion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364000" y="2344680"/>
              <a:ext cx="144720" cy="360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611280" y="3789360"/>
              <a:ext cx="600120" cy="304560"/>
              <a:chOff x="611280" y="3789360"/>
              <a:chExt cx="600120" cy="304560"/>
            </a:xfrm>
          </p:grpSpPr>
          <p:sp>
            <p:nvSpPr>
              <p:cNvPr id="844" name=""/>
              <p:cNvSpPr/>
              <p:nvPr/>
            </p:nvSpPr>
            <p:spPr>
              <a:xfrm flipH="1">
                <a:off x="901800" y="3939840"/>
                <a:ext cx="30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11280" y="3789360"/>
                <a:ext cx="309600" cy="30456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6" name=""/>
          <p:cNvGrpSpPr/>
          <p:nvPr/>
        </p:nvGrpSpPr>
        <p:grpSpPr>
          <a:xfrm>
            <a:off x="6948360" y="692280"/>
            <a:ext cx="1873440" cy="1296360"/>
            <a:chOff x="6948360" y="692280"/>
            <a:chExt cx="1873440" cy="1296360"/>
          </a:xfrm>
        </p:grpSpPr>
        <p:sp>
          <p:nvSpPr>
            <p:cNvPr id="847" name=""/>
            <p:cNvSpPr/>
            <p:nvPr/>
          </p:nvSpPr>
          <p:spPr>
            <a:xfrm>
              <a:off x="7457760" y="1140120"/>
              <a:ext cx="1364040" cy="8485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nsu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6948360" y="1398960"/>
              <a:ext cx="534240" cy="330480"/>
              <a:chOff x="6948360" y="1398960"/>
              <a:chExt cx="534240" cy="330480"/>
            </a:xfrm>
          </p:grpSpPr>
          <p:sp>
            <p:nvSpPr>
              <p:cNvPr id="849" name=""/>
              <p:cNvSpPr/>
              <p:nvPr/>
            </p:nvSpPr>
            <p:spPr>
              <a:xfrm flipH="1">
                <a:off x="7206840" y="1562400"/>
                <a:ext cx="275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948360" y="1398960"/>
                <a:ext cx="275760" cy="33048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7995600" y="692280"/>
              <a:ext cx="288000" cy="447480"/>
              <a:chOff x="7995600" y="692280"/>
              <a:chExt cx="288000" cy="447480"/>
            </a:xfrm>
          </p:grpSpPr>
          <p:sp>
            <p:nvSpPr>
              <p:cNvPr id="852" name=""/>
              <p:cNvSpPr/>
              <p:nvPr/>
            </p:nvSpPr>
            <p:spPr>
              <a:xfrm flipV="1">
                <a:off x="8139600" y="776880"/>
                <a:ext cx="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5400000">
                <a:off x="7964280" y="723600"/>
                <a:ext cx="350640" cy="28800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DE3-31CB-4E55-90E2-8D43FA87220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Generating the Java OpenCCM skeleton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ssociated to demo3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3170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cript id3_java.bat allows to generate skelet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69696"/>
                </a:solidFill>
                <a:latin typeface="Courier New"/>
                <a:ea typeface="Courier New"/>
              </a:rPr>
              <a:t>	</a:t>
            </a:r>
            <a:r>
              <a:rPr b="1" lang="en-GB" sz="2000" spc="-1" strike="noStrike">
                <a:solidFill>
                  <a:srgbClr val="969696"/>
                </a:solidFill>
                <a:latin typeface="Courier New"/>
                <a:ea typeface="Courier New"/>
              </a:rPr>
              <a:t>C:\OpenCCM\demo\demo3&gt;ir3_java ::demo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Files generated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3780000" y="1557360"/>
          <a:ext cx="4779720" cy="4647960"/>
        </p:xfrm>
        <a:graphic>
          <a:graphicData uri="http://schemas.openxmlformats.org/drawingml/2006/table">
            <a:tbl>
              <a:tblPr/>
              <a:tblGrid>
                <a:gridCol w="4779720"/>
              </a:tblGrid>
              <a:tr h="46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ientCCM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ientHomeCCM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ientHomeSkeletonIntercepto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ientHomeStubIntercepto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ientManagerCCM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ientManagerSkeletonIntercepto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ientManagerStubIntercepto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ientMonolithicWrappe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ientSkeletonIntercepto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umerCCM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umerHomeCCM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umerHomeSkeletonIntercepto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umerHomeStubIntercepto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umerManagerCCM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umerManagerSkeletonIntercepto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umerManagerStubIntercepto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umerMonolithicWrappe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umerSkeletonIntercepto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7C7-B40A-4BD2-A870-F86A36DF7ADB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Generating the Java OpenCCM skeleton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ssociated to demo3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1476360" y="1413000"/>
          <a:ext cx="6912000" cy="4903560"/>
        </p:xfrm>
        <a:graphic>
          <a:graphicData uri="http://schemas.openxmlformats.org/drawingml/2006/table">
            <a:tbl>
              <a:tblPr/>
              <a:tblGrid>
                <a:gridCol w="6912000"/>
              </a:tblGrid>
              <a:tr h="49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medComponentCCM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medComponentMonolithicWrappe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medComponentSkeletonIntercepto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mePrimaryKeyFactoryHelpe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rverCCM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rverHomeCCM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rverHomeSkeletonIntercepto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rverHomeStubIntercepto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rverManagerCCM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rverManagerSkeletonIntercepto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rverManagerStubIntercepto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rverMonolithicWrappe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rverSkeletonIntercepto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rviceSkeletonIntercepto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rviceStubIntercepto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xtEventConsumerSkeletonIntercepto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xtEventConsumerStubIntercepto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xtEventConsumerWrappe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xtEventFactoryHelper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FD6-F3BB-4422-9F6A-95CC591BD27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enerating Java CORBA 2 stub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0" lang="en-GB" sz="2800" spc="-1" strike="noStrike">
                <a:solidFill>
                  <a:srgbClr val="3333ff"/>
                </a:solidFill>
                <a:latin typeface="Tahoma"/>
              </a:rPr>
              <a:t>jid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compiler for </a:t>
            </a:r>
            <a:r>
              <a:rPr b="0" lang="en-GB" sz="2800" spc="-1" strike="noStrike">
                <a:solidFill>
                  <a:srgbClr val="3333ff"/>
                </a:solidFill>
                <a:latin typeface="Tahoma"/>
              </a:rPr>
              <a:t>ORBacus-4.1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--tie option allows to generate tie classes, -I option to  include idl files, this generate stubs for demo3 in demo3\generated\stubs direc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69696"/>
                </a:solidFill>
                <a:latin typeface="Courier New"/>
                <a:ea typeface="Courier New"/>
              </a:rPr>
              <a:t>	</a:t>
            </a:r>
            <a:r>
              <a:rPr b="1" lang="en-GB" sz="2000" spc="-1" strike="noStrike">
                <a:solidFill>
                  <a:srgbClr val="969696"/>
                </a:solidFill>
                <a:latin typeface="Courier New"/>
                <a:ea typeface="Courier New"/>
              </a:rPr>
              <a:t>C:\OpenCCM\demo\demo3&gt;jidl --auto-package --tie -I. -I../../ORBacus-4.1/idl --output-dir generated/stubs demo3.id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168-19D6-4902-BAB4-FB5F737A357F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ing the Client/Server –Producer/Consumer OpenCCM exampl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w we have to implement this example by writing Java implementation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functional parts of the application have to be implem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s to write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63" name=""/>
          <p:cNvGraphicFramePr/>
          <p:nvPr/>
        </p:nvGraphicFramePr>
        <p:xfrm>
          <a:off x="4067280" y="3284640"/>
          <a:ext cx="3024000" cy="2347920"/>
        </p:xfrm>
        <a:graphic>
          <a:graphicData uri="http://schemas.openxmlformats.org/drawingml/2006/table">
            <a:tbl>
              <a:tblPr/>
              <a:tblGrid>
                <a:gridCol w="3024000"/>
              </a:tblGrid>
              <a:tr h="23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ientHomeImpl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ientImpl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umerHomeImpl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umerImpl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mo3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rverHomeImpl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rverImpl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xtEventDefaultFactory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xtEventImpl.j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05D-3BA7-42AB-A7B5-A53D76F6679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ing the Client/Server –Producer/Consumer OpenCCM exampl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ahoma"/>
              </a:rPr>
              <a:t>Demo3.jav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s the bootstrap of the application, here we have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itialise the ORB, obtain the Name Servi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component servers ComponentServer1 and ComponentServer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the container ho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stantiate a container on each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stall homes for Client, Server and Consu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reate components with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create(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method of homes : here we have three clients, three consumers and one server-produc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figure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nect each client and consumer to serv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ll the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configuration_complete(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method of component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052-EA34-4304-925B-BA03FCB1C0E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genda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MG IDL3 : design the application by defining components and assembling component insta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penCCM compilation and generation chain for the demo3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penCCM execution chain for the demo3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ckage, assembly and deploy the CCM application with XML descriptors (edited using simple GU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994-D404-4119-88D2-1331A8436274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ing the Client/Server –Producer/Consumer OpenCCM exampl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281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ff"/>
                </a:solidFill>
                <a:latin typeface="Tahoma"/>
              </a:rPr>
              <a:t>Demo3.jav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nect each client and consumer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ice the_service = </a:t>
            </a:r>
            <a:r>
              <a:rPr b="1" lang="en-US" sz="1800" spc="-1" strike="noStrike">
                <a:solidFill>
                  <a:srgbClr val="ffcf01"/>
                </a:solidFill>
                <a:latin typeface="Courier New"/>
                <a:ea typeface="Courier New"/>
              </a:rPr>
              <a:t>s.provide_the_servic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d200"/>
                </a:solidFill>
                <a:latin typeface="Courier New"/>
                <a:ea typeface="Courier New"/>
              </a:rPr>
              <a:t>c1.connect_the_service(the_servic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d200"/>
                </a:solidFill>
                <a:latin typeface="Courier New"/>
                <a:ea typeface="Courier New"/>
              </a:rPr>
              <a:t>c2.connect_the_service(the_servic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d200"/>
                </a:solidFill>
                <a:latin typeface="Courier New"/>
                <a:ea typeface="Courier New"/>
              </a:rPr>
              <a:t>c3.connect_the_service(the_servic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Courier New"/>
                <a:ea typeface="Courier New"/>
              </a:rPr>
              <a:t>s.subscribe_to_consum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s1.get_consumer_from_serv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Courier New"/>
                <a:ea typeface="Courier New"/>
              </a:rPr>
              <a:t>s.subscribe_to_consum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s2.get_consumer_from_serv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Courier New"/>
                <a:ea typeface="Courier New"/>
              </a:rPr>
              <a:t>s.subscribe_to_consum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s3.get_consumer_from_serv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2484360" y="1916280"/>
            <a:ext cx="5976720" cy="1439280"/>
            <a:chOff x="2484360" y="1916280"/>
            <a:chExt cx="5976720" cy="1439280"/>
          </a:xfrm>
        </p:grpSpPr>
        <p:grpSp>
          <p:nvGrpSpPr>
            <p:cNvPr id="869" name=""/>
            <p:cNvGrpSpPr/>
            <p:nvPr/>
          </p:nvGrpSpPr>
          <p:grpSpPr>
            <a:xfrm>
              <a:off x="4190760" y="1916280"/>
              <a:ext cx="2326680" cy="1375920"/>
              <a:chOff x="4190760" y="1916280"/>
              <a:chExt cx="2326680" cy="1375920"/>
            </a:xfrm>
          </p:grpSpPr>
          <p:sp>
            <p:nvSpPr>
              <p:cNvPr id="870" name=""/>
              <p:cNvSpPr/>
              <p:nvPr/>
            </p:nvSpPr>
            <p:spPr>
              <a:xfrm flipH="1">
                <a:off x="4572720" y="2863440"/>
                <a:ext cx="55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90760" y="2666880"/>
                <a:ext cx="350640" cy="361800"/>
              </a:xfrm>
              <a:prstGeom prst="ellipse">
                <a:avLst/>
              </a:prstGeom>
              <a:solidFill>
                <a:srgbClr val="ffcf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5410440" y="1978200"/>
                <a:ext cx="0" cy="47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5400000">
                <a:off x="5283360" y="1920600"/>
                <a:ext cx="313560" cy="304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678920" y="2353680"/>
                <a:ext cx="1402200" cy="9385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mpon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5" name=""/>
              <p:cNvGrpSpPr/>
              <p:nvPr/>
            </p:nvGrpSpPr>
            <p:grpSpPr>
              <a:xfrm>
                <a:off x="6019200" y="2603880"/>
                <a:ext cx="498240" cy="438120"/>
                <a:chOff x="6019200" y="2603880"/>
                <a:chExt cx="498240" cy="438120"/>
              </a:xfrm>
            </p:grpSpPr>
            <p:grpSp>
              <p:nvGrpSpPr>
                <p:cNvPr id="876" name=""/>
                <p:cNvGrpSpPr/>
                <p:nvPr/>
              </p:nvGrpSpPr>
              <p:grpSpPr>
                <a:xfrm>
                  <a:off x="6019200" y="2688480"/>
                  <a:ext cx="379080" cy="353520"/>
                  <a:chOff x="6019200" y="2688480"/>
                  <a:chExt cx="379080" cy="353520"/>
                </a:xfrm>
              </p:grpSpPr>
              <p:sp>
                <p:nvSpPr>
                  <p:cNvPr id="877" name=""/>
                  <p:cNvSpPr/>
                  <p:nvPr/>
                </p:nvSpPr>
                <p:spPr>
                  <a:xfrm flipH="1">
                    <a:off x="6095520" y="2865600"/>
                    <a:ext cx="154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6019200" y="2780640"/>
                    <a:ext cx="75960" cy="168840"/>
                  </a:xfrm>
                  <a:prstGeom prst="rect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6226200" y="2688480"/>
                    <a:ext cx="172080" cy="353520"/>
                  </a:xfrm>
                  <a:custGeom>
                    <a:avLst/>
                    <a:gdLst>
                      <a:gd name="textAreaLeft" fmla="*/ 0 w 172080"/>
                      <a:gd name="textAreaRight" fmla="*/ 172440 w 172080"/>
                      <a:gd name="textAreaTop" fmla="*/ 0 h 353520"/>
                      <a:gd name="textAreaBottom" fmla="*/ 353520 h 353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e4a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0" name=""/>
                <p:cNvSpPr/>
                <p:nvPr/>
              </p:nvSpPr>
              <p:spPr>
                <a:xfrm>
                  <a:off x="6334200" y="2603880"/>
                  <a:ext cx="1832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1" name=""/>
            <p:cNvGrpSpPr/>
            <p:nvPr/>
          </p:nvGrpSpPr>
          <p:grpSpPr>
            <a:xfrm>
              <a:off x="2484360" y="1916280"/>
              <a:ext cx="1465200" cy="1439280"/>
              <a:chOff x="2484360" y="1916280"/>
              <a:chExt cx="1465200" cy="1439280"/>
            </a:xfrm>
          </p:grpSpPr>
          <p:grpSp>
            <p:nvGrpSpPr>
              <p:cNvPr id="882" name=""/>
              <p:cNvGrpSpPr/>
              <p:nvPr/>
            </p:nvGrpSpPr>
            <p:grpSpPr>
              <a:xfrm>
                <a:off x="3155400" y="1916280"/>
                <a:ext cx="287640" cy="374760"/>
                <a:chOff x="3155400" y="1916280"/>
                <a:chExt cx="287640" cy="374760"/>
              </a:xfrm>
            </p:grpSpPr>
            <p:sp>
              <p:nvSpPr>
                <p:cNvPr id="883" name=""/>
                <p:cNvSpPr/>
                <p:nvPr/>
              </p:nvSpPr>
              <p:spPr>
                <a:xfrm flipV="1">
                  <a:off x="3299400" y="1987200"/>
                  <a:ext cx="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rot="5400000">
                  <a:off x="3152160" y="1919160"/>
                  <a:ext cx="293760" cy="28764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5" name=""/>
              <p:cNvSpPr/>
              <p:nvPr/>
            </p:nvSpPr>
            <p:spPr>
              <a:xfrm>
                <a:off x="2484360" y="2291400"/>
                <a:ext cx="1465200" cy="106416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mpon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3887640" y="2668320"/>
              <a:ext cx="426960" cy="374760"/>
              <a:chOff x="3887640" y="2668320"/>
              <a:chExt cx="426960" cy="374760"/>
            </a:xfrm>
          </p:grpSpPr>
          <p:grpSp>
            <p:nvGrpSpPr>
              <p:cNvPr id="887" name=""/>
              <p:cNvGrpSpPr/>
              <p:nvPr/>
            </p:nvGrpSpPr>
            <p:grpSpPr>
              <a:xfrm>
                <a:off x="3887640" y="2835360"/>
                <a:ext cx="131760" cy="52560"/>
                <a:chOff x="3887640" y="2835360"/>
                <a:chExt cx="131760" cy="52560"/>
              </a:xfrm>
            </p:grpSpPr>
            <p:sp>
              <p:nvSpPr>
                <p:cNvPr id="888" name=""/>
                <p:cNvSpPr/>
                <p:nvPr/>
              </p:nvSpPr>
              <p:spPr>
                <a:xfrm flipH="1">
                  <a:off x="3920760" y="2861640"/>
                  <a:ext cx="98640" cy="3960"/>
                </a:xfrm>
                <a:prstGeom prst="line">
                  <a:avLst/>
                </a:prstGeom>
                <a:ln w="9360">
                  <a:solidFill>
                    <a:srgbClr val="d7d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3887640" y="2835360"/>
                  <a:ext cx="48600" cy="52560"/>
                </a:xfrm>
                <a:prstGeom prst="rect">
                  <a:avLst/>
                </a:prstGeom>
                <a:solidFill>
                  <a:srgbClr val="d7d200"/>
                </a:solidFill>
                <a:ln w="9360">
                  <a:solidFill>
                    <a:srgbClr val="d7d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0" name=""/>
              <p:cNvSpPr/>
              <p:nvPr/>
            </p:nvSpPr>
            <p:spPr>
              <a:xfrm rot="16200000">
                <a:off x="3980520" y="2709000"/>
                <a:ext cx="374760" cy="293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d7d200"/>
              </a:solidFill>
              <a:ln w="9360">
                <a:solidFill>
                  <a:srgbClr val="d7d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6386400" y="1916280"/>
              <a:ext cx="2074680" cy="1377360"/>
              <a:chOff x="6386400" y="1916280"/>
              <a:chExt cx="2074680" cy="1377360"/>
            </a:xfrm>
          </p:grpSpPr>
          <p:sp>
            <p:nvSpPr>
              <p:cNvPr id="892" name=""/>
              <p:cNvSpPr/>
              <p:nvPr/>
            </p:nvSpPr>
            <p:spPr>
              <a:xfrm>
                <a:off x="6950520" y="2392200"/>
                <a:ext cx="1510560" cy="90144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nsum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mpon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3" name=""/>
              <p:cNvGrpSpPr/>
              <p:nvPr/>
            </p:nvGrpSpPr>
            <p:grpSpPr>
              <a:xfrm>
                <a:off x="6386400" y="2667240"/>
                <a:ext cx="591480" cy="351360"/>
                <a:chOff x="6386400" y="2667240"/>
                <a:chExt cx="591480" cy="351360"/>
              </a:xfrm>
            </p:grpSpPr>
            <p:sp>
              <p:nvSpPr>
                <p:cNvPr id="894" name=""/>
                <p:cNvSpPr/>
                <p:nvPr/>
              </p:nvSpPr>
              <p:spPr>
                <a:xfrm flipH="1">
                  <a:off x="6672600" y="2840760"/>
                  <a:ext cx="30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6386400" y="2667240"/>
                  <a:ext cx="305280" cy="351360"/>
                </a:xfrm>
                <a:custGeom>
                  <a:avLst/>
                  <a:gdLst>
                    <a:gd name="textAreaLeft" fmla="*/ 0 w 305280"/>
                    <a:gd name="textAreaRight" fmla="*/ 305640 w 305280"/>
                    <a:gd name="textAreaTop" fmla="*/ 0 h 351360"/>
                    <a:gd name="textAreaBottom" fmla="*/ 351720 h 35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6" name=""/>
              <p:cNvGrpSpPr/>
              <p:nvPr/>
            </p:nvGrpSpPr>
            <p:grpSpPr>
              <a:xfrm>
                <a:off x="7546320" y="1916280"/>
                <a:ext cx="318960" cy="475200"/>
                <a:chOff x="7546320" y="1916280"/>
                <a:chExt cx="318960" cy="475200"/>
              </a:xfrm>
            </p:grpSpPr>
            <p:sp>
              <p:nvSpPr>
                <p:cNvPr id="897" name=""/>
                <p:cNvSpPr/>
                <p:nvPr/>
              </p:nvSpPr>
              <p:spPr>
                <a:xfrm flipV="1">
                  <a:off x="7705800" y="2005920"/>
                  <a:ext cx="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rot="5400000">
                  <a:off x="7519320" y="1942920"/>
                  <a:ext cx="372600" cy="3189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53D-B363-4CCA-8714-3E320FFA749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ing the Client/Server –Producer/Consumer OpenCCM exampl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ClientImpl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antiates, constructs and shows the GU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the action when the button is clicked by calling the display service </a:t>
            </a:r>
            <a:r>
              <a:rPr b="0" i="1" lang="en-US" sz="2400" spc="-1" strike="noStrike">
                <a:solidFill>
                  <a:srgbClr val="808080"/>
                </a:solidFill>
                <a:latin typeface="Tahoma"/>
              </a:rPr>
              <a:t>service.display(...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rvice interface ope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Obtain the object reference associated to t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'the_service' recepta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Service service = the_context_.get_connection_the_servic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alls the display servi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service.display(name_ + ":" + text_.getTex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9FAB-7AA9-4B25-820B-C4CC6CD4AB4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ing the Client/Server –Producer/Consumer OpenCCM exampl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ahoma"/>
              </a:rPr>
              <a:t>ServerImpl.jav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stantiates, constructs and shows the GU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s the display method for the Service interface by displaying string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ush events to consumers </a:t>
            </a:r>
            <a:r>
              <a:rPr b="0" i="1" lang="en-GB" sz="2400" spc="-1" strike="noStrike">
                <a:solidFill>
                  <a:srgbClr val="808080"/>
                </a:solidFill>
                <a:latin typeface="Tahoma"/>
              </a:rPr>
              <a:t>push_to_consumers(...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public void display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3f7f5f"/>
                </a:solidFill>
                <a:latin typeface="Courier New"/>
                <a:ea typeface="Times New Roman"/>
              </a:rPr>
              <a:t>// Puts the text into the text are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f7f5f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textArea_.append(text + "\n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3f7f5f"/>
                </a:solidFill>
                <a:latin typeface="Courier New"/>
                <a:ea typeface="Times New Roman"/>
              </a:rPr>
              <a:t>// Pushes an event to all connected consum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f7f5f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the_context_.push_to_consum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( new TextEventImpl(text) 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E7C5-E781-4D27-BA6F-23359AE42F1B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ing the Client/Server –Producer/Consumer OpenCCM exampl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ahoma"/>
              </a:rPr>
              <a:t>ConsumerImpl.java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stantiates, constructs and shows the GU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mplements reception of events published by server components </a:t>
            </a:r>
            <a:r>
              <a:rPr b="0" i="1" lang="en-GB" sz="2000" spc="-1" strike="noStrike">
                <a:solidFill>
                  <a:srgbClr val="808080"/>
                </a:solidFill>
                <a:latin typeface="Tahoma"/>
              </a:rPr>
              <a:t>push_from_server(.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ublic v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ush_from_servers(TextEvent ev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ush(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ublic v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ush(TextEvent ev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ut the text into the text are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textArea_.append(event.text + "\n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4190-176D-43C6-8B45-60FCD8045F7F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ing the Client/Server –Producer/Consumer OpenCCM exampl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Tahoma"/>
              </a:rPr>
              <a:t>ClientHomeImpl.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is class inherits from the local CCM_ClientHome interface generated. It implements the </a:t>
            </a:r>
            <a:r>
              <a:rPr b="0" i="1" lang="en-GB" sz="2400" spc="-1" strike="noStrike">
                <a:solidFill>
                  <a:srgbClr val="808080"/>
                </a:solidFill>
                <a:latin typeface="Tahoma"/>
              </a:rPr>
              <a:t>create_home(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method called by the OpenCCM Component Server to create a home in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ahoma"/>
              </a:rPr>
              <a:t>ConsumerHomeImpl.java, ServerHomeImpl.ja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s the </a:t>
            </a:r>
            <a:r>
              <a:rPr b="0" i="1" lang="en-GB" sz="2400" spc="-1" strike="noStrike">
                <a:solidFill>
                  <a:srgbClr val="808080"/>
                </a:solidFill>
                <a:latin typeface="Tahoma"/>
              </a:rPr>
              <a:t>create_home(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method to create a home in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the TextEvent valuetype factory to the OR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BE9-B4CD-4346-B1FE-86C39189648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mpiling Java source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uilding archive demo3.ja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Now, we have to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ile generated Java CORBA 2 stubs and Java OpenCCM skeleton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ile all Java implementation source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archiv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emo3.j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873-6986-4895-B699-FD9EF1ED409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genda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MG IDL3 : design the application by defining components and assembling component insta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penCCM compilation and generation chain for the demo3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enCCM execution chain for the demo3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ckage, assembly and deploy the CCM application with XML descriptors (edited using simple GU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FBB-6A72-46B0-99A7-62719F41361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penCCM execution chain for the demo3 exampl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ing the OpenCCM configuration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ccm_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ing the Name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ns_st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ing Java Component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jcs_st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ting the IOR of the started Nam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ns_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ing JVM to run demo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77B-C561-45F1-80C4-B02247500BF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stalling the OpenCCM configuration Repository, Starting the Name Servic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C:\OpenCCM\demo\demo3&gt;ccm_inst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The OpenCCM Platform will be install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Creating the C:\OpenCCM\ORBacus-4.1\OpenCCM_CONFIG_DIR director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Creating the C:\OpenCCM\ORBacus-4.1\OpenCCM_CONFIG_DIR\ComponentServers director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The OpenCCM Platform is install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C:\OpenCCM\demo\demo3&gt;ns_st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The Name Service will be start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Launching the ORBacus Name Servi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The Name Service is start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6F21-44F3-4219-AA1B-7EECC76B26C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Starting Java Component Servers for demo3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ComponentServer1 and ComponentServer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C:\OpenCCM\demo\demo3&gt;jcs_start ComponentServer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The OpenCCM's Java Component Server ComponentServer1 will be start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Creating the C:\OpenCCM\ORBacus-4.1\OpenCCM_CONFIG_DIR\ComponentServers\ComponentServer1.archive_cache director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Launching an OpenCCM's Java Component Serv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The OpenCCM's Java Component Server ComponentServer1 is start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C:\OpenCCM\demo\demo3&gt;jcs_start ComponentServer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The OpenCCM's Java Component Server ComponentServer2 will be start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Creating the C:\OpenCCM\ORBacus-4.1\OpenCCM_CONFIG_DIR\ComponentServers\ComponentServer2.archive_cache director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Launching an OpenCCM's Java Component Serv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The OpenCCM's Java Component Server ComponentServer2 is start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5D3D-FFFB-4EF0-A9CD-D533E8A7B8F6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MG IDL3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 design the application by defining components and assembling component instance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G IDL3 :  defining demo3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nd interconnections between components (facets, receptacles, event sources, event sin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 homes for instantiating and managing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860-1EC1-4DF7-9F23-CC6DDB29AF6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Getting the IOR of the started Name Service and run demo3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C:\OpenCCM\demo\demo3&gt;ns_i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IOR:000000000000002a49444c3a6f6f632e636f6d2f436f73.....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  <a:ea typeface="Courier New"/>
              </a:rPr>
              <a:t>Then we call the JVM with IOR args and demo3.jar archive in class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Starting demonstration demo3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Initializing the ORB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Obtaining the Name Service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Obtaining Component Servers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Installing archives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Creating components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Configuring components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Interconnecting components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Configuration completion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69696"/>
                </a:solidFill>
                <a:latin typeface="Courier New"/>
                <a:ea typeface="Courier New"/>
              </a:rPr>
              <a:t>Demonstration demo3 is ready to be used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FD9-A4FD-4379-98FD-5F8AD56EB297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lient / Server-Producer / Consumer CCM application running..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1"/>
          <a:stretch/>
        </p:blipFill>
        <p:spPr>
          <a:xfrm>
            <a:off x="539640" y="2452680"/>
            <a:ext cx="841536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47D-FECC-4B6C-AAFD-9262CA5B9A39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genda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MG IDL3 : design the application by defining components and assembling component insta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penCCM compilation and generation chain for the demo3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penCCM execution chain for the demo3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Package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assembly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deploy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the CCM application with XML descriptors (edited using simple GU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83D-D69C-4FBE-B78E-769969F731D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Package, assembly and deploy the CCM application with XML descriptors edited 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using simple GUI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Software Package Descripto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scribe general elements (title, author, description, web page, license, link to IDL file...etc) and list implementations (information about implementations like OS, ORB, language, compiler, dependancies on other libraries...etc. , entry poi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Property File Descrip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d to set home and component propert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 contains pairs of name/value to configure home and component attribu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FE7-696D-4C96-9BA3-87D9023130D2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ackage, assembly and deploy the CCM application with XML descriptors edited 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using simple GUI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Component Assembly Descrip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ferences component software descriptors client.csd, server.csd and consumer.cs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fines home instances and their collocation, component in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fines that homes, components or ports are to be registered in the ComponentHomeFinder or Naming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fines connections to be made between Client, Server and Consumer component ports (receptacles to facets, event sinks to event sour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9216-D17E-4FDF-A5D4-17385AFA3532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Package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assembly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deploy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the CCM application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using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XML descriptor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895320" y="1528920"/>
            <a:ext cx="7735320" cy="4701960"/>
            <a:chOff x="895320" y="1528920"/>
            <a:chExt cx="7735320" cy="4701960"/>
          </a:xfrm>
        </p:grpSpPr>
        <p:sp>
          <p:nvSpPr>
            <p:cNvPr id="929" name=""/>
            <p:cNvSpPr/>
            <p:nvPr/>
          </p:nvSpPr>
          <p:spPr>
            <a:xfrm>
              <a:off x="942840" y="2901960"/>
              <a:ext cx="914400" cy="68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215720" y="3122640"/>
              <a:ext cx="41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L/CID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220400" y="3244680"/>
              <a:ext cx="40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pi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700600" y="2502000"/>
              <a:ext cx="127080" cy="1252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80" y="40"/>
                  </a:moveTo>
                  <a:lnTo>
                    <a:pt x="78" y="28"/>
                  </a:lnTo>
                  <a:lnTo>
                    <a:pt x="73" y="18"/>
                  </a:lnTo>
                  <a:lnTo>
                    <a:pt x="67" y="10"/>
                  </a:lnTo>
                  <a:lnTo>
                    <a:pt x="57" y="3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3" y="3"/>
                  </a:lnTo>
                  <a:lnTo>
                    <a:pt x="14" y="10"/>
                  </a:lnTo>
                  <a:lnTo>
                    <a:pt x="7" y="18"/>
                  </a:lnTo>
                  <a:lnTo>
                    <a:pt x="2" y="28"/>
                  </a:lnTo>
                  <a:lnTo>
                    <a:pt x="0" y="40"/>
                  </a:lnTo>
                  <a:lnTo>
                    <a:pt x="2" y="50"/>
                  </a:lnTo>
                  <a:lnTo>
                    <a:pt x="7" y="61"/>
                  </a:lnTo>
                  <a:lnTo>
                    <a:pt x="14" y="70"/>
                  </a:lnTo>
                  <a:lnTo>
                    <a:pt x="23" y="75"/>
                  </a:lnTo>
                  <a:lnTo>
                    <a:pt x="35" y="79"/>
                  </a:lnTo>
                  <a:lnTo>
                    <a:pt x="45" y="79"/>
                  </a:lnTo>
                  <a:lnTo>
                    <a:pt x="57" y="75"/>
                  </a:lnTo>
                  <a:lnTo>
                    <a:pt x="67" y="70"/>
                  </a:lnTo>
                  <a:lnTo>
                    <a:pt x="73" y="61"/>
                  </a:lnTo>
                  <a:lnTo>
                    <a:pt x="78" y="50"/>
                  </a:lnTo>
                  <a:lnTo>
                    <a:pt x="80" y="4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607000" y="2627280"/>
              <a:ext cx="316080" cy="503280"/>
            </a:xfrm>
            <a:custGeom>
              <a:avLst/>
              <a:gdLst/>
              <a:ahLst/>
              <a:rect l="l" t="t" r="r" b="b"/>
              <a:pathLst>
                <a:path w="199" h="317">
                  <a:moveTo>
                    <a:pt x="102" y="164"/>
                  </a:moveTo>
                  <a:lnTo>
                    <a:pt x="148" y="317"/>
                  </a:lnTo>
                  <a:lnTo>
                    <a:pt x="184" y="317"/>
                  </a:lnTo>
                  <a:lnTo>
                    <a:pt x="148" y="139"/>
                  </a:lnTo>
                  <a:lnTo>
                    <a:pt x="148" y="35"/>
                  </a:lnTo>
                  <a:lnTo>
                    <a:pt x="176" y="119"/>
                  </a:lnTo>
                  <a:lnTo>
                    <a:pt x="199" y="104"/>
                  </a:lnTo>
                  <a:lnTo>
                    <a:pt x="166" y="0"/>
                  </a:lnTo>
                  <a:lnTo>
                    <a:pt x="102" y="5"/>
                  </a:lnTo>
                  <a:lnTo>
                    <a:pt x="37" y="0"/>
                  </a:lnTo>
                  <a:lnTo>
                    <a:pt x="0" y="109"/>
                  </a:lnTo>
                  <a:lnTo>
                    <a:pt x="28" y="119"/>
                  </a:lnTo>
                  <a:lnTo>
                    <a:pt x="55" y="35"/>
                  </a:lnTo>
                  <a:lnTo>
                    <a:pt x="55" y="139"/>
                  </a:lnTo>
                  <a:lnTo>
                    <a:pt x="19" y="317"/>
                  </a:lnTo>
                  <a:lnTo>
                    <a:pt x="55" y="317"/>
                  </a:lnTo>
                  <a:lnTo>
                    <a:pt x="102" y="16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41560" y="1538280"/>
              <a:ext cx="515880" cy="685800"/>
            </a:xfrm>
            <a:custGeom>
              <a:avLst/>
              <a:gdLst/>
              <a:ahLst/>
              <a:rect l="l" t="t" r="r" b="b"/>
              <a:pathLst>
                <a:path w="325" h="432">
                  <a:moveTo>
                    <a:pt x="217" y="0"/>
                  </a:moveTo>
                  <a:lnTo>
                    <a:pt x="325" y="108"/>
                  </a:lnTo>
                  <a:lnTo>
                    <a:pt x="217" y="108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2"/>
                  </a:lnTo>
                  <a:lnTo>
                    <a:pt x="325" y="432"/>
                  </a:lnTo>
                  <a:lnTo>
                    <a:pt x="325" y="108"/>
                  </a:lnTo>
                  <a:lnTo>
                    <a:pt x="217" y="108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118880" y="2238480"/>
              <a:ext cx="613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L/CIDL Fi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19200" y="2787480"/>
              <a:ext cx="412920" cy="611280"/>
            </a:xfrm>
            <a:custGeom>
              <a:avLst/>
              <a:gdLst/>
              <a:ahLst/>
              <a:rect l="l" t="t" r="r" b="b"/>
              <a:pathLst>
                <a:path w="260" h="385">
                  <a:moveTo>
                    <a:pt x="194" y="0"/>
                  </a:moveTo>
                  <a:lnTo>
                    <a:pt x="194" y="72"/>
                  </a:lnTo>
                  <a:lnTo>
                    <a:pt x="260" y="72"/>
                  </a:lnTo>
                  <a:lnTo>
                    <a:pt x="194" y="0"/>
                  </a:lnTo>
                  <a:close/>
                  <a:moveTo>
                    <a:pt x="0" y="0"/>
                  </a:moveTo>
                  <a:lnTo>
                    <a:pt x="0" y="385"/>
                  </a:lnTo>
                  <a:lnTo>
                    <a:pt x="260" y="385"/>
                  </a:lnTo>
                  <a:lnTo>
                    <a:pt x="260" y="72"/>
                  </a:lnTo>
                  <a:lnTo>
                    <a:pt x="194" y="72"/>
                  </a:lnTo>
                  <a:lnTo>
                    <a:pt x="1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351160" y="2863800"/>
              <a:ext cx="412560" cy="611280"/>
            </a:xfrm>
            <a:custGeom>
              <a:avLst/>
              <a:gdLst/>
              <a:ahLst/>
              <a:rect l="l" t="t" r="r" b="b"/>
              <a:pathLst>
                <a:path w="260" h="385">
                  <a:moveTo>
                    <a:pt x="194" y="0"/>
                  </a:moveTo>
                  <a:lnTo>
                    <a:pt x="194" y="72"/>
                  </a:lnTo>
                  <a:lnTo>
                    <a:pt x="260" y="72"/>
                  </a:lnTo>
                  <a:lnTo>
                    <a:pt x="194" y="0"/>
                  </a:lnTo>
                  <a:close/>
                  <a:moveTo>
                    <a:pt x="0" y="0"/>
                  </a:moveTo>
                  <a:lnTo>
                    <a:pt x="0" y="385"/>
                  </a:lnTo>
                  <a:lnTo>
                    <a:pt x="260" y="385"/>
                  </a:lnTo>
                  <a:lnTo>
                    <a:pt x="260" y="72"/>
                  </a:lnTo>
                  <a:lnTo>
                    <a:pt x="194" y="72"/>
                  </a:lnTo>
                  <a:lnTo>
                    <a:pt x="1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282760" y="2940120"/>
              <a:ext cx="411120" cy="611280"/>
            </a:xfrm>
            <a:custGeom>
              <a:avLst/>
              <a:gdLst/>
              <a:ahLst/>
              <a:rect l="l" t="t" r="r" b="b"/>
              <a:pathLst>
                <a:path w="259" h="385">
                  <a:moveTo>
                    <a:pt x="194" y="0"/>
                  </a:moveTo>
                  <a:lnTo>
                    <a:pt x="194" y="72"/>
                  </a:lnTo>
                  <a:lnTo>
                    <a:pt x="259" y="72"/>
                  </a:lnTo>
                  <a:lnTo>
                    <a:pt x="194" y="0"/>
                  </a:lnTo>
                  <a:close/>
                  <a:moveTo>
                    <a:pt x="0" y="0"/>
                  </a:moveTo>
                  <a:lnTo>
                    <a:pt x="0" y="385"/>
                  </a:lnTo>
                  <a:lnTo>
                    <a:pt x="259" y="385"/>
                  </a:lnTo>
                  <a:lnTo>
                    <a:pt x="259" y="72"/>
                  </a:lnTo>
                  <a:lnTo>
                    <a:pt x="194" y="72"/>
                  </a:lnTo>
                  <a:lnTo>
                    <a:pt x="1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212920" y="3016080"/>
              <a:ext cx="412920" cy="611280"/>
            </a:xfrm>
            <a:custGeom>
              <a:avLst/>
              <a:gdLst/>
              <a:ahLst/>
              <a:rect l="l" t="t" r="r" b="b"/>
              <a:pathLst>
                <a:path w="260" h="385">
                  <a:moveTo>
                    <a:pt x="195" y="0"/>
                  </a:moveTo>
                  <a:lnTo>
                    <a:pt x="195" y="72"/>
                  </a:lnTo>
                  <a:lnTo>
                    <a:pt x="260" y="72"/>
                  </a:lnTo>
                  <a:lnTo>
                    <a:pt x="195" y="0"/>
                  </a:lnTo>
                  <a:close/>
                  <a:moveTo>
                    <a:pt x="0" y="0"/>
                  </a:moveTo>
                  <a:lnTo>
                    <a:pt x="0" y="385"/>
                  </a:lnTo>
                  <a:lnTo>
                    <a:pt x="260" y="385"/>
                  </a:lnTo>
                  <a:lnTo>
                    <a:pt x="260" y="72"/>
                  </a:lnTo>
                  <a:lnTo>
                    <a:pt x="195" y="72"/>
                  </a:lnTo>
                  <a:lnTo>
                    <a:pt x="1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144880" y="3092400"/>
              <a:ext cx="412560" cy="611280"/>
            </a:xfrm>
            <a:custGeom>
              <a:avLst/>
              <a:gdLst/>
              <a:ahLst/>
              <a:rect l="l" t="t" r="r" b="b"/>
              <a:pathLst>
                <a:path w="260" h="385">
                  <a:moveTo>
                    <a:pt x="194" y="0"/>
                  </a:moveTo>
                  <a:lnTo>
                    <a:pt x="194" y="73"/>
                  </a:lnTo>
                  <a:lnTo>
                    <a:pt x="260" y="73"/>
                  </a:lnTo>
                  <a:lnTo>
                    <a:pt x="194" y="0"/>
                  </a:lnTo>
                  <a:close/>
                  <a:moveTo>
                    <a:pt x="0" y="0"/>
                  </a:moveTo>
                  <a:lnTo>
                    <a:pt x="0" y="385"/>
                  </a:lnTo>
                  <a:lnTo>
                    <a:pt x="260" y="385"/>
                  </a:lnTo>
                  <a:lnTo>
                    <a:pt x="260" y="73"/>
                  </a:lnTo>
                  <a:lnTo>
                    <a:pt x="194" y="73"/>
                  </a:lnTo>
                  <a:lnTo>
                    <a:pt x="1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22920" y="3753000"/>
              <a:ext cx="77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ubs, Skelet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976560" y="4162320"/>
              <a:ext cx="916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217040" y="4383000"/>
              <a:ext cx="47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ckag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358880" y="45054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146400" y="3016080"/>
              <a:ext cx="514440" cy="68760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6" y="0"/>
                  </a:moveTo>
                  <a:lnTo>
                    <a:pt x="324" y="109"/>
                  </a:lnTo>
                  <a:lnTo>
                    <a:pt x="216" y="109"/>
                  </a:lnTo>
                  <a:lnTo>
                    <a:pt x="216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6" y="109"/>
                  </a:lnTo>
                  <a:lnTo>
                    <a:pt x="2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75480" y="3714840"/>
              <a:ext cx="698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946240" y="2100240"/>
              <a:ext cx="916200" cy="68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121200" y="2260440"/>
              <a:ext cx="61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gramm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203640" y="2382840"/>
              <a:ext cx="451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ngua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301200" y="2505240"/>
              <a:ext cx="25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154240" y="1528920"/>
              <a:ext cx="514440" cy="68724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6" y="0"/>
                  </a:moveTo>
                  <a:lnTo>
                    <a:pt x="324" y="109"/>
                  </a:lnTo>
                  <a:lnTo>
                    <a:pt x="216" y="109"/>
                  </a:lnTo>
                  <a:lnTo>
                    <a:pt x="216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6" y="109"/>
                  </a:lnTo>
                  <a:lnTo>
                    <a:pt x="2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155320" y="2227320"/>
              <a:ext cx="55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ser's Co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230560" y="4162320"/>
              <a:ext cx="514080" cy="685800"/>
            </a:xfrm>
            <a:custGeom>
              <a:avLst/>
              <a:gdLst/>
              <a:ahLst/>
              <a:rect l="l" t="t" r="r" b="b"/>
              <a:pathLst>
                <a:path w="324" h="432">
                  <a:moveTo>
                    <a:pt x="216" y="0"/>
                  </a:moveTo>
                  <a:lnTo>
                    <a:pt x="324" y="108"/>
                  </a:lnTo>
                  <a:lnTo>
                    <a:pt x="216" y="108"/>
                  </a:lnTo>
                  <a:lnTo>
                    <a:pt x="216" y="0"/>
                  </a:lnTo>
                  <a:close/>
                  <a:moveTo>
                    <a:pt x="0" y="0"/>
                  </a:moveTo>
                  <a:lnTo>
                    <a:pt x="0" y="432"/>
                  </a:lnTo>
                  <a:lnTo>
                    <a:pt x="324" y="432"/>
                  </a:lnTo>
                  <a:lnTo>
                    <a:pt x="324" y="108"/>
                  </a:lnTo>
                  <a:lnTo>
                    <a:pt x="216" y="108"/>
                  </a:lnTo>
                  <a:lnTo>
                    <a:pt x="2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247120" y="4861080"/>
              <a:ext cx="52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78800" y="4981680"/>
              <a:ext cx="46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scrip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875720" y="2502000"/>
              <a:ext cx="126720" cy="1252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80" y="40"/>
                  </a:moveTo>
                  <a:lnTo>
                    <a:pt x="78" y="28"/>
                  </a:lnTo>
                  <a:lnTo>
                    <a:pt x="73" y="18"/>
                  </a:lnTo>
                  <a:lnTo>
                    <a:pt x="67" y="10"/>
                  </a:lnTo>
                  <a:lnTo>
                    <a:pt x="57" y="3"/>
                  </a:lnTo>
                  <a:lnTo>
                    <a:pt x="46" y="0"/>
                  </a:lnTo>
                  <a:lnTo>
                    <a:pt x="35" y="0"/>
                  </a:lnTo>
                  <a:lnTo>
                    <a:pt x="23" y="3"/>
                  </a:lnTo>
                  <a:lnTo>
                    <a:pt x="14" y="10"/>
                  </a:lnTo>
                  <a:lnTo>
                    <a:pt x="7" y="18"/>
                  </a:lnTo>
                  <a:lnTo>
                    <a:pt x="2" y="28"/>
                  </a:lnTo>
                  <a:lnTo>
                    <a:pt x="0" y="40"/>
                  </a:lnTo>
                  <a:lnTo>
                    <a:pt x="2" y="50"/>
                  </a:lnTo>
                  <a:lnTo>
                    <a:pt x="7" y="61"/>
                  </a:lnTo>
                  <a:lnTo>
                    <a:pt x="14" y="70"/>
                  </a:lnTo>
                  <a:lnTo>
                    <a:pt x="23" y="75"/>
                  </a:lnTo>
                  <a:lnTo>
                    <a:pt x="35" y="79"/>
                  </a:lnTo>
                  <a:lnTo>
                    <a:pt x="46" y="79"/>
                  </a:lnTo>
                  <a:lnTo>
                    <a:pt x="57" y="75"/>
                  </a:lnTo>
                  <a:lnTo>
                    <a:pt x="67" y="70"/>
                  </a:lnTo>
                  <a:lnTo>
                    <a:pt x="73" y="61"/>
                  </a:lnTo>
                  <a:lnTo>
                    <a:pt x="78" y="50"/>
                  </a:lnTo>
                  <a:lnTo>
                    <a:pt x="80" y="4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781760" y="2627280"/>
              <a:ext cx="316080" cy="503280"/>
            </a:xfrm>
            <a:custGeom>
              <a:avLst/>
              <a:gdLst/>
              <a:ahLst/>
              <a:rect l="l" t="t" r="r" b="b"/>
              <a:pathLst>
                <a:path w="199" h="317">
                  <a:moveTo>
                    <a:pt x="102" y="164"/>
                  </a:moveTo>
                  <a:lnTo>
                    <a:pt x="148" y="317"/>
                  </a:lnTo>
                  <a:lnTo>
                    <a:pt x="184" y="317"/>
                  </a:lnTo>
                  <a:lnTo>
                    <a:pt x="148" y="139"/>
                  </a:lnTo>
                  <a:lnTo>
                    <a:pt x="148" y="35"/>
                  </a:lnTo>
                  <a:lnTo>
                    <a:pt x="176" y="119"/>
                  </a:lnTo>
                  <a:lnTo>
                    <a:pt x="199" y="104"/>
                  </a:lnTo>
                  <a:lnTo>
                    <a:pt x="166" y="0"/>
                  </a:lnTo>
                  <a:lnTo>
                    <a:pt x="102" y="5"/>
                  </a:lnTo>
                  <a:lnTo>
                    <a:pt x="37" y="0"/>
                  </a:lnTo>
                  <a:lnTo>
                    <a:pt x="0" y="109"/>
                  </a:lnTo>
                  <a:lnTo>
                    <a:pt x="28" y="119"/>
                  </a:lnTo>
                  <a:lnTo>
                    <a:pt x="55" y="35"/>
                  </a:lnTo>
                  <a:lnTo>
                    <a:pt x="55" y="139"/>
                  </a:lnTo>
                  <a:lnTo>
                    <a:pt x="19" y="317"/>
                  </a:lnTo>
                  <a:lnTo>
                    <a:pt x="55" y="317"/>
                  </a:lnTo>
                  <a:lnTo>
                    <a:pt x="102" y="16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668680" y="1871640"/>
              <a:ext cx="250560" cy="517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882880" y="2367000"/>
              <a:ext cx="63360" cy="7776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0" y="19"/>
                  </a:moveTo>
                  <a:lnTo>
                    <a:pt x="40" y="49"/>
                  </a:lnTo>
                  <a:lnTo>
                    <a:pt x="4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76720" y="2444760"/>
              <a:ext cx="514440" cy="685800"/>
            </a:xfrm>
            <a:custGeom>
              <a:avLst/>
              <a:gdLst/>
              <a:ahLst/>
              <a:rect l="l" t="t" r="r" b="b"/>
              <a:pathLst>
                <a:path w="324" h="432">
                  <a:moveTo>
                    <a:pt x="216" y="0"/>
                  </a:moveTo>
                  <a:lnTo>
                    <a:pt x="324" y="108"/>
                  </a:lnTo>
                  <a:lnTo>
                    <a:pt x="216" y="108"/>
                  </a:lnTo>
                  <a:lnTo>
                    <a:pt x="216" y="0"/>
                  </a:lnTo>
                  <a:close/>
                  <a:moveTo>
                    <a:pt x="0" y="0"/>
                  </a:moveTo>
                  <a:lnTo>
                    <a:pt x="0" y="432"/>
                  </a:lnTo>
                  <a:lnTo>
                    <a:pt x="324" y="432"/>
                  </a:lnTo>
                  <a:lnTo>
                    <a:pt x="324" y="108"/>
                  </a:lnTo>
                  <a:lnTo>
                    <a:pt x="216" y="108"/>
                  </a:lnTo>
                  <a:lnTo>
                    <a:pt x="2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49640" y="3143160"/>
              <a:ext cx="817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fault Properti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2832120" y="2504880"/>
              <a:ext cx="104760" cy="74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900520" y="2444760"/>
              <a:ext cx="69840" cy="7452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44" y="47"/>
                  </a:moveTo>
                  <a:lnTo>
                    <a:pt x="29" y="0"/>
                  </a:lnTo>
                  <a:lnTo>
                    <a:pt x="0" y="40"/>
                  </a:lnTo>
                  <a:lnTo>
                    <a:pt x="4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857240" y="3246480"/>
              <a:ext cx="2257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75040" y="3209760"/>
              <a:ext cx="69840" cy="7164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0" y="45"/>
                  </a:moveTo>
                  <a:lnTo>
                    <a:pt x="44" y="23"/>
                  </a:lnTo>
                  <a:lnTo>
                    <a:pt x="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400040" y="3589200"/>
              <a:ext cx="789120" cy="8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157480" y="4429080"/>
              <a:ext cx="7308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0" y="30"/>
                  </a:moveTo>
                  <a:lnTo>
                    <a:pt x="46" y="48"/>
                  </a:lnTo>
                  <a:lnTo>
                    <a:pt x="33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744640" y="4505400"/>
              <a:ext cx="1168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06720" y="447048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44"/>
                  </a:moveTo>
                  <a:lnTo>
                    <a:pt x="44" y="22"/>
                  </a:ln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660840" y="3360600"/>
              <a:ext cx="298440" cy="1084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922560" y="4429080"/>
              <a:ext cx="68400" cy="7632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11"/>
                  </a:moveTo>
                  <a:lnTo>
                    <a:pt x="34" y="48"/>
                  </a:lnTo>
                  <a:lnTo>
                    <a:pt x="43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403440" y="2787480"/>
              <a:ext cx="1800" cy="168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368520" y="294624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0"/>
                  </a:moveTo>
                  <a:lnTo>
                    <a:pt x="22" y="44"/>
                  </a:lnTo>
                  <a:lnTo>
                    <a:pt x="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892760" y="4505400"/>
              <a:ext cx="1857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068800" y="447048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44"/>
                  </a:moveTo>
                  <a:lnTo>
                    <a:pt x="44" y="22"/>
                  </a:ln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870440" y="2502000"/>
              <a:ext cx="127080" cy="1252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80" y="40"/>
                  </a:moveTo>
                  <a:lnTo>
                    <a:pt x="78" y="28"/>
                  </a:lnTo>
                  <a:lnTo>
                    <a:pt x="74" y="18"/>
                  </a:lnTo>
                  <a:lnTo>
                    <a:pt x="67" y="10"/>
                  </a:lnTo>
                  <a:lnTo>
                    <a:pt x="57" y="3"/>
                  </a:lnTo>
                  <a:lnTo>
                    <a:pt x="46" y="0"/>
                  </a:lnTo>
                  <a:lnTo>
                    <a:pt x="35" y="0"/>
                  </a:lnTo>
                  <a:lnTo>
                    <a:pt x="24" y="3"/>
                  </a:lnTo>
                  <a:lnTo>
                    <a:pt x="15" y="10"/>
                  </a:lnTo>
                  <a:lnTo>
                    <a:pt x="7" y="18"/>
                  </a:lnTo>
                  <a:lnTo>
                    <a:pt x="2" y="28"/>
                  </a:lnTo>
                  <a:lnTo>
                    <a:pt x="0" y="40"/>
                  </a:lnTo>
                  <a:lnTo>
                    <a:pt x="2" y="50"/>
                  </a:lnTo>
                  <a:lnTo>
                    <a:pt x="7" y="61"/>
                  </a:lnTo>
                  <a:lnTo>
                    <a:pt x="15" y="70"/>
                  </a:lnTo>
                  <a:lnTo>
                    <a:pt x="24" y="75"/>
                  </a:lnTo>
                  <a:lnTo>
                    <a:pt x="35" y="79"/>
                  </a:lnTo>
                  <a:lnTo>
                    <a:pt x="46" y="79"/>
                  </a:lnTo>
                  <a:lnTo>
                    <a:pt x="57" y="75"/>
                  </a:lnTo>
                  <a:lnTo>
                    <a:pt x="67" y="70"/>
                  </a:lnTo>
                  <a:lnTo>
                    <a:pt x="74" y="61"/>
                  </a:lnTo>
                  <a:lnTo>
                    <a:pt x="78" y="50"/>
                  </a:lnTo>
                  <a:lnTo>
                    <a:pt x="80" y="4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778280" y="2627280"/>
              <a:ext cx="314280" cy="503280"/>
            </a:xfrm>
            <a:custGeom>
              <a:avLst/>
              <a:gdLst/>
              <a:ahLst/>
              <a:rect l="l" t="t" r="r" b="b"/>
              <a:pathLst>
                <a:path w="198" h="317">
                  <a:moveTo>
                    <a:pt x="101" y="164"/>
                  </a:moveTo>
                  <a:lnTo>
                    <a:pt x="147" y="317"/>
                  </a:lnTo>
                  <a:lnTo>
                    <a:pt x="183" y="317"/>
                  </a:lnTo>
                  <a:lnTo>
                    <a:pt x="147" y="139"/>
                  </a:lnTo>
                  <a:lnTo>
                    <a:pt x="147" y="35"/>
                  </a:lnTo>
                  <a:lnTo>
                    <a:pt x="175" y="119"/>
                  </a:lnTo>
                  <a:lnTo>
                    <a:pt x="198" y="104"/>
                  </a:lnTo>
                  <a:lnTo>
                    <a:pt x="165" y="0"/>
                  </a:lnTo>
                  <a:lnTo>
                    <a:pt x="101" y="5"/>
                  </a:lnTo>
                  <a:lnTo>
                    <a:pt x="36" y="0"/>
                  </a:lnTo>
                  <a:lnTo>
                    <a:pt x="0" y="109"/>
                  </a:lnTo>
                  <a:lnTo>
                    <a:pt x="27" y="119"/>
                  </a:lnTo>
                  <a:lnTo>
                    <a:pt x="54" y="35"/>
                  </a:lnTo>
                  <a:lnTo>
                    <a:pt x="54" y="139"/>
                  </a:lnTo>
                  <a:lnTo>
                    <a:pt x="18" y="317"/>
                  </a:lnTo>
                  <a:lnTo>
                    <a:pt x="54" y="317"/>
                  </a:lnTo>
                  <a:lnTo>
                    <a:pt x="101" y="16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330960" y="4162320"/>
              <a:ext cx="915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589080" y="4383000"/>
              <a:ext cx="445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714720" y="45054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54840" y="4505400"/>
              <a:ext cx="215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261120" y="447048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44"/>
                  </a:moveTo>
                  <a:lnTo>
                    <a:pt x="44" y="22"/>
                  </a:ln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524720" y="4191120"/>
              <a:ext cx="915840" cy="542880"/>
            </a:xfrm>
            <a:custGeom>
              <a:avLst/>
              <a:gdLst/>
              <a:ahLst/>
              <a:rect l="l" t="t" r="r" b="b"/>
              <a:pathLst>
                <a:path w="577" h="342">
                  <a:moveTo>
                    <a:pt x="0" y="54"/>
                  </a:moveTo>
                  <a:lnTo>
                    <a:pt x="54" y="0"/>
                  </a:lnTo>
                  <a:lnTo>
                    <a:pt x="234" y="0"/>
                  </a:lnTo>
                  <a:lnTo>
                    <a:pt x="289" y="54"/>
                  </a:lnTo>
                  <a:lnTo>
                    <a:pt x="0" y="54"/>
                  </a:lnTo>
                  <a:close/>
                  <a:moveTo>
                    <a:pt x="0" y="342"/>
                  </a:moveTo>
                  <a:lnTo>
                    <a:pt x="577" y="342"/>
                  </a:lnTo>
                  <a:lnTo>
                    <a:pt x="577" y="54"/>
                  </a:lnTo>
                  <a:lnTo>
                    <a:pt x="0" y="54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741440" y="4321080"/>
              <a:ext cx="52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779600" y="4443480"/>
              <a:ext cx="445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806600" y="4565520"/>
              <a:ext cx="39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cka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46800" y="4505400"/>
              <a:ext cx="181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419960" y="4470480"/>
              <a:ext cx="104760" cy="6984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0" y="44"/>
                  </a:moveTo>
                  <a:lnTo>
                    <a:pt x="66" y="22"/>
                  </a:ln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978520" y="2444760"/>
              <a:ext cx="515880" cy="685800"/>
            </a:xfrm>
            <a:custGeom>
              <a:avLst/>
              <a:gdLst/>
              <a:ahLst/>
              <a:rect l="l" t="t" r="r" b="b"/>
              <a:pathLst>
                <a:path w="325" h="432">
                  <a:moveTo>
                    <a:pt x="217" y="0"/>
                  </a:moveTo>
                  <a:lnTo>
                    <a:pt x="325" y="108"/>
                  </a:lnTo>
                  <a:lnTo>
                    <a:pt x="217" y="108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2"/>
                  </a:lnTo>
                  <a:lnTo>
                    <a:pt x="325" y="432"/>
                  </a:lnTo>
                  <a:lnTo>
                    <a:pt x="325" y="108"/>
                  </a:lnTo>
                  <a:lnTo>
                    <a:pt x="217" y="108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876640" y="3143160"/>
              <a:ext cx="765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me Properti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182000" y="2444760"/>
              <a:ext cx="514080" cy="685800"/>
            </a:xfrm>
            <a:custGeom>
              <a:avLst/>
              <a:gdLst/>
              <a:ahLst/>
              <a:rect l="l" t="t" r="r" b="b"/>
              <a:pathLst>
                <a:path w="324" h="432">
                  <a:moveTo>
                    <a:pt x="216" y="0"/>
                  </a:moveTo>
                  <a:lnTo>
                    <a:pt x="324" y="108"/>
                  </a:lnTo>
                  <a:lnTo>
                    <a:pt x="216" y="108"/>
                  </a:lnTo>
                  <a:lnTo>
                    <a:pt x="216" y="0"/>
                  </a:lnTo>
                  <a:close/>
                  <a:moveTo>
                    <a:pt x="0" y="0"/>
                  </a:moveTo>
                  <a:lnTo>
                    <a:pt x="0" y="432"/>
                  </a:lnTo>
                  <a:lnTo>
                    <a:pt x="324" y="432"/>
                  </a:lnTo>
                  <a:lnTo>
                    <a:pt x="324" y="108"/>
                  </a:lnTo>
                  <a:lnTo>
                    <a:pt x="216" y="108"/>
                  </a:lnTo>
                  <a:lnTo>
                    <a:pt x="2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953400" y="3143160"/>
              <a:ext cx="1020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ponent Properti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237360" y="3130560"/>
              <a:ext cx="523800" cy="9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724800" y="4083120"/>
              <a:ext cx="64800" cy="7920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0" y="0"/>
                  </a:moveTo>
                  <a:lnTo>
                    <a:pt x="41" y="50"/>
                  </a:lnTo>
                  <a:lnTo>
                    <a:pt x="0" y="2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6822720" y="3130560"/>
              <a:ext cx="614520" cy="979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789600" y="4083120"/>
              <a:ext cx="66960" cy="79200"/>
            </a:xfrm>
            <a:custGeom>
              <a:avLst/>
              <a:gdLst/>
              <a:ahLst/>
              <a:rect l="l" t="t" r="r" b="b"/>
              <a:pathLst>
                <a:path w="42" h="50">
                  <a:moveTo>
                    <a:pt x="42" y="24"/>
                  </a:moveTo>
                  <a:lnTo>
                    <a:pt x="0" y="50"/>
                  </a:lnTo>
                  <a:lnTo>
                    <a:pt x="5" y="0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524720" y="5545080"/>
              <a:ext cx="915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734960" y="5765760"/>
              <a:ext cx="544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907040" y="58881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983360" y="4734000"/>
              <a:ext cx="1800" cy="749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948440" y="5473800"/>
              <a:ext cx="70200" cy="7128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0" y="0"/>
                  </a:moveTo>
                  <a:lnTo>
                    <a:pt x="22" y="45"/>
                  </a:lnTo>
                  <a:lnTo>
                    <a:pt x="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38160" y="1557360"/>
              <a:ext cx="127080" cy="1252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80" y="40"/>
                  </a:moveTo>
                  <a:lnTo>
                    <a:pt x="78" y="28"/>
                  </a:lnTo>
                  <a:lnTo>
                    <a:pt x="73" y="18"/>
                  </a:lnTo>
                  <a:lnTo>
                    <a:pt x="65" y="10"/>
                  </a:lnTo>
                  <a:lnTo>
                    <a:pt x="56" y="3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3"/>
                  </a:lnTo>
                  <a:lnTo>
                    <a:pt x="13" y="10"/>
                  </a:lnTo>
                  <a:lnTo>
                    <a:pt x="6" y="18"/>
                  </a:lnTo>
                  <a:lnTo>
                    <a:pt x="2" y="28"/>
                  </a:lnTo>
                  <a:lnTo>
                    <a:pt x="0" y="40"/>
                  </a:lnTo>
                  <a:lnTo>
                    <a:pt x="2" y="51"/>
                  </a:lnTo>
                  <a:lnTo>
                    <a:pt x="6" y="61"/>
                  </a:lnTo>
                  <a:lnTo>
                    <a:pt x="13" y="69"/>
                  </a:lnTo>
                  <a:lnTo>
                    <a:pt x="23" y="76"/>
                  </a:lnTo>
                  <a:lnTo>
                    <a:pt x="34" y="79"/>
                  </a:lnTo>
                  <a:lnTo>
                    <a:pt x="45" y="79"/>
                  </a:lnTo>
                  <a:lnTo>
                    <a:pt x="56" y="76"/>
                  </a:lnTo>
                  <a:lnTo>
                    <a:pt x="65" y="69"/>
                  </a:lnTo>
                  <a:lnTo>
                    <a:pt x="73" y="61"/>
                  </a:lnTo>
                  <a:lnTo>
                    <a:pt x="78" y="51"/>
                  </a:lnTo>
                  <a:lnTo>
                    <a:pt x="80" y="4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43120" y="1682640"/>
              <a:ext cx="314280" cy="503280"/>
            </a:xfrm>
            <a:custGeom>
              <a:avLst/>
              <a:gdLst/>
              <a:ahLst/>
              <a:rect l="l" t="t" r="r" b="b"/>
              <a:pathLst>
                <a:path w="198" h="317">
                  <a:moveTo>
                    <a:pt x="102" y="163"/>
                  </a:moveTo>
                  <a:lnTo>
                    <a:pt x="148" y="317"/>
                  </a:lnTo>
                  <a:lnTo>
                    <a:pt x="185" y="317"/>
                  </a:lnTo>
                  <a:lnTo>
                    <a:pt x="148" y="139"/>
                  </a:lnTo>
                  <a:lnTo>
                    <a:pt x="148" y="35"/>
                  </a:lnTo>
                  <a:lnTo>
                    <a:pt x="175" y="119"/>
                  </a:lnTo>
                  <a:lnTo>
                    <a:pt x="198" y="105"/>
                  </a:lnTo>
                  <a:lnTo>
                    <a:pt x="167" y="0"/>
                  </a:lnTo>
                  <a:lnTo>
                    <a:pt x="102" y="5"/>
                  </a:lnTo>
                  <a:lnTo>
                    <a:pt x="37" y="0"/>
                  </a:lnTo>
                  <a:lnTo>
                    <a:pt x="0" y="110"/>
                  </a:lnTo>
                  <a:lnTo>
                    <a:pt x="28" y="119"/>
                  </a:lnTo>
                  <a:lnTo>
                    <a:pt x="56" y="35"/>
                  </a:lnTo>
                  <a:lnTo>
                    <a:pt x="56" y="139"/>
                  </a:lnTo>
                  <a:lnTo>
                    <a:pt x="19" y="317"/>
                  </a:lnTo>
                  <a:lnTo>
                    <a:pt x="56" y="317"/>
                  </a:lnTo>
                  <a:lnTo>
                    <a:pt x="102" y="1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433760" y="3130560"/>
              <a:ext cx="1800" cy="969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398840" y="4091040"/>
              <a:ext cx="69840" cy="7128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44" y="0"/>
                  </a:moveTo>
                  <a:lnTo>
                    <a:pt x="22" y="45"/>
                  </a:lnTo>
                  <a:lnTo>
                    <a:pt x="0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400040" y="2224080"/>
              <a:ext cx="1800" cy="617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65120" y="283212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0"/>
                  </a:moveTo>
                  <a:lnTo>
                    <a:pt x="22" y="44"/>
                  </a:lnTo>
                  <a:lnTo>
                    <a:pt x="0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95320" y="1881360"/>
              <a:ext cx="3538440" cy="3365280"/>
            </a:xfrm>
            <a:custGeom>
              <a:avLst/>
              <a:gdLst/>
              <a:ahLst/>
              <a:rect l="l" t="t" r="r" b="b"/>
              <a:pathLst>
                <a:path w="2229" h="2120">
                  <a:moveTo>
                    <a:pt x="155" y="0"/>
                  </a:moveTo>
                  <a:lnTo>
                    <a:pt x="0" y="0"/>
                  </a:lnTo>
                  <a:lnTo>
                    <a:pt x="0" y="2120"/>
                  </a:lnTo>
                  <a:lnTo>
                    <a:pt x="2229" y="2120"/>
                  </a:lnTo>
                  <a:lnTo>
                    <a:pt x="2229" y="190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398840" y="484812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44"/>
                  </a:moveTo>
                  <a:lnTo>
                    <a:pt x="22" y="0"/>
                  </a:lnTo>
                  <a:lnTo>
                    <a:pt x="44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246800" y="3873600"/>
              <a:ext cx="736560" cy="403200"/>
            </a:xfrm>
            <a:custGeom>
              <a:avLst/>
              <a:gdLst/>
              <a:ahLst/>
              <a:rect l="l" t="t" r="r" b="b"/>
              <a:pathLst>
                <a:path w="464" h="254">
                  <a:moveTo>
                    <a:pt x="0" y="121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64" y="2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11880" y="4056120"/>
              <a:ext cx="69840" cy="106200"/>
            </a:xfrm>
            <a:custGeom>
              <a:avLst/>
              <a:gdLst/>
              <a:ahLst/>
              <a:rect l="l" t="t" r="r" b="b"/>
              <a:pathLst>
                <a:path w="44" h="67">
                  <a:moveTo>
                    <a:pt x="44" y="0"/>
                  </a:moveTo>
                  <a:lnTo>
                    <a:pt x="22" y="67"/>
                  </a:lnTo>
                  <a:lnTo>
                    <a:pt x="0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138640" y="4191120"/>
              <a:ext cx="916200" cy="542880"/>
            </a:xfrm>
            <a:custGeom>
              <a:avLst/>
              <a:gdLst/>
              <a:ahLst/>
              <a:rect l="l" t="t" r="r" b="b"/>
              <a:pathLst>
                <a:path w="577" h="342">
                  <a:moveTo>
                    <a:pt x="0" y="54"/>
                  </a:moveTo>
                  <a:lnTo>
                    <a:pt x="54" y="0"/>
                  </a:lnTo>
                  <a:lnTo>
                    <a:pt x="235" y="0"/>
                  </a:lnTo>
                  <a:lnTo>
                    <a:pt x="289" y="54"/>
                  </a:lnTo>
                  <a:lnTo>
                    <a:pt x="0" y="54"/>
                  </a:lnTo>
                  <a:close/>
                  <a:moveTo>
                    <a:pt x="0" y="342"/>
                  </a:moveTo>
                  <a:lnTo>
                    <a:pt x="577" y="342"/>
                  </a:lnTo>
                  <a:lnTo>
                    <a:pt x="577" y="54"/>
                  </a:lnTo>
                  <a:lnTo>
                    <a:pt x="0" y="54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438880" y="432108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RB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58600" y="4443480"/>
              <a:ext cx="52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20520" y="4565520"/>
              <a:ext cx="39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cka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995720" y="3341520"/>
              <a:ext cx="916200" cy="543240"/>
            </a:xfrm>
            <a:custGeom>
              <a:avLst/>
              <a:gdLst/>
              <a:ahLst/>
              <a:rect l="l" t="t" r="r" b="b"/>
              <a:pathLst>
                <a:path w="577" h="342">
                  <a:moveTo>
                    <a:pt x="0" y="54"/>
                  </a:moveTo>
                  <a:lnTo>
                    <a:pt x="55" y="0"/>
                  </a:lnTo>
                  <a:lnTo>
                    <a:pt x="235" y="0"/>
                  </a:lnTo>
                  <a:lnTo>
                    <a:pt x="289" y="54"/>
                  </a:lnTo>
                  <a:lnTo>
                    <a:pt x="0" y="54"/>
                  </a:lnTo>
                  <a:close/>
                  <a:moveTo>
                    <a:pt x="0" y="342"/>
                  </a:moveTo>
                  <a:lnTo>
                    <a:pt x="577" y="342"/>
                  </a:lnTo>
                  <a:lnTo>
                    <a:pt x="577" y="54"/>
                  </a:lnTo>
                  <a:lnTo>
                    <a:pt x="0" y="54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940280" y="3398760"/>
              <a:ext cx="914400" cy="542880"/>
            </a:xfrm>
            <a:custGeom>
              <a:avLst/>
              <a:gdLst/>
              <a:ahLst/>
              <a:rect l="l" t="t" r="r" b="b"/>
              <a:pathLst>
                <a:path w="576" h="342">
                  <a:moveTo>
                    <a:pt x="0" y="54"/>
                  </a:moveTo>
                  <a:lnTo>
                    <a:pt x="53" y="0"/>
                  </a:lnTo>
                  <a:lnTo>
                    <a:pt x="234" y="0"/>
                  </a:lnTo>
                  <a:lnTo>
                    <a:pt x="288" y="54"/>
                  </a:lnTo>
                  <a:lnTo>
                    <a:pt x="0" y="54"/>
                  </a:lnTo>
                  <a:close/>
                  <a:moveTo>
                    <a:pt x="0" y="342"/>
                  </a:moveTo>
                  <a:lnTo>
                    <a:pt x="576" y="342"/>
                  </a:lnTo>
                  <a:lnTo>
                    <a:pt x="576" y="54"/>
                  </a:lnTo>
                  <a:lnTo>
                    <a:pt x="0" y="54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881600" y="3456000"/>
              <a:ext cx="915840" cy="544680"/>
            </a:xfrm>
            <a:custGeom>
              <a:avLst/>
              <a:gdLst/>
              <a:ahLst/>
              <a:rect l="l" t="t" r="r" b="b"/>
              <a:pathLst>
                <a:path w="577" h="343">
                  <a:moveTo>
                    <a:pt x="0" y="54"/>
                  </a:moveTo>
                  <a:lnTo>
                    <a:pt x="55" y="0"/>
                  </a:lnTo>
                  <a:lnTo>
                    <a:pt x="235" y="0"/>
                  </a:lnTo>
                  <a:lnTo>
                    <a:pt x="288" y="54"/>
                  </a:lnTo>
                  <a:lnTo>
                    <a:pt x="0" y="54"/>
                  </a:lnTo>
                  <a:close/>
                  <a:moveTo>
                    <a:pt x="0" y="343"/>
                  </a:moveTo>
                  <a:lnTo>
                    <a:pt x="577" y="343"/>
                  </a:lnTo>
                  <a:lnTo>
                    <a:pt x="577" y="54"/>
                  </a:lnTo>
                  <a:lnTo>
                    <a:pt x="0" y="54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181480" y="358776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RB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100120" y="3710160"/>
              <a:ext cx="52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163120" y="3832200"/>
              <a:ext cx="39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cka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911920" y="3713040"/>
              <a:ext cx="392040" cy="736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269040" y="4427640"/>
              <a:ext cx="61920" cy="7776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20"/>
                  </a:moveTo>
                  <a:lnTo>
                    <a:pt x="39" y="49"/>
                  </a:lnTo>
                  <a:lnTo>
                    <a:pt x="38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191440" y="4611600"/>
              <a:ext cx="363600" cy="486000"/>
            </a:xfrm>
            <a:custGeom>
              <a:avLst/>
              <a:gdLst/>
              <a:ahLst/>
              <a:rect l="l" t="t" r="r" b="b"/>
              <a:pathLst>
                <a:path w="229" h="306">
                  <a:moveTo>
                    <a:pt x="153" y="0"/>
                  </a:moveTo>
                  <a:lnTo>
                    <a:pt x="229" y="77"/>
                  </a:lnTo>
                  <a:lnTo>
                    <a:pt x="153" y="77"/>
                  </a:lnTo>
                  <a:lnTo>
                    <a:pt x="153" y="0"/>
                  </a:lnTo>
                  <a:close/>
                  <a:moveTo>
                    <a:pt x="0" y="0"/>
                  </a:moveTo>
                  <a:lnTo>
                    <a:pt x="0" y="306"/>
                  </a:lnTo>
                  <a:lnTo>
                    <a:pt x="229" y="306"/>
                  </a:lnTo>
                  <a:lnTo>
                    <a:pt x="229" y="77"/>
                  </a:lnTo>
                  <a:lnTo>
                    <a:pt x="153" y="77"/>
                  </a:lnTo>
                  <a:lnTo>
                    <a:pt x="15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172000" y="5108400"/>
              <a:ext cx="445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165160" y="5230800"/>
              <a:ext cx="46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scrip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046920" y="5573880"/>
              <a:ext cx="914400" cy="542880"/>
            </a:xfrm>
            <a:custGeom>
              <a:avLst/>
              <a:gdLst/>
              <a:ahLst/>
              <a:rect l="l" t="t" r="r" b="b"/>
              <a:pathLst>
                <a:path w="576" h="342">
                  <a:moveTo>
                    <a:pt x="0" y="54"/>
                  </a:moveTo>
                  <a:lnTo>
                    <a:pt x="53" y="0"/>
                  </a:lnTo>
                  <a:lnTo>
                    <a:pt x="234" y="0"/>
                  </a:lnTo>
                  <a:lnTo>
                    <a:pt x="288" y="54"/>
                  </a:lnTo>
                  <a:lnTo>
                    <a:pt x="0" y="54"/>
                  </a:lnTo>
                  <a:close/>
                  <a:moveTo>
                    <a:pt x="0" y="342"/>
                  </a:moveTo>
                  <a:lnTo>
                    <a:pt x="576" y="342"/>
                  </a:lnTo>
                  <a:lnTo>
                    <a:pt x="576" y="54"/>
                  </a:lnTo>
                  <a:lnTo>
                    <a:pt x="0" y="54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346800" y="570384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RB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265080" y="5826240"/>
              <a:ext cx="52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327000" y="5948280"/>
              <a:ext cx="39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cka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961320" y="5888160"/>
              <a:ext cx="501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454880" y="585324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44"/>
                  </a:moveTo>
                  <a:lnTo>
                    <a:pt x="44" y="22"/>
                  </a:ln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816520" y="4622760"/>
              <a:ext cx="363600" cy="484200"/>
            </a:xfrm>
            <a:custGeom>
              <a:avLst/>
              <a:gdLst/>
              <a:ahLst/>
              <a:rect l="l" t="t" r="r" b="b"/>
              <a:pathLst>
                <a:path w="229" h="305">
                  <a:moveTo>
                    <a:pt x="152" y="0"/>
                  </a:moveTo>
                  <a:lnTo>
                    <a:pt x="229" y="76"/>
                  </a:lnTo>
                  <a:lnTo>
                    <a:pt x="152" y="76"/>
                  </a:lnTo>
                  <a:lnTo>
                    <a:pt x="152" y="0"/>
                  </a:lnTo>
                  <a:close/>
                  <a:moveTo>
                    <a:pt x="0" y="0"/>
                  </a:moveTo>
                  <a:lnTo>
                    <a:pt x="0" y="305"/>
                  </a:lnTo>
                  <a:lnTo>
                    <a:pt x="229" y="305"/>
                  </a:lnTo>
                  <a:lnTo>
                    <a:pt x="229" y="76"/>
                  </a:lnTo>
                  <a:lnTo>
                    <a:pt x="152" y="76"/>
                  </a:lnTo>
                  <a:lnTo>
                    <a:pt x="1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54680" y="5118120"/>
              <a:ext cx="33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p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790240" y="5240160"/>
              <a:ext cx="46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scrip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892760" y="4505400"/>
              <a:ext cx="866520" cy="33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738760" y="4805280"/>
              <a:ext cx="77760" cy="66600"/>
            </a:xfrm>
            <a:custGeom>
              <a:avLst/>
              <a:gdLst/>
              <a:ahLst/>
              <a:rect l="l" t="t" r="r" b="b"/>
              <a:pathLst>
                <a:path w="49" h="42">
                  <a:moveTo>
                    <a:pt x="0" y="42"/>
                  </a:moveTo>
                  <a:lnTo>
                    <a:pt x="49" y="37"/>
                  </a:lnTo>
                  <a:lnTo>
                    <a:pt x="16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246800" y="4505400"/>
              <a:ext cx="887400" cy="32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113680" y="4795920"/>
              <a:ext cx="77760" cy="6804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43"/>
                  </a:moveTo>
                  <a:lnTo>
                    <a:pt x="49" y="37"/>
                  </a:lnTo>
                  <a:lnTo>
                    <a:pt x="16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8C0-46B5-47C2-A0F5-79EEC2C96DCB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dit XML descriptors using simple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demo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aging, Assembling and Deploying the Client / Server – Producer / Consumer CCM application by defining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Component names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Home instances and their co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Component insta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Connections between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...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59E-0162-461F-BF27-613BED262E62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OpenCCM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: 1st open standard for Distributed Component Comp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languages, multi-OSs, multi-ORBs...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An open compilation &amp; generation tool ch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MG IDL3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MG IDL3 Reposi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enerator for equivalent OMG IDL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enerator for extended Java skeleton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A flexible distributed deployment &amp; execution middleware infra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1437-FAA7-4984-B7CD-6C95B99D865A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ore inform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Web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ff"/>
                </a:solidFill>
                <a:uFillTx/>
                <a:latin typeface="Tahoma"/>
              </a:rPr>
              <a:t>http://www.objectweb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CC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ff"/>
                </a:solidFill>
                <a:uFillTx/>
                <a:latin typeface="Tahoma"/>
              </a:rPr>
              <a:t>http://www.objectweb.org/openccm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ling list = </a:t>
            </a:r>
            <a:r>
              <a:rPr b="0" i="1" lang="en-US" sz="2400" spc="-1" strike="noStrike" u="sng">
                <a:solidFill>
                  <a:srgbClr val="3333ff"/>
                </a:solidFill>
                <a:uFillTx/>
                <a:latin typeface="Tahoma"/>
              </a:rPr>
              <a:t>openccm@objectweb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ff"/>
                </a:solidFill>
                <a:uFillTx/>
                <a:latin typeface="Tahoma"/>
              </a:rPr>
              <a:t>http://www.lifl.f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5670-FDAD-4E9E-BF10-EFCB970C26BA}" type="slidenum">
              <a:t>68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lient/Server-Producer/Consumer Exampl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lient components synchronously invoke a Server component which asynchronously publishes Events to the set of connected Consumer componen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ponents are created by simple component homes or managers with primary key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84D-8CC1-4B2A-98C9-7081D8D004D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uilding the application :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sembling CORBA Component insta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308360" y="349200"/>
            <a:ext cx="1791360" cy="2144880"/>
            <a:chOff x="7308360" y="349200"/>
            <a:chExt cx="1791360" cy="2144880"/>
          </a:xfrm>
        </p:grpSpPr>
        <p:grpSp>
          <p:nvGrpSpPr>
            <p:cNvPr id="186" name=""/>
            <p:cNvGrpSpPr/>
            <p:nvPr/>
          </p:nvGrpSpPr>
          <p:grpSpPr>
            <a:xfrm>
              <a:off x="7308720" y="349200"/>
              <a:ext cx="1593000" cy="368280"/>
              <a:chOff x="7308720" y="349200"/>
              <a:chExt cx="1593000" cy="368280"/>
            </a:xfrm>
          </p:grpSpPr>
          <p:sp>
            <p:nvSpPr>
              <p:cNvPr id="187" name=""/>
              <p:cNvSpPr/>
              <p:nvPr/>
            </p:nvSpPr>
            <p:spPr>
              <a:xfrm>
                <a:off x="7308720" y="453960"/>
                <a:ext cx="322560" cy="17604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652520" y="349200"/>
                <a:ext cx="12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Compon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308360" y="727200"/>
              <a:ext cx="1791360" cy="368280"/>
              <a:chOff x="7308360" y="727200"/>
              <a:chExt cx="1791360" cy="36828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7308360" y="780840"/>
                <a:ext cx="228600" cy="228240"/>
                <a:chOff x="7308360" y="780840"/>
                <a:chExt cx="228600" cy="228240"/>
              </a:xfrm>
            </p:grpSpPr>
            <p:sp>
              <p:nvSpPr>
                <p:cNvPr id="191" name=""/>
                <p:cNvSpPr/>
                <p:nvPr/>
              </p:nvSpPr>
              <p:spPr>
                <a:xfrm flipV="1">
                  <a:off x="7422840" y="824040"/>
                  <a:ext cx="0" cy="18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5400000">
                  <a:off x="7333200" y="756000"/>
                  <a:ext cx="178920" cy="22860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7651800" y="72720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Base ref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7308720" y="1058760"/>
              <a:ext cx="1021320" cy="368280"/>
              <a:chOff x="7308720" y="1058760"/>
              <a:chExt cx="1021320" cy="36828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7308720" y="1136520"/>
                <a:ext cx="330120" cy="228600"/>
                <a:chOff x="7308720" y="1136520"/>
                <a:chExt cx="330120" cy="228600"/>
              </a:xfrm>
            </p:grpSpPr>
            <p:sp>
              <p:nvSpPr>
                <p:cNvPr id="196" name=""/>
                <p:cNvSpPr/>
                <p:nvPr/>
              </p:nvSpPr>
              <p:spPr>
                <a:xfrm flipH="1">
                  <a:off x="7455960" y="1250640"/>
                  <a:ext cx="18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308720" y="1136520"/>
                  <a:ext cx="176760" cy="228600"/>
                </a:xfrm>
                <a:prstGeom prst="ellipse">
                  <a:avLst/>
                </a:prstGeom>
                <a:solidFill>
                  <a:srgbClr val="ffcf0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>
                <a:off x="7652520" y="1058760"/>
                <a:ext cx="67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Fac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7308720" y="1414440"/>
              <a:ext cx="1530720" cy="368280"/>
              <a:chOff x="7308720" y="1414440"/>
              <a:chExt cx="1530720" cy="36828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7308720" y="1455840"/>
                <a:ext cx="417600" cy="301680"/>
                <a:chOff x="7308720" y="1455840"/>
                <a:chExt cx="417600" cy="301680"/>
              </a:xfrm>
            </p:grpSpPr>
            <p:grpSp>
              <p:nvGrpSpPr>
                <p:cNvPr id="201" name=""/>
                <p:cNvGrpSpPr/>
                <p:nvPr/>
              </p:nvGrpSpPr>
              <p:grpSpPr>
                <a:xfrm>
                  <a:off x="7308720" y="1590120"/>
                  <a:ext cx="128880" cy="42120"/>
                  <a:chOff x="7308720" y="1590120"/>
                  <a:chExt cx="128880" cy="4212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>
                    <a:off x="7341120" y="1611000"/>
                    <a:ext cx="96480" cy="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308720" y="1590120"/>
                    <a:ext cx="47520" cy="4212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4" name=""/>
                <p:cNvSpPr/>
                <p:nvPr/>
              </p:nvSpPr>
              <p:spPr>
                <a:xfrm rot="16200000">
                  <a:off x="7431840" y="1463040"/>
                  <a:ext cx="301680" cy="28692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7651440" y="1414440"/>
                <a:ext cx="118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Receptac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7308720" y="2125800"/>
              <a:ext cx="1752480" cy="368280"/>
              <a:chOff x="7308720" y="2125800"/>
              <a:chExt cx="1752480" cy="36828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308720" y="2187360"/>
                <a:ext cx="384480" cy="258480"/>
                <a:chOff x="7308720" y="2187360"/>
                <a:chExt cx="384480" cy="258480"/>
              </a:xfrm>
            </p:grpSpPr>
            <p:sp>
              <p:nvSpPr>
                <p:cNvPr id="208" name=""/>
                <p:cNvSpPr/>
                <p:nvPr/>
              </p:nvSpPr>
              <p:spPr>
                <a:xfrm flipH="1">
                  <a:off x="7386120" y="2316600"/>
                  <a:ext cx="15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308720" y="2254680"/>
                  <a:ext cx="77040" cy="12348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518600" y="2187360"/>
                  <a:ext cx="174600" cy="25848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258480"/>
                    <a:gd name="textAreaBottom" fmla="*/ 258840 h 258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7652160" y="2125800"/>
                <a:ext cx="140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Event Sour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308720" y="1770120"/>
              <a:ext cx="1536120" cy="368280"/>
              <a:chOff x="7308720" y="1770120"/>
              <a:chExt cx="1536120" cy="36828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7308720" y="1812960"/>
                <a:ext cx="419040" cy="297000"/>
                <a:chOff x="7308720" y="1812960"/>
                <a:chExt cx="419040" cy="297000"/>
              </a:xfrm>
            </p:grpSpPr>
            <p:sp>
              <p:nvSpPr>
                <p:cNvPr id="214" name=""/>
                <p:cNvSpPr/>
                <p:nvPr/>
              </p:nvSpPr>
              <p:spPr>
                <a:xfrm flipH="1">
                  <a:off x="7511400" y="1959480"/>
                  <a:ext cx="21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308720" y="1812960"/>
                  <a:ext cx="216360" cy="297000"/>
                </a:xfrm>
                <a:custGeom>
                  <a:avLst/>
                  <a:gdLst>
                    <a:gd name="textAreaLeft" fmla="*/ 0 w 216360"/>
                    <a:gd name="textAreaRight" fmla="*/ 216720 w 2163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652160" y="1770120"/>
                <a:ext cx="119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Event Si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3203640" y="3068640"/>
            <a:ext cx="2721600" cy="1582200"/>
            <a:chOff x="3203640" y="3068640"/>
            <a:chExt cx="2721600" cy="1582200"/>
          </a:xfrm>
        </p:grpSpPr>
        <p:sp>
          <p:nvSpPr>
            <p:cNvPr id="218" name=""/>
            <p:cNvSpPr/>
            <p:nvPr/>
          </p:nvSpPr>
          <p:spPr>
            <a:xfrm flipH="1">
              <a:off x="3654000" y="4157640"/>
              <a:ext cx="65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03640" y="3931920"/>
              <a:ext cx="414000" cy="4158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643280" y="3139560"/>
              <a:ext cx="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5400000">
              <a:off x="4498560" y="3068640"/>
              <a:ext cx="360360" cy="360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79640" y="3571560"/>
              <a:ext cx="1655280" cy="10792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5362200" y="3859200"/>
              <a:ext cx="563040" cy="503640"/>
              <a:chOff x="5362200" y="3859200"/>
              <a:chExt cx="563040" cy="50364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362200" y="3956400"/>
                <a:ext cx="448200" cy="406440"/>
                <a:chOff x="5362200" y="3956400"/>
                <a:chExt cx="448200" cy="406440"/>
              </a:xfrm>
            </p:grpSpPr>
            <p:sp>
              <p:nvSpPr>
                <p:cNvPr id="225" name=""/>
                <p:cNvSpPr/>
                <p:nvPr/>
              </p:nvSpPr>
              <p:spPr>
                <a:xfrm flipH="1">
                  <a:off x="5452920" y="4159800"/>
                  <a:ext cx="18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362200" y="4062240"/>
                  <a:ext cx="89640" cy="19440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607000" y="3956400"/>
                  <a:ext cx="203400" cy="406440"/>
                </a:xfrm>
                <a:custGeom>
                  <a:avLst/>
                  <a:gdLst>
                    <a:gd name="textAreaLeft" fmla="*/ 0 w 203400"/>
                    <a:gd name="textAreaRight" fmla="*/ 203760 w 2034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5762520" y="3859200"/>
                <a:ext cx="16272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1187280" y="3068640"/>
            <a:ext cx="2160000" cy="1655640"/>
            <a:chOff x="1187280" y="3068640"/>
            <a:chExt cx="2160000" cy="1655640"/>
          </a:xfrm>
        </p:grpSpPr>
        <p:grpSp>
          <p:nvGrpSpPr>
            <p:cNvPr id="230" name=""/>
            <p:cNvGrpSpPr/>
            <p:nvPr/>
          </p:nvGrpSpPr>
          <p:grpSpPr>
            <a:xfrm>
              <a:off x="1187280" y="3068640"/>
              <a:ext cx="1728720" cy="1655640"/>
              <a:chOff x="1187280" y="3068640"/>
              <a:chExt cx="1728720" cy="16556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1979640" y="3068640"/>
                <a:ext cx="339120" cy="431280"/>
                <a:chOff x="1979640" y="3068640"/>
                <a:chExt cx="339120" cy="43128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2149200" y="3150000"/>
                  <a:ext cx="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5400000">
                  <a:off x="1980000" y="3067920"/>
                  <a:ext cx="338040" cy="3391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1187280" y="3500280"/>
                <a:ext cx="1728720" cy="122400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mpon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2842920" y="3933720"/>
              <a:ext cx="504360" cy="432000"/>
              <a:chOff x="2842920" y="3933720"/>
              <a:chExt cx="504360" cy="4320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2842920" y="4125960"/>
                <a:ext cx="155160" cy="60480"/>
                <a:chOff x="2842920" y="4125960"/>
                <a:chExt cx="155160" cy="6048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2881800" y="4156200"/>
                  <a:ext cx="11628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842920" y="4125960"/>
                  <a:ext cx="57600" cy="604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 rot="16200000">
                <a:off x="2957760" y="3976200"/>
                <a:ext cx="432000" cy="3466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"/>
          <p:cNvGrpSpPr/>
          <p:nvPr/>
        </p:nvGrpSpPr>
        <p:grpSpPr>
          <a:xfrm>
            <a:off x="5796000" y="3068640"/>
            <a:ext cx="2449080" cy="1584360"/>
            <a:chOff x="5796000" y="3068640"/>
            <a:chExt cx="2449080" cy="1584360"/>
          </a:xfrm>
        </p:grpSpPr>
        <p:sp>
          <p:nvSpPr>
            <p:cNvPr id="241" name=""/>
            <p:cNvSpPr/>
            <p:nvPr/>
          </p:nvSpPr>
          <p:spPr>
            <a:xfrm>
              <a:off x="6462000" y="3616200"/>
              <a:ext cx="1783080" cy="10368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nsu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5796000" y="3932280"/>
              <a:ext cx="698040" cy="404280"/>
              <a:chOff x="5796000" y="3932280"/>
              <a:chExt cx="698040" cy="40428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6133680" y="413208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96000" y="3932280"/>
                <a:ext cx="360360" cy="4042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165440" y="3068640"/>
              <a:ext cx="375840" cy="546840"/>
              <a:chOff x="7165440" y="3068640"/>
              <a:chExt cx="375840" cy="54684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7353360" y="3171600"/>
                <a:ext cx="0" cy="44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5400000">
                <a:off x="7138800" y="3094920"/>
                <a:ext cx="428760" cy="3758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982-B114-4F26-B3DA-BA5284E823E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MG IDL 3.0 for demo3 examp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// Importation of the Components modu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// when access to OMG IDL definitions co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// into the CCM's Components module is requi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omponent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mo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// Sets the prefix of all these OMG IDL defini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// Prefix generated Java mapping clas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ypeprefi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mo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ccm.objectweb.org"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tting started with OpenCC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5B2C-32E6-4A2E-98E7-D00C181393A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eski Flissi</dc:creator>
  <dc:description/>
  <dc:language>en-US</dc:language>
  <cp:lastModifiedBy>flissi</cp:lastModifiedBy>
  <dcterms:modified xsi:type="dcterms:W3CDTF">2002-11-27T17:33:13Z</dcterms:modified>
  <cp:revision>897</cp:revision>
  <dc:subject>CORBA Component Model</dc:subject>
  <dc:title>Getting started with OpenCC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6</vt:r8>
  </property>
  <property fmtid="{D5CDD505-2E9C-101B-9397-08002B2CF9AE}" pid="3" name="Version">
    <vt:r8>4</vt:r8>
  </property>
</Properties>
</file>