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52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74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52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74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90920" y="228600"/>
            <a:ext cx="6324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52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7400" y="137160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30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52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7400" y="3998520"/>
            <a:ext cx="279216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920" y="228600"/>
            <a:ext cx="6324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840" y="399852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371600"/>
            <a:ext cx="42318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" y="3998520"/>
            <a:ext cx="8672400" cy="239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700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700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>
              <a:spcBef>
                <a:spcPts val="700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9540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9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95040">
              <a:spcBef>
                <a:spcPts val="7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95040">
              <a:spcBef>
                <a:spcPts val="7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62080" y="6470640"/>
            <a:ext cx="1262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objectweb.org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286760" y="6532560"/>
            <a:ext cx="1628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(OpenCCM)  - D</a:t>
            </a:r>
            <a:fld id="{9C5D4EE4-7FC2-4317-B42E-C9E6D74AFCF6}" type="slidenum">
              <a:rPr b="0" lang="fr-FR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 - 30/10/2001</a:t>
            </a:r>
            <a:endParaRPr b="0" lang="en-US" sz="7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22200" y="264960"/>
            <a:ext cx="2116080" cy="72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62080" y="6470640"/>
            <a:ext cx="1262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objectweb.org</a:t>
            </a:r>
            <a:endParaRPr b="0" lang="en-US" sz="10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4120" y="5383080"/>
            <a:ext cx="3182760" cy="1094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438120" algn="ctr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95400" algn="ctr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950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95040">
              <a:spcBef>
                <a:spcPts val="4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95040">
              <a:spcBef>
                <a:spcPts val="4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rbaweb.lifl.fr/OpenCCM/" TargetMode="External"/><Relationship Id="rId2" Type="http://schemas.openxmlformats.org/officeDocument/2006/relationships/hyperlink" Target="http://corbaweb.lifl.fr/OpenCCM/" TargetMode="External"/><Relationship Id="rId3" Type="http://schemas.openxmlformats.org/officeDocument/2006/relationships/hyperlink" Target="http://corbaweb.lifl.fr/OpenCCM/" TargetMode="External"/><Relationship Id="rId4" Type="http://schemas.openxmlformats.org/officeDocument/2006/relationships/hyperlink" Target="http://www.objectweb.org/OpenCCM/" TargetMode="External"/><Relationship Id="rId5" Type="http://schemas.openxmlformats.org/officeDocument/2006/relationships/hyperlink" Target="http://www.objectweb.org/OpenCCM/" TargetMode="External"/><Relationship Id="rId6" Type="http://schemas.openxmlformats.org/officeDocument/2006/relationships/hyperlink" Target="http://www.objectweb.org/OpenCCM/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emplus.fr/cesure" TargetMode="External"/><Relationship Id="rId2" Type="http://schemas.openxmlformats.org/officeDocument/2006/relationships/hyperlink" Target="http://www.gemplus.fr/cesure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bjectweb.org/OpenCC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rbaweb.lifl.fr/CorbaScript/" TargetMode="External"/><Relationship Id="rId2" Type="http://schemas.openxmlformats.org/officeDocument/2006/relationships/hyperlink" Target="http://corbaweb.lifl.fr/CorbaScript/" TargetMode="External"/><Relationship Id="rId3" Type="http://schemas.openxmlformats.org/officeDocument/2006/relationships/hyperlink" Target="http://corbaweb.lifl.fr/CorbaScript/" TargetMode="External"/><Relationship Id="rId4" Type="http://schemas.openxmlformats.org/officeDocument/2006/relationships/hyperlink" Target="http://www.lifl.fr/~roos/jidlscript/" TargetMode="External"/><Relationship Id="rId5" Type="http://schemas.openxmlformats.org/officeDocument/2006/relationships/hyperlink" Target="http://www.lifl.fr/~leblanc/TORBA/" TargetMode="External"/><Relationship Id="rId6" Type="http://schemas.openxmlformats.org/officeDocument/2006/relationships/hyperlink" Target="http://www.lifl.fr/~leblanc/TORBA/" TargetMode="External"/><Relationship Id="rId7" Type="http://schemas.openxmlformats.org/officeDocument/2006/relationships/hyperlink" Target="http://www.lifl.fr/~leblanc/TORBA/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orbaweb.lifl.fr/OpenCCM/" TargetMode="External"/><Relationship Id="rId2" Type="http://schemas.openxmlformats.org/officeDocument/2006/relationships/hyperlink" Target="http://corbaweb.lifl.fr/OpenCCM/" TargetMode="External"/><Relationship Id="rId3" Type="http://schemas.openxmlformats.org/officeDocument/2006/relationships/hyperlink" Target="http://corbaweb.lifl.fr/OpenCCM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925040" cy="15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 Black"/>
              </a:rPr>
              <a:t>OpenCCM</a:t>
            </a:r>
            <a:br>
              <a:rPr sz="3600"/>
            </a:br>
            <a:endParaRPr b="0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2637000"/>
            <a:ext cx="7925040" cy="22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C Philippe Mer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FL - IN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e.Merle@lifl.f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orbaweb.lifl.fr/OpenCCM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http://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5"/>
              </a:rPr>
              <a:t>www.objectweb.org/OpenCCM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6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o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Some Main Current Uses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nch RNRT CESURE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component based application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by Gemplus smart cards (i.e. Java Card + R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replication, load balancing, and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unning inside Compact iPAQ &amp; SmartLife Gemplus P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J9 + ORBacus 4.1 + OpenCCM server ~ 5 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www.gemplus.fr/ce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les A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IDL3 -&gt; XMI -&gt; Objecteering UML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components for GRID meta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IS team at IRISA Re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und 500 down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uture Work:</a:t>
            </a: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Related to CCM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2640" y="1371600"/>
            <a:ext cx="872172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Implementation Definition Language (CID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Implementation Framework (CI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ers for system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, persistence, transactions, and notific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istent State Definition Language (PSD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IP archives and XML DTDs for packaging and deploy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est CCM deployment AP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ORB 1.4 and Orbix 2000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or and runtime for C++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uture Work:</a:t>
            </a: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Related to ObjectWeb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with other ObjectWeb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nathan for its CORBA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nAS for its distributed transac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RM for its persistenc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RAM for its reliable asynchronous middl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ing most of basic common component frameworks like MonoLog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ing input for next common component frame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containers and application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deployment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repos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soon at 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www.objectweb.org/OpenCC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uture Work: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 </a:t>
            </a:r>
            <a:br>
              <a:rPr sz="24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Advanced features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adaptive, and extensible container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to fault-tolerance, load balancing, real-tim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operation with Th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e design and execution (CODe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ng-based deployment and supervision (TOS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scripting engine ins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ous Graphical User Interfaces (G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esigning, assembling, deployment,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Other LIFL’s Projects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baScri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MG CORBA Scripting Languag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top of major C++ ORB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orbaweb.lifl.fr/CorbaScript</a:t>
            </a: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IDLscri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MG IDLscript + Java scripting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http://www.lifl.fr/~roos/jidlscrip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R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r Oriented Request Brok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and runtime for safe trading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6"/>
              </a:rPr>
              <a:t>www.lifl.fr/~leblanc/TORBA</a:t>
            </a: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7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haps, some future ObjectWeb projec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OpenCCM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n CORBA Component Model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public available implementation of the OMG CC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partial Java &amp; C++ Open Source implementations alread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mmercial products pl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pen Source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since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t releases since Q1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by LI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orbaweb.lifl.fr/OpenCCM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dicated to research &amp; experimental activities around next Distributed Component Computing and Middleware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The CORBA Component Model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2640" y="1371600"/>
            <a:ext cx="89010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n standard for Distributed Component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anguages, multi-OSs, multi-ORBs, multi-vendo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Entreprise Java Beans (EJ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created and managed by h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into containers managing system services transpa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ed by application component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one component cou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everal input and output interfaces (operations &amp; ev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188640">
              <a:spcBef>
                <a:spcPts val="451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the extended OMG Interface Definition Language (OMG ID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implemented by several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188640">
              <a:spcBef>
                <a:spcPts val="451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the Component Implementation Definition Language (CI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CM application could be deployed and run on several distributed servers simultaneousl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A Distributed CCM Application</a:t>
            </a: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(The OpenCCM demo3)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6311880" y="2154240"/>
            <a:ext cx="361800" cy="1606680"/>
          </a:xfrm>
          <a:prstGeom prst="rect">
            <a:avLst/>
          </a:prstGeom>
          <a:solidFill>
            <a:srgbClr val="cc00c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86760" y="1496880"/>
            <a:ext cx="1647720" cy="3284640"/>
          </a:xfrm>
          <a:custGeom>
            <a:avLst/>
            <a:gdLst>
              <a:gd name="textAreaLeft" fmla="*/ 80280 w 1647720"/>
              <a:gd name="textAreaRight" fmla="*/ 1567440 w 1647720"/>
              <a:gd name="textAreaTop" fmla="*/ 80280 h 3284640"/>
              <a:gd name="textAreaBottom" fmla="*/ 3204360 h 3284640"/>
            </a:gdLst>
            <a:ahLst/>
            <a:rect l="textAreaLeft" t="textAreaTop" r="textAreaRight" b="textAreaBottom"/>
            <a:pathLst>
              <a:path w="21600" h="43054">
                <a:moveTo>
                  <a:pt x="3600" y="0"/>
                </a:moveTo>
                <a:arcTo wR="3600" hR="3600" stAng="16200000" swAng="-5400000"/>
                <a:lnTo>
                  <a:pt x="0" y="39454"/>
                </a:lnTo>
                <a:arcTo wR="3600" hR="3600" stAng="10800000" swAng="-5400000"/>
                <a:lnTo>
                  <a:pt x="18000" y="430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0066"/>
                </a:solidFill>
                <a:latin typeface="Times New Roman"/>
              </a:rPr>
              <a:t>ConsumerHome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5840" y="1820880"/>
            <a:ext cx="1761840" cy="2370240"/>
          </a:xfrm>
          <a:custGeom>
            <a:avLst/>
            <a:gdLst>
              <a:gd name="textAreaLeft" fmla="*/ 85680 w 1761840"/>
              <a:gd name="textAreaRight" fmla="*/ 1676160 w 1761840"/>
              <a:gd name="textAreaTop" fmla="*/ 85680 h 2370240"/>
              <a:gd name="textAreaBottom" fmla="*/ 2284560 h 2370240"/>
            </a:gdLst>
            <a:ahLst/>
            <a:rect l="textAreaLeft" t="textAreaTop" r="textAreaRight" b="textAreaBottom"/>
            <a:pathLst>
              <a:path w="21600" h="29057">
                <a:moveTo>
                  <a:pt x="3600" y="0"/>
                </a:moveTo>
                <a:arcTo wR="3600" hR="3600" stAng="16200000" swAng="-5400000"/>
                <a:lnTo>
                  <a:pt x="0" y="25457"/>
                </a:lnTo>
                <a:arcTo wR="3600" hR="3600" stAng="10800000" swAng="-5400000"/>
                <a:lnTo>
                  <a:pt x="18000" y="290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Times New Roman"/>
              </a:rPr>
              <a:t>ServerHome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800" y="1496880"/>
            <a:ext cx="1609920" cy="3284640"/>
          </a:xfrm>
          <a:custGeom>
            <a:avLst/>
            <a:gdLst>
              <a:gd name="textAreaLeft" fmla="*/ 78480 w 1609920"/>
              <a:gd name="textAreaRight" fmla="*/ 1531440 w 1609920"/>
              <a:gd name="textAreaTop" fmla="*/ 78480 h 3284640"/>
              <a:gd name="textAreaBottom" fmla="*/ 3206160 h 3284640"/>
            </a:gdLst>
            <a:ahLst/>
            <a:rect l="textAreaLeft" t="textAreaTop" r="textAreaRight" b="textAreaBottom"/>
            <a:pathLst>
              <a:path w="21600" h="44064">
                <a:moveTo>
                  <a:pt x="3600" y="0"/>
                </a:moveTo>
                <a:arcTo wR="3600" hR="3600" stAng="16200000" swAng="-5400000"/>
                <a:lnTo>
                  <a:pt x="0" y="40464"/>
                </a:lnTo>
                <a:arcTo wR="3600" hR="3600" stAng="10800000" swAng="-5400000"/>
                <a:lnTo>
                  <a:pt x="18000" y="44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Times New Roman"/>
              </a:rPr>
              <a:t>ClientHome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2840" y="1865160"/>
            <a:ext cx="1666800" cy="1798920"/>
          </a:xfrm>
          <a:custGeom>
            <a:avLst/>
            <a:gdLst>
              <a:gd name="textAreaLeft" fmla="*/ 81360 w 1666800"/>
              <a:gd name="textAreaRight" fmla="*/ 1585440 w 1666800"/>
              <a:gd name="textAreaTop" fmla="*/ 81360 h 1798920"/>
              <a:gd name="textAreaBottom" fmla="*/ 1717560 h 1798920"/>
            </a:gdLst>
            <a:ahLst/>
            <a:rect l="textAreaLeft" t="textAreaTop" r="textAreaRight" b="textAreaBottom"/>
            <a:pathLst>
              <a:path w="21600" h="23312">
                <a:moveTo>
                  <a:pt x="3600" y="0"/>
                </a:moveTo>
                <a:arcTo wR="3600" hR="3600" stAng="16200000" swAng="-5400000"/>
                <a:lnTo>
                  <a:pt x="0" y="19712"/>
                </a:lnTo>
                <a:arcTo wR="3600" hR="3600" stAng="10800000" swAng="-5400000"/>
                <a:lnTo>
                  <a:pt x="18000" y="23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960" y="1571760"/>
            <a:ext cx="1530360" cy="777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960" y="2419200"/>
            <a:ext cx="1530360" cy="777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960" y="3286080"/>
            <a:ext cx="1530360" cy="777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330720" y="5114880"/>
            <a:ext cx="411120" cy="324000"/>
            <a:chOff x="3330720" y="5114880"/>
            <a:chExt cx="411120" cy="324000"/>
          </a:xfrm>
        </p:grpSpPr>
        <p:sp>
          <p:nvSpPr>
            <p:cNvPr id="97" name=""/>
            <p:cNvSpPr/>
            <p:nvPr/>
          </p:nvSpPr>
          <p:spPr>
            <a:xfrm flipH="1">
              <a:off x="3408480" y="527688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30720" y="511488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311640" y="5632560"/>
            <a:ext cx="601560" cy="323640"/>
            <a:chOff x="3311640" y="5632560"/>
            <a:chExt cx="601560" cy="323640"/>
          </a:xfrm>
        </p:grpSpPr>
        <p:sp>
          <p:nvSpPr>
            <p:cNvPr id="100" name=""/>
            <p:cNvSpPr/>
            <p:nvPr/>
          </p:nvSpPr>
          <p:spPr>
            <a:xfrm flipH="1">
              <a:off x="3579840" y="579420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1640" y="5632560"/>
              <a:ext cx="322200" cy="323640"/>
            </a:xfrm>
            <a:prstGeom prst="ellipse">
              <a:avLst/>
            </a:prstGeom>
            <a:solidFill>
              <a:srgbClr val="66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5400" y="1413000"/>
            <a:ext cx="411120" cy="323640"/>
            <a:chOff x="95400" y="1413000"/>
            <a:chExt cx="411120" cy="323640"/>
          </a:xfrm>
        </p:grpSpPr>
        <p:sp>
          <p:nvSpPr>
            <p:cNvPr id="103" name=""/>
            <p:cNvSpPr/>
            <p:nvPr/>
          </p:nvSpPr>
          <p:spPr>
            <a:xfrm flipH="1">
              <a:off x="173160" y="157464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5400" y="141300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5400" y="2270160"/>
            <a:ext cx="411120" cy="323640"/>
            <a:chOff x="95400" y="2270160"/>
            <a:chExt cx="411120" cy="323640"/>
          </a:xfrm>
        </p:grpSpPr>
        <p:sp>
          <p:nvSpPr>
            <p:cNvPr id="106" name=""/>
            <p:cNvSpPr/>
            <p:nvPr/>
          </p:nvSpPr>
          <p:spPr>
            <a:xfrm flipH="1">
              <a:off x="173160" y="243180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5400" y="227016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95400" y="3127320"/>
            <a:ext cx="411120" cy="324000"/>
            <a:chOff x="95400" y="3127320"/>
            <a:chExt cx="411120" cy="324000"/>
          </a:xfrm>
        </p:grpSpPr>
        <p:sp>
          <p:nvSpPr>
            <p:cNvPr id="109" name=""/>
            <p:cNvSpPr/>
            <p:nvPr/>
          </p:nvSpPr>
          <p:spPr>
            <a:xfrm flipH="1">
              <a:off x="173160" y="328932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5400" y="312732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095720" y="2670120"/>
            <a:ext cx="438120" cy="419040"/>
          </a:xfrm>
          <a:prstGeom prst="rect">
            <a:avLst/>
          </a:prstGeom>
          <a:solidFill>
            <a:srgbClr val="0000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86240" y="2660760"/>
            <a:ext cx="601560" cy="323640"/>
            <a:chOff x="3486240" y="2660760"/>
            <a:chExt cx="601560" cy="323640"/>
          </a:xfrm>
        </p:grpSpPr>
        <p:sp>
          <p:nvSpPr>
            <p:cNvPr id="113" name=""/>
            <p:cNvSpPr/>
            <p:nvPr/>
          </p:nvSpPr>
          <p:spPr>
            <a:xfrm flipH="1">
              <a:off x="3754440" y="282240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86240" y="2660760"/>
              <a:ext cx="322200" cy="323640"/>
            </a:xfrm>
            <a:prstGeom prst="ellipse">
              <a:avLst/>
            </a:prstGeom>
            <a:solidFill>
              <a:srgbClr val="66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43480" y="1717560"/>
            <a:ext cx="411120" cy="324000"/>
            <a:chOff x="3543480" y="1717560"/>
            <a:chExt cx="411120" cy="324000"/>
          </a:xfrm>
        </p:grpSpPr>
        <p:sp>
          <p:nvSpPr>
            <p:cNvPr id="116" name=""/>
            <p:cNvSpPr/>
            <p:nvPr/>
          </p:nvSpPr>
          <p:spPr>
            <a:xfrm flipH="1">
              <a:off x="3621240" y="187956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43480" y="171756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338960" y="1609560"/>
            <a:ext cx="1530360" cy="777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Consume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2013120"/>
            <a:ext cx="571680" cy="247320"/>
          </a:xfrm>
          <a:prstGeom prst="rect">
            <a:avLst/>
          </a:prstGeom>
          <a:solidFill>
            <a:srgbClr val="0000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953400" y="1450800"/>
            <a:ext cx="411120" cy="324000"/>
            <a:chOff x="6953400" y="1450800"/>
            <a:chExt cx="411120" cy="324000"/>
          </a:xfrm>
        </p:grpSpPr>
        <p:sp>
          <p:nvSpPr>
            <p:cNvPr id="121" name=""/>
            <p:cNvSpPr/>
            <p:nvPr/>
          </p:nvSpPr>
          <p:spPr>
            <a:xfrm flipH="1">
              <a:off x="7031160" y="161280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53400" y="145080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338960" y="2486160"/>
            <a:ext cx="1530360" cy="777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Consume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2889360"/>
            <a:ext cx="571680" cy="247680"/>
          </a:xfrm>
          <a:prstGeom prst="rect">
            <a:avLst/>
          </a:prstGeom>
          <a:solidFill>
            <a:srgbClr val="0000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953400" y="2327400"/>
            <a:ext cx="411120" cy="323640"/>
            <a:chOff x="6953400" y="2327400"/>
            <a:chExt cx="411120" cy="323640"/>
          </a:xfrm>
        </p:grpSpPr>
        <p:sp>
          <p:nvSpPr>
            <p:cNvPr id="126" name=""/>
            <p:cNvSpPr/>
            <p:nvPr/>
          </p:nvSpPr>
          <p:spPr>
            <a:xfrm flipH="1">
              <a:off x="7031160" y="248904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53400" y="232740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7338960" y="3362400"/>
            <a:ext cx="1530360" cy="777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Consume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3765600"/>
            <a:ext cx="571680" cy="247680"/>
          </a:xfrm>
          <a:prstGeom prst="rect">
            <a:avLst/>
          </a:prstGeom>
          <a:solidFill>
            <a:srgbClr val="0000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953400" y="3203640"/>
            <a:ext cx="411120" cy="323640"/>
            <a:chOff x="6953400" y="3203640"/>
            <a:chExt cx="411120" cy="323640"/>
          </a:xfrm>
        </p:grpSpPr>
        <p:sp>
          <p:nvSpPr>
            <p:cNvPr id="131" name=""/>
            <p:cNvSpPr/>
            <p:nvPr/>
          </p:nvSpPr>
          <p:spPr>
            <a:xfrm flipH="1">
              <a:off x="7031160" y="336528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53400" y="320364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943600" y="5699160"/>
            <a:ext cx="642960" cy="304920"/>
            <a:chOff x="5943600" y="5699160"/>
            <a:chExt cx="642960" cy="304920"/>
          </a:xfrm>
        </p:grpSpPr>
        <p:sp>
          <p:nvSpPr>
            <p:cNvPr id="134" name=""/>
            <p:cNvSpPr/>
            <p:nvPr/>
          </p:nvSpPr>
          <p:spPr>
            <a:xfrm flipH="1">
              <a:off x="6073920" y="5851800"/>
              <a:ext cx="26208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43600" y="5778720"/>
              <a:ext cx="128880" cy="145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94600" y="569916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985000" y="6118200"/>
            <a:ext cx="600120" cy="304560"/>
            <a:chOff x="5985000" y="6118200"/>
            <a:chExt cx="600120" cy="304560"/>
          </a:xfrm>
        </p:grpSpPr>
        <p:sp>
          <p:nvSpPr>
            <p:cNvPr id="138" name=""/>
            <p:cNvSpPr/>
            <p:nvPr/>
          </p:nvSpPr>
          <p:spPr>
            <a:xfrm flipH="1">
              <a:off x="6275520" y="6268680"/>
              <a:ext cx="30960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85000" y="611820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376440" y="5989320"/>
            <a:ext cx="776520" cy="609480"/>
            <a:chOff x="3376440" y="5989320"/>
            <a:chExt cx="776520" cy="609480"/>
          </a:xfrm>
        </p:grpSpPr>
        <p:grpSp>
          <p:nvGrpSpPr>
            <p:cNvPr id="141" name=""/>
            <p:cNvGrpSpPr/>
            <p:nvPr/>
          </p:nvGrpSpPr>
          <p:grpSpPr>
            <a:xfrm>
              <a:off x="3376440" y="6260760"/>
              <a:ext cx="239760" cy="85320"/>
              <a:chOff x="3376440" y="6260760"/>
              <a:chExt cx="239760" cy="85320"/>
            </a:xfrm>
          </p:grpSpPr>
          <p:sp>
            <p:nvSpPr>
              <p:cNvPr id="142" name=""/>
              <p:cNvSpPr/>
              <p:nvPr/>
            </p:nvSpPr>
            <p:spPr>
              <a:xfrm flipH="1">
                <a:off x="3436920" y="6303240"/>
                <a:ext cx="179280" cy="6120"/>
              </a:xfrm>
              <a:prstGeom prst="line">
                <a:avLst/>
              </a:prstGeom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76440" y="6260760"/>
                <a:ext cx="8892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3581280" y="6027120"/>
              <a:ext cx="609480" cy="5335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862280" y="3369960"/>
            <a:ext cx="775800" cy="609480"/>
            <a:chOff x="1862280" y="3369960"/>
            <a:chExt cx="775800" cy="609480"/>
          </a:xfrm>
        </p:grpSpPr>
        <p:grpSp>
          <p:nvGrpSpPr>
            <p:cNvPr id="146" name=""/>
            <p:cNvGrpSpPr/>
            <p:nvPr/>
          </p:nvGrpSpPr>
          <p:grpSpPr>
            <a:xfrm>
              <a:off x="1862280" y="3641400"/>
              <a:ext cx="238680" cy="85320"/>
              <a:chOff x="1862280" y="3641400"/>
              <a:chExt cx="238680" cy="8532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1922040" y="3683880"/>
                <a:ext cx="178920" cy="6120"/>
              </a:xfrm>
              <a:prstGeom prst="line">
                <a:avLst/>
              </a:prstGeom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62280" y="364140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rot="16200000">
              <a:off x="2066760" y="340812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862280" y="2504880"/>
            <a:ext cx="775800" cy="609480"/>
            <a:chOff x="1862280" y="2504880"/>
            <a:chExt cx="775800" cy="609480"/>
          </a:xfrm>
        </p:grpSpPr>
        <p:grpSp>
          <p:nvGrpSpPr>
            <p:cNvPr id="151" name=""/>
            <p:cNvGrpSpPr/>
            <p:nvPr/>
          </p:nvGrpSpPr>
          <p:grpSpPr>
            <a:xfrm>
              <a:off x="1862280" y="2776320"/>
              <a:ext cx="238680" cy="85320"/>
              <a:chOff x="1862280" y="2776320"/>
              <a:chExt cx="238680" cy="8532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1922040" y="2818800"/>
                <a:ext cx="178920" cy="6120"/>
              </a:xfrm>
              <a:prstGeom prst="line">
                <a:avLst/>
              </a:prstGeom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62280" y="277632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16200000">
              <a:off x="2066760" y="254304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862280" y="1655640"/>
            <a:ext cx="775800" cy="609840"/>
            <a:chOff x="1862280" y="1655640"/>
            <a:chExt cx="775800" cy="609840"/>
          </a:xfrm>
        </p:grpSpPr>
        <p:grpSp>
          <p:nvGrpSpPr>
            <p:cNvPr id="156" name=""/>
            <p:cNvGrpSpPr/>
            <p:nvPr/>
          </p:nvGrpSpPr>
          <p:grpSpPr>
            <a:xfrm>
              <a:off x="1862280" y="1927080"/>
              <a:ext cx="238680" cy="85680"/>
              <a:chOff x="1862280" y="1927080"/>
              <a:chExt cx="238680" cy="8568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1922040" y="1969920"/>
                <a:ext cx="178920" cy="6480"/>
              </a:xfrm>
              <a:prstGeom prst="line">
                <a:avLst/>
              </a:prstGeom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862280" y="1927080"/>
                <a:ext cx="88560" cy="8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rot="16200000">
              <a:off x="2066400" y="1693800"/>
              <a:ext cx="60984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75440" y="2808360"/>
            <a:ext cx="642240" cy="304560"/>
            <a:chOff x="5275440" y="2808360"/>
            <a:chExt cx="642240" cy="304560"/>
          </a:xfrm>
        </p:grpSpPr>
        <p:sp>
          <p:nvSpPr>
            <p:cNvPr id="161" name=""/>
            <p:cNvSpPr/>
            <p:nvPr/>
          </p:nvSpPr>
          <p:spPr>
            <a:xfrm flipH="1">
              <a:off x="5405040" y="2960640"/>
              <a:ext cx="26172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5440" y="2887560"/>
              <a:ext cx="128520" cy="145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26080" y="2808360"/>
              <a:ext cx="291600" cy="304560"/>
            </a:xfrm>
            <a:custGeom>
              <a:avLst/>
              <a:gdLst>
                <a:gd name="textAreaLeft" fmla="*/ 0 w 291600"/>
                <a:gd name="textAreaRight" fmla="*/ 291600 w 291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923160" y="3722760"/>
            <a:ext cx="600120" cy="304560"/>
            <a:chOff x="6923160" y="3722760"/>
            <a:chExt cx="600120" cy="304560"/>
          </a:xfrm>
        </p:grpSpPr>
        <p:sp>
          <p:nvSpPr>
            <p:cNvPr id="165" name=""/>
            <p:cNvSpPr/>
            <p:nvPr/>
          </p:nvSpPr>
          <p:spPr>
            <a:xfrm flipH="1">
              <a:off x="7213680" y="3873240"/>
              <a:ext cx="30960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3160" y="372276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42240" y="1951200"/>
            <a:ext cx="600120" cy="304560"/>
            <a:chOff x="6942240" y="1951200"/>
            <a:chExt cx="600120" cy="304560"/>
          </a:xfrm>
        </p:grpSpPr>
        <p:sp>
          <p:nvSpPr>
            <p:cNvPr id="168" name=""/>
            <p:cNvSpPr/>
            <p:nvPr/>
          </p:nvSpPr>
          <p:spPr>
            <a:xfrm flipH="1">
              <a:off x="7232760" y="2101680"/>
              <a:ext cx="30960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2240" y="195120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942240" y="2808360"/>
            <a:ext cx="600120" cy="304560"/>
            <a:chOff x="6942240" y="2808360"/>
            <a:chExt cx="600120" cy="304560"/>
          </a:xfrm>
        </p:grpSpPr>
        <p:sp>
          <p:nvSpPr>
            <p:cNvPr id="171" name=""/>
            <p:cNvSpPr/>
            <p:nvPr/>
          </p:nvSpPr>
          <p:spPr>
            <a:xfrm flipH="1">
              <a:off x="7232760" y="2958840"/>
              <a:ext cx="30960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42240" y="280836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61880" y="5651640"/>
            <a:ext cx="600120" cy="29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880" y="5135400"/>
            <a:ext cx="600120" cy="2937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960" y="6208560"/>
            <a:ext cx="723960" cy="247680"/>
          </a:xfrm>
          <a:prstGeom prst="rect">
            <a:avLst/>
          </a:prstGeom>
          <a:solidFill>
            <a:srgbClr val="0000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95000" y="50990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94640" y="56167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93560" y="61498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98960" y="5094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Times New Roman"/>
              </a:rPr>
              <a:t>Base reference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99680" y="56116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Times New Roman"/>
              </a:rPr>
              <a:t>Facet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98600" y="61117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Times New Roman"/>
              </a:rPr>
              <a:t>Receptacle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08960" y="56689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Times New Roman"/>
              </a:rPr>
              <a:t>Event Source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9320" y="608652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66"/>
                </a:solidFill>
                <a:latin typeface="Times New Roman"/>
              </a:rPr>
              <a:t>Event Sink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28760" y="2647800"/>
            <a:ext cx="601560" cy="324000"/>
            <a:chOff x="2228760" y="2647800"/>
            <a:chExt cx="601560" cy="324000"/>
          </a:xfrm>
        </p:grpSpPr>
        <p:sp>
          <p:nvSpPr>
            <p:cNvPr id="185" name=""/>
            <p:cNvSpPr/>
            <p:nvPr/>
          </p:nvSpPr>
          <p:spPr>
            <a:xfrm flipH="1">
              <a:off x="2496960" y="280980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28760" y="2647800"/>
              <a:ext cx="322200" cy="324000"/>
            </a:xfrm>
            <a:prstGeom prst="ellipse">
              <a:avLst/>
            </a:prstGeom>
            <a:solidFill>
              <a:srgbClr val="66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235240" y="1797120"/>
            <a:ext cx="601560" cy="323640"/>
            <a:chOff x="2235240" y="1797120"/>
            <a:chExt cx="601560" cy="323640"/>
          </a:xfrm>
        </p:grpSpPr>
        <p:sp>
          <p:nvSpPr>
            <p:cNvPr id="188" name=""/>
            <p:cNvSpPr/>
            <p:nvPr/>
          </p:nvSpPr>
          <p:spPr>
            <a:xfrm flipH="1">
              <a:off x="2503440" y="195876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35240" y="1797120"/>
              <a:ext cx="322200" cy="323640"/>
            </a:xfrm>
            <a:prstGeom prst="ellipse">
              <a:avLst/>
            </a:prstGeom>
            <a:solidFill>
              <a:srgbClr val="66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235240" y="3511440"/>
            <a:ext cx="601560" cy="324000"/>
            <a:chOff x="2235240" y="3511440"/>
            <a:chExt cx="601560" cy="324000"/>
          </a:xfrm>
        </p:grpSpPr>
        <p:sp>
          <p:nvSpPr>
            <p:cNvPr id="191" name=""/>
            <p:cNvSpPr/>
            <p:nvPr/>
          </p:nvSpPr>
          <p:spPr>
            <a:xfrm flipH="1">
              <a:off x="2503440" y="367344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35240" y="3511440"/>
              <a:ext cx="322200" cy="324000"/>
            </a:xfrm>
            <a:prstGeom prst="ellipse">
              <a:avLst/>
            </a:prstGeom>
            <a:solidFill>
              <a:srgbClr val="66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838600" y="1957320"/>
            <a:ext cx="0" cy="1714680"/>
          </a:xfrm>
          <a:prstGeom prst="line">
            <a:avLst/>
          </a:prstGeom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3040" y="2808360"/>
            <a:ext cx="673200" cy="0"/>
          </a:xfrm>
          <a:prstGeom prst="line">
            <a:avLst/>
          </a:prstGeom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13320" y="1951200"/>
            <a:ext cx="703440" cy="304560"/>
          </a:xfrm>
          <a:custGeom>
            <a:avLst/>
            <a:gdLst>
              <a:gd name="textAreaLeft" fmla="*/ 0 w 703440"/>
              <a:gd name="textAreaRight" fmla="*/ 703800 w 703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98" y="0"/>
                </a:lnTo>
                <a:lnTo>
                  <a:pt x="21600" y="10800"/>
                </a:lnTo>
                <a:lnTo>
                  <a:pt x="196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43520" y="2808360"/>
            <a:ext cx="1173240" cy="30456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23" y="0"/>
                </a:lnTo>
                <a:lnTo>
                  <a:pt x="21600" y="10800"/>
                </a:lnTo>
                <a:lnTo>
                  <a:pt x="20723" y="21600"/>
                </a:lnTo>
                <a:lnTo>
                  <a:pt x="0" y="21600"/>
                </a:lnTo>
                <a:lnTo>
                  <a:pt x="877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07200" y="3722760"/>
            <a:ext cx="703080" cy="304560"/>
          </a:xfrm>
          <a:custGeom>
            <a:avLst/>
            <a:gdLst>
              <a:gd name="textAreaLeft" fmla="*/ 0 w 703080"/>
              <a:gd name="textAreaRight" fmla="*/ 703440 w 7030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98" y="0"/>
                </a:lnTo>
                <a:lnTo>
                  <a:pt x="21600" y="10800"/>
                </a:lnTo>
                <a:lnTo>
                  <a:pt x="196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931080" y="4524480"/>
            <a:ext cx="411120" cy="323640"/>
            <a:chOff x="6931080" y="4524480"/>
            <a:chExt cx="411120" cy="323640"/>
          </a:xfrm>
        </p:grpSpPr>
        <p:sp>
          <p:nvSpPr>
            <p:cNvPr id="199" name=""/>
            <p:cNvSpPr/>
            <p:nvPr/>
          </p:nvSpPr>
          <p:spPr>
            <a:xfrm flipH="1">
              <a:off x="7008840" y="468612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1080" y="452448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463920" y="3952800"/>
            <a:ext cx="411120" cy="324000"/>
            <a:chOff x="3463920" y="3952800"/>
            <a:chExt cx="411120" cy="324000"/>
          </a:xfrm>
        </p:grpSpPr>
        <p:sp>
          <p:nvSpPr>
            <p:cNvPr id="202" name=""/>
            <p:cNvSpPr/>
            <p:nvPr/>
          </p:nvSpPr>
          <p:spPr>
            <a:xfrm flipH="1">
              <a:off x="3541680" y="411480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63920" y="395280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7240" y="4486320"/>
            <a:ext cx="411120" cy="323640"/>
            <a:chOff x="57240" y="4486320"/>
            <a:chExt cx="411120" cy="323640"/>
          </a:xfrm>
        </p:grpSpPr>
        <p:sp>
          <p:nvSpPr>
            <p:cNvPr id="205" name=""/>
            <p:cNvSpPr/>
            <p:nvPr/>
          </p:nvSpPr>
          <p:spPr>
            <a:xfrm flipH="1">
              <a:off x="135000" y="464796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240" y="448632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729160" y="10857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0066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971440" y="1501920"/>
            <a:ext cx="152280" cy="99036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1960" y="102888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Times New Roman"/>
              </a:rPr>
              <a:t>Notification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1730520"/>
            <a:ext cx="380880" cy="68580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An OMG Component IDL Example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371600"/>
            <a:ext cx="830412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Servic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 ... business operations ...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ttyp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Event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 ... business data ...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Client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Servic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669999"/>
                </a:solidFill>
                <a:latin typeface="Courier New"/>
                <a:ea typeface="Courier New"/>
              </a:rPr>
              <a:t>to_serv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Serv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vide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Servic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669999"/>
                </a:solidFill>
                <a:latin typeface="Courier New"/>
                <a:ea typeface="Courier New"/>
              </a:rPr>
              <a:t>the_servic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Event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669999"/>
                </a:solidFill>
                <a:latin typeface="Courier New"/>
                <a:ea typeface="Courier New"/>
              </a:rPr>
              <a:t>to_consumer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Consum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ume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Event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669999"/>
                </a:solidFill>
                <a:latin typeface="Courier New"/>
                <a:ea typeface="Courier New"/>
              </a:rPr>
              <a:t>from_server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type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Key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 . . .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ServerHom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Serv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key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fe7d19"/>
                </a:solidFill>
                <a:latin typeface="Courier New"/>
                <a:ea typeface="Courier New"/>
              </a:rPr>
              <a:t>Key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y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669999"/>
                </a:solidFill>
                <a:latin typeface="Courier New"/>
                <a:ea typeface="Courier New"/>
              </a:rPr>
              <a:t>create_serv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. . . 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 other business home operations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Current OpenCCM Features</a:t>
            </a:r>
            <a:endParaRPr b="0" lang="en-US" sz="3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written in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bility, maintenance a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, Solaris, and Window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Bacus 4.x, OpenORB 1.x, and VisiBroker 4.5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pen compilation &amp; generation tool ch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MG IDL3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MG IDL3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rator for equivalent OMG ID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rator for extended Java skeleto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19080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skeletons ~ JOnAS interpositio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lexible distributed deployment &amp; execution middleware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ric Java server to host Java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to start component servers and download component 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driven by OMG IDL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The OpenCCM Compilation &amp; Generation Tool Chain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2635200" y="1052640"/>
            <a:ext cx="3776760" cy="157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OMG IDL3 Compile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62280" y="2701800"/>
            <a:ext cx="3657600" cy="310536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Courier New"/>
              </a:rPr>
              <a:t>IR3 Visitor Framework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8520" y="1176480"/>
            <a:ext cx="1392840" cy="87552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OMG IDL3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28160" y="2189520"/>
            <a:ext cx="1462680" cy="13327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OMG IDL3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8840" y="3614760"/>
            <a:ext cx="1392840" cy="87552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OMG IDL2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8" idx="3"/>
            <a:endCxn id="222" idx="1"/>
          </p:cNvCxnSpPr>
          <p:nvPr/>
        </p:nvCxnSpPr>
        <p:spPr>
          <a:xfrm>
            <a:off x="1630440" y="1614600"/>
            <a:ext cx="1589760" cy="42120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4" idx="3"/>
            <a:endCxn id="219" idx="2"/>
          </p:cNvCxnSpPr>
          <p:nvPr/>
        </p:nvCxnSpPr>
        <p:spPr>
          <a:xfrm>
            <a:off x="5715000" y="2035080"/>
            <a:ext cx="1596240" cy="82152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6" idx="6"/>
            <a:endCxn id="219" idx="3"/>
          </p:cNvCxnSpPr>
          <p:nvPr/>
        </p:nvCxnSpPr>
        <p:spPr>
          <a:xfrm flipV="1">
            <a:off x="5524560" y="3497040"/>
            <a:ext cx="2535840" cy="62280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6" idx="2"/>
            <a:endCxn id="220" idx="3"/>
          </p:cNvCxnSpPr>
          <p:nvPr/>
        </p:nvCxnSpPr>
        <p:spPr>
          <a:xfrm flipH="1" flipV="1">
            <a:off x="2030040" y="4052160"/>
            <a:ext cx="1465920" cy="6732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3505320" y="2545920"/>
            <a:ext cx="2009520" cy="142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OMG IDL3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8840" y="2624400"/>
            <a:ext cx="1392840" cy="87552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OMG IDL3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8" idx="6"/>
            <a:endCxn id="219" idx="3"/>
          </p:cNvCxnSpPr>
          <p:nvPr/>
        </p:nvCxnSpPr>
        <p:spPr>
          <a:xfrm>
            <a:off x="5524560" y="3259080"/>
            <a:ext cx="2535840" cy="23904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8" idx="2"/>
            <a:endCxn id="229" idx="3"/>
          </p:cNvCxnSpPr>
          <p:nvPr/>
        </p:nvCxnSpPr>
        <p:spPr>
          <a:xfrm flipH="1" flipV="1">
            <a:off x="2030040" y="3061440"/>
            <a:ext cx="1465920" cy="19764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3219480" y="1768320"/>
            <a:ext cx="1028520" cy="53352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Courier New"/>
              </a:rPr>
              <a:t>JavaCC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Courier New"/>
              </a:rPr>
              <a:t>Parser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86480" y="1768320"/>
            <a:ext cx="1028520" cy="53352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Courier New"/>
              </a:rPr>
              <a:t>Adapter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Courier New"/>
              </a:rPr>
              <a:t>Layout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22" idx="3"/>
            <a:endCxn id="224" idx="1"/>
          </p:cNvCxnSpPr>
          <p:nvPr/>
        </p:nvCxnSpPr>
        <p:spPr>
          <a:xfrm>
            <a:off x="4248000" y="2034720"/>
            <a:ext cx="439200" cy="108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3505320" y="3406320"/>
            <a:ext cx="2009520" cy="142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OMG IDL2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506840"/>
            <a:ext cx="20098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Java Skeleton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6"/>
            <a:endCxn id="219" idx="3"/>
          </p:cNvCxnSpPr>
          <p:nvPr/>
        </p:nvCxnSpPr>
        <p:spPr>
          <a:xfrm flipV="1">
            <a:off x="5511600" y="3497040"/>
            <a:ext cx="2548440" cy="151488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2"/>
            <a:endCxn id="236" idx="3"/>
          </p:cNvCxnSpPr>
          <p:nvPr/>
        </p:nvCxnSpPr>
        <p:spPr>
          <a:xfrm flipH="1">
            <a:off x="1936080" y="5011200"/>
            <a:ext cx="1546920" cy="165960"/>
          </a:xfrm>
          <a:prstGeom prst="straightConnector1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710280" y="4548960"/>
            <a:ext cx="1208160" cy="125496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Extended 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skeleton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000" y="5805360"/>
            <a:ext cx="867240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component framework for OMG IDL3 compilation and code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Distributed Deployment with OpenCCM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02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uld be done by any CCM program at any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ctivator = NS.resolve_str(«AnHost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onentServer = serverActivator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_component_server(«language=Java and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ORB=ORBacus and ...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er = componentServer.create_container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 = container.install_hom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(«http://www.lifl.fr/~merle/server.jar»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1904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 = home.create_server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ynamic control of distributed deploymen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ployment does not imply code genera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Distributed Deployment with OpenCCM</a:t>
            </a:r>
            <a:endParaRPr b="0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000" y="1371600"/>
            <a:ext cx="8672400" cy="5153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uld be done by any CCM program at any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 = server.get_the_servic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.connect_to_server(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nk = consumer.get_from_server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1882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.subscribe_to_consumers(s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ynamic control of component interconnection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Build distributed application architecture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1844640"/>
            <a:ext cx="1666800" cy="792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39760" y="1917720"/>
            <a:ext cx="1530360" cy="777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679400" y="1809720"/>
            <a:ext cx="411120" cy="324000"/>
            <a:chOff x="1679400" y="1809720"/>
            <a:chExt cx="411120" cy="324000"/>
          </a:xfrm>
        </p:grpSpPr>
        <p:sp>
          <p:nvSpPr>
            <p:cNvPr id="245" name=""/>
            <p:cNvSpPr/>
            <p:nvPr/>
          </p:nvSpPr>
          <p:spPr>
            <a:xfrm flipH="1">
              <a:off x="1757160" y="197172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9400" y="180972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045040" y="2158920"/>
            <a:ext cx="601560" cy="324000"/>
            <a:chOff x="5045040" y="2158920"/>
            <a:chExt cx="601560" cy="324000"/>
          </a:xfrm>
        </p:grpSpPr>
        <p:sp>
          <p:nvSpPr>
            <p:cNvPr id="248" name=""/>
            <p:cNvSpPr/>
            <p:nvPr/>
          </p:nvSpPr>
          <p:spPr>
            <a:xfrm flipH="1">
              <a:off x="5313240" y="232092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45040" y="2158920"/>
              <a:ext cx="322200" cy="324000"/>
            </a:xfrm>
            <a:prstGeom prst="ellipse">
              <a:avLst/>
            </a:prstGeom>
            <a:solidFill>
              <a:srgbClr val="66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421080" y="2003040"/>
            <a:ext cx="775800" cy="609480"/>
            <a:chOff x="3421080" y="2003040"/>
            <a:chExt cx="775800" cy="609480"/>
          </a:xfrm>
        </p:grpSpPr>
        <p:grpSp>
          <p:nvGrpSpPr>
            <p:cNvPr id="251" name=""/>
            <p:cNvGrpSpPr/>
            <p:nvPr/>
          </p:nvGrpSpPr>
          <p:grpSpPr>
            <a:xfrm>
              <a:off x="3421080" y="2274480"/>
              <a:ext cx="238680" cy="85320"/>
              <a:chOff x="3421080" y="2274480"/>
              <a:chExt cx="238680" cy="85320"/>
            </a:xfrm>
          </p:grpSpPr>
          <p:sp>
            <p:nvSpPr>
              <p:cNvPr id="252" name=""/>
              <p:cNvSpPr/>
              <p:nvPr/>
            </p:nvSpPr>
            <p:spPr>
              <a:xfrm flipH="1">
                <a:off x="3480840" y="2316960"/>
                <a:ext cx="178920" cy="6120"/>
              </a:xfrm>
              <a:prstGeom prst="line">
                <a:avLst/>
              </a:prstGeom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21080" y="2274480"/>
                <a:ext cx="88560" cy="85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330066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rot="16200000">
              <a:off x="3625560" y="2041200"/>
              <a:ext cx="609480" cy="533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787920" y="2146320"/>
            <a:ext cx="601560" cy="324000"/>
            <a:chOff x="3787920" y="2146320"/>
            <a:chExt cx="601560" cy="324000"/>
          </a:xfrm>
        </p:grpSpPr>
        <p:sp>
          <p:nvSpPr>
            <p:cNvPr id="256" name=""/>
            <p:cNvSpPr/>
            <p:nvPr/>
          </p:nvSpPr>
          <p:spPr>
            <a:xfrm flipH="1">
              <a:off x="4056120" y="230832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7920" y="2146320"/>
              <a:ext cx="322200" cy="324000"/>
            </a:xfrm>
            <a:prstGeom prst="ellipse">
              <a:avLst/>
            </a:prstGeom>
            <a:solidFill>
              <a:srgbClr val="66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371840" y="2306520"/>
            <a:ext cx="673200" cy="0"/>
          </a:xfrm>
          <a:prstGeom prst="line">
            <a:avLst/>
          </a:prstGeom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064120" y="1773360"/>
            <a:ext cx="411120" cy="323640"/>
            <a:chOff x="5064120" y="1773360"/>
            <a:chExt cx="411120" cy="323640"/>
          </a:xfrm>
        </p:grpSpPr>
        <p:sp>
          <p:nvSpPr>
            <p:cNvPr id="260" name=""/>
            <p:cNvSpPr/>
            <p:nvPr/>
          </p:nvSpPr>
          <p:spPr>
            <a:xfrm flipH="1">
              <a:off x="5141880" y="193500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64120" y="177336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101680" y="3824280"/>
            <a:ext cx="1667160" cy="79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679400" y="3753000"/>
            <a:ext cx="411120" cy="323640"/>
            <a:chOff x="1679400" y="3753000"/>
            <a:chExt cx="411120" cy="323640"/>
          </a:xfrm>
        </p:grpSpPr>
        <p:sp>
          <p:nvSpPr>
            <p:cNvPr id="264" name=""/>
            <p:cNvSpPr/>
            <p:nvPr/>
          </p:nvSpPr>
          <p:spPr>
            <a:xfrm flipH="1">
              <a:off x="1757160" y="391464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9400" y="3753000"/>
              <a:ext cx="322200" cy="323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634000" y="3838680"/>
            <a:ext cx="1530360" cy="777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Consumer</a:t>
            </a:r>
            <a:endParaRPr b="0" lang="en-US" sz="20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38840" y="4241880"/>
            <a:ext cx="571320" cy="247680"/>
          </a:xfrm>
          <a:prstGeom prst="rect">
            <a:avLst/>
          </a:prstGeom>
          <a:solidFill>
            <a:srgbClr val="0000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270400" y="3716280"/>
            <a:ext cx="411120" cy="324000"/>
            <a:chOff x="5270400" y="3716280"/>
            <a:chExt cx="411120" cy="324000"/>
          </a:xfrm>
        </p:grpSpPr>
        <p:sp>
          <p:nvSpPr>
            <p:cNvPr id="269" name=""/>
            <p:cNvSpPr/>
            <p:nvPr/>
          </p:nvSpPr>
          <p:spPr>
            <a:xfrm flipH="1">
              <a:off x="5348160" y="3878280"/>
              <a:ext cx="33336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70400" y="3716280"/>
              <a:ext cx="322200" cy="324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570120" y="4160880"/>
            <a:ext cx="642960" cy="304920"/>
            <a:chOff x="3570120" y="4160880"/>
            <a:chExt cx="642960" cy="304920"/>
          </a:xfrm>
        </p:grpSpPr>
        <p:sp>
          <p:nvSpPr>
            <p:cNvPr id="272" name=""/>
            <p:cNvSpPr/>
            <p:nvPr/>
          </p:nvSpPr>
          <p:spPr>
            <a:xfrm flipH="1">
              <a:off x="3700440" y="4313520"/>
              <a:ext cx="26208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70120" y="4240440"/>
              <a:ext cx="128880" cy="145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21120" y="4160880"/>
              <a:ext cx="291960" cy="30492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237280" y="4160880"/>
            <a:ext cx="600120" cy="304560"/>
            <a:chOff x="5237280" y="4160880"/>
            <a:chExt cx="600120" cy="304560"/>
          </a:xfrm>
        </p:grpSpPr>
        <p:sp>
          <p:nvSpPr>
            <p:cNvPr id="276" name=""/>
            <p:cNvSpPr/>
            <p:nvPr/>
          </p:nvSpPr>
          <p:spPr>
            <a:xfrm flipH="1">
              <a:off x="5527800" y="4311360"/>
              <a:ext cx="309600" cy="0"/>
            </a:xfrm>
            <a:prstGeom prst="line">
              <a:avLst/>
            </a:prstGeom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37280" y="4160880"/>
              <a:ext cx="309600" cy="3045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66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138560" y="4160880"/>
            <a:ext cx="1173240" cy="30492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23" y="0"/>
                </a:lnTo>
                <a:lnTo>
                  <a:pt x="21600" y="10800"/>
                </a:lnTo>
                <a:lnTo>
                  <a:pt x="20723" y="21600"/>
                </a:lnTo>
                <a:lnTo>
                  <a:pt x="0" y="21600"/>
                </a:lnTo>
                <a:lnTo>
                  <a:pt x="877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40480" y="2259000"/>
            <a:ext cx="438120" cy="233280"/>
          </a:xfrm>
          <a:prstGeom prst="rect">
            <a:avLst/>
          </a:prstGeom>
          <a:solidFill>
            <a:srgbClr val="0000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63760" y="2630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_server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51200" y="2630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_service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03400" y="45752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_consumers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23720" y="45752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om_servers</a:t>
            </a:r>
            <a:endParaRPr b="0" lang="en-US" sz="18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2:14:24Z</dcterms:created>
  <dc:creator>lefebval</dc:creator>
  <dc:description/>
  <dc:language>en-US</dc:language>
  <cp:lastModifiedBy>Merle Philippe</cp:lastModifiedBy>
  <dcterms:modified xsi:type="dcterms:W3CDTF">2001-11-01T17:29:56Z</dcterms:modified>
  <cp:revision>39</cp:revision>
  <dc:subject/>
  <dc:title>OpenCCM </dc:title>
</cp:coreProperties>
</file>