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076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468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076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468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5638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76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2468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76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2468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5638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1049"/>
              </a:spcBef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898640" indent="-316080">
              <a:lnSpc>
                <a:spcPct val="90000"/>
              </a:lnSpc>
              <a:spcBef>
                <a:spcPts val="1049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3176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3176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3176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10480" y="65977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0399E1-D933-4870-83F6-1AAC2DB11F2F}" type="slidenum">
              <a:rPr b="1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597720"/>
            <a:ext cx="20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© 2003, P. Mer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219320"/>
            <a:ext cx="883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295280"/>
            <a:ext cx="8839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1560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CAR’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620120" y="380880"/>
            <a:ext cx="1295280" cy="414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692360" y="144360"/>
            <a:ext cx="984240" cy="90828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228600" y="324000"/>
            <a:ext cx="14479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2209680" cy="75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2227320" cy="71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02960" y="48744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CAR’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4600" y="1400040"/>
            <a:ext cx="663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École d’été sur les Intergiciels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r la Construction d’Applications Ré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38080" y="5846760"/>
            <a:ext cx="990720" cy="814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43320" y="5867280"/>
            <a:ext cx="658800" cy="7621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6904080" y="5943600"/>
            <a:ext cx="1828800" cy="533520"/>
            <a:chOff x="6904080" y="5943600"/>
            <a:chExt cx="1828800" cy="533520"/>
          </a:xfrm>
        </p:grpSpPr>
        <p:sp>
          <p:nvSpPr>
            <p:cNvPr id="55" name=""/>
            <p:cNvSpPr/>
            <p:nvPr/>
          </p:nvSpPr>
          <p:spPr>
            <a:xfrm>
              <a:off x="6904080" y="5943600"/>
              <a:ext cx="182880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7015320" y="6018120"/>
              <a:ext cx="16081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219320" y="2438280"/>
            <a:ext cx="6705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28520" algn="ctr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0960" algn="ctr">
              <a:lnSpc>
                <a:spcPct val="120000"/>
              </a:lnSpc>
              <a:spcBef>
                <a:spcPts val="349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60280" algn="ctr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60280">
              <a:spcBef>
                <a:spcPts val="3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60280">
              <a:spcBef>
                <a:spcPts val="3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zeus.enhydra.org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forge.objectweb.org/projects/apollon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openccm.objectweb.org/" TargetMode="External"/><Relationship Id="rId2" Type="http://schemas.openxmlformats.org/officeDocument/2006/relationships/hyperlink" Target="http://forge.objectweb.org/projects/openccm" TargetMode="External"/><Relationship Id="rId3" Type="http://schemas.openxmlformats.org/officeDocument/2006/relationships/hyperlink" Target="mailto:openccm@objectweb.org" TargetMode="External"/><Relationship Id="rId4" Type="http://schemas.openxmlformats.org/officeDocument/2006/relationships/hyperlink" Target="mailto:openccm-team@objectweb.org" TargetMode="External"/><Relationship Id="rId5" Type="http://schemas.openxmlformats.org/officeDocument/2006/relationships/hyperlink" Target="mailto:openccm-commits@objectweb.org" TargetMode="External"/><Relationship Id="rId6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cc"/>
                </a:solidFill>
                <a:latin typeface="Arial"/>
              </a:rPr>
              <a:t>Au cœur d’OpenCC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835760" cy="142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hilippe Mer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Project Jacquard (INRIA et LIF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http://www.lifl.fr/~mer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451640" y="4005360"/>
            <a:ext cx="1224000" cy="1079280"/>
            <a:chOff x="7451640" y="4005360"/>
            <a:chExt cx="1224000" cy="1079280"/>
          </a:xfrm>
        </p:grpSpPr>
        <p:grpSp>
          <p:nvGrpSpPr>
            <p:cNvPr id="98" name=""/>
            <p:cNvGrpSpPr/>
            <p:nvPr/>
          </p:nvGrpSpPr>
          <p:grpSpPr>
            <a:xfrm>
              <a:off x="7475400" y="4025520"/>
              <a:ext cx="1200240" cy="1059120"/>
              <a:chOff x="7475400" y="4025520"/>
              <a:chExt cx="1200240" cy="1059120"/>
            </a:xfrm>
          </p:grpSpPr>
          <p:sp>
            <p:nvSpPr>
              <p:cNvPr id="99" name=""/>
              <p:cNvSpPr/>
              <p:nvPr/>
            </p:nvSpPr>
            <p:spPr>
              <a:xfrm>
                <a:off x="7612200" y="4025520"/>
                <a:ext cx="403920" cy="494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7904160" y="3743280"/>
                <a:ext cx="342720" cy="120024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11520" y="4025520"/>
                <a:ext cx="403920" cy="105912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200000">
                <a:off x="7909560" y="4172760"/>
                <a:ext cx="342720" cy="11883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12200" y="4519800"/>
                <a:ext cx="403920" cy="56484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7588440" y="4005360"/>
              <a:ext cx="403920" cy="49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51640" y="4151880"/>
              <a:ext cx="1200240" cy="342720"/>
              <a:chOff x="7451640" y="4151880"/>
              <a:chExt cx="1200240" cy="342720"/>
            </a:xfrm>
          </p:grpSpPr>
          <p:sp>
            <p:nvSpPr>
              <p:cNvPr id="106" name=""/>
              <p:cNvSpPr/>
              <p:nvPr/>
            </p:nvSpPr>
            <p:spPr>
              <a:xfrm rot="16200000">
                <a:off x="7880400" y="3723120"/>
                <a:ext cx="342720" cy="120024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7594200" y="4267440"/>
                <a:ext cx="962640" cy="15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JACQUARD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8087760" y="4005360"/>
              <a:ext cx="403920" cy="1059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7904160" y="4151520"/>
              <a:ext cx="342720" cy="1200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617960" y="4695840"/>
              <a:ext cx="962640" cy="15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JACQUARD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88440" y="4499640"/>
              <a:ext cx="403920" cy="564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7760" y="3535200"/>
            <a:ext cx="199224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sponsors du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rojet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3898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Projet INRIA Jacquard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réation en juin 20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Contrat ITEA OSMO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uillet 2003 – juin 20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Contrat IST COACH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vril 2002 – mars 200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ACI GRID RMI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002 - 20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rat RNTL IMPACT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01/2002 – 06/2003 (fini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Contrat RNRT COMPiTV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002 – 20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rat RNRT CESUR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1999 –2001 (fini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846920" y="5229360"/>
            <a:ext cx="1297080" cy="1253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356000" y="1546200"/>
            <a:ext cx="1733760" cy="54288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7667640" y="1413000"/>
            <a:ext cx="791640" cy="802800"/>
            <a:chOff x="7667640" y="1413000"/>
            <a:chExt cx="791640" cy="802800"/>
          </a:xfrm>
        </p:grpSpPr>
        <p:grpSp>
          <p:nvGrpSpPr>
            <p:cNvPr id="135" name=""/>
            <p:cNvGrpSpPr/>
            <p:nvPr/>
          </p:nvGrpSpPr>
          <p:grpSpPr>
            <a:xfrm>
              <a:off x="7682760" y="1427760"/>
              <a:ext cx="776520" cy="788040"/>
              <a:chOff x="7682760" y="1427760"/>
              <a:chExt cx="776520" cy="788040"/>
            </a:xfrm>
          </p:grpSpPr>
          <p:sp>
            <p:nvSpPr>
              <p:cNvPr id="136" name=""/>
              <p:cNvSpPr/>
              <p:nvPr/>
            </p:nvSpPr>
            <p:spPr>
              <a:xfrm>
                <a:off x="7771320" y="1427760"/>
                <a:ext cx="261360" cy="36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200000">
                <a:off x="7943400" y="1275840"/>
                <a:ext cx="254880" cy="77652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094240" y="1427760"/>
                <a:ext cx="261360" cy="78804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7947360" y="1595160"/>
                <a:ext cx="254880" cy="7689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71320" y="1795320"/>
                <a:ext cx="261360" cy="42012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7756200" y="1413000"/>
              <a:ext cx="261360" cy="367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667640" y="1521720"/>
              <a:ext cx="776880" cy="255240"/>
              <a:chOff x="7667640" y="1521720"/>
              <a:chExt cx="776880" cy="255240"/>
            </a:xfrm>
          </p:grpSpPr>
          <p:sp>
            <p:nvSpPr>
              <p:cNvPr id="143" name=""/>
              <p:cNvSpPr/>
              <p:nvPr/>
            </p:nvSpPr>
            <p:spPr>
              <a:xfrm rot="16200000">
                <a:off x="7928280" y="1260720"/>
                <a:ext cx="255240" cy="77688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7759800" y="1608120"/>
                <a:ext cx="623160" cy="11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JACQUARD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079120" y="1413000"/>
              <a:ext cx="261360" cy="788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7943400" y="1579680"/>
              <a:ext cx="255240" cy="7765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775280" y="1926720"/>
              <a:ext cx="622800" cy="11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JACQUARD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56200" y="1780920"/>
              <a:ext cx="261360" cy="420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88000" y="3214800"/>
            <a:ext cx="2505240" cy="718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724360" y="5373720"/>
            <a:ext cx="1908360" cy="107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284720" y="3141720"/>
            <a:ext cx="2238480" cy="792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2233440" cy="503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219640" y="4365720"/>
            <a:ext cx="65736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6804000" y="2349360"/>
            <a:ext cx="207648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4356000" y="5445000"/>
            <a:ext cx="1366920" cy="757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6372360" y="1484280"/>
            <a:ext cx="819000" cy="676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6227640" y="4245120"/>
            <a:ext cx="244800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late-forme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1916280"/>
            <a:ext cx="1727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dition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ssemb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916280"/>
            <a:ext cx="1727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în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71640" y="3716280"/>
            <a:ext cx="1727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déploi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67280" y="3716280"/>
            <a:ext cx="1727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por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’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3716280"/>
            <a:ext cx="1727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5229360"/>
            <a:ext cx="84978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tillage et canevas logiciels transve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3"/>
            <a:endCxn id="159" idx="1"/>
          </p:cNvCxnSpPr>
          <p:nvPr/>
        </p:nvCxnSpPr>
        <p:spPr>
          <a:xfrm>
            <a:off x="2195640" y="2276280"/>
            <a:ext cx="576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9" idx="2"/>
            <a:endCxn id="161" idx="0"/>
          </p:cNvCxnSpPr>
          <p:nvPr/>
        </p:nvCxnSpPr>
        <p:spPr>
          <a:xfrm>
            <a:off x="3634920" y="2637000"/>
            <a:ext cx="1080" cy="108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1" idx="3"/>
            <a:endCxn id="162" idx="1"/>
          </p:cNvCxnSpPr>
          <p:nvPr/>
        </p:nvCxnSpPr>
        <p:spPr>
          <a:xfrm>
            <a:off x="4498560" y="4076280"/>
            <a:ext cx="469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3" idx="1"/>
            <a:endCxn id="162" idx="3"/>
          </p:cNvCxnSpPr>
          <p:nvPr/>
        </p:nvCxnSpPr>
        <p:spPr>
          <a:xfrm flipH="1">
            <a:off x="6693840" y="4076280"/>
            <a:ext cx="470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es briques généralistes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79920" y="4076640"/>
            <a:ext cx="199224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briques généralis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 caneva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mdlin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 de lignes de comman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’application pré processeu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égration de pré processeurs C/C++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’utilisation Enhydra Zeu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ion de code Java pour 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’outil Launch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marreur d’applications 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 canevas Brows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avigateur graphique personnalis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’outil Apoll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eur de composants graphiques d’édition 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anevas 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cmdl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98480"/>
            <a:ext cx="838188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e nombreux programmes dans Open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ilateurs, générateurs, éditeurs XML, démons, IHM, etc. nécessit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iformisation de l’utilisation des program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98640" indent="-316080">
              <a:lnSpc>
                <a:spcPct val="12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ignes de commande, options, aide, et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utomatisation de l’analyse des arguments de la ligne de comman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98640" indent="-316080">
              <a:lnSpc>
                <a:spcPct val="12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ôle, stockage des arguments, et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anevas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mdlin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interfaces 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ica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ag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CommandLin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diverses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implantation de 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tions obligatoires, facultatives, flags, 1 ou n arguments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 des arguments selon les options d’une ligne de comman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ffichage de l’aide en ligne des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bjectweb.util.cmd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e illustration du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anevas 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cmdl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mandLin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cmd = new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DefaultCommandLin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"preprocessor",  "file", "Preprocess a file."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Ajouter des options générale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md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ddOption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ew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DefaultOptionHelp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…)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md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ddOption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ew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DefaultOptionVersion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…)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md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ddOption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ew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DefaultOptionFlag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…)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Ajouter des options spécifiques du pré processeur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md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ddOption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ew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OptionCPP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…)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md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ddOption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ew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OptionP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…)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md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ddOption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ew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OptionDNAM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…)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md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ddOption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ew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OptionUNAME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…)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md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ddOption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new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OptionIDIR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…)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tring[] args = cmd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arseArguments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main_args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pplication pré processeu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mbreux compilateurs dans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MG IDL - OMG PSDL - OMG CID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ant utilisés un pré processeur C/C+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pplication pré processeu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iformisation accès à des pré processeurs C/C+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rapper pour exécuter pré processeurs externes (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usr/bin/cp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 pré processeur écrit en 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ation de celui fourni par ObjectWeb Jonath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it sur le canevas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md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options spécifiques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-I pat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Dnam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-Dname=def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etc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bjectweb.util.c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utilisation d’Enhydra Ze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381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Nombreuses DTD XML dans Open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tre DTD XML définies dans le 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elques DTD spécifiques (launcher, brows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Besoin de représentations mémoire typé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inding Java = classes Java représentant éléments 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~ arbres XML typés Vs arbres génériques D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Enhydra / ObjectWeb Zeu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eur de binding 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la compilation : DTD XML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Zeus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classes 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l’exécution : fichiers XML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objets Java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code applicati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zeus.enhydra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tilisation systématique de Zeus dans Open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ion systématique du code OpenCCM relatif à 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motivations pou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Launc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381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e nombreux programmes dans Open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ilateurs, générateurs, éditeurs XML, démons, IHM, etc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émarrage nécessite la configuration d’informations techniques pour lancer une JV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0">
              <a:lnSpc>
                <a:spcPct val="105000"/>
              </a:lnSpc>
              <a:spcBef>
                <a:spcPts val="20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105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–Djava.compiler=NONE –DMyProperty=Valu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-Xbootclasspath=MyJavaRuntime.jar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–cp MyArchive.jar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MyPackage.MyClass MyArg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105000"/>
              </a:lnSpc>
              <a:spcBef>
                <a:spcPts val="176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nom de la classe princip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liste des chemins d’accès aux classes et archives J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propriétés Java et arguments spécifiques aux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motivations pou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Launc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98480"/>
            <a:ext cx="83818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Non simple pour l’utilisateur fina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capsuler le lancement JVM par des scripts she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fférents pour Unix, Windows, Windows CE, etc.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petits équipements PDA n’ont pas toujours un interpréteur shell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Seulement accès à des fichiers locaux (ou NF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référencer une archive Java stockée sur un serveur Web 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ifficile de surcharger les classes du runtime JVM (archive rt.jar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écessaire pour remplacer JDK ORB par un « vrai » OR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105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e seule fonction principa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r plusieurs démons dans la même JV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conomiser le nombre de JVM lancé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la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-3722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projet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briques généralis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haîne de production des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lage de conditionnement et d’assembl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frastructure répartie de déploi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lage d’administr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plate-forme d’exécu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Launc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cription des applications Java via une notation XML dédié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nom de la classe princip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URL des archives Java à utili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propriétés Java à défin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arguments par défaut de la ligne de comman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dularité et réutilisation de descriptions XML launch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ation de descripteurs XML Launc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férencement des éléments importé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Application.xm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3818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launcher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include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url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file:Middleware.xml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run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id=“main”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mainclassname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MonPackage.MaClasse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classpath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MonClassPath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properties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MesProprietes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arguments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MesArguments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classpath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id=“MonClassPath”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path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ref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DefaultMiddlewareClassPath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path url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http://www/MonApplication.jar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/classpath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properties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id=“MesProprietes”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property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name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MaPropriete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 value=“…”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property ref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DefaultMiddlewareProperties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/properties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arguments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id=“MesArguments”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argument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ref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DefaultMiddlewareArguments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argument value=“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  <a:ea typeface="Courier New"/>
              </a:rPr>
              <a:t>Mes Arguments par Défaut</a:t>
            </a: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”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/arguments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25992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/launcher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75640" y="162864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62864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357336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4941720"/>
            <a:ext cx="208764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443640" y="5792400"/>
            <a:ext cx="223200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Launc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émarrage des applications Jav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0">
              <a:lnSpc>
                <a:spcPct val="115000"/>
              </a:lnSpc>
              <a:spcBef>
                <a:spcPts val="201"/>
              </a:spcBef>
              <a:spcAft>
                <a:spcPts val="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uncher.bat MonApplication.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115000"/>
              </a:lnSpc>
              <a:spcBef>
                <a:spcPts val="201"/>
              </a:spcBef>
              <a:spcAft>
                <a:spcPts val="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ment des descripteurs via binding Ze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prétation des objets du binding Ze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cement d’une (ou plusieurs) classe(s) principale(s) d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même espace mémoi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threads différ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chargeurs de classes isolés (URLClassLoader étend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erche dans archives avant recherche dans runtime 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nditionn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script par OS, archive Java ~ 80Ko, + parser XML SA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bjectweb.util.launc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anevas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Nombreuses IHM dans Open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.g. outils de conditionnement et d’assemblage, navigateur OpenCCM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onté d’uniformisation des IH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voir assembler IHMs pour former de nouveaux outi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anevas </a:t>
            </a:r>
            <a:r>
              <a:rPr b="1" i="1" lang="fr-FR" sz="2000" spc="-1" strike="noStrike">
                <a:solidFill>
                  <a:srgbClr val="0000cc"/>
                </a:solidFill>
                <a:latin typeface="Arial"/>
              </a:rPr>
              <a:t>Brows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avigateur graphique personnalisable par plug-i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ug-ins décrits en XML et programmés en 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erfaces simples entre Navigateur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lug-i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bjectweb.util.brow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ersonnalisation pour Fractal et Open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Que configurer dans l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anevas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Browser</a:t>
            </a: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48360" cy="52830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747720" y="1452960"/>
            <a:ext cx="3461040" cy="902880"/>
            <a:chOff x="747720" y="1452960"/>
            <a:chExt cx="3461040" cy="902880"/>
          </a:xfrm>
        </p:grpSpPr>
        <p:sp>
          <p:nvSpPr>
            <p:cNvPr id="202" name=""/>
            <p:cNvSpPr/>
            <p:nvPr/>
          </p:nvSpPr>
          <p:spPr>
            <a:xfrm rot="2520000">
              <a:off x="764640" y="1704960"/>
              <a:ext cx="906480" cy="398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47640" y="2017800"/>
              <a:ext cx="1729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76720" y="174780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c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461960" y="2190600"/>
            <a:ext cx="3582360" cy="1079640"/>
            <a:chOff x="1461960" y="2190600"/>
            <a:chExt cx="3582360" cy="1079640"/>
          </a:xfrm>
        </p:grpSpPr>
        <p:sp>
          <p:nvSpPr>
            <p:cNvPr id="206" name=""/>
            <p:cNvSpPr/>
            <p:nvPr/>
          </p:nvSpPr>
          <p:spPr>
            <a:xfrm>
              <a:off x="1461960" y="2190600"/>
              <a:ext cx="719280" cy="1079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81240" y="2895480"/>
              <a:ext cx="1081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8520" y="2635200"/>
              <a:ext cx="17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vigation fi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195640" y="3789360"/>
            <a:ext cx="2593800" cy="1753200"/>
            <a:chOff x="2195640" y="3789360"/>
            <a:chExt cx="2593800" cy="1753200"/>
          </a:xfrm>
        </p:grpSpPr>
        <p:sp>
          <p:nvSpPr>
            <p:cNvPr id="210" name=""/>
            <p:cNvSpPr/>
            <p:nvPr/>
          </p:nvSpPr>
          <p:spPr>
            <a:xfrm>
              <a:off x="2195640" y="3789360"/>
              <a:ext cx="2593800" cy="1081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51320" y="488304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88480" y="5143680"/>
              <a:ext cx="15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ms Men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716360" y="1268280"/>
            <a:ext cx="4032360" cy="4464360"/>
            <a:chOff x="4716360" y="1268280"/>
            <a:chExt cx="4032360" cy="4464360"/>
          </a:xfrm>
        </p:grpSpPr>
        <p:sp>
          <p:nvSpPr>
            <p:cNvPr id="214" name=""/>
            <p:cNvSpPr/>
            <p:nvPr/>
          </p:nvSpPr>
          <p:spPr>
            <a:xfrm>
              <a:off x="4716360" y="1268280"/>
              <a:ext cx="4032360" cy="446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81640" y="3284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structure d’un plug-i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le canevas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14480" y="2201760"/>
            <a:ext cx="1871640" cy="1224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Fichiers Icô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8120" y="1409760"/>
            <a:ext cx="3097080" cy="2665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54480" y="2133720"/>
            <a:ext cx="1871640" cy="1224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Wrap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(Navig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94120" y="1341360"/>
            <a:ext cx="4710240" cy="395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lasses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43560" y="2130480"/>
            <a:ext cx="1871640" cy="1224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a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(Descri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15200" y="3714840"/>
            <a:ext cx="1871640" cy="1224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(Menu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54480" y="3719520"/>
            <a:ext cx="1871640" cy="1224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con 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(Rep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n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5300640"/>
            <a:ext cx="2664000" cy="100800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Fichi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835280" y="407664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835280" y="4436640"/>
            <a:ext cx="2016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4520" y="45561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réf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xemple de configuration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anevas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3818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browser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..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node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java-class="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org.omg.CosNaming.NamingContext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 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wrapper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java-class=“</a:t>
            </a:r>
            <a:r>
              <a:rPr b="1" i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YourContextJavaClass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con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kind="icon-file" value="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ile:</a:t>
            </a:r>
            <a:r>
              <a:rPr b="1" i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YourIconFile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"/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anel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java-class=“</a:t>
            </a:r>
            <a:r>
              <a:rPr b="1" i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YourPanelJavaClass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” /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enu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  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tem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label="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Bind an object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"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java-class=“</a:t>
            </a:r>
            <a:r>
              <a:rPr b="1" i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YourActionJavaClass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" /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  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tem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label="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nbind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" java-class=“</a:t>
            </a:r>
            <a:r>
              <a:rPr b="1" i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YourJavaClass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“</a:t>
            </a:r>
            <a:br>
              <a:rPr sz="1800"/>
            </a:b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tree-child-visible="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true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" /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/menu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 </a:t>
            </a: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/node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...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7224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cc"/>
                </a:solidFill>
                <a:latin typeface="Courier New"/>
                <a:ea typeface="Courier New"/>
              </a:rPr>
              <a:t>&lt;/browser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Description XML, orientée type et supportant l’héritag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Exemple de code plug-in </a:t>
            </a:r>
            <a:br>
              <a:rPr sz="2400"/>
            </a:b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du canevas </a:t>
            </a:r>
            <a:r>
              <a:rPr b="1" i="1" lang="en-GB" sz="2400" spc="-1" strike="noStrike">
                <a:solidFill>
                  <a:srgbClr val="0000cc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class 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nfigurationCompleteAction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ements 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enuItem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int 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getStatus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TreeView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t)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 return 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TEM_VISIBLE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 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void 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ctionPerformed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TreeView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t) throws 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ception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CMObject object = (CCMObject)t.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getCurrentValue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object.configuration_complete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 vision architecturale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anevas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075200"/>
            <a:ext cx="5905440" cy="1082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Framework, Plug-ins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4075200"/>
            <a:ext cx="2016000" cy="108108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XML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5370480"/>
            <a:ext cx="8137440" cy="1082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Browser Framework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JTree GUI, XML parser,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349360"/>
            <a:ext cx="3816360" cy="64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OpenCCM plug-ins (35 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27640" y="1341360"/>
            <a:ext cx="1944720" cy="1152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Frac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plug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(34 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341360"/>
            <a:ext cx="3816360" cy="719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OpenCCM demo plug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340000" y="191880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5840" y="2709720"/>
            <a:ext cx="1944720" cy="1150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plug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3213000"/>
            <a:ext cx="3816360" cy="64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CORBA plug-ins (18 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8160" y="1341360"/>
            <a:ext cx="1944720" cy="1152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Apoll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plug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16720" y="2709720"/>
            <a:ext cx="1944720" cy="1150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Aut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Arial"/>
              </a:rPr>
              <a:t>plug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ersonnalisation Fractal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anevas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9280" y="1243080"/>
            <a:ext cx="5905440" cy="5256000"/>
            <a:chOff x="179280" y="1243080"/>
            <a:chExt cx="5905440" cy="5256000"/>
          </a:xfrm>
        </p:grpSpPr>
        <p:sp>
          <p:nvSpPr>
            <p:cNvPr id="246" name=""/>
            <p:cNvSpPr/>
            <p:nvPr/>
          </p:nvSpPr>
          <p:spPr>
            <a:xfrm>
              <a:off x="611280" y="1603440"/>
              <a:ext cx="5473440" cy="4895640"/>
            </a:xfrm>
            <a:prstGeom prst="flowChartProcess">
              <a:avLst/>
            </a:prstGeom>
            <a:solidFill>
              <a:srgbClr val="b307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5240" y="1820880"/>
              <a:ext cx="5042160" cy="4464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97080" y="2468520"/>
              <a:ext cx="2159280" cy="1079640"/>
            </a:xfrm>
            <a:prstGeom prst="flowChartProcess">
              <a:avLst/>
            </a:prstGeom>
            <a:solidFill>
              <a:srgbClr val="b307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13080" y="2684520"/>
              <a:ext cx="1728720" cy="646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6120" y="4389480"/>
              <a:ext cx="3527280" cy="1511280"/>
            </a:xfrm>
            <a:prstGeom prst="flowChartProcess">
              <a:avLst/>
            </a:prstGeom>
            <a:solidFill>
              <a:srgbClr val="b307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32120" y="4605480"/>
              <a:ext cx="3095640" cy="1079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Fractal HelloWorld d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614600" y="4748040"/>
              <a:ext cx="85680" cy="288720"/>
              <a:chOff x="1614600" y="4748040"/>
              <a:chExt cx="85680" cy="288720"/>
            </a:xfrm>
          </p:grpSpPr>
          <p:sp>
            <p:nvSpPr>
              <p:cNvPr id="253" name=""/>
              <p:cNvSpPr/>
              <p:nvPr/>
            </p:nvSpPr>
            <p:spPr>
              <a:xfrm>
                <a:off x="1629000" y="489240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614600" y="47480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436840" y="4311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292480" y="43099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85920" y="44607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1130760" y="504792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95760" y="4311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650680" y="43099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6480" y="4311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932120" y="43099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56120" y="4311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011040" y="43099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74880" y="4010040"/>
              <a:ext cx="4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76520" y="4011480"/>
              <a:ext cx="5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33640" y="4006800"/>
              <a:ext cx="4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3011400" y="2755800"/>
              <a:ext cx="85680" cy="288720"/>
              <a:chOff x="3011400" y="2755800"/>
              <a:chExt cx="85680" cy="288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025800" y="29001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11400" y="275580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664160" y="2360520"/>
              <a:ext cx="288720" cy="85680"/>
              <a:chOff x="4664160" y="2360520"/>
              <a:chExt cx="288720" cy="85680"/>
            </a:xfrm>
          </p:grpSpPr>
          <p:sp>
            <p:nvSpPr>
              <p:cNvPr id="272" name=""/>
              <p:cNvSpPr/>
              <p:nvPr/>
            </p:nvSpPr>
            <p:spPr>
              <a:xfrm>
                <a:off x="4808520" y="237492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4664160" y="23605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436840" y="2898720"/>
              <a:ext cx="517320" cy="1298520"/>
            </a:xfrm>
            <a:custGeom>
              <a:avLst/>
              <a:gdLst/>
              <a:ahLst/>
              <a:rect l="l" t="t" r="r" b="b"/>
              <a:pathLst>
                <a:path w="328" h="681">
                  <a:moveTo>
                    <a:pt x="328" y="0"/>
                  </a:moveTo>
                  <a:lnTo>
                    <a:pt x="0" y="4"/>
                  </a:lnTo>
                  <a:lnTo>
                    <a:pt x="11" y="6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5200" y="20160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rowser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239840" y="1506600"/>
              <a:ext cx="288720" cy="85680"/>
              <a:chOff x="1239840" y="1506600"/>
              <a:chExt cx="288720" cy="85680"/>
            </a:xfrm>
          </p:grpSpPr>
          <p:sp>
            <p:nvSpPr>
              <p:cNvPr id="277" name=""/>
              <p:cNvSpPr/>
              <p:nvPr/>
            </p:nvSpPr>
            <p:spPr>
              <a:xfrm>
                <a:off x="1384200" y="15210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239840" y="15066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598760" y="1506600"/>
              <a:ext cx="288720" cy="85680"/>
              <a:chOff x="1598760" y="1506600"/>
              <a:chExt cx="288720" cy="85680"/>
            </a:xfrm>
          </p:grpSpPr>
          <p:sp>
            <p:nvSpPr>
              <p:cNvPr id="280" name=""/>
              <p:cNvSpPr/>
              <p:nvPr/>
            </p:nvSpPr>
            <p:spPr>
              <a:xfrm>
                <a:off x="1743120" y="15210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598760" y="15066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879480" y="1506600"/>
              <a:ext cx="288720" cy="85680"/>
              <a:chOff x="879480" y="1506600"/>
              <a:chExt cx="288720" cy="85680"/>
            </a:xfrm>
          </p:grpSpPr>
          <p:sp>
            <p:nvSpPr>
              <p:cNvPr id="283" name=""/>
              <p:cNvSpPr/>
              <p:nvPr/>
            </p:nvSpPr>
            <p:spPr>
              <a:xfrm>
                <a:off x="1023840" y="15210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79480" y="15066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959120" y="1506600"/>
              <a:ext cx="288720" cy="85680"/>
              <a:chOff x="1959120" y="1506600"/>
              <a:chExt cx="288720" cy="85680"/>
            </a:xfrm>
          </p:grpSpPr>
          <p:sp>
            <p:nvSpPr>
              <p:cNvPr id="286" name=""/>
              <p:cNvSpPr/>
              <p:nvPr/>
            </p:nvSpPr>
            <p:spPr>
              <a:xfrm>
                <a:off x="2103480" y="15210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1959120" y="15066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822240" y="1246320"/>
              <a:ext cx="4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3880" y="1247760"/>
              <a:ext cx="5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1360" y="1243080"/>
              <a:ext cx="43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92120" y="4746600"/>
              <a:ext cx="85680" cy="288720"/>
              <a:chOff x="492120" y="4746600"/>
              <a:chExt cx="85680" cy="288720"/>
            </a:xfrm>
          </p:grpSpPr>
          <p:sp>
            <p:nvSpPr>
              <p:cNvPr id="292" name=""/>
              <p:cNvSpPr/>
              <p:nvPr/>
            </p:nvSpPr>
            <p:spPr>
              <a:xfrm>
                <a:off x="506520" y="48909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2120" y="474660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804960" y="4751280"/>
              <a:ext cx="85680" cy="288720"/>
              <a:chOff x="804960" y="4751280"/>
              <a:chExt cx="85680" cy="2887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804960" y="489564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890640" y="475128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81080" y="44607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200000">
              <a:off x="25920" y="504792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01680" y="1249200"/>
              <a:ext cx="4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39960" y="48927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554880" y="2266920"/>
            <a:ext cx="2241360" cy="30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e projet OpenCCM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79920" y="4076640"/>
            <a:ext cx="199224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clusion su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anevas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Indépendant des technologi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ilité de développer des plug-ins pour toute technologie 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2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Non intrusif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cun changement dans les technologies encapsul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2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Hautement configurab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cription plutôt que program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2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omposab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éation de nouveaux navigateurs par assemblage de plug-i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2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Perspectiv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entôt disponible comme un module indépendant du CVS Open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égration d’autres langages pour développer les plug-i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DLscript, Python, composants Kilim, composants Fractal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bliothèque de plug-ins : Web services, Grid, JDBC, JNDI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 Apoll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ombreux éditeurs XML pour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atre DTD XML définies dans le CC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ques DTD spécifiques (launcher, brow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Outil Apoll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énérateur d’éditeurs XML graphiques personnalis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it au dessus de Enhydra Ze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duit des composants Swing manipulant objets Ze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figuration IHM via le canevas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rl : </a:t>
            </a: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forge.objectweb.org/projects/apoll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pollon 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’une XML DTD à son IH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4200" y="2181240"/>
            <a:ext cx="2756160" cy="22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!ELEMENT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| phone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!ATTLIST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id ID #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firstname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lastname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icture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9240" y="1820880"/>
            <a:ext cx="17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Une DTD XML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2466720" y="4341600"/>
            <a:ext cx="1584360" cy="432000"/>
          </a:xfrm>
          <a:custGeom>
            <a:avLst/>
            <a:gdLst>
              <a:gd name="textAreaLeft" fmla="*/ 317520 w 1584360"/>
              <a:gd name="textAreaRight" fmla="*/ 1108440 w 1584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63" hR="21600" stAng="10800000" swAng="5400000"/>
                <a:lnTo>
                  <a:pt x="10778" y="0"/>
                </a:lnTo>
                <a:arcTo wR="8663" hR="21600" stAng="-5400000" swAng="2916060"/>
                <a:lnTo>
                  <a:pt x="21105" y="14400"/>
                </a:lnTo>
                <a:lnTo>
                  <a:pt x="18383" y="21600"/>
                </a:lnTo>
                <a:lnTo>
                  <a:pt x="14670" y="14400"/>
                </a:lnTo>
                <a:lnTo>
                  <a:pt x="16830" y="14400"/>
                </a:lnTo>
                <a:arcTo wR="8663" hR="21600" stAng="-2483940" swAng="-2746622"/>
                <a:lnTo>
                  <a:pt x="9720" y="162"/>
                </a:lnTo>
                <a:arcTo wR="8663" hR="21600" stAng="-5569437" swAng="-5230563"/>
                <a:close/>
              </a:path>
              <a:path fill="darkenLess" w="21600" h="21600">
                <a:moveTo>
                  <a:pt x="0" y="21600"/>
                </a:moveTo>
                <a:arcTo wR="8663" hR="21600" stAng="10800000" swAng="5400000"/>
                <a:lnTo>
                  <a:pt x="8663" y="0"/>
                </a:lnTo>
                <a:arcTo wR="8663" hR="21600" stAng="-5400000" swAng="169437"/>
                <a:lnTo>
                  <a:pt x="9720" y="162"/>
                </a:lnTo>
                <a:arcTo wR="8663" hR="21600" stAng="-5569437" swAng="-5230563"/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2000" y="4557600"/>
            <a:ext cx="2808360" cy="2039760"/>
            <a:chOff x="162000" y="4557600"/>
            <a:chExt cx="2808360" cy="2039760"/>
          </a:xfrm>
        </p:grpSpPr>
        <p:sp>
          <p:nvSpPr>
            <p:cNvPr id="311" name=""/>
            <p:cNvSpPr/>
            <p:nvPr/>
          </p:nvSpPr>
          <p:spPr>
            <a:xfrm>
              <a:off x="162000" y="4782600"/>
              <a:ext cx="2808360" cy="1814760"/>
            </a:xfrm>
            <a:prstGeom prst="roundRect">
              <a:avLst>
                <a:gd name="adj" fmla="val 16667"/>
              </a:avLst>
            </a:prstGeom>
            <a:solidFill>
              <a:srgbClr val="e0ff8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09280" y="5331960"/>
              <a:ext cx="400320" cy="590760"/>
            </a:xfrm>
            <a:prstGeom prst="can">
              <a:avLst>
                <a:gd name="adj" fmla="val 25000"/>
              </a:avLst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1680" y="4993920"/>
              <a:ext cx="400320" cy="590760"/>
            </a:xfrm>
            <a:prstGeom prst="can">
              <a:avLst>
                <a:gd name="adj" fmla="val 25000"/>
              </a:avLst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9760" y="513252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Address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6000" y="552744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Phone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6560" y="5964840"/>
              <a:ext cx="458640" cy="2530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8560" y="6260760"/>
              <a:ext cx="1145880" cy="2530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first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51680" y="5964840"/>
              <a:ext cx="1145520" cy="2530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last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66520" y="6260760"/>
              <a:ext cx="916920" cy="2530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pi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31840" y="455760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Objets 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3978360" y="1592280"/>
          <a:ext cx="491472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8360" y="1592280"/>
                    <a:ext cx="491472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3043080" y="5854680"/>
            <a:ext cx="1727280" cy="503280"/>
          </a:xfrm>
          <a:custGeom>
            <a:avLst/>
            <a:gdLst>
              <a:gd name="textAreaLeft" fmla="*/ 269640 w 1727280"/>
              <a:gd name="textAreaRight" fmla="*/ 1511640 w 172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723080" y="5637240"/>
            <a:ext cx="1008000" cy="792000"/>
            <a:chOff x="7723080" y="5637240"/>
            <a:chExt cx="1008000" cy="792000"/>
          </a:xfrm>
        </p:grpSpPr>
        <p:sp>
          <p:nvSpPr>
            <p:cNvPr id="325" name=""/>
            <p:cNvSpPr/>
            <p:nvPr/>
          </p:nvSpPr>
          <p:spPr>
            <a:xfrm>
              <a:off x="7723080" y="5637240"/>
              <a:ext cx="1008000" cy="79200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70720" y="5637240"/>
              <a:ext cx="360360" cy="1800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843440" y="5854680"/>
            <a:ext cx="2016000" cy="576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po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31080" y="5924520"/>
            <a:ext cx="720720" cy="50328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5278320"/>
            <a:ext cx="2376360" cy="505080"/>
          </a:xfrm>
          <a:prstGeom prst="upArrow">
            <a:avLst>
              <a:gd name="adj1" fmla="val 52435"/>
              <a:gd name="adj2" fmla="val 72014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3000" y="1267920"/>
            <a:ext cx="867240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XML partout =&gt; besoin d’éditeurs XML personnalisabl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12920" y="4226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a chaîne de production</a:t>
            </a:r>
            <a:br>
              <a:rPr sz="3600"/>
            </a:b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des composants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679920" y="4076640"/>
            <a:ext cx="199224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haîne de produc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composants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11120" y="4264200"/>
            <a:ext cx="1532160" cy="1828800"/>
          </a:xfrm>
          <a:prstGeom prst="flowChartMultidocumen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MG 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SDL C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96000" y="1846440"/>
            <a:ext cx="1728720" cy="93492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MG 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80000" y="4005360"/>
            <a:ext cx="1944720" cy="79200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en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80000" y="5013360"/>
            <a:ext cx="1944720" cy="122400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XML CORBA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80000" y="2997360"/>
            <a:ext cx="1944720" cy="79200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che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94000" y="1341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13413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36" idx="3"/>
            <a:endCxn id="344" idx="1"/>
          </p:cNvCxnSpPr>
          <p:nvPr/>
        </p:nvCxnSpPr>
        <p:spPr>
          <a:xfrm flipV="1">
            <a:off x="2843280" y="3825360"/>
            <a:ext cx="419760" cy="135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4" idx="3"/>
            <a:endCxn id="337" idx="1"/>
          </p:cNvCxnSpPr>
          <p:nvPr/>
        </p:nvCxnSpPr>
        <p:spPr>
          <a:xfrm flipV="1">
            <a:off x="5292720" y="2314080"/>
            <a:ext cx="504000" cy="15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4" idx="3"/>
            <a:endCxn id="340" idx="1"/>
          </p:cNvCxnSpPr>
          <p:nvPr/>
        </p:nvCxnSpPr>
        <p:spPr>
          <a:xfrm flipV="1">
            <a:off x="5292720" y="3393360"/>
            <a:ext cx="28800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4" idx="3"/>
            <a:endCxn id="338" idx="1"/>
          </p:cNvCxnSpPr>
          <p:nvPr/>
        </p:nvCxnSpPr>
        <p:spPr>
          <a:xfrm>
            <a:off x="5292720" y="3825360"/>
            <a:ext cx="288000" cy="577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4" idx="3"/>
            <a:endCxn id="339" idx="1"/>
          </p:cNvCxnSpPr>
          <p:nvPr/>
        </p:nvCxnSpPr>
        <p:spPr>
          <a:xfrm>
            <a:off x="5292720" y="3825360"/>
            <a:ext cx="288000" cy="180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4356000" y="1413000"/>
            <a:ext cx="0" cy="4968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62320" y="3090960"/>
            <a:ext cx="2030400" cy="14684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îne de produ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enC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1887480"/>
            <a:ext cx="1531800" cy="1828800"/>
          </a:xfrm>
          <a:prstGeom prst="flowChartMultidocumen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X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52560" y="2708280"/>
            <a:ext cx="1654560" cy="1587240"/>
            <a:chOff x="-52560" y="2708280"/>
            <a:chExt cx="1654560" cy="1587240"/>
          </a:xfrm>
        </p:grpSpPr>
        <p:sp>
          <p:nvSpPr>
            <p:cNvPr id="352" name=""/>
            <p:cNvSpPr/>
            <p:nvPr/>
          </p:nvSpPr>
          <p:spPr>
            <a:xfrm>
              <a:off x="-52560" y="3591720"/>
              <a:ext cx="1654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oncep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98320" y="2708280"/>
              <a:ext cx="327240" cy="996120"/>
              <a:chOff x="598320" y="2708280"/>
              <a:chExt cx="327240" cy="996120"/>
            </a:xfrm>
          </p:grpSpPr>
          <p:sp>
            <p:nvSpPr>
              <p:cNvPr id="354" name=""/>
              <p:cNvSpPr/>
              <p:nvPr/>
            </p:nvSpPr>
            <p:spPr>
              <a:xfrm>
                <a:off x="695880" y="2708280"/>
                <a:ext cx="132120" cy="19620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8320" y="2904480"/>
                <a:ext cx="327240" cy="79992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56" name=""/>
          <p:cNvCxnSpPr>
            <a:stCxn id="350" idx="3"/>
            <a:endCxn id="344" idx="1"/>
          </p:cNvCxnSpPr>
          <p:nvPr/>
        </p:nvCxnSpPr>
        <p:spPr>
          <a:xfrm>
            <a:off x="2863440" y="2801880"/>
            <a:ext cx="399240" cy="102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7" name=""/>
          <p:cNvGrpSpPr/>
          <p:nvPr/>
        </p:nvGrpSpPr>
        <p:grpSpPr>
          <a:xfrm>
            <a:off x="7377120" y="2781360"/>
            <a:ext cx="1808280" cy="1587240"/>
            <a:chOff x="7377120" y="2781360"/>
            <a:chExt cx="1808280" cy="1587240"/>
          </a:xfrm>
        </p:grpSpPr>
        <p:sp>
          <p:nvSpPr>
            <p:cNvPr id="358" name=""/>
            <p:cNvSpPr/>
            <p:nvPr/>
          </p:nvSpPr>
          <p:spPr>
            <a:xfrm>
              <a:off x="7377120" y="36648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Développ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8101080" y="2781360"/>
              <a:ext cx="326880" cy="996120"/>
              <a:chOff x="8101080" y="2781360"/>
              <a:chExt cx="326880" cy="996120"/>
            </a:xfrm>
          </p:grpSpPr>
          <p:sp>
            <p:nvSpPr>
              <p:cNvPr id="360" name=""/>
              <p:cNvSpPr/>
              <p:nvPr/>
            </p:nvSpPr>
            <p:spPr>
              <a:xfrm>
                <a:off x="8198280" y="2781360"/>
                <a:ext cx="132120" cy="19620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101080" y="2977560"/>
                <a:ext cx="326880" cy="79992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haîne de produc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pilateur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RBA 3.0 Interface Definition Language (OMG ID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MG Persistent State Definition Language (OMG PS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MG Component Implementation Definition Language (OMG CID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MI UML 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œur = contrôle sémantiqu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bre de Syntaxe Abstraite (AS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férentiel des Interfaces conforme CORBA 3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Générateur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jection OMG IDL 2.x cliente et serv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eneurs Java et squelettes Java pour C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mplates Java pour implantation des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etty-printers OMG IDL 3.0, PSDL et C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MI UML CCM (contribution Thalè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14440" y="3369960"/>
            <a:ext cx="1968480" cy="1659960"/>
          </a:xfrm>
          <a:prstGeom prst="foldedCorner">
            <a:avLst>
              <a:gd name="adj" fmla="val 12500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MG IDL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SDL + C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code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ilateu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OMG IDL - PSDL - CID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74920" y="2162160"/>
            <a:ext cx="2181240" cy="820800"/>
          </a:xfrm>
          <a:prstGeom prst="flowChartMultidocumen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MG 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SDL C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30920" y="3817800"/>
            <a:ext cx="1513080" cy="792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67280" y="3890880"/>
            <a:ext cx="1224000" cy="576360"/>
          </a:xfrm>
          <a:prstGeom prst="hexagon">
            <a:avLst>
              <a:gd name="adj" fmla="val 53092"/>
              <a:gd name="vf" fmla="val 11547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ava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11440" y="3848040"/>
            <a:ext cx="1388880" cy="674280"/>
          </a:xfrm>
          <a:prstGeom prst="rightArrow">
            <a:avLst>
              <a:gd name="adj1" fmla="val 50000"/>
              <a:gd name="adj2" fmla="val 5149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56000" y="3746520"/>
            <a:ext cx="1439640" cy="853920"/>
          </a:xfrm>
          <a:prstGeom prst="rightArrow">
            <a:avLst>
              <a:gd name="adj1" fmla="val 32343"/>
              <a:gd name="adj2" fmla="val 2149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2920" y="2377440"/>
            <a:ext cx="2449440" cy="1266840"/>
          </a:xfrm>
          <a:custGeom>
            <a:avLst/>
            <a:gdLst>
              <a:gd name="textAreaLeft" fmla="*/ 686520 w 2449440"/>
              <a:gd name="textAreaRight" fmla="*/ 1944720 w 2449440"/>
              <a:gd name="textAreaTop" fmla="*/ 871560 h 1266840"/>
              <a:gd name="textAreaBottom" fmla="*/ 100548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19319"/>
                </a:moveTo>
                <a:lnTo>
                  <a:pt x="14867" y="19319"/>
                </a:lnTo>
                <a:lnTo>
                  <a:pt x="14867" y="6054"/>
                </a:lnTo>
                <a:lnTo>
                  <a:pt x="10415" y="6054"/>
                </a:lnTo>
                <a:lnTo>
                  <a:pt x="16008" y="0"/>
                </a:lnTo>
                <a:lnTo>
                  <a:pt x="21600" y="6054"/>
                </a:lnTo>
                <a:lnTo>
                  <a:pt x="17148" y="6054"/>
                </a:lnTo>
                <a:lnTo>
                  <a:pt x="17148" y="21600"/>
                </a:lnTo>
                <a:lnTo>
                  <a:pt x="0" y="216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rbre de Syntaxe Abstrait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t le Référentiel des Interfa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6560" y="1341360"/>
            <a:ext cx="1513080" cy="792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546360" y="1400040"/>
            <a:ext cx="2448000" cy="2127600"/>
            <a:chOff x="3546360" y="1400040"/>
            <a:chExt cx="2448000" cy="2127600"/>
          </a:xfrm>
        </p:grpSpPr>
        <p:sp>
          <p:nvSpPr>
            <p:cNvPr id="375" name=""/>
            <p:cNvSpPr/>
            <p:nvPr/>
          </p:nvSpPr>
          <p:spPr>
            <a:xfrm>
              <a:off x="3546360" y="1400040"/>
              <a:ext cx="2448000" cy="208908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26200" y="31287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141440" y="2193840"/>
              <a:ext cx="1258560" cy="863280"/>
              <a:chOff x="4141440" y="2193840"/>
              <a:chExt cx="1258560" cy="863280"/>
            </a:xfrm>
          </p:grpSpPr>
          <p:sp>
            <p:nvSpPr>
              <p:cNvPr id="378" name=""/>
              <p:cNvSpPr/>
              <p:nvPr/>
            </p:nvSpPr>
            <p:spPr>
              <a:xfrm>
                <a:off x="4623840" y="2193840"/>
                <a:ext cx="24084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64680" y="2516400"/>
                <a:ext cx="24120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82640" y="2518560"/>
                <a:ext cx="240840" cy="2160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01800" y="2841480"/>
                <a:ext cx="24084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41440" y="2841480"/>
                <a:ext cx="24120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19680" y="2841480"/>
                <a:ext cx="24120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59160" y="2839320"/>
                <a:ext cx="24084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5" name=""/>
              <p:cNvCxnSpPr>
                <a:stCxn id="378" idx="3"/>
                <a:endCxn id="380" idx="7"/>
              </p:cNvCxnSpPr>
              <p:nvPr/>
            </p:nvCxnSpPr>
            <p:spPr>
              <a:xfrm flipH="1">
                <a:off x="4588920" y="2378520"/>
                <a:ext cx="69120" cy="171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6" name=""/>
              <p:cNvCxnSpPr>
                <a:stCxn id="380" idx="3"/>
                <a:endCxn id="382" idx="7"/>
              </p:cNvCxnSpPr>
              <p:nvPr/>
            </p:nvCxnSpPr>
            <p:spPr>
              <a:xfrm flipH="1">
                <a:off x="4347360" y="2703240"/>
                <a:ext cx="69480" cy="168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7" name=""/>
              <p:cNvCxnSpPr>
                <a:stCxn id="380" idx="5"/>
                <a:endCxn id="381" idx="0"/>
              </p:cNvCxnSpPr>
              <p:nvPr/>
            </p:nvCxnSpPr>
            <p:spPr>
              <a:xfrm>
                <a:off x="4588920" y="2703600"/>
                <a:ext cx="34920" cy="13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8" name=""/>
              <p:cNvCxnSpPr>
                <a:stCxn id="378" idx="5"/>
                <a:endCxn id="379" idx="1"/>
              </p:cNvCxnSpPr>
              <p:nvPr/>
            </p:nvCxnSpPr>
            <p:spPr>
              <a:xfrm>
                <a:off x="4830120" y="2378520"/>
                <a:ext cx="69480" cy="168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9" name=""/>
              <p:cNvCxnSpPr>
                <a:stCxn id="379" idx="4"/>
                <a:endCxn id="383" idx="0"/>
              </p:cNvCxnSpPr>
              <p:nvPr/>
            </p:nvCxnSpPr>
            <p:spPr>
              <a:xfrm flipH="1">
                <a:off x="4940640" y="2731680"/>
                <a:ext cx="45720" cy="109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0" name=""/>
              <p:cNvCxnSpPr>
                <a:stCxn id="379" idx="5"/>
                <a:endCxn id="384" idx="1"/>
              </p:cNvCxnSpPr>
              <p:nvPr/>
            </p:nvCxnSpPr>
            <p:spPr>
              <a:xfrm>
                <a:off x="5071320" y="2701080"/>
                <a:ext cx="122400" cy="168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91" name=""/>
            <p:cNvSpPr/>
            <p:nvPr/>
          </p:nvSpPr>
          <p:spPr>
            <a:xfrm>
              <a:off x="4468680" y="1535400"/>
              <a:ext cx="604440" cy="3988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2" name=""/>
          <p:cNvCxnSpPr>
            <a:stCxn id="373" idx="3"/>
            <a:endCxn id="391" idx="1"/>
          </p:cNvCxnSpPr>
          <p:nvPr/>
        </p:nvCxnSpPr>
        <p:spPr>
          <a:xfrm flipV="1">
            <a:off x="1979280" y="1734480"/>
            <a:ext cx="2485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2627280" y="4641840"/>
            <a:ext cx="4284720" cy="1666800"/>
          </a:xfrm>
          <a:prstGeom prst="can">
            <a:avLst>
              <a:gd name="adj" fmla="val 25000"/>
            </a:avLst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férentiel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RBA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83040" y="3849840"/>
            <a:ext cx="1574640" cy="523800"/>
          </a:xfrm>
          <a:prstGeom prst="leftRightArrow">
            <a:avLst>
              <a:gd name="adj1" fmla="val 50000"/>
              <a:gd name="adj2" fmla="val 59845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48000" y="3022560"/>
            <a:ext cx="503280" cy="2303640"/>
          </a:xfrm>
          <a:custGeom>
            <a:avLst/>
            <a:gdLst>
              <a:gd name="textAreaLeft" fmla="*/ 67320 w 503280"/>
              <a:gd name="textAreaRight" fmla="*/ 435960 w 5032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724360" y="3022560"/>
            <a:ext cx="503280" cy="2303640"/>
          </a:xfrm>
          <a:custGeom>
            <a:avLst/>
            <a:gdLst>
              <a:gd name="textAreaLeft" fmla="*/ 67320 w 503280"/>
              <a:gd name="textAreaRight" fmla="*/ 435960 w 5032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24360" y="392904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ré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38800" y="13492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ré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90720" y="392904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86200" y="5372280"/>
            <a:ext cx="865080" cy="720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L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4200" y="5372280"/>
            <a:ext cx="865440" cy="720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L 2.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427640" y="4722840"/>
            <a:ext cx="753480" cy="361800"/>
            <a:chOff x="4427640" y="4722840"/>
            <a:chExt cx="753480" cy="361800"/>
          </a:xfrm>
        </p:grpSpPr>
        <p:sp>
          <p:nvSpPr>
            <p:cNvPr id="403" name=""/>
            <p:cNvSpPr/>
            <p:nvPr/>
          </p:nvSpPr>
          <p:spPr>
            <a:xfrm>
              <a:off x="4716360" y="472284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60720" y="485784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2000" y="485892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3280" y="499428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27640" y="499428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33720" y="499428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37120" y="499320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403" idx="3"/>
              <a:endCxn id="405" idx="7"/>
            </p:cNvCxnSpPr>
            <p:nvPr/>
          </p:nvCxnSpPr>
          <p:spPr>
            <a:xfrm flipH="1">
              <a:off x="4695120" y="4799880"/>
              <a:ext cx="4140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1" name=""/>
            <p:cNvCxnSpPr>
              <a:stCxn id="405" idx="3"/>
              <a:endCxn id="407" idx="7"/>
            </p:cNvCxnSpPr>
            <p:nvPr/>
          </p:nvCxnSpPr>
          <p:spPr>
            <a:xfrm flipH="1">
              <a:off x="4550760" y="493632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2" name=""/>
            <p:cNvCxnSpPr>
              <a:stCxn id="405" idx="5"/>
              <a:endCxn id="406" idx="0"/>
            </p:cNvCxnSpPr>
            <p:nvPr/>
          </p:nvCxnSpPr>
          <p:spPr>
            <a:xfrm>
              <a:off x="4695840" y="4936320"/>
              <a:ext cx="20880" cy="5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3" name=""/>
            <p:cNvCxnSpPr>
              <a:stCxn id="403" idx="5"/>
              <a:endCxn id="404" idx="1"/>
            </p:cNvCxnSpPr>
            <p:nvPr/>
          </p:nvCxnSpPr>
          <p:spPr>
            <a:xfrm>
              <a:off x="4840200" y="480024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4" name=""/>
            <p:cNvCxnSpPr>
              <a:stCxn id="404" idx="4"/>
              <a:endCxn id="408" idx="0"/>
            </p:cNvCxnSpPr>
            <p:nvPr/>
          </p:nvCxnSpPr>
          <p:spPr>
            <a:xfrm flipH="1">
              <a:off x="4906440" y="4948200"/>
              <a:ext cx="27360" cy="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5" name=""/>
            <p:cNvCxnSpPr>
              <a:stCxn id="404" idx="5"/>
              <a:endCxn id="409" idx="1"/>
            </p:cNvCxnSpPr>
            <p:nvPr/>
          </p:nvCxnSpPr>
          <p:spPr>
            <a:xfrm>
              <a:off x="4984560" y="4935600"/>
              <a:ext cx="7344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16" name=""/>
          <p:cNvSpPr/>
          <p:nvPr/>
        </p:nvSpPr>
        <p:spPr>
          <a:xfrm>
            <a:off x="6156360" y="2708280"/>
            <a:ext cx="2592360" cy="1152360"/>
          </a:xfrm>
          <a:prstGeom prst="cloudCallout">
            <a:avLst>
              <a:gd name="adj1" fmla="val -63837"/>
              <a:gd name="adj2" fmla="val -48208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mporaire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ra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4510080"/>
            <a:ext cx="1981080" cy="1006560"/>
          </a:xfrm>
          <a:prstGeom prst="cloudCallout">
            <a:avLst>
              <a:gd name="adj1" fmla="val 47194"/>
              <a:gd name="adj2" fmla="val 40379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er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2278080"/>
            <a:ext cx="1295280" cy="4302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SDL/C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rbre de Syntaxe Abstrait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t le Référentiel des Interfa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546360" y="1400040"/>
            <a:ext cx="2448000" cy="2127600"/>
            <a:chOff x="3546360" y="1400040"/>
            <a:chExt cx="2448000" cy="2127600"/>
          </a:xfrm>
        </p:grpSpPr>
        <p:sp>
          <p:nvSpPr>
            <p:cNvPr id="421" name=""/>
            <p:cNvSpPr/>
            <p:nvPr/>
          </p:nvSpPr>
          <p:spPr>
            <a:xfrm>
              <a:off x="3546360" y="1400040"/>
              <a:ext cx="2448000" cy="208908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26200" y="31287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4141440" y="2193840"/>
              <a:ext cx="1258560" cy="863280"/>
              <a:chOff x="4141440" y="2193840"/>
              <a:chExt cx="1258560" cy="863280"/>
            </a:xfrm>
          </p:grpSpPr>
          <p:sp>
            <p:nvSpPr>
              <p:cNvPr id="424" name=""/>
              <p:cNvSpPr/>
              <p:nvPr/>
            </p:nvSpPr>
            <p:spPr>
              <a:xfrm>
                <a:off x="4623840" y="2193840"/>
                <a:ext cx="24084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64680" y="2516400"/>
                <a:ext cx="24120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82640" y="2518560"/>
                <a:ext cx="240840" cy="2160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01800" y="2841480"/>
                <a:ext cx="24084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141440" y="2841480"/>
                <a:ext cx="24120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19680" y="2841480"/>
                <a:ext cx="24120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159160" y="2839320"/>
                <a:ext cx="240840" cy="21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1" name=""/>
              <p:cNvCxnSpPr>
                <a:stCxn id="424" idx="3"/>
                <a:endCxn id="426" idx="7"/>
              </p:cNvCxnSpPr>
              <p:nvPr/>
            </p:nvCxnSpPr>
            <p:spPr>
              <a:xfrm flipH="1">
                <a:off x="4588920" y="2378520"/>
                <a:ext cx="69120" cy="171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2" name=""/>
              <p:cNvCxnSpPr>
                <a:stCxn id="426" idx="3"/>
                <a:endCxn id="428" idx="7"/>
              </p:cNvCxnSpPr>
              <p:nvPr/>
            </p:nvCxnSpPr>
            <p:spPr>
              <a:xfrm flipH="1">
                <a:off x="4347360" y="2703240"/>
                <a:ext cx="69480" cy="168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3" name=""/>
              <p:cNvCxnSpPr>
                <a:stCxn id="426" idx="5"/>
                <a:endCxn id="427" idx="0"/>
              </p:cNvCxnSpPr>
              <p:nvPr/>
            </p:nvCxnSpPr>
            <p:spPr>
              <a:xfrm>
                <a:off x="4588920" y="2703600"/>
                <a:ext cx="34920" cy="13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4" name=""/>
              <p:cNvCxnSpPr>
                <a:stCxn id="424" idx="5"/>
                <a:endCxn id="425" idx="1"/>
              </p:cNvCxnSpPr>
              <p:nvPr/>
            </p:nvCxnSpPr>
            <p:spPr>
              <a:xfrm>
                <a:off x="4830120" y="2378520"/>
                <a:ext cx="69480" cy="168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5" name=""/>
              <p:cNvCxnSpPr>
                <a:stCxn id="425" idx="4"/>
                <a:endCxn id="429" idx="0"/>
              </p:cNvCxnSpPr>
              <p:nvPr/>
            </p:nvCxnSpPr>
            <p:spPr>
              <a:xfrm flipH="1">
                <a:off x="4940640" y="2731680"/>
                <a:ext cx="45720" cy="109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6" name=""/>
              <p:cNvCxnSpPr>
                <a:stCxn id="425" idx="5"/>
                <a:endCxn id="430" idx="1"/>
              </p:cNvCxnSpPr>
              <p:nvPr/>
            </p:nvCxnSpPr>
            <p:spPr>
              <a:xfrm>
                <a:off x="5071320" y="2701080"/>
                <a:ext cx="122400" cy="168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37" name=""/>
            <p:cNvSpPr/>
            <p:nvPr/>
          </p:nvSpPr>
          <p:spPr>
            <a:xfrm>
              <a:off x="4468680" y="1535400"/>
              <a:ext cx="604440" cy="3988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627280" y="4641840"/>
            <a:ext cx="4284720" cy="1666800"/>
          </a:xfrm>
          <a:prstGeom prst="can">
            <a:avLst>
              <a:gd name="adj" fmla="val 25000"/>
            </a:avLst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férentiel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RBA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83040" y="3849840"/>
            <a:ext cx="1574640" cy="523800"/>
          </a:xfrm>
          <a:prstGeom prst="leftRightArrow">
            <a:avLst>
              <a:gd name="adj1" fmla="val 50000"/>
              <a:gd name="adj2" fmla="val 59845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48000" y="3022560"/>
            <a:ext cx="503280" cy="2303640"/>
          </a:xfrm>
          <a:custGeom>
            <a:avLst/>
            <a:gdLst>
              <a:gd name="textAreaLeft" fmla="*/ 67320 w 503280"/>
              <a:gd name="textAreaRight" fmla="*/ 435960 w 5032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724360" y="3022560"/>
            <a:ext cx="503280" cy="2303640"/>
          </a:xfrm>
          <a:custGeom>
            <a:avLst/>
            <a:gdLst>
              <a:gd name="textAreaLeft" fmla="*/ 67320 w 503280"/>
              <a:gd name="textAreaRight" fmla="*/ 435960 w 5032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90720" y="392904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86200" y="5372280"/>
            <a:ext cx="865080" cy="720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L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4200" y="5372280"/>
            <a:ext cx="865440" cy="720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L 2.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427640" y="4722840"/>
            <a:ext cx="753480" cy="361800"/>
            <a:chOff x="4427640" y="4722840"/>
            <a:chExt cx="753480" cy="361800"/>
          </a:xfrm>
        </p:grpSpPr>
        <p:sp>
          <p:nvSpPr>
            <p:cNvPr id="446" name=""/>
            <p:cNvSpPr/>
            <p:nvPr/>
          </p:nvSpPr>
          <p:spPr>
            <a:xfrm>
              <a:off x="4716360" y="472284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60720" y="485784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72000" y="485892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43280" y="499428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27640" y="499428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33720" y="499428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37120" y="499320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"/>
            <p:cNvCxnSpPr>
              <a:stCxn id="446" idx="3"/>
              <a:endCxn id="448" idx="7"/>
            </p:cNvCxnSpPr>
            <p:nvPr/>
          </p:nvCxnSpPr>
          <p:spPr>
            <a:xfrm flipH="1">
              <a:off x="4695120" y="4799880"/>
              <a:ext cx="4140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4" name=""/>
            <p:cNvCxnSpPr>
              <a:stCxn id="448" idx="3"/>
              <a:endCxn id="450" idx="7"/>
            </p:cNvCxnSpPr>
            <p:nvPr/>
          </p:nvCxnSpPr>
          <p:spPr>
            <a:xfrm flipH="1">
              <a:off x="4550760" y="493632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5" name=""/>
            <p:cNvCxnSpPr>
              <a:stCxn id="448" idx="5"/>
              <a:endCxn id="449" idx="0"/>
            </p:cNvCxnSpPr>
            <p:nvPr/>
          </p:nvCxnSpPr>
          <p:spPr>
            <a:xfrm>
              <a:off x="4695840" y="4936320"/>
              <a:ext cx="20880" cy="5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6" name=""/>
            <p:cNvCxnSpPr>
              <a:stCxn id="446" idx="5"/>
              <a:endCxn id="447" idx="1"/>
            </p:cNvCxnSpPr>
            <p:nvPr/>
          </p:nvCxnSpPr>
          <p:spPr>
            <a:xfrm>
              <a:off x="4840200" y="480024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7" name=""/>
            <p:cNvCxnSpPr>
              <a:stCxn id="447" idx="4"/>
              <a:endCxn id="451" idx="0"/>
            </p:cNvCxnSpPr>
            <p:nvPr/>
          </p:nvCxnSpPr>
          <p:spPr>
            <a:xfrm flipH="1">
              <a:off x="4906440" y="4948200"/>
              <a:ext cx="27360" cy="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8" name=""/>
            <p:cNvCxnSpPr>
              <a:stCxn id="447" idx="5"/>
              <a:endCxn id="452" idx="1"/>
            </p:cNvCxnSpPr>
            <p:nvPr/>
          </p:nvCxnSpPr>
          <p:spPr>
            <a:xfrm>
              <a:off x="4984560" y="4935600"/>
              <a:ext cx="7344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59" name=""/>
          <p:cNvSpPr/>
          <p:nvPr/>
        </p:nvSpPr>
        <p:spPr>
          <a:xfrm>
            <a:off x="6156360" y="2708280"/>
            <a:ext cx="2592360" cy="1152360"/>
          </a:xfrm>
          <a:prstGeom prst="cloudCallout">
            <a:avLst>
              <a:gd name="adj1" fmla="val -63837"/>
              <a:gd name="adj2" fmla="val -48208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mporaire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ra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4510080"/>
            <a:ext cx="1981080" cy="1006560"/>
          </a:xfrm>
          <a:prstGeom prst="cloudCallout">
            <a:avLst>
              <a:gd name="adj1" fmla="val 47194"/>
              <a:gd name="adj2" fmla="val 40379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er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40360" y="2278080"/>
            <a:ext cx="1295280" cy="4302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SDL/C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08720" y="1336680"/>
            <a:ext cx="1513080" cy="79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énér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1"/>
            <a:endCxn id="437" idx="3"/>
          </p:cNvCxnSpPr>
          <p:nvPr/>
        </p:nvCxnSpPr>
        <p:spPr>
          <a:xfrm flipH="1">
            <a:off x="5077800" y="1733040"/>
            <a:ext cx="2230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5701680" y="1336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structure des générateurs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OMG IDL – PSDL - CID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84360" y="1846440"/>
            <a:ext cx="4392720" cy="352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én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462800" y="4221000"/>
            <a:ext cx="1572840" cy="934560"/>
            <a:chOff x="7462800" y="4221000"/>
            <a:chExt cx="1572840" cy="934560"/>
          </a:xfrm>
        </p:grpSpPr>
        <p:sp>
          <p:nvSpPr>
            <p:cNvPr id="468" name=""/>
            <p:cNvSpPr/>
            <p:nvPr/>
          </p:nvSpPr>
          <p:spPr>
            <a:xfrm flipV="1">
              <a:off x="7920720" y="4221000"/>
              <a:ext cx="1114920" cy="801360"/>
            </a:xfrm>
            <a:prstGeom prst="foldedCorner">
              <a:avLst>
                <a:gd name="adj" fmla="val 2591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692120" y="4288320"/>
              <a:ext cx="1113840" cy="801720"/>
            </a:xfrm>
            <a:prstGeom prst="foldedCorner">
              <a:avLst>
                <a:gd name="adj" fmla="val 2591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462800" y="4352040"/>
              <a:ext cx="1114920" cy="803160"/>
            </a:xfrm>
            <a:prstGeom prst="foldedCorner">
              <a:avLst>
                <a:gd name="adj" fmla="val 2591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génér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924360" y="4230360"/>
            <a:ext cx="1647720" cy="1118520"/>
          </a:xfrm>
          <a:prstGeom prst="hexagon">
            <a:avLst>
              <a:gd name="adj" fmla="val 36828"/>
              <a:gd name="vf" fmla="val 115470"/>
            </a:avLst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2637000"/>
            <a:ext cx="1008000" cy="100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2663400">
            <a:off x="3492000" y="3790800"/>
            <a:ext cx="785880" cy="646200"/>
          </a:xfrm>
          <a:prstGeom prst="rightArrow">
            <a:avLst>
              <a:gd name="adj1" fmla="val 50000"/>
              <a:gd name="adj2" fmla="val 304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4920" y="2925720"/>
            <a:ext cx="1944720" cy="2016000"/>
            <a:chOff x="34920" y="2925720"/>
            <a:chExt cx="1944720" cy="2016000"/>
          </a:xfrm>
        </p:grpSpPr>
        <p:sp>
          <p:nvSpPr>
            <p:cNvPr id="475" name=""/>
            <p:cNvSpPr/>
            <p:nvPr/>
          </p:nvSpPr>
          <p:spPr>
            <a:xfrm>
              <a:off x="34920" y="2925720"/>
              <a:ext cx="1944720" cy="201600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9400" y="40939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507960" y="3450960"/>
              <a:ext cx="999720" cy="570960"/>
              <a:chOff x="507960" y="3450960"/>
              <a:chExt cx="999720" cy="570960"/>
            </a:xfrm>
          </p:grpSpPr>
          <p:sp>
            <p:nvSpPr>
              <p:cNvPr id="478" name=""/>
              <p:cNvSpPr/>
              <p:nvPr/>
            </p:nvSpPr>
            <p:spPr>
              <a:xfrm>
                <a:off x="891360" y="345096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82520" y="3664440"/>
                <a:ext cx="19188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99840" y="3665880"/>
                <a:ext cx="1911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4160" y="387936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7960" y="3879360"/>
                <a:ext cx="19188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46880" y="3879360"/>
                <a:ext cx="19188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16520" y="387792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5" name=""/>
              <p:cNvCxnSpPr>
                <a:stCxn id="478" idx="3"/>
                <a:endCxn id="480" idx="7"/>
              </p:cNvCxnSpPr>
              <p:nvPr/>
            </p:nvCxnSpPr>
            <p:spPr>
              <a:xfrm flipH="1">
                <a:off x="863280" y="3573360"/>
                <a:ext cx="55080" cy="11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6" name=""/>
              <p:cNvCxnSpPr>
                <a:stCxn id="480" idx="3"/>
                <a:endCxn id="482" idx="7"/>
              </p:cNvCxnSpPr>
              <p:nvPr/>
            </p:nvCxnSpPr>
            <p:spPr>
              <a:xfrm flipH="1">
                <a:off x="671760" y="3787920"/>
                <a:ext cx="5544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7" name=""/>
              <p:cNvCxnSpPr>
                <a:stCxn id="480" idx="5"/>
                <a:endCxn id="481" idx="0"/>
              </p:cNvCxnSpPr>
              <p:nvPr/>
            </p:nvCxnSpPr>
            <p:spPr>
              <a:xfrm>
                <a:off x="863640" y="3787920"/>
                <a:ext cx="27720" cy="9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8" name=""/>
              <p:cNvCxnSpPr>
                <a:stCxn id="478" idx="5"/>
                <a:endCxn id="479" idx="1"/>
              </p:cNvCxnSpPr>
              <p:nvPr/>
            </p:nvCxnSpPr>
            <p:spPr>
              <a:xfrm>
                <a:off x="1055520" y="3573000"/>
                <a:ext cx="5544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9" name=""/>
              <p:cNvCxnSpPr>
                <a:stCxn id="479" idx="4"/>
                <a:endCxn id="483" idx="0"/>
              </p:cNvCxnSpPr>
              <p:nvPr/>
            </p:nvCxnSpPr>
            <p:spPr>
              <a:xfrm flipH="1">
                <a:off x="1143000" y="3807000"/>
                <a:ext cx="36360" cy="7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0" name=""/>
              <p:cNvCxnSpPr>
                <a:stCxn id="479" idx="5"/>
                <a:endCxn id="484" idx="1"/>
              </p:cNvCxnSpPr>
              <p:nvPr/>
            </p:nvCxnSpPr>
            <p:spPr>
              <a:xfrm>
                <a:off x="1246680" y="3786480"/>
                <a:ext cx="9756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91" name=""/>
            <p:cNvSpPr/>
            <p:nvPr/>
          </p:nvSpPr>
          <p:spPr>
            <a:xfrm>
              <a:off x="727200" y="2962440"/>
              <a:ext cx="561600" cy="3682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2560" y="4425840"/>
              <a:ext cx="649440" cy="504360"/>
            </a:xfrm>
            <a:prstGeom prst="can">
              <a:avLst>
                <a:gd name="adj" fmla="val 25000"/>
              </a:avLst>
            </a:prstGeom>
            <a:solidFill>
              <a:srgbClr val="66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R 3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771640" y="2637000"/>
            <a:ext cx="1008360" cy="100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rot="10800000">
            <a:off x="5794920" y="4294080"/>
            <a:ext cx="1655640" cy="719280"/>
          </a:xfrm>
          <a:prstGeom prst="rightArrow">
            <a:avLst>
              <a:gd name="adj1" fmla="val 50000"/>
              <a:gd name="adj2" fmla="val 575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 rot="18936600">
            <a:off x="5219280" y="3790800"/>
            <a:ext cx="785880" cy="646200"/>
          </a:xfrm>
          <a:prstGeom prst="rightArrow">
            <a:avLst>
              <a:gd name="adj1" fmla="val 50000"/>
              <a:gd name="adj2" fmla="val 304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1330200" y="2781000"/>
            <a:ext cx="1441440" cy="71892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 rot="10840200">
            <a:off x="4287600" y="2819520"/>
            <a:ext cx="785520" cy="645840"/>
          </a:xfrm>
          <a:prstGeom prst="rightArrow">
            <a:avLst>
              <a:gd name="adj1" fmla="val 50000"/>
              <a:gd name="adj2" fmla="val 30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objectifs du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rojet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381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evenir la 1ière implantation de référence du 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uverture complète du modèle de composants CORBA 3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ation, contribution et évolution de la spécification OM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2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ournir une plate-forme CCM ouvert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iel libre et indépendance vis-à-vis ORB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lexible, extensible et adaptable pour faire du CCM++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2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ffrir un terrain d’expérimentation en R&amp;D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jets INRIA Sardes, Paris, Jacquard,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ena Kansas University,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2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ogiciel libre LGPL - consortium ObjectWeb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http://openccm.objectweb.org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structure des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générateurs de code Jav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30880" y="4870080"/>
            <a:ext cx="1285920" cy="790560"/>
            <a:chOff x="7130880" y="4870080"/>
            <a:chExt cx="1285920" cy="790560"/>
          </a:xfrm>
        </p:grpSpPr>
        <p:sp>
          <p:nvSpPr>
            <p:cNvPr id="500" name=""/>
            <p:cNvSpPr/>
            <p:nvPr/>
          </p:nvSpPr>
          <p:spPr>
            <a:xfrm flipV="1">
              <a:off x="7505280" y="4869720"/>
              <a:ext cx="911520" cy="677160"/>
            </a:xfrm>
            <a:prstGeom prst="foldedCorner">
              <a:avLst>
                <a:gd name="adj" fmla="val 2591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18440" y="4928040"/>
              <a:ext cx="910440" cy="677520"/>
            </a:xfrm>
            <a:prstGeom prst="foldedCorner">
              <a:avLst>
                <a:gd name="adj" fmla="val 2591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130880" y="4981680"/>
              <a:ext cx="911160" cy="678960"/>
            </a:xfrm>
            <a:prstGeom prst="foldedCorner">
              <a:avLst>
                <a:gd name="adj" fmla="val 2591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géné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4920" y="2279520"/>
            <a:ext cx="1944720" cy="2016360"/>
            <a:chOff x="34920" y="2279520"/>
            <a:chExt cx="1944720" cy="2016360"/>
          </a:xfrm>
        </p:grpSpPr>
        <p:sp>
          <p:nvSpPr>
            <p:cNvPr id="504" name=""/>
            <p:cNvSpPr/>
            <p:nvPr/>
          </p:nvSpPr>
          <p:spPr>
            <a:xfrm>
              <a:off x="34920" y="2279520"/>
              <a:ext cx="1944720" cy="201636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9400" y="34480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507960" y="2805120"/>
              <a:ext cx="999720" cy="571320"/>
              <a:chOff x="507960" y="2805120"/>
              <a:chExt cx="999720" cy="571320"/>
            </a:xfrm>
          </p:grpSpPr>
          <p:sp>
            <p:nvSpPr>
              <p:cNvPr id="507" name=""/>
              <p:cNvSpPr/>
              <p:nvPr/>
            </p:nvSpPr>
            <p:spPr>
              <a:xfrm>
                <a:off x="891360" y="280512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82520" y="3018600"/>
                <a:ext cx="19188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840" y="3020040"/>
                <a:ext cx="1911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94160" y="323388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07960" y="3233880"/>
                <a:ext cx="19188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46880" y="3233880"/>
                <a:ext cx="19188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16520" y="323244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14" name=""/>
              <p:cNvCxnSpPr>
                <a:stCxn id="507" idx="3"/>
                <a:endCxn id="509" idx="7"/>
              </p:cNvCxnSpPr>
              <p:nvPr/>
            </p:nvCxnSpPr>
            <p:spPr>
              <a:xfrm flipH="1">
                <a:off x="863280" y="2927520"/>
                <a:ext cx="55080" cy="11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5" name=""/>
              <p:cNvCxnSpPr>
                <a:stCxn id="509" idx="3"/>
                <a:endCxn id="511" idx="7"/>
              </p:cNvCxnSpPr>
              <p:nvPr/>
            </p:nvCxnSpPr>
            <p:spPr>
              <a:xfrm flipH="1">
                <a:off x="671760" y="3142080"/>
                <a:ext cx="5544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6" name=""/>
              <p:cNvCxnSpPr>
                <a:stCxn id="509" idx="5"/>
                <a:endCxn id="510" idx="0"/>
              </p:cNvCxnSpPr>
              <p:nvPr/>
            </p:nvCxnSpPr>
            <p:spPr>
              <a:xfrm>
                <a:off x="863640" y="3142080"/>
                <a:ext cx="27720" cy="9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7" name=""/>
              <p:cNvCxnSpPr>
                <a:stCxn id="507" idx="5"/>
                <a:endCxn id="508" idx="1"/>
              </p:cNvCxnSpPr>
              <p:nvPr/>
            </p:nvCxnSpPr>
            <p:spPr>
              <a:xfrm>
                <a:off x="1055520" y="2927160"/>
                <a:ext cx="5544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8" name=""/>
              <p:cNvCxnSpPr>
                <a:stCxn id="508" idx="4"/>
                <a:endCxn id="512" idx="0"/>
              </p:cNvCxnSpPr>
              <p:nvPr/>
            </p:nvCxnSpPr>
            <p:spPr>
              <a:xfrm flipH="1">
                <a:off x="1143000" y="3161520"/>
                <a:ext cx="36360" cy="7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9" name=""/>
              <p:cNvCxnSpPr>
                <a:stCxn id="508" idx="5"/>
                <a:endCxn id="513" idx="1"/>
              </p:cNvCxnSpPr>
              <p:nvPr/>
            </p:nvCxnSpPr>
            <p:spPr>
              <a:xfrm>
                <a:off x="1246680" y="3141000"/>
                <a:ext cx="9756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20" name=""/>
            <p:cNvSpPr/>
            <p:nvPr/>
          </p:nvSpPr>
          <p:spPr>
            <a:xfrm>
              <a:off x="727200" y="2316960"/>
              <a:ext cx="561600" cy="3682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2560" y="3780000"/>
              <a:ext cx="649440" cy="504720"/>
            </a:xfrm>
            <a:prstGeom prst="can">
              <a:avLst>
                <a:gd name="adj" fmla="val 25000"/>
              </a:avLst>
            </a:prstGeom>
            <a:solidFill>
              <a:srgbClr val="66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R 3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rot="10800000">
            <a:off x="1330200" y="2171520"/>
            <a:ext cx="1154160" cy="718920"/>
          </a:xfrm>
          <a:prstGeom prst="rightArrow">
            <a:avLst>
              <a:gd name="adj1" fmla="val 50000"/>
              <a:gd name="adj2" fmla="val 401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rot="16200000">
            <a:off x="7353360" y="4141800"/>
            <a:ext cx="839520" cy="426960"/>
          </a:xfrm>
          <a:prstGeom prst="rightArrow">
            <a:avLst>
              <a:gd name="adj1" fmla="val 50000"/>
              <a:gd name="adj2" fmla="val 49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659640" y="1487520"/>
            <a:ext cx="2227320" cy="2394360"/>
            <a:chOff x="6659640" y="1487520"/>
            <a:chExt cx="2227320" cy="2394360"/>
          </a:xfrm>
        </p:grpSpPr>
        <p:sp>
          <p:nvSpPr>
            <p:cNvPr id="525" name=""/>
            <p:cNvSpPr/>
            <p:nvPr/>
          </p:nvSpPr>
          <p:spPr>
            <a:xfrm>
              <a:off x="6659640" y="1487520"/>
              <a:ext cx="2227320" cy="2376360"/>
            </a:xfrm>
            <a:custGeom>
              <a:avLst/>
              <a:gdLst>
                <a:gd name="textAreaLeft" fmla="*/ 108720 w 2227320"/>
                <a:gd name="textAreaRight" fmla="*/ 2118600 w 2227320"/>
                <a:gd name="textAreaTop" fmla="*/ 108720 h 2376360"/>
                <a:gd name="textAreaBottom" fmla="*/ 2267640 h 2376360"/>
              </a:gdLst>
              <a:ahLst/>
              <a:rect l="textAreaLeft" t="textAreaTop" r="textAreaRight" b="textAreaBottom"/>
              <a:pathLst>
                <a:path w="21600" h="23045">
                  <a:moveTo>
                    <a:pt x="3600" y="0"/>
                  </a:moveTo>
                  <a:arcTo wR="3600" hR="3600" stAng="16200000" swAng="-5400000"/>
                  <a:lnTo>
                    <a:pt x="0" y="19445"/>
                  </a:lnTo>
                  <a:arcTo wR="3600" hR="3600" stAng="10800000" swAng="-5400000"/>
                  <a:lnTo>
                    <a:pt x="18000" y="230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Générateur 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78760" y="3152160"/>
              <a:ext cx="1203480" cy="729720"/>
            </a:xfrm>
            <a:prstGeom prst="hexagon">
              <a:avLst>
                <a:gd name="adj" fmla="val 41231"/>
                <a:gd name="vf" fmla="val 115470"/>
              </a:avLst>
            </a:prstGeom>
            <a:solidFill>
              <a:srgbClr val="c0c0c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eloc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29600" y="2243160"/>
              <a:ext cx="511200" cy="596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Veloc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663400">
              <a:off x="7170480" y="2968560"/>
              <a:ext cx="398520" cy="382680"/>
            </a:xfrm>
            <a:prstGeom prst="rightArrow">
              <a:avLst>
                <a:gd name="adj1" fmla="val 50000"/>
                <a:gd name="adj2" fmla="val 260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5800" y="2243160"/>
              <a:ext cx="511200" cy="596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 rot="18936600">
              <a:off x="8046720" y="2927160"/>
              <a:ext cx="398520" cy="38304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 rot="10840200">
              <a:off x="7608240" y="2370960"/>
              <a:ext cx="398520" cy="382680"/>
            </a:xfrm>
            <a:prstGeom prst="rightArrow">
              <a:avLst>
                <a:gd name="adj1" fmla="val 50000"/>
                <a:gd name="adj2" fmla="val 260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282920" y="2279520"/>
            <a:ext cx="1944720" cy="2016000"/>
            <a:chOff x="4282920" y="2279520"/>
            <a:chExt cx="1944720" cy="2016000"/>
          </a:xfrm>
        </p:grpSpPr>
        <p:sp>
          <p:nvSpPr>
            <p:cNvPr id="533" name=""/>
            <p:cNvSpPr/>
            <p:nvPr/>
          </p:nvSpPr>
          <p:spPr>
            <a:xfrm>
              <a:off x="4282920" y="2279520"/>
              <a:ext cx="1944720" cy="201600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72720" y="3447720"/>
              <a:ext cx="13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Référenti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4755960" y="2804760"/>
              <a:ext cx="999720" cy="571320"/>
              <a:chOff x="4755960" y="2804760"/>
              <a:chExt cx="999720" cy="571320"/>
            </a:xfrm>
          </p:grpSpPr>
          <p:sp>
            <p:nvSpPr>
              <p:cNvPr id="536" name=""/>
              <p:cNvSpPr/>
              <p:nvPr/>
            </p:nvSpPr>
            <p:spPr>
              <a:xfrm>
                <a:off x="5139000" y="280476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30520" y="3018240"/>
                <a:ext cx="19152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947480" y="3019680"/>
                <a:ext cx="1911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2160" y="323352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55960" y="3233520"/>
                <a:ext cx="19152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94520" y="3233520"/>
                <a:ext cx="19152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64520" y="323208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43" name=""/>
              <p:cNvCxnSpPr>
                <a:stCxn id="536" idx="3"/>
                <a:endCxn id="538" idx="7"/>
              </p:cNvCxnSpPr>
              <p:nvPr/>
            </p:nvCxnSpPr>
            <p:spPr>
              <a:xfrm flipH="1">
                <a:off x="5111280" y="2927160"/>
                <a:ext cx="55080" cy="11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4" name=""/>
              <p:cNvCxnSpPr>
                <a:stCxn id="538" idx="3"/>
                <a:endCxn id="540" idx="7"/>
              </p:cNvCxnSpPr>
              <p:nvPr/>
            </p:nvCxnSpPr>
            <p:spPr>
              <a:xfrm flipH="1">
                <a:off x="4919760" y="3141720"/>
                <a:ext cx="5544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5" name=""/>
              <p:cNvCxnSpPr>
                <a:stCxn id="538" idx="5"/>
                <a:endCxn id="539" idx="0"/>
              </p:cNvCxnSpPr>
              <p:nvPr/>
            </p:nvCxnSpPr>
            <p:spPr>
              <a:xfrm>
                <a:off x="5111640" y="3141720"/>
                <a:ext cx="27720" cy="9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6" name=""/>
              <p:cNvCxnSpPr>
                <a:stCxn id="536" idx="5"/>
                <a:endCxn id="537" idx="1"/>
              </p:cNvCxnSpPr>
              <p:nvPr/>
            </p:nvCxnSpPr>
            <p:spPr>
              <a:xfrm>
                <a:off x="5303160" y="2926800"/>
                <a:ext cx="5544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7" name=""/>
              <p:cNvCxnSpPr>
                <a:stCxn id="537" idx="4"/>
                <a:endCxn id="541" idx="0"/>
              </p:cNvCxnSpPr>
              <p:nvPr/>
            </p:nvCxnSpPr>
            <p:spPr>
              <a:xfrm flipH="1">
                <a:off x="5391000" y="3161160"/>
                <a:ext cx="36360" cy="7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8" name=""/>
              <p:cNvCxnSpPr>
                <a:stCxn id="537" idx="5"/>
                <a:endCxn id="542" idx="1"/>
              </p:cNvCxnSpPr>
              <p:nvPr/>
            </p:nvCxnSpPr>
            <p:spPr>
              <a:xfrm>
                <a:off x="5494320" y="3140640"/>
                <a:ext cx="9756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49" name=""/>
            <p:cNvSpPr/>
            <p:nvPr/>
          </p:nvSpPr>
          <p:spPr>
            <a:xfrm>
              <a:off x="4975200" y="2316600"/>
              <a:ext cx="561600" cy="3682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 rot="10800000">
            <a:off x="5579640" y="2171520"/>
            <a:ext cx="1079640" cy="718920"/>
          </a:xfrm>
          <a:prstGeom prst="rightArrow">
            <a:avLst>
              <a:gd name="adj1" fmla="val 50000"/>
              <a:gd name="adj2" fmla="val 375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56000" y="1990800"/>
            <a:ext cx="1008000" cy="1081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00000">
            <a:off x="3705120" y="2171520"/>
            <a:ext cx="1154160" cy="718920"/>
          </a:xfrm>
          <a:prstGeom prst="rightArrow">
            <a:avLst>
              <a:gd name="adj1" fmla="val 50000"/>
              <a:gd name="adj2" fmla="val 401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é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77600" y="5950080"/>
            <a:ext cx="54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pliqué à CIDL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Java ; PSDL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Java ;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mpilation XMI UM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3933720"/>
            <a:ext cx="1440000" cy="1451160"/>
          </a:xfrm>
          <a:prstGeom prst="can">
            <a:avLst>
              <a:gd name="adj" fmla="val 25000"/>
            </a:avLst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férentiel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413000"/>
            <a:ext cx="1871640" cy="936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èle UML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(en M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12720" y="4229280"/>
            <a:ext cx="1727280" cy="861840"/>
            <a:chOff x="612720" y="4229280"/>
            <a:chExt cx="1727280" cy="861840"/>
          </a:xfrm>
        </p:grpSpPr>
        <p:sp>
          <p:nvSpPr>
            <p:cNvPr id="558" name=""/>
            <p:cNvSpPr/>
            <p:nvPr/>
          </p:nvSpPr>
          <p:spPr>
            <a:xfrm>
              <a:off x="612720" y="4229280"/>
              <a:ext cx="1584360" cy="718920"/>
            </a:xfrm>
            <a:prstGeom prst="foldedCorner">
              <a:avLst>
                <a:gd name="adj" fmla="val 1250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XMI U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4000" y="4300560"/>
              <a:ext cx="1584360" cy="719280"/>
            </a:xfrm>
            <a:prstGeom prst="foldedCorner">
              <a:avLst>
                <a:gd name="adj" fmla="val 1250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XMI U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5640" y="4372200"/>
              <a:ext cx="1584360" cy="718920"/>
            </a:xfrm>
            <a:prstGeom prst="foldedCorner">
              <a:avLst>
                <a:gd name="adj" fmla="val 1250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XMI U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5940360" y="1557360"/>
            <a:ext cx="2176560" cy="723960"/>
          </a:xfrm>
          <a:prstGeom prst="hexagon">
            <a:avLst>
              <a:gd name="adj" fmla="val 75162"/>
              <a:gd name="vf" fmla="val 11547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F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06920" y="3213000"/>
            <a:ext cx="1512720" cy="792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mport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XMI 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06920" y="5589720"/>
            <a:ext cx="1512720" cy="79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ort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XMI 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"/>
          <p:cNvCxnSpPr>
            <a:stCxn id="558" idx="0"/>
            <a:endCxn id="556" idx="2"/>
          </p:cNvCxnSpPr>
          <p:nvPr/>
        </p:nvCxnSpPr>
        <p:spPr>
          <a:xfrm flipV="1">
            <a:off x="1404720" y="2349000"/>
            <a:ext cx="1080" cy="1880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"/>
          <p:cNvSpPr/>
          <p:nvPr/>
        </p:nvSpPr>
        <p:spPr>
          <a:xfrm flipH="1" rot="16200000">
            <a:off x="609840" y="29926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fo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84360" y="1601640"/>
            <a:ext cx="3382920" cy="649440"/>
          </a:xfrm>
          <a:prstGeom prst="rightArrow">
            <a:avLst>
              <a:gd name="adj1" fmla="val 50000"/>
              <a:gd name="adj2" fmla="val 13022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5400000">
            <a:off x="6455520" y="2840760"/>
            <a:ext cx="1344600" cy="504720"/>
          </a:xfrm>
          <a:prstGeom prst="rightArrow">
            <a:avLst>
              <a:gd name="adj1" fmla="val 50000"/>
              <a:gd name="adj2" fmla="val 666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r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8278200">
            <a:off x="4931640" y="2349000"/>
            <a:ext cx="1344600" cy="505080"/>
          </a:xfrm>
          <a:prstGeom prst="rightArrow">
            <a:avLst>
              <a:gd name="adj1" fmla="val 50000"/>
              <a:gd name="adj2" fmla="val 665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r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7357200">
            <a:off x="5627520" y="2684520"/>
            <a:ext cx="1272960" cy="504720"/>
          </a:xfrm>
          <a:prstGeom prst="rightArrow">
            <a:avLst>
              <a:gd name="adj1" fmla="val 50000"/>
              <a:gd name="adj2" fmla="val 630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r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0" idx="3"/>
            <a:endCxn id="562" idx="1"/>
          </p:cNvCxnSpPr>
          <p:nvPr/>
        </p:nvCxnSpPr>
        <p:spPr>
          <a:xfrm flipV="1">
            <a:off x="2339640" y="3609360"/>
            <a:ext cx="136764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2" idx="3"/>
            <a:endCxn id="555" idx="2"/>
          </p:cNvCxnSpPr>
          <p:nvPr/>
        </p:nvCxnSpPr>
        <p:spPr>
          <a:xfrm>
            <a:off x="5219640" y="3609720"/>
            <a:ext cx="1224720" cy="1050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55" idx="2"/>
            <a:endCxn id="563" idx="3"/>
          </p:cNvCxnSpPr>
          <p:nvPr/>
        </p:nvCxnSpPr>
        <p:spPr>
          <a:xfrm flipH="1">
            <a:off x="5219280" y="4659480"/>
            <a:ext cx="1224720" cy="1327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3" idx="1"/>
            <a:endCxn id="560" idx="3"/>
          </p:cNvCxnSpPr>
          <p:nvPr/>
        </p:nvCxnSpPr>
        <p:spPr>
          <a:xfrm flipH="1" flipV="1">
            <a:off x="2339280" y="4731840"/>
            <a:ext cx="1367640" cy="12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4" name=""/>
          <p:cNvGrpSpPr/>
          <p:nvPr/>
        </p:nvGrpSpPr>
        <p:grpSpPr>
          <a:xfrm>
            <a:off x="6804000" y="4005360"/>
            <a:ext cx="754200" cy="361800"/>
            <a:chOff x="6804000" y="4005360"/>
            <a:chExt cx="754200" cy="361800"/>
          </a:xfrm>
        </p:grpSpPr>
        <p:sp>
          <p:nvSpPr>
            <p:cNvPr id="575" name=""/>
            <p:cNvSpPr/>
            <p:nvPr/>
          </p:nvSpPr>
          <p:spPr>
            <a:xfrm>
              <a:off x="7093080" y="400536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7440" y="4140360"/>
              <a:ext cx="14472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48720" y="414144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20000" y="427680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04000" y="4276800"/>
              <a:ext cx="14472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10440" y="4276800"/>
              <a:ext cx="14472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13840" y="427572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>
              <a:stCxn id="575" idx="3"/>
              <a:endCxn id="577" idx="7"/>
            </p:cNvCxnSpPr>
            <p:nvPr/>
          </p:nvCxnSpPr>
          <p:spPr>
            <a:xfrm flipH="1">
              <a:off x="7072200" y="4082400"/>
              <a:ext cx="4176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3" name=""/>
            <p:cNvCxnSpPr>
              <a:stCxn id="577" idx="3"/>
              <a:endCxn id="579" idx="7"/>
            </p:cNvCxnSpPr>
            <p:nvPr/>
          </p:nvCxnSpPr>
          <p:spPr>
            <a:xfrm flipH="1">
              <a:off x="6927480" y="421884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4" name=""/>
            <p:cNvCxnSpPr>
              <a:stCxn id="577" idx="5"/>
              <a:endCxn id="578" idx="0"/>
            </p:cNvCxnSpPr>
            <p:nvPr/>
          </p:nvCxnSpPr>
          <p:spPr>
            <a:xfrm>
              <a:off x="7072200" y="4218840"/>
              <a:ext cx="20880" cy="5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5" name=""/>
            <p:cNvCxnSpPr>
              <a:stCxn id="575" idx="5"/>
              <a:endCxn id="576" idx="1"/>
            </p:cNvCxnSpPr>
            <p:nvPr/>
          </p:nvCxnSpPr>
          <p:spPr>
            <a:xfrm>
              <a:off x="7216560" y="408276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6" name=""/>
            <p:cNvCxnSpPr>
              <a:stCxn id="576" idx="4"/>
              <a:endCxn id="580" idx="0"/>
            </p:cNvCxnSpPr>
            <p:nvPr/>
          </p:nvCxnSpPr>
          <p:spPr>
            <a:xfrm flipH="1">
              <a:off x="7282800" y="4230720"/>
              <a:ext cx="27720" cy="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7" name=""/>
            <p:cNvCxnSpPr>
              <a:stCxn id="576" idx="5"/>
              <a:endCxn id="581" idx="1"/>
            </p:cNvCxnSpPr>
            <p:nvPr/>
          </p:nvCxnSpPr>
          <p:spPr>
            <a:xfrm>
              <a:off x="7360920" y="4218120"/>
              <a:ext cx="7380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mpilation XMI UM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2193840"/>
            <a:ext cx="1150920" cy="1451160"/>
          </a:xfrm>
          <a:prstGeom prst="can">
            <a:avLst>
              <a:gd name="adj" fmla="val 25000"/>
            </a:avLst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férentiel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81080" y="2422440"/>
            <a:ext cx="1726560" cy="861840"/>
            <a:chOff x="181080" y="2422440"/>
            <a:chExt cx="1726560" cy="861840"/>
          </a:xfrm>
        </p:grpSpPr>
        <p:sp>
          <p:nvSpPr>
            <p:cNvPr id="591" name=""/>
            <p:cNvSpPr/>
            <p:nvPr/>
          </p:nvSpPr>
          <p:spPr>
            <a:xfrm>
              <a:off x="181080" y="2422440"/>
              <a:ext cx="1584000" cy="718920"/>
            </a:xfrm>
            <a:prstGeom prst="foldedCorner">
              <a:avLst>
                <a:gd name="adj" fmla="val 1250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XMI U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000" y="2493720"/>
              <a:ext cx="1584000" cy="719280"/>
            </a:xfrm>
            <a:prstGeom prst="foldedCorner">
              <a:avLst>
                <a:gd name="adj" fmla="val 1250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XMI U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3640" y="2565360"/>
              <a:ext cx="1584000" cy="718920"/>
            </a:xfrm>
            <a:prstGeom prst="foldedCorner">
              <a:avLst>
                <a:gd name="adj" fmla="val 1250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XMI U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1979640" y="2131920"/>
            <a:ext cx="1224000" cy="792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mport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MI 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2995560"/>
            <a:ext cx="1224000" cy="792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ort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MI 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stCxn id="593" idx="3"/>
            <a:endCxn id="594" idx="1"/>
          </p:cNvCxnSpPr>
          <p:nvPr/>
        </p:nvCxnSpPr>
        <p:spPr>
          <a:xfrm flipV="1">
            <a:off x="1907640" y="2528640"/>
            <a:ext cx="723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594" idx="3"/>
            <a:endCxn id="589" idx="2"/>
          </p:cNvCxnSpPr>
          <p:nvPr/>
        </p:nvCxnSpPr>
        <p:spPr>
          <a:xfrm>
            <a:off x="3203280" y="2529000"/>
            <a:ext cx="73800" cy="390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89" idx="2"/>
            <a:endCxn id="595" idx="3"/>
          </p:cNvCxnSpPr>
          <p:nvPr/>
        </p:nvCxnSpPr>
        <p:spPr>
          <a:xfrm flipH="1">
            <a:off x="3202920" y="2918880"/>
            <a:ext cx="73800" cy="474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95" idx="1"/>
            <a:endCxn id="593" idx="3"/>
          </p:cNvCxnSpPr>
          <p:nvPr/>
        </p:nvCxnSpPr>
        <p:spPr>
          <a:xfrm flipH="1" flipV="1">
            <a:off x="1907280" y="2925000"/>
            <a:ext cx="72360" cy="467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00" name=""/>
          <p:cNvGrpSpPr/>
          <p:nvPr/>
        </p:nvGrpSpPr>
        <p:grpSpPr>
          <a:xfrm>
            <a:off x="7093080" y="1916280"/>
            <a:ext cx="1944720" cy="2016000"/>
            <a:chOff x="7093080" y="1916280"/>
            <a:chExt cx="1944720" cy="2016000"/>
          </a:xfrm>
        </p:grpSpPr>
        <p:sp>
          <p:nvSpPr>
            <p:cNvPr id="601" name=""/>
            <p:cNvSpPr/>
            <p:nvPr/>
          </p:nvSpPr>
          <p:spPr>
            <a:xfrm>
              <a:off x="7093080" y="1916280"/>
              <a:ext cx="1944720" cy="2016000"/>
            </a:xfrm>
            <a:prstGeom prst="triangle">
              <a:avLst>
                <a:gd name="adj" fmla="val 50000"/>
              </a:avLst>
            </a:prstGeom>
            <a:solidFill>
              <a:srgbClr val="66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47560" y="3084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7566120" y="2441520"/>
              <a:ext cx="999720" cy="570960"/>
              <a:chOff x="7566120" y="2441520"/>
              <a:chExt cx="999720" cy="570960"/>
            </a:xfrm>
          </p:grpSpPr>
          <p:sp>
            <p:nvSpPr>
              <p:cNvPr id="604" name=""/>
              <p:cNvSpPr/>
              <p:nvPr/>
            </p:nvSpPr>
            <p:spPr>
              <a:xfrm>
                <a:off x="7949520" y="244152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140680" y="2655000"/>
                <a:ext cx="19188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58000" y="2656440"/>
                <a:ext cx="1911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2320" y="286992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566120" y="2869920"/>
                <a:ext cx="19188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105040" y="2869920"/>
                <a:ext cx="19188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374680" y="2868480"/>
                <a:ext cx="191160" cy="142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11" name=""/>
              <p:cNvCxnSpPr>
                <a:stCxn id="604" idx="3"/>
                <a:endCxn id="606" idx="7"/>
              </p:cNvCxnSpPr>
              <p:nvPr/>
            </p:nvCxnSpPr>
            <p:spPr>
              <a:xfrm flipH="1">
                <a:off x="7921440" y="2563920"/>
                <a:ext cx="55080" cy="11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2" name=""/>
              <p:cNvCxnSpPr>
                <a:stCxn id="606" idx="3"/>
                <a:endCxn id="608" idx="7"/>
              </p:cNvCxnSpPr>
              <p:nvPr/>
            </p:nvCxnSpPr>
            <p:spPr>
              <a:xfrm flipH="1">
                <a:off x="7729920" y="2778480"/>
                <a:ext cx="5544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3" name=""/>
              <p:cNvCxnSpPr>
                <a:stCxn id="606" idx="5"/>
                <a:endCxn id="607" idx="0"/>
              </p:cNvCxnSpPr>
              <p:nvPr/>
            </p:nvCxnSpPr>
            <p:spPr>
              <a:xfrm>
                <a:off x="7921800" y="2778480"/>
                <a:ext cx="27720" cy="9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4" name=""/>
              <p:cNvCxnSpPr>
                <a:stCxn id="604" idx="5"/>
                <a:endCxn id="605" idx="1"/>
              </p:cNvCxnSpPr>
              <p:nvPr/>
            </p:nvCxnSpPr>
            <p:spPr>
              <a:xfrm>
                <a:off x="8113680" y="2563560"/>
                <a:ext cx="5544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5" name=""/>
              <p:cNvCxnSpPr>
                <a:stCxn id="605" idx="4"/>
                <a:endCxn id="609" idx="0"/>
              </p:cNvCxnSpPr>
              <p:nvPr/>
            </p:nvCxnSpPr>
            <p:spPr>
              <a:xfrm flipH="1">
                <a:off x="8201160" y="2797560"/>
                <a:ext cx="36360" cy="7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6" name=""/>
              <p:cNvCxnSpPr>
                <a:stCxn id="605" idx="5"/>
                <a:endCxn id="610" idx="1"/>
              </p:cNvCxnSpPr>
              <p:nvPr/>
            </p:nvCxnSpPr>
            <p:spPr>
              <a:xfrm>
                <a:off x="8304840" y="2777040"/>
                <a:ext cx="97560" cy="11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17" name=""/>
            <p:cNvSpPr/>
            <p:nvPr/>
          </p:nvSpPr>
          <p:spPr>
            <a:xfrm>
              <a:off x="7785360" y="1953000"/>
              <a:ext cx="561600" cy="3682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740720" y="3416400"/>
              <a:ext cx="649440" cy="504360"/>
            </a:xfrm>
            <a:prstGeom prst="can">
              <a:avLst>
                <a:gd name="adj" fmla="val 25000"/>
              </a:avLst>
            </a:prstGeom>
            <a:solidFill>
              <a:srgbClr val="66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R 3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861800" y="1700640"/>
            <a:ext cx="1976040" cy="643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mport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OpenC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61800" y="3140640"/>
            <a:ext cx="1976040" cy="643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ort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OpenC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9" idx="1"/>
            <a:endCxn id="589" idx="4"/>
          </p:cNvCxnSpPr>
          <p:nvPr/>
        </p:nvCxnSpPr>
        <p:spPr>
          <a:xfrm flipH="1">
            <a:off x="4426920" y="2022120"/>
            <a:ext cx="432360" cy="897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9" idx="3"/>
            <a:endCxn id="601" idx="1"/>
          </p:cNvCxnSpPr>
          <p:nvPr/>
        </p:nvCxnSpPr>
        <p:spPr>
          <a:xfrm>
            <a:off x="6840000" y="2022120"/>
            <a:ext cx="739080" cy="90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20" idx="1"/>
            <a:endCxn id="589" idx="4"/>
          </p:cNvCxnSpPr>
          <p:nvPr/>
        </p:nvCxnSpPr>
        <p:spPr>
          <a:xfrm flipH="1" flipV="1">
            <a:off x="4426920" y="2918520"/>
            <a:ext cx="432360" cy="54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1" idx="1"/>
            <a:endCxn id="620" idx="3"/>
          </p:cNvCxnSpPr>
          <p:nvPr/>
        </p:nvCxnSpPr>
        <p:spPr>
          <a:xfrm flipH="1">
            <a:off x="6839640" y="2923920"/>
            <a:ext cx="739080" cy="53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4869000"/>
            <a:ext cx="838188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Application de l’approche MDA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mportateur et exportateur = transformations M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ujourd’hui codées manuell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main exprimées en MOF QVT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génération automatique ou interpré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3475080" y="2205000"/>
            <a:ext cx="754200" cy="361800"/>
            <a:chOff x="3475080" y="2205000"/>
            <a:chExt cx="754200" cy="361800"/>
          </a:xfrm>
        </p:grpSpPr>
        <p:sp>
          <p:nvSpPr>
            <p:cNvPr id="627" name=""/>
            <p:cNvSpPr/>
            <p:nvPr/>
          </p:nvSpPr>
          <p:spPr>
            <a:xfrm>
              <a:off x="3764160" y="220500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08520" y="2340360"/>
              <a:ext cx="14472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19800" y="2341080"/>
              <a:ext cx="144360" cy="90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91080" y="247644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75080" y="2476440"/>
              <a:ext cx="14472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1520" y="2476440"/>
              <a:ext cx="14472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84920" y="247572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4" name=""/>
            <p:cNvCxnSpPr>
              <a:stCxn id="627" idx="3"/>
              <a:endCxn id="629" idx="7"/>
            </p:cNvCxnSpPr>
            <p:nvPr/>
          </p:nvCxnSpPr>
          <p:spPr>
            <a:xfrm flipH="1">
              <a:off x="3743280" y="2282040"/>
              <a:ext cx="4176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5" name=""/>
            <p:cNvCxnSpPr>
              <a:stCxn id="629" idx="3"/>
              <a:endCxn id="631" idx="7"/>
            </p:cNvCxnSpPr>
            <p:nvPr/>
          </p:nvCxnSpPr>
          <p:spPr>
            <a:xfrm flipH="1">
              <a:off x="3598560" y="241884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6" name=""/>
            <p:cNvCxnSpPr>
              <a:stCxn id="629" idx="5"/>
              <a:endCxn id="630" idx="0"/>
            </p:cNvCxnSpPr>
            <p:nvPr/>
          </p:nvCxnSpPr>
          <p:spPr>
            <a:xfrm>
              <a:off x="3743280" y="2418840"/>
              <a:ext cx="20880" cy="5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7" name=""/>
            <p:cNvCxnSpPr>
              <a:stCxn id="627" idx="5"/>
              <a:endCxn id="628" idx="1"/>
            </p:cNvCxnSpPr>
            <p:nvPr/>
          </p:nvCxnSpPr>
          <p:spPr>
            <a:xfrm>
              <a:off x="3887640" y="228240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8" name=""/>
            <p:cNvCxnSpPr>
              <a:stCxn id="628" idx="4"/>
              <a:endCxn id="632" idx="0"/>
            </p:cNvCxnSpPr>
            <p:nvPr/>
          </p:nvCxnSpPr>
          <p:spPr>
            <a:xfrm flipH="1">
              <a:off x="3953880" y="2430360"/>
              <a:ext cx="27720" cy="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9" name=""/>
            <p:cNvCxnSpPr>
              <a:stCxn id="628" idx="5"/>
              <a:endCxn id="633" idx="1"/>
            </p:cNvCxnSpPr>
            <p:nvPr/>
          </p:nvCxnSpPr>
          <p:spPr>
            <a:xfrm>
              <a:off x="4032000" y="2417760"/>
              <a:ext cx="7380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e architectur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modulaire et extensi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746840" y="3932280"/>
            <a:ext cx="1370160" cy="863280"/>
            <a:chOff x="7746840" y="3932280"/>
            <a:chExt cx="1370160" cy="863280"/>
          </a:xfrm>
        </p:grpSpPr>
        <p:sp>
          <p:nvSpPr>
            <p:cNvPr id="642" name=""/>
            <p:cNvSpPr/>
            <p:nvPr/>
          </p:nvSpPr>
          <p:spPr>
            <a:xfrm flipV="1">
              <a:off x="7880400" y="3932280"/>
              <a:ext cx="1236600" cy="7977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808760" y="3975840"/>
              <a:ext cx="1236960" cy="7977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46840" y="3997800"/>
              <a:ext cx="1236960" cy="7977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 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scrip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1325520" y="1411200"/>
            <a:ext cx="6350040" cy="4942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764480" y="2970360"/>
            <a:ext cx="1352160" cy="672480"/>
            <a:chOff x="7764480" y="2970360"/>
            <a:chExt cx="1352160" cy="672480"/>
          </a:xfrm>
        </p:grpSpPr>
        <p:sp>
          <p:nvSpPr>
            <p:cNvPr id="647" name=""/>
            <p:cNvSpPr/>
            <p:nvPr/>
          </p:nvSpPr>
          <p:spPr>
            <a:xfrm flipV="1">
              <a:off x="7894080" y="2970360"/>
              <a:ext cx="1222560" cy="55368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825320" y="3017520"/>
              <a:ext cx="1222560" cy="55368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764480" y="3089160"/>
              <a:ext cx="1222560" cy="55368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teneu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628280" y="3572640"/>
            <a:ext cx="1680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DL/PSDL/C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604280" y="5011200"/>
            <a:ext cx="1576080" cy="660240"/>
            <a:chOff x="7604280" y="5011200"/>
            <a:chExt cx="1576080" cy="660240"/>
          </a:xfrm>
        </p:grpSpPr>
        <p:sp>
          <p:nvSpPr>
            <p:cNvPr id="652" name=""/>
            <p:cNvSpPr/>
            <p:nvPr/>
          </p:nvSpPr>
          <p:spPr>
            <a:xfrm flipV="1">
              <a:off x="7740720" y="5010840"/>
              <a:ext cx="1439640" cy="53964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667640" y="5082120"/>
              <a:ext cx="1440000" cy="53964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604280" y="5131440"/>
              <a:ext cx="1439640" cy="53964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Impla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691400" y="1299960"/>
            <a:ext cx="1425600" cy="471240"/>
            <a:chOff x="7691400" y="1299960"/>
            <a:chExt cx="1425600" cy="471240"/>
          </a:xfrm>
        </p:grpSpPr>
        <p:sp>
          <p:nvSpPr>
            <p:cNvPr id="656" name=""/>
            <p:cNvSpPr/>
            <p:nvPr/>
          </p:nvSpPr>
          <p:spPr>
            <a:xfrm flipV="1">
              <a:off x="7835760" y="1299600"/>
              <a:ext cx="1281240" cy="3762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764480" y="1339200"/>
              <a:ext cx="1281240" cy="3762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7691400" y="1394640"/>
              <a:ext cx="1281240" cy="3762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U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7812000" y="1987560"/>
            <a:ext cx="1305000" cy="712440"/>
            <a:chOff x="7812000" y="1987560"/>
            <a:chExt cx="1305000" cy="712440"/>
          </a:xfrm>
        </p:grpSpPr>
        <p:sp>
          <p:nvSpPr>
            <p:cNvPr id="660" name=""/>
            <p:cNvSpPr/>
            <p:nvPr/>
          </p:nvSpPr>
          <p:spPr>
            <a:xfrm flipV="1">
              <a:off x="7935840" y="1987560"/>
              <a:ext cx="1181160" cy="56376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7862760" y="2063160"/>
              <a:ext cx="1181160" cy="5634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812000" y="2136240"/>
              <a:ext cx="1181160" cy="5634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MG IDL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SDL/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587920" y="2352600"/>
            <a:ext cx="1838520" cy="628200"/>
            <a:chOff x="5587920" y="2352600"/>
            <a:chExt cx="1838520" cy="628200"/>
          </a:xfrm>
        </p:grpSpPr>
        <p:sp>
          <p:nvSpPr>
            <p:cNvPr id="664" name=""/>
            <p:cNvSpPr/>
            <p:nvPr/>
          </p:nvSpPr>
          <p:spPr>
            <a:xfrm>
              <a:off x="5632560" y="2388960"/>
              <a:ext cx="17938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DL/PSDL/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87920" y="2352600"/>
              <a:ext cx="17938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énérateu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DL/PSDL/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587920" y="3257640"/>
            <a:ext cx="1825560" cy="520560"/>
            <a:chOff x="5587920" y="3257640"/>
            <a:chExt cx="1825560" cy="520560"/>
          </a:xfrm>
        </p:grpSpPr>
        <p:sp>
          <p:nvSpPr>
            <p:cNvPr id="667" name=""/>
            <p:cNvSpPr/>
            <p:nvPr/>
          </p:nvSpPr>
          <p:spPr>
            <a:xfrm>
              <a:off x="5619600" y="3299040"/>
              <a:ext cx="1793880" cy="47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tubs/skelet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87920" y="3257640"/>
              <a:ext cx="1793880" cy="4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nteneu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587920" y="4148280"/>
            <a:ext cx="1825560" cy="566640"/>
            <a:chOff x="5587920" y="4148280"/>
            <a:chExt cx="1825560" cy="566640"/>
          </a:xfrm>
        </p:grpSpPr>
        <p:sp>
          <p:nvSpPr>
            <p:cNvPr id="670" name=""/>
            <p:cNvSpPr/>
            <p:nvPr/>
          </p:nvSpPr>
          <p:spPr>
            <a:xfrm>
              <a:off x="5619600" y="4189680"/>
              <a:ext cx="1793880" cy="5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XML C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87920" y="4148280"/>
              <a:ext cx="1793880" cy="52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XML C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5084640" y="1487520"/>
            <a:ext cx="1827000" cy="520560"/>
            <a:chOff x="5084640" y="1487520"/>
            <a:chExt cx="1827000" cy="520560"/>
          </a:xfrm>
        </p:grpSpPr>
        <p:sp>
          <p:nvSpPr>
            <p:cNvPr id="673" name=""/>
            <p:cNvSpPr/>
            <p:nvPr/>
          </p:nvSpPr>
          <p:spPr>
            <a:xfrm>
              <a:off x="5117760" y="1546200"/>
              <a:ext cx="179388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X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84640" y="1487520"/>
              <a:ext cx="179388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XMI U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521000" y="1900080"/>
            <a:ext cx="179388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XMI 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74520" y="1483920"/>
            <a:ext cx="1197000" cy="574920"/>
            <a:chOff x="74520" y="1483920"/>
            <a:chExt cx="1197000" cy="574920"/>
          </a:xfrm>
        </p:grpSpPr>
        <p:sp>
          <p:nvSpPr>
            <p:cNvPr id="677" name=""/>
            <p:cNvSpPr/>
            <p:nvPr/>
          </p:nvSpPr>
          <p:spPr>
            <a:xfrm flipV="1">
              <a:off x="169920" y="1483560"/>
              <a:ext cx="1101600" cy="49068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U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33560" y="1529640"/>
              <a:ext cx="1101600" cy="49068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U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74520" y="1568520"/>
              <a:ext cx="1101960" cy="49032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U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7240" y="3465360"/>
            <a:ext cx="1231920" cy="919080"/>
            <a:chOff x="57240" y="3465360"/>
            <a:chExt cx="1231920" cy="919080"/>
          </a:xfrm>
        </p:grpSpPr>
        <p:sp>
          <p:nvSpPr>
            <p:cNvPr id="681" name=""/>
            <p:cNvSpPr/>
            <p:nvPr/>
          </p:nvSpPr>
          <p:spPr>
            <a:xfrm flipV="1">
              <a:off x="181080" y="3465360"/>
              <a:ext cx="1108080" cy="77616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08000" y="3535200"/>
              <a:ext cx="1108080" cy="77616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57240" y="3608280"/>
              <a:ext cx="1108080" cy="77616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MG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DL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SDL/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90440" y="2417760"/>
            <a:ext cx="966960" cy="434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99000" y="2975040"/>
            <a:ext cx="1598400" cy="2016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éférent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enC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540560" y="5829120"/>
            <a:ext cx="1576440" cy="550800"/>
            <a:chOff x="7540560" y="5829120"/>
            <a:chExt cx="1576440" cy="550800"/>
          </a:xfrm>
        </p:grpSpPr>
        <p:sp>
          <p:nvSpPr>
            <p:cNvPr id="687" name=""/>
            <p:cNvSpPr/>
            <p:nvPr/>
          </p:nvSpPr>
          <p:spPr>
            <a:xfrm flipV="1">
              <a:off x="7677000" y="5828760"/>
              <a:ext cx="1440000" cy="43020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604280" y="5900040"/>
              <a:ext cx="1439640" cy="43020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540560" y="5949360"/>
              <a:ext cx="1440000" cy="43020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utres fichi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477040" y="5037120"/>
            <a:ext cx="1839240" cy="738360"/>
            <a:chOff x="5477040" y="5037120"/>
            <a:chExt cx="1839240" cy="738360"/>
          </a:xfrm>
        </p:grpSpPr>
        <p:sp>
          <p:nvSpPr>
            <p:cNvPr id="691" name=""/>
            <p:cNvSpPr/>
            <p:nvPr/>
          </p:nvSpPr>
          <p:spPr>
            <a:xfrm>
              <a:off x="5516280" y="5065920"/>
              <a:ext cx="1800000" cy="70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77040" y="5037120"/>
              <a:ext cx="18000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084640" y="5946840"/>
            <a:ext cx="1909800" cy="361800"/>
            <a:chOff x="5084640" y="5946840"/>
            <a:chExt cx="1909800" cy="361800"/>
          </a:xfrm>
        </p:grpSpPr>
        <p:sp>
          <p:nvSpPr>
            <p:cNvPr id="694" name=""/>
            <p:cNvSpPr/>
            <p:nvPr/>
          </p:nvSpPr>
          <p:spPr>
            <a:xfrm>
              <a:off x="5122800" y="5985000"/>
              <a:ext cx="1871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Other Gen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84640" y="5946840"/>
              <a:ext cx="187164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utres générateu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590840" y="5203800"/>
            <a:ext cx="1829880" cy="376200"/>
            <a:chOff x="1590840" y="5203800"/>
            <a:chExt cx="1829880" cy="376200"/>
          </a:xfrm>
        </p:grpSpPr>
        <p:sp>
          <p:nvSpPr>
            <p:cNvPr id="697" name=""/>
            <p:cNvSpPr/>
            <p:nvPr/>
          </p:nvSpPr>
          <p:spPr>
            <a:xfrm>
              <a:off x="1627200" y="5240160"/>
              <a:ext cx="1793520" cy="33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Other Front e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90840" y="5203800"/>
              <a:ext cx="1793520" cy="33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utres Front e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9840" y="5300280"/>
            <a:ext cx="1262160" cy="720360"/>
            <a:chOff x="69840" y="5300280"/>
            <a:chExt cx="1262160" cy="720360"/>
          </a:xfrm>
        </p:grpSpPr>
        <p:sp>
          <p:nvSpPr>
            <p:cNvPr id="700" name=""/>
            <p:cNvSpPr/>
            <p:nvPr/>
          </p:nvSpPr>
          <p:spPr>
            <a:xfrm flipV="1">
              <a:off x="88920" y="5299920"/>
              <a:ext cx="1243080" cy="58428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9840" y="5365440"/>
              <a:ext cx="1243080" cy="58428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69840" y="5436000"/>
              <a:ext cx="1243080" cy="58464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ut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o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3" name=""/>
          <p:cNvCxnSpPr>
            <a:stCxn id="674" idx="1"/>
            <a:endCxn id="685" idx="1"/>
          </p:cNvCxnSpPr>
          <p:nvPr/>
        </p:nvCxnSpPr>
        <p:spPr>
          <a:xfrm flipH="1">
            <a:off x="4498200" y="1719360"/>
            <a:ext cx="586440" cy="1256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04" name=""/>
          <p:cNvCxnSpPr>
            <a:stCxn id="675" idx="3"/>
            <a:endCxn id="685" idx="2"/>
          </p:cNvCxnSpPr>
          <p:nvPr/>
        </p:nvCxnSpPr>
        <p:spPr>
          <a:xfrm>
            <a:off x="3314520" y="2124000"/>
            <a:ext cx="384840" cy="1859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50" idx="3"/>
            <a:endCxn id="685" idx="2"/>
          </p:cNvCxnSpPr>
          <p:nvPr/>
        </p:nvCxnSpPr>
        <p:spPr>
          <a:xfrm flipV="1">
            <a:off x="3314520" y="3982680"/>
            <a:ext cx="384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98" idx="3"/>
            <a:endCxn id="685" idx="2"/>
          </p:cNvCxnSpPr>
          <p:nvPr/>
        </p:nvCxnSpPr>
        <p:spPr>
          <a:xfrm flipV="1">
            <a:off x="3384360" y="3982680"/>
            <a:ext cx="315000" cy="139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75" idx="1"/>
          </p:cNvCxnSpPr>
          <p:nvPr/>
        </p:nvCxnSpPr>
        <p:spPr>
          <a:xfrm>
            <a:off x="1174680" y="1814400"/>
            <a:ext cx="34704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84" idx="4"/>
            <a:endCxn id="675" idx="1"/>
          </p:cNvCxnSpPr>
          <p:nvPr/>
        </p:nvCxnSpPr>
        <p:spPr>
          <a:xfrm flipV="1">
            <a:off x="1157400" y="2123640"/>
            <a:ext cx="3643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83" idx="3"/>
            <a:endCxn id="650" idx="1"/>
          </p:cNvCxnSpPr>
          <p:nvPr/>
        </p:nvCxnSpPr>
        <p:spPr>
          <a:xfrm flipV="1">
            <a:off x="1163160" y="3984120"/>
            <a:ext cx="459720" cy="13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2" idx="3"/>
            <a:endCxn id="698" idx="1"/>
          </p:cNvCxnSpPr>
          <p:nvPr/>
        </p:nvCxnSpPr>
        <p:spPr>
          <a:xfrm flipV="1">
            <a:off x="1312920" y="5373360"/>
            <a:ext cx="278280" cy="356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74" idx="3"/>
            <a:endCxn id="658" idx="1"/>
          </p:cNvCxnSpPr>
          <p:nvPr/>
        </p:nvCxnSpPr>
        <p:spPr>
          <a:xfrm flipV="1">
            <a:off x="6878520" y="1583640"/>
            <a:ext cx="813600" cy="135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85" idx="1"/>
            <a:endCxn id="665" idx="1"/>
          </p:cNvCxnSpPr>
          <p:nvPr/>
        </p:nvCxnSpPr>
        <p:spPr>
          <a:xfrm flipV="1">
            <a:off x="4498560" y="2649240"/>
            <a:ext cx="1089720" cy="326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85" idx="4"/>
            <a:endCxn id="668" idx="1"/>
          </p:cNvCxnSpPr>
          <p:nvPr/>
        </p:nvCxnSpPr>
        <p:spPr>
          <a:xfrm flipV="1">
            <a:off x="5297040" y="3496680"/>
            <a:ext cx="2912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85" idx="4"/>
            <a:endCxn id="671" idx="1"/>
          </p:cNvCxnSpPr>
          <p:nvPr/>
        </p:nvCxnSpPr>
        <p:spPr>
          <a:xfrm>
            <a:off x="5297040" y="3982680"/>
            <a:ext cx="291240" cy="429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85" idx="3"/>
            <a:endCxn id="692" idx="1"/>
          </p:cNvCxnSpPr>
          <p:nvPr/>
        </p:nvCxnSpPr>
        <p:spPr>
          <a:xfrm>
            <a:off x="4498560" y="4991040"/>
            <a:ext cx="978840" cy="40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85" idx="3"/>
            <a:endCxn id="695" idx="1"/>
          </p:cNvCxnSpPr>
          <p:nvPr/>
        </p:nvCxnSpPr>
        <p:spPr>
          <a:xfrm>
            <a:off x="4498560" y="4990680"/>
            <a:ext cx="586440" cy="1118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5" idx="3"/>
            <a:endCxn id="689" idx="1"/>
          </p:cNvCxnSpPr>
          <p:nvPr/>
        </p:nvCxnSpPr>
        <p:spPr>
          <a:xfrm>
            <a:off x="6955920" y="6108840"/>
            <a:ext cx="585000" cy="57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2" idx="3"/>
            <a:endCxn id="654" idx="1"/>
          </p:cNvCxnSpPr>
          <p:nvPr/>
        </p:nvCxnSpPr>
        <p:spPr>
          <a:xfrm>
            <a:off x="7276680" y="5392800"/>
            <a:ext cx="3279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71" idx="3"/>
            <a:endCxn id="644" idx="1"/>
          </p:cNvCxnSpPr>
          <p:nvPr/>
        </p:nvCxnSpPr>
        <p:spPr>
          <a:xfrm flipV="1">
            <a:off x="7381800" y="4397040"/>
            <a:ext cx="365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668" idx="3"/>
            <a:endCxn id="649" idx="1"/>
          </p:cNvCxnSpPr>
          <p:nvPr/>
        </p:nvCxnSpPr>
        <p:spPr>
          <a:xfrm flipV="1">
            <a:off x="7381440" y="3366720"/>
            <a:ext cx="383400" cy="13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665" idx="3"/>
            <a:endCxn id="662" idx="1"/>
          </p:cNvCxnSpPr>
          <p:nvPr/>
        </p:nvCxnSpPr>
        <p:spPr>
          <a:xfrm flipV="1">
            <a:off x="7381440" y="2418840"/>
            <a:ext cx="430920" cy="23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22" name=""/>
          <p:cNvGrpSpPr/>
          <p:nvPr/>
        </p:nvGrpSpPr>
        <p:grpSpPr>
          <a:xfrm>
            <a:off x="4105440" y="3068640"/>
            <a:ext cx="753480" cy="361800"/>
            <a:chOff x="4105440" y="3068640"/>
            <a:chExt cx="753480" cy="361800"/>
          </a:xfrm>
        </p:grpSpPr>
        <p:sp>
          <p:nvSpPr>
            <p:cNvPr id="723" name=""/>
            <p:cNvSpPr/>
            <p:nvPr/>
          </p:nvSpPr>
          <p:spPr>
            <a:xfrm>
              <a:off x="4394160" y="306864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38520" y="320364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49800" y="320472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21080" y="334008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05440" y="334008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11520" y="334008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14920" y="333900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0" name=""/>
            <p:cNvCxnSpPr>
              <a:stCxn id="723" idx="3"/>
              <a:endCxn id="725" idx="7"/>
            </p:cNvCxnSpPr>
            <p:nvPr/>
          </p:nvCxnSpPr>
          <p:spPr>
            <a:xfrm flipH="1">
              <a:off x="4372920" y="3145680"/>
              <a:ext cx="4140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1" name=""/>
            <p:cNvCxnSpPr>
              <a:stCxn id="725" idx="3"/>
              <a:endCxn id="727" idx="7"/>
            </p:cNvCxnSpPr>
            <p:nvPr/>
          </p:nvCxnSpPr>
          <p:spPr>
            <a:xfrm flipH="1">
              <a:off x="4228560" y="328212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2" name=""/>
            <p:cNvCxnSpPr>
              <a:stCxn id="725" idx="5"/>
              <a:endCxn id="726" idx="0"/>
            </p:cNvCxnSpPr>
            <p:nvPr/>
          </p:nvCxnSpPr>
          <p:spPr>
            <a:xfrm>
              <a:off x="4373640" y="3282120"/>
              <a:ext cx="20880" cy="5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3" name=""/>
            <p:cNvCxnSpPr>
              <a:stCxn id="723" idx="5"/>
              <a:endCxn id="724" idx="1"/>
            </p:cNvCxnSpPr>
            <p:nvPr/>
          </p:nvCxnSpPr>
          <p:spPr>
            <a:xfrm>
              <a:off x="4518000" y="3146040"/>
              <a:ext cx="4176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4" name=""/>
            <p:cNvCxnSpPr>
              <a:stCxn id="724" idx="4"/>
              <a:endCxn id="728" idx="0"/>
            </p:cNvCxnSpPr>
            <p:nvPr/>
          </p:nvCxnSpPr>
          <p:spPr>
            <a:xfrm flipH="1">
              <a:off x="4584240" y="3294000"/>
              <a:ext cx="27360" cy="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5" name=""/>
            <p:cNvCxnSpPr>
              <a:stCxn id="724" idx="5"/>
              <a:endCxn id="729" idx="1"/>
            </p:cNvCxnSpPr>
            <p:nvPr/>
          </p:nvCxnSpPr>
          <p:spPr>
            <a:xfrm>
              <a:off x="4662360" y="3281400"/>
              <a:ext cx="73440" cy="7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commandes utilisateu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a chaîne de prod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3818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rincipal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3_star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: démarrer le référentiel des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3_stop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: arrêter le référentiel des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3_feed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: charger un fichier OMG IDL dans le référenti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3_idl2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: générer projection OMG IDL depuis référenti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3_java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: générer conteneurs Java depuis référenti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sdl_java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: générer code Java pour définitions OMG PS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idl_ci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: générer code Java pour définitions OMG C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tilitair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dl3_check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: compiler un fichier OMG 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3_destroy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 détruire définition dans référenti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3_jimp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: générer templates d’implantation 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3_idl3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: générer OMG IDL 3.0 depuis référenti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3_xmi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: générer XMI UML depuis référenti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id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: pretty-printer OMG C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sd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: pretty-printer OMG PS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processus de prod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39640" y="1484280"/>
            <a:ext cx="8415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50920" y="1844640"/>
            <a:ext cx="790560" cy="720720"/>
            <a:chOff x="250920" y="1844640"/>
            <a:chExt cx="790560" cy="720720"/>
          </a:xfrm>
        </p:grpSpPr>
        <p:sp>
          <p:nvSpPr>
            <p:cNvPr id="741" name=""/>
            <p:cNvSpPr/>
            <p:nvPr/>
          </p:nvSpPr>
          <p:spPr>
            <a:xfrm>
              <a:off x="302400" y="1844640"/>
              <a:ext cx="687240" cy="7207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0920" y="2017440"/>
              <a:ext cx="79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IDL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971640" y="2924280"/>
            <a:ext cx="12240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I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835280" y="3716280"/>
            <a:ext cx="792000" cy="792360"/>
            <a:chOff x="1835280" y="3716280"/>
            <a:chExt cx="792000" cy="792360"/>
          </a:xfrm>
        </p:grpSpPr>
        <p:sp>
          <p:nvSpPr>
            <p:cNvPr id="745" name=""/>
            <p:cNvSpPr/>
            <p:nvPr/>
          </p:nvSpPr>
          <p:spPr>
            <a:xfrm>
              <a:off x="1835280" y="3716280"/>
              <a:ext cx="792000" cy="79236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74160" y="3816000"/>
              <a:ext cx="71352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OMG IDL 2.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924360" y="4941720"/>
            <a:ext cx="649080" cy="79236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24360" y="3500280"/>
            <a:ext cx="649080" cy="79236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35280" y="1773360"/>
            <a:ext cx="649440" cy="792000"/>
          </a:xfrm>
          <a:prstGeom prst="flowChartMultidocumen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24360" y="2060640"/>
            <a:ext cx="649080" cy="792000"/>
          </a:xfrm>
          <a:prstGeom prst="flowChartMultidocumen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64000" y="580536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Java OpenCCM Skele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64000" y="42926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Java CORBA st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268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Java implementation patt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48000" y="2852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ser’s Java implemen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5640" y="2565360"/>
            <a:ext cx="287280" cy="3589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547640" y="3500280"/>
            <a:ext cx="287640" cy="2890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116000" y="2492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71640" y="2565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ir3_f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5640" y="35733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ir3_id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00360" y="4508640"/>
            <a:ext cx="863640" cy="7207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68360" y="47973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ir3_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2700360" y="4005000"/>
            <a:ext cx="863640" cy="2156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2700360" y="2349360"/>
            <a:ext cx="792000" cy="15112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71640" y="3716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idl2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68360" y="27082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ir3_jim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292720" y="3789360"/>
            <a:ext cx="115092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219640" y="32846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Compile and Build arch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788000" y="2781360"/>
            <a:ext cx="504720" cy="1008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788000" y="3789360"/>
            <a:ext cx="5047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4859280" y="3789360"/>
            <a:ext cx="433440" cy="1008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516720" y="3429000"/>
            <a:ext cx="719280" cy="576360"/>
          </a:xfrm>
          <a:custGeom>
            <a:avLst/>
            <a:gdLst/>
            <a:ahLst/>
            <a:rect l="l" t="t" r="r" b="b"/>
            <a:pathLst>
              <a:path w="577" h="343">
                <a:moveTo>
                  <a:pt x="0" y="54"/>
                </a:moveTo>
                <a:lnTo>
                  <a:pt x="54" y="0"/>
                </a:lnTo>
                <a:lnTo>
                  <a:pt x="235" y="0"/>
                </a:lnTo>
                <a:lnTo>
                  <a:pt x="289" y="54"/>
                </a:lnTo>
                <a:lnTo>
                  <a:pt x="0" y="54"/>
                </a:lnTo>
                <a:close/>
                <a:moveTo>
                  <a:pt x="0" y="343"/>
                </a:moveTo>
                <a:lnTo>
                  <a:pt x="577" y="343"/>
                </a:lnTo>
                <a:lnTo>
                  <a:pt x="577" y="54"/>
                </a:lnTo>
                <a:lnTo>
                  <a:pt x="0" y="54"/>
                </a:lnTo>
                <a:lnTo>
                  <a:pt x="0" y="343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16720" y="458136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Packaging, Assembling and Deployment done by XML descrip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48360" y="4149720"/>
            <a:ext cx="360360" cy="431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732720" y="1492200"/>
            <a:ext cx="230040" cy="219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732720" y="1784520"/>
            <a:ext cx="230040" cy="217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732720" y="2075040"/>
            <a:ext cx="230040" cy="218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62760" y="141300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written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26040" y="17049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911640" y="199692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ted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667640" y="5734080"/>
            <a:ext cx="792000" cy="792000"/>
            <a:chOff x="7667640" y="5734080"/>
            <a:chExt cx="792000" cy="792000"/>
          </a:xfrm>
        </p:grpSpPr>
        <p:sp>
          <p:nvSpPr>
            <p:cNvPr id="781" name=""/>
            <p:cNvSpPr/>
            <p:nvPr/>
          </p:nvSpPr>
          <p:spPr>
            <a:xfrm>
              <a:off x="7667640" y="5734080"/>
              <a:ext cx="792000" cy="7920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06520" y="5833440"/>
              <a:ext cx="713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810560" y="5589720"/>
            <a:ext cx="792000" cy="792000"/>
            <a:chOff x="7810560" y="5589720"/>
            <a:chExt cx="792000" cy="792000"/>
          </a:xfrm>
        </p:grpSpPr>
        <p:sp>
          <p:nvSpPr>
            <p:cNvPr id="784" name=""/>
            <p:cNvSpPr/>
            <p:nvPr/>
          </p:nvSpPr>
          <p:spPr>
            <a:xfrm>
              <a:off x="7810560" y="5589720"/>
              <a:ext cx="792000" cy="7920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49440" y="5689080"/>
              <a:ext cx="713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7956720" y="5373720"/>
            <a:ext cx="720720" cy="863640"/>
            <a:chOff x="7956720" y="5373720"/>
            <a:chExt cx="720720" cy="863640"/>
          </a:xfrm>
        </p:grpSpPr>
        <p:sp>
          <p:nvSpPr>
            <p:cNvPr id="787" name=""/>
            <p:cNvSpPr/>
            <p:nvPr/>
          </p:nvSpPr>
          <p:spPr>
            <a:xfrm>
              <a:off x="7956720" y="5373720"/>
              <a:ext cx="720720" cy="86364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92360" y="5482080"/>
              <a:ext cx="6490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5796000" y="5661000"/>
            <a:ext cx="122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020000" y="6021360"/>
            <a:ext cx="64764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7596000" y="5157360"/>
            <a:ext cx="360360" cy="3589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742520" y="5840280"/>
            <a:ext cx="9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scripte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CM 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640920" y="35719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.j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4467240" y="3262320"/>
            <a:ext cx="209520" cy="33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4200" y="90360"/>
            <a:ext cx="9115560" cy="6653160"/>
            <a:chOff x="34200" y="90360"/>
            <a:chExt cx="9115560" cy="6653160"/>
          </a:xfrm>
        </p:grpSpPr>
        <p:sp>
          <p:nvSpPr>
            <p:cNvPr id="797" name=""/>
            <p:cNvSpPr/>
            <p:nvPr/>
          </p:nvSpPr>
          <p:spPr>
            <a:xfrm>
              <a:off x="6300720" y="3259080"/>
              <a:ext cx="2735280" cy="1224000"/>
            </a:xfrm>
            <a:prstGeom prst="rect">
              <a:avLst/>
            </a:prstGeom>
            <a:solidFill>
              <a:srgbClr val="ffff9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8000" y="90360"/>
              <a:ext cx="6119640" cy="4321080"/>
            </a:xfrm>
            <a:prstGeom prst="rect">
              <a:avLst/>
            </a:pr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8000" y="4483080"/>
              <a:ext cx="2016000" cy="2233440"/>
            </a:xfrm>
            <a:prstGeom prst="rect">
              <a:avLst/>
            </a:prstGeom>
            <a:solidFill>
              <a:srgbClr val="eaeae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24000" y="4483080"/>
              <a:ext cx="6912000" cy="2233440"/>
            </a:xfrm>
            <a:prstGeom prst="rect">
              <a:avLst/>
            </a:prstGeom>
            <a:solidFill>
              <a:srgbClr val="ffff9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692360" y="595080"/>
              <a:ext cx="718920" cy="719280"/>
              <a:chOff x="1692360" y="595080"/>
              <a:chExt cx="718920" cy="719280"/>
            </a:xfrm>
          </p:grpSpPr>
          <p:sp>
            <p:nvSpPr>
              <p:cNvPr id="802" name=""/>
              <p:cNvSpPr/>
              <p:nvPr/>
            </p:nvSpPr>
            <p:spPr>
              <a:xfrm>
                <a:off x="1692360" y="595080"/>
                <a:ext cx="718920" cy="719280"/>
              </a:xfrm>
              <a:custGeom>
                <a:avLst/>
                <a:gdLst/>
                <a:ahLst/>
                <a:rect l="l" t="t" r="r" b="b"/>
                <a:pathLst>
                  <a:path w="324" h="433">
                    <a:moveTo>
                      <a:pt x="217" y="0"/>
                    </a:move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close/>
                    <a:moveTo>
                      <a:pt x="0" y="0"/>
                    </a:moveTo>
                    <a:lnTo>
                      <a:pt x="0" y="433"/>
                    </a:lnTo>
                    <a:lnTo>
                      <a:pt x="324" y="433"/>
                    </a:ln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26920" y="766440"/>
                <a:ext cx="649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L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250920" y="882360"/>
              <a:ext cx="1368360" cy="832680"/>
              <a:chOff x="250920" y="882360"/>
              <a:chExt cx="1368360" cy="832680"/>
            </a:xfrm>
          </p:grpSpPr>
          <p:sp>
            <p:nvSpPr>
              <p:cNvPr id="805" name=""/>
              <p:cNvSpPr/>
              <p:nvPr/>
            </p:nvSpPr>
            <p:spPr>
              <a:xfrm>
                <a:off x="250920" y="1194840"/>
                <a:ext cx="1368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ahoma"/>
                  </a:rPr>
                  <a:t>Compon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ahoma"/>
                  </a:rPr>
                  <a:t>Design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874440" y="882360"/>
                <a:ext cx="119160" cy="306000"/>
                <a:chOff x="874440" y="882360"/>
                <a:chExt cx="119160" cy="3060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909720" y="882360"/>
                  <a:ext cx="48240" cy="60120"/>
                </a:xfrm>
                <a:custGeom>
                  <a:avLst/>
                  <a:gdLst/>
                  <a:ahLst/>
                  <a:rect l="l" t="t" r="r" b="b"/>
                  <a:pathLst>
                    <a:path w="80" h="78">
                      <a:moveTo>
                        <a:pt x="80" y="39"/>
                      </a:moveTo>
                      <a:lnTo>
                        <a:pt x="78" y="27"/>
                      </a:lnTo>
                      <a:lnTo>
                        <a:pt x="74" y="17"/>
                      </a:lnTo>
                      <a:lnTo>
                        <a:pt x="66" y="9"/>
                      </a:lnTo>
                      <a:lnTo>
                        <a:pt x="57" y="2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24" y="2"/>
                      </a:lnTo>
                      <a:lnTo>
                        <a:pt x="14" y="9"/>
                      </a:lnTo>
                      <a:lnTo>
                        <a:pt x="6" y="17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2" y="50"/>
                      </a:lnTo>
                      <a:lnTo>
                        <a:pt x="6" y="60"/>
                      </a:lnTo>
                      <a:lnTo>
                        <a:pt x="14" y="69"/>
                      </a:lnTo>
                      <a:lnTo>
                        <a:pt x="24" y="75"/>
                      </a:lnTo>
                      <a:lnTo>
                        <a:pt x="34" y="78"/>
                      </a:lnTo>
                      <a:lnTo>
                        <a:pt x="46" y="78"/>
                      </a:lnTo>
                      <a:lnTo>
                        <a:pt x="57" y="75"/>
                      </a:lnTo>
                      <a:lnTo>
                        <a:pt x="66" y="69"/>
                      </a:lnTo>
                      <a:lnTo>
                        <a:pt x="74" y="60"/>
                      </a:lnTo>
                      <a:lnTo>
                        <a:pt x="78" y="50"/>
                      </a:lnTo>
                      <a:lnTo>
                        <a:pt x="80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74440" y="942480"/>
                  <a:ext cx="119160" cy="245880"/>
                </a:xfrm>
                <a:custGeom>
                  <a:avLst/>
                  <a:gdLst/>
                  <a:ahLst/>
                  <a:rect l="l" t="t" r="r" b="b"/>
                  <a:pathLst>
                    <a:path w="198" h="318">
                      <a:moveTo>
                        <a:pt x="101" y="164"/>
                      </a:moveTo>
                      <a:lnTo>
                        <a:pt x="147" y="318"/>
                      </a:lnTo>
                      <a:lnTo>
                        <a:pt x="184" y="318"/>
                      </a:lnTo>
                      <a:lnTo>
                        <a:pt x="147" y="139"/>
                      </a:lnTo>
                      <a:lnTo>
                        <a:pt x="147" y="35"/>
                      </a:lnTo>
                      <a:lnTo>
                        <a:pt x="175" y="120"/>
                      </a:lnTo>
                      <a:lnTo>
                        <a:pt x="198" y="104"/>
                      </a:lnTo>
                      <a:lnTo>
                        <a:pt x="166" y="0"/>
                      </a:lnTo>
                      <a:lnTo>
                        <a:pt x="101" y="5"/>
                      </a:lnTo>
                      <a:lnTo>
                        <a:pt x="37" y="0"/>
                      </a:lnTo>
                      <a:lnTo>
                        <a:pt x="0" y="109"/>
                      </a:lnTo>
                      <a:lnTo>
                        <a:pt x="27" y="120"/>
                      </a:lnTo>
                      <a:lnTo>
                        <a:pt x="55" y="35"/>
                      </a:lnTo>
                      <a:lnTo>
                        <a:pt x="55" y="139"/>
                      </a:lnTo>
                      <a:lnTo>
                        <a:pt x="18" y="318"/>
                      </a:lnTo>
                      <a:lnTo>
                        <a:pt x="55" y="318"/>
                      </a:lnTo>
                      <a:lnTo>
                        <a:pt x="10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9" name=""/>
            <p:cNvGrpSpPr/>
            <p:nvPr/>
          </p:nvGrpSpPr>
          <p:grpSpPr>
            <a:xfrm>
              <a:off x="1476360" y="1890720"/>
              <a:ext cx="1510920" cy="649080"/>
              <a:chOff x="1476360" y="1890720"/>
              <a:chExt cx="1510920" cy="649080"/>
            </a:xfrm>
          </p:grpSpPr>
          <p:sp>
            <p:nvSpPr>
              <p:cNvPr id="810" name=""/>
              <p:cNvSpPr/>
              <p:nvPr/>
            </p:nvSpPr>
            <p:spPr>
              <a:xfrm>
                <a:off x="1476360" y="1890720"/>
                <a:ext cx="1410840" cy="649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76360" y="2035080"/>
                <a:ext cx="151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DL3 Compil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39640" y="4914720"/>
              <a:ext cx="720720" cy="576360"/>
            </a:xfrm>
            <a:prstGeom prst="flowChartMultidocumen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4000" y="5541840"/>
              <a:ext cx="110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Compo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627280" y="4914720"/>
              <a:ext cx="720720" cy="576360"/>
            </a:xfrm>
            <a:prstGeom prst="flowChartMultidocumen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4355640" y="1890720"/>
              <a:ext cx="1427400" cy="649080"/>
              <a:chOff x="4355640" y="1890720"/>
              <a:chExt cx="1427400" cy="649080"/>
            </a:xfrm>
          </p:grpSpPr>
          <p:sp>
            <p:nvSpPr>
              <p:cNvPr id="816" name=""/>
              <p:cNvSpPr/>
              <p:nvPr/>
            </p:nvSpPr>
            <p:spPr>
              <a:xfrm>
                <a:off x="4356000" y="1890720"/>
                <a:ext cx="1427040" cy="649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55640" y="2035080"/>
                <a:ext cx="141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IDL Compil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4284720" y="595080"/>
              <a:ext cx="792000" cy="719280"/>
              <a:chOff x="4284720" y="595080"/>
              <a:chExt cx="792000" cy="719280"/>
            </a:xfrm>
          </p:grpSpPr>
          <p:sp>
            <p:nvSpPr>
              <p:cNvPr id="819" name=""/>
              <p:cNvSpPr/>
              <p:nvPr/>
            </p:nvSpPr>
            <p:spPr>
              <a:xfrm>
                <a:off x="4284720" y="595080"/>
                <a:ext cx="792000" cy="719280"/>
              </a:xfrm>
              <a:custGeom>
                <a:avLst/>
                <a:gdLst/>
                <a:ahLst/>
                <a:rect l="l" t="t" r="r" b="b"/>
                <a:pathLst>
                  <a:path w="324" h="433">
                    <a:moveTo>
                      <a:pt x="217" y="0"/>
                    </a:move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close/>
                    <a:moveTo>
                      <a:pt x="0" y="0"/>
                    </a:moveTo>
                    <a:lnTo>
                      <a:pt x="0" y="433"/>
                    </a:lnTo>
                    <a:lnTo>
                      <a:pt x="324" y="433"/>
                    </a:lnTo>
                    <a:lnTo>
                      <a:pt x="324" y="109"/>
                    </a:lnTo>
                    <a:lnTo>
                      <a:pt x="217" y="109"/>
                    </a:lnTo>
                    <a:lnTo>
                      <a:pt x="2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322880" y="766440"/>
                <a:ext cx="715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7451640" y="5491080"/>
              <a:ext cx="1360440" cy="829440"/>
              <a:chOff x="7451640" y="5491080"/>
              <a:chExt cx="1360440" cy="829440"/>
            </a:xfrm>
          </p:grpSpPr>
          <p:sp>
            <p:nvSpPr>
              <p:cNvPr id="822" name=""/>
              <p:cNvSpPr/>
              <p:nvPr/>
            </p:nvSpPr>
            <p:spPr>
              <a:xfrm>
                <a:off x="7451640" y="580032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ahoma"/>
                  </a:rPr>
                  <a:t>Compon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Implemen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3" name=""/>
              <p:cNvGrpSpPr/>
              <p:nvPr/>
            </p:nvGrpSpPr>
            <p:grpSpPr>
              <a:xfrm>
                <a:off x="8068320" y="5491080"/>
                <a:ext cx="122040" cy="307080"/>
                <a:chOff x="8068320" y="5491080"/>
                <a:chExt cx="122040" cy="30708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8104680" y="5491080"/>
                  <a:ext cx="49320" cy="60480"/>
                </a:xfrm>
                <a:custGeom>
                  <a:avLst/>
                  <a:gdLst/>
                  <a:ahLst/>
                  <a:rect l="l" t="t" r="r" b="b"/>
                  <a:pathLst>
                    <a:path w="80" h="78">
                      <a:moveTo>
                        <a:pt x="80" y="39"/>
                      </a:moveTo>
                      <a:lnTo>
                        <a:pt x="78" y="27"/>
                      </a:lnTo>
                      <a:lnTo>
                        <a:pt x="74" y="17"/>
                      </a:lnTo>
                      <a:lnTo>
                        <a:pt x="66" y="9"/>
                      </a:lnTo>
                      <a:lnTo>
                        <a:pt x="57" y="2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24" y="2"/>
                      </a:lnTo>
                      <a:lnTo>
                        <a:pt x="14" y="9"/>
                      </a:lnTo>
                      <a:lnTo>
                        <a:pt x="6" y="17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2" y="50"/>
                      </a:lnTo>
                      <a:lnTo>
                        <a:pt x="6" y="60"/>
                      </a:lnTo>
                      <a:lnTo>
                        <a:pt x="14" y="69"/>
                      </a:lnTo>
                      <a:lnTo>
                        <a:pt x="24" y="75"/>
                      </a:lnTo>
                      <a:lnTo>
                        <a:pt x="34" y="78"/>
                      </a:lnTo>
                      <a:lnTo>
                        <a:pt x="46" y="78"/>
                      </a:lnTo>
                      <a:lnTo>
                        <a:pt x="57" y="75"/>
                      </a:lnTo>
                      <a:lnTo>
                        <a:pt x="66" y="69"/>
                      </a:lnTo>
                      <a:lnTo>
                        <a:pt x="74" y="60"/>
                      </a:lnTo>
                      <a:lnTo>
                        <a:pt x="78" y="50"/>
                      </a:lnTo>
                      <a:lnTo>
                        <a:pt x="80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068320" y="5551560"/>
                  <a:ext cx="122040" cy="246600"/>
                </a:xfrm>
                <a:custGeom>
                  <a:avLst/>
                  <a:gdLst/>
                  <a:ahLst/>
                  <a:rect l="l" t="t" r="r" b="b"/>
                  <a:pathLst>
                    <a:path w="198" h="318">
                      <a:moveTo>
                        <a:pt x="101" y="164"/>
                      </a:moveTo>
                      <a:lnTo>
                        <a:pt x="147" y="318"/>
                      </a:lnTo>
                      <a:lnTo>
                        <a:pt x="184" y="318"/>
                      </a:lnTo>
                      <a:lnTo>
                        <a:pt x="147" y="139"/>
                      </a:lnTo>
                      <a:lnTo>
                        <a:pt x="147" y="35"/>
                      </a:lnTo>
                      <a:lnTo>
                        <a:pt x="175" y="120"/>
                      </a:lnTo>
                      <a:lnTo>
                        <a:pt x="198" y="104"/>
                      </a:lnTo>
                      <a:lnTo>
                        <a:pt x="166" y="0"/>
                      </a:lnTo>
                      <a:lnTo>
                        <a:pt x="101" y="5"/>
                      </a:lnTo>
                      <a:lnTo>
                        <a:pt x="37" y="0"/>
                      </a:lnTo>
                      <a:lnTo>
                        <a:pt x="0" y="109"/>
                      </a:lnTo>
                      <a:lnTo>
                        <a:pt x="27" y="120"/>
                      </a:lnTo>
                      <a:lnTo>
                        <a:pt x="55" y="35"/>
                      </a:lnTo>
                      <a:lnTo>
                        <a:pt x="55" y="139"/>
                      </a:lnTo>
                      <a:lnTo>
                        <a:pt x="18" y="318"/>
                      </a:lnTo>
                      <a:lnTo>
                        <a:pt x="55" y="318"/>
                      </a:lnTo>
                      <a:lnTo>
                        <a:pt x="10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6" name=""/>
            <p:cNvSpPr/>
            <p:nvPr/>
          </p:nvSpPr>
          <p:spPr>
            <a:xfrm>
              <a:off x="2410920" y="5541840"/>
              <a:ext cx="110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Compo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Skelet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11640" y="4843440"/>
              <a:ext cx="720720" cy="576000"/>
            </a:xfrm>
            <a:prstGeom prst="flowChartMultidocumen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51640" y="4843440"/>
              <a:ext cx="720720" cy="576000"/>
            </a:xfrm>
            <a:prstGeom prst="flowChartMultidocumen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20000" y="3835080"/>
              <a:ext cx="720720" cy="576360"/>
            </a:xfrm>
            <a:prstGeom prst="flowChartMultidocumen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948360" y="5275080"/>
              <a:ext cx="720720" cy="576360"/>
            </a:xfrm>
            <a:prstGeom prst="flowChartMultidocumen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23640" y="5491080"/>
              <a:ext cx="1043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Contain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22200" y="549108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C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Interfa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14520" y="3259080"/>
              <a:ext cx="223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Component Exec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Implementation Skelet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200" y="340344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remo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inte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618560" y="340344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loc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inte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900000" y="3474720"/>
              <a:ext cx="677880" cy="718920"/>
              <a:chOff x="900000" y="3474720"/>
              <a:chExt cx="677880" cy="718920"/>
            </a:xfrm>
          </p:grpSpPr>
          <p:grpSp>
            <p:nvGrpSpPr>
              <p:cNvPr id="837" name=""/>
              <p:cNvGrpSpPr/>
              <p:nvPr/>
            </p:nvGrpSpPr>
            <p:grpSpPr>
              <a:xfrm>
                <a:off x="900000" y="3474720"/>
                <a:ext cx="649440" cy="718920"/>
                <a:chOff x="900000" y="3474720"/>
                <a:chExt cx="649440" cy="71892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900000" y="3474720"/>
                  <a:ext cx="649440" cy="718920"/>
                </a:xfrm>
                <a:custGeom>
                  <a:avLst/>
                  <a:gdLst/>
                  <a:ahLst/>
                  <a:rect l="l" t="t" r="r" b="b"/>
                  <a:pathLst>
                    <a:path w="324" h="433">
                      <a:moveTo>
                        <a:pt x="217" y="0"/>
                      </a:moveTo>
                      <a:lnTo>
                        <a:pt x="324" y="109"/>
                      </a:lnTo>
                      <a:lnTo>
                        <a:pt x="217" y="109"/>
                      </a:lnTo>
                      <a:lnTo>
                        <a:pt x="217" y="0"/>
                      </a:lnTo>
                      <a:close/>
                      <a:moveTo>
                        <a:pt x="0" y="0"/>
                      </a:moveTo>
                      <a:lnTo>
                        <a:pt x="0" y="433"/>
                      </a:lnTo>
                      <a:lnTo>
                        <a:pt x="324" y="433"/>
                      </a:lnTo>
                      <a:lnTo>
                        <a:pt x="324" y="109"/>
                      </a:lnTo>
                      <a:lnTo>
                        <a:pt x="217" y="109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931320" y="3566160"/>
                  <a:ext cx="586440" cy="21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" name=""/>
              <p:cNvSpPr/>
              <p:nvPr/>
            </p:nvSpPr>
            <p:spPr>
              <a:xfrm>
                <a:off x="901800" y="369036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DL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2484360" y="3474720"/>
              <a:ext cx="677880" cy="718920"/>
              <a:chOff x="2484360" y="3474720"/>
              <a:chExt cx="677880" cy="71892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2484360" y="3474720"/>
                <a:ext cx="649440" cy="718920"/>
                <a:chOff x="2484360" y="3474720"/>
                <a:chExt cx="649440" cy="71892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2484360" y="3474720"/>
                  <a:ext cx="649440" cy="718920"/>
                </a:xfrm>
                <a:custGeom>
                  <a:avLst/>
                  <a:gdLst/>
                  <a:ahLst/>
                  <a:rect l="l" t="t" r="r" b="b"/>
                  <a:pathLst>
                    <a:path w="324" h="433">
                      <a:moveTo>
                        <a:pt x="217" y="0"/>
                      </a:moveTo>
                      <a:lnTo>
                        <a:pt x="324" y="109"/>
                      </a:lnTo>
                      <a:lnTo>
                        <a:pt x="217" y="109"/>
                      </a:lnTo>
                      <a:lnTo>
                        <a:pt x="217" y="0"/>
                      </a:lnTo>
                      <a:close/>
                      <a:moveTo>
                        <a:pt x="0" y="0"/>
                      </a:moveTo>
                      <a:lnTo>
                        <a:pt x="0" y="433"/>
                      </a:lnTo>
                      <a:lnTo>
                        <a:pt x="324" y="433"/>
                      </a:lnTo>
                      <a:lnTo>
                        <a:pt x="324" y="109"/>
                      </a:lnTo>
                      <a:lnTo>
                        <a:pt x="217" y="109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2515680" y="3566160"/>
                  <a:ext cx="586440" cy="21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2486160" y="369036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DL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7594200" y="4555800"/>
              <a:ext cx="1400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User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003640" y="3403440"/>
              <a:ext cx="677880" cy="718920"/>
              <a:chOff x="5003640" y="3403440"/>
              <a:chExt cx="677880" cy="718920"/>
            </a:xfrm>
          </p:grpSpPr>
          <p:grpSp>
            <p:nvGrpSpPr>
              <p:cNvPr id="848" name=""/>
              <p:cNvGrpSpPr/>
              <p:nvPr/>
            </p:nvGrpSpPr>
            <p:grpSpPr>
              <a:xfrm>
                <a:off x="5003640" y="3403440"/>
                <a:ext cx="649440" cy="718920"/>
                <a:chOff x="5003640" y="3403440"/>
                <a:chExt cx="649440" cy="71892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003640" y="3403440"/>
                  <a:ext cx="649440" cy="718920"/>
                </a:xfrm>
                <a:custGeom>
                  <a:avLst/>
                  <a:gdLst/>
                  <a:ahLst/>
                  <a:rect l="l" t="t" r="r" b="b"/>
                  <a:pathLst>
                    <a:path w="324" h="433">
                      <a:moveTo>
                        <a:pt x="217" y="0"/>
                      </a:moveTo>
                      <a:lnTo>
                        <a:pt x="324" y="109"/>
                      </a:lnTo>
                      <a:lnTo>
                        <a:pt x="217" y="109"/>
                      </a:lnTo>
                      <a:lnTo>
                        <a:pt x="217" y="0"/>
                      </a:lnTo>
                      <a:close/>
                      <a:moveTo>
                        <a:pt x="0" y="0"/>
                      </a:moveTo>
                      <a:lnTo>
                        <a:pt x="0" y="433"/>
                      </a:lnTo>
                      <a:lnTo>
                        <a:pt x="324" y="433"/>
                      </a:lnTo>
                      <a:lnTo>
                        <a:pt x="324" y="109"/>
                      </a:lnTo>
                      <a:lnTo>
                        <a:pt x="217" y="109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034960" y="3494880"/>
                  <a:ext cx="586440" cy="21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1" name=""/>
              <p:cNvSpPr/>
              <p:nvPr/>
            </p:nvSpPr>
            <p:spPr>
              <a:xfrm>
                <a:off x="5005440" y="36190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DL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4066560" y="333036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execu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inte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411280" y="955440"/>
              <a:ext cx="1873440" cy="0"/>
            </a:xfrm>
            <a:prstGeom prst="line">
              <a:avLst/>
            </a:prstGeom>
            <a:ln w="19080">
              <a:solidFill>
                <a:srgbClr val="549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69840" y="955440"/>
              <a:ext cx="95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490a8"/>
                  </a:solidFill>
                  <a:latin typeface="Arial"/>
                </a:rPr>
                <a:t>refere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76720" y="4051080"/>
              <a:ext cx="1582560" cy="0"/>
            </a:xfrm>
            <a:prstGeom prst="line">
              <a:avLst/>
            </a:prstGeom>
            <a:ln w="19080">
              <a:solidFill>
                <a:srgbClr val="549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4720" y="407340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490a8"/>
                  </a:solidFill>
                  <a:latin typeface="Arial"/>
                </a:rPr>
                <a:t>exte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19640" y="5130720"/>
              <a:ext cx="720720" cy="0"/>
            </a:xfrm>
            <a:prstGeom prst="line">
              <a:avLst/>
            </a:prstGeom>
            <a:ln w="19080">
              <a:solidFill>
                <a:srgbClr val="549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48000" y="486540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490a8"/>
                  </a:solidFill>
                  <a:latin typeface="Arial"/>
                </a:rPr>
                <a:t>dele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59280" y="486540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490a8"/>
                  </a:solidFill>
                  <a:latin typeface="Arial"/>
                </a:rPr>
                <a:t>dele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03640" y="5130720"/>
              <a:ext cx="576360" cy="0"/>
            </a:xfrm>
            <a:prstGeom prst="line">
              <a:avLst/>
            </a:prstGeom>
            <a:ln w="19080">
              <a:solidFill>
                <a:srgbClr val="549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35280" y="4122720"/>
              <a:ext cx="649440" cy="72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627280" y="2466720"/>
              <a:ext cx="865080" cy="15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372360" y="4411440"/>
              <a:ext cx="576000" cy="432000"/>
            </a:xfrm>
            <a:prstGeom prst="line">
              <a:avLst/>
            </a:prstGeom>
            <a:ln w="19080">
              <a:solidFill>
                <a:srgbClr val="5490a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40720" y="4195440"/>
              <a:ext cx="102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490a8"/>
                  </a:solidFill>
                  <a:latin typeface="Arial"/>
                </a:rPr>
                <a:t>impl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88360" y="477180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490a8"/>
                  </a:solidFill>
                  <a:latin typeface="Arial"/>
                </a:rPr>
                <a:t>exte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00360" y="4195440"/>
              <a:ext cx="21600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5280" y="59958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lient-s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00720" y="59958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erver-s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26920" y="253836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3300"/>
                  </a:solidFill>
                  <a:latin typeface="Arial"/>
                </a:rPr>
                <a:t>ir3_id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87640" y="282708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3300"/>
                  </a:solidFill>
                  <a:latin typeface="Arial"/>
                </a:rPr>
                <a:t>ir3_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788000" y="268272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3300"/>
                  </a:solidFill>
                  <a:latin typeface="Arial"/>
                </a:rPr>
                <a:t>cidl_c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16000" y="43383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3300"/>
                  </a:solidFill>
                  <a:latin typeface="Arial"/>
                </a:rPr>
                <a:t>ORB’s IDL to 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1907640" y="2538360"/>
              <a:ext cx="71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403280" y="2898720"/>
              <a:ext cx="50472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08000" y="2898720"/>
              <a:ext cx="57636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58920" y="4987800"/>
              <a:ext cx="1441440" cy="433440"/>
            </a:xfrm>
            <a:prstGeom prst="leftRightArrow">
              <a:avLst>
                <a:gd name="adj1" fmla="val 50000"/>
                <a:gd name="adj2" fmla="val 66204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64000" y="253980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508720" y="3043080"/>
              <a:ext cx="28728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96000" y="3043080"/>
              <a:ext cx="108108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308720" y="4411080"/>
              <a:ext cx="0" cy="792360"/>
            </a:xfrm>
            <a:prstGeom prst="line">
              <a:avLst/>
            </a:prstGeom>
            <a:ln w="19080">
              <a:solidFill>
                <a:srgbClr val="549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50920" y="1314360"/>
              <a:ext cx="7308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900000" y="4195440"/>
              <a:ext cx="21600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64000" y="4122720"/>
              <a:ext cx="28764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643280" y="1314360"/>
              <a:ext cx="21600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356000" y="426708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3300"/>
                  </a:solidFill>
                  <a:latin typeface="Arial"/>
                </a:rPr>
                <a:t>IDL to 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6588000" y="163440"/>
              <a:ext cx="2376360" cy="2808360"/>
              <a:chOff x="6588000" y="163440"/>
              <a:chExt cx="2376360" cy="2808360"/>
            </a:xfrm>
          </p:grpSpPr>
          <p:sp>
            <p:nvSpPr>
              <p:cNvPr id="887" name=""/>
              <p:cNvSpPr/>
              <p:nvPr/>
            </p:nvSpPr>
            <p:spPr>
              <a:xfrm>
                <a:off x="7164360" y="36648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64360" y="738000"/>
                <a:ext cx="228600" cy="2286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428240" y="333360"/>
                <a:ext cx="12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ser writt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466040" y="369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417080" y="717480"/>
                <a:ext cx="106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enerat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92720" y="1100160"/>
                <a:ext cx="360360" cy="216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92720" y="1460520"/>
                <a:ext cx="360360" cy="288720"/>
              </a:xfrm>
              <a:prstGeom prst="flowChartMulti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7164360" y="1892160"/>
                <a:ext cx="216000" cy="289080"/>
                <a:chOff x="7164360" y="1892160"/>
                <a:chExt cx="216000" cy="28908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7164360" y="1892160"/>
                  <a:ext cx="216000" cy="289080"/>
                </a:xfrm>
                <a:custGeom>
                  <a:avLst/>
                  <a:gdLst/>
                  <a:ahLst/>
                  <a:rect l="l" t="t" r="r" b="b"/>
                  <a:pathLst>
                    <a:path w="324" h="433">
                      <a:moveTo>
                        <a:pt x="217" y="0"/>
                      </a:moveTo>
                      <a:lnTo>
                        <a:pt x="324" y="109"/>
                      </a:lnTo>
                      <a:lnTo>
                        <a:pt x="217" y="109"/>
                      </a:lnTo>
                      <a:lnTo>
                        <a:pt x="217" y="0"/>
                      </a:lnTo>
                      <a:close/>
                      <a:moveTo>
                        <a:pt x="0" y="0"/>
                      </a:moveTo>
                      <a:lnTo>
                        <a:pt x="0" y="433"/>
                      </a:lnTo>
                      <a:lnTo>
                        <a:pt x="324" y="433"/>
                      </a:lnTo>
                      <a:lnTo>
                        <a:pt x="324" y="109"/>
                      </a:lnTo>
                      <a:lnTo>
                        <a:pt x="217" y="109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175520" y="1928520"/>
                  <a:ext cx="193680" cy="21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7" name=""/>
              <p:cNvSpPr/>
              <p:nvPr/>
            </p:nvSpPr>
            <p:spPr>
              <a:xfrm>
                <a:off x="7419240" y="1054080"/>
                <a:ext cx="94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mpil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49120" y="1414440"/>
                <a:ext cx="97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Java 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446600" y="1919160"/>
                <a:ext cx="76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DL fi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412760" y="2278080"/>
                <a:ext cx="112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ene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588000" y="163440"/>
                <a:ext cx="2376360" cy="2808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92720" y="239544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092720" y="2754360"/>
                <a:ext cx="360360" cy="0"/>
              </a:xfrm>
              <a:prstGeom prst="line">
                <a:avLst/>
              </a:prstGeom>
              <a:ln w="19080">
                <a:solidFill>
                  <a:srgbClr val="5490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29680" y="2565360"/>
                <a:ext cx="86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Rel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08000" y="90360"/>
              <a:ext cx="6119640" cy="360360"/>
            </a:xfrm>
            <a:prstGeom prst="rect">
              <a:avLst/>
            </a:prstGeom>
            <a:solidFill>
              <a:srgbClr val="6699ff">
                <a:alpha val="40000"/>
              </a:srgbClr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penCCM Production Ch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8000" y="6427800"/>
              <a:ext cx="892800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5360" y="6375240"/>
              <a:ext cx="22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penCCM Run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3059280" y="4124160"/>
              <a:ext cx="57600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telier Caden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lug-in Eclipse +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96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erspectives pour la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haîne de prod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Réutilisée dans THALES Perco/CCM et atelier Caden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Avant OpenCCM 1.0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eur templates Java depuis C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eur XML CORBA Component Descriptors (.cc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abilisation et documentation des A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solution des bugs dans l’impla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ourniture d’un unique compilateur / générateurs intégr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Après OpenCCM 1.0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ppliquer systématiquement démarche MDA pour générer la chaîne automatiqu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èles spécifiés en MOF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génération référentiels et XMI DT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sformations entre modèles spécifiés en MOF QVT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compilation et/ou interprétation des transformations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’outillage de conditionnement</a:t>
            </a:r>
            <a:br>
              <a:rPr sz="3600"/>
            </a:b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et d’assemblag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3679920" y="4076640"/>
            <a:ext cx="199224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Historique du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rojet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98480"/>
            <a:ext cx="868680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1998 - 2000 : suivi et étude de la proposition 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iers exposés et cours : [Car99], [Ecoop00]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2000 - 2001 :  expérimentation et prototypag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ier prototype du compilateur OMG IDL 3.0 et d’un « micro-runtime 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enCCM 0.1 (01/01) : 1ière version sur site LIF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enCCM 0.2 (03/01) : bugs et amélio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2002 - 20xx : projet logiciel libre hébergé par ObjectWeb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.0.4 (07/02) : 1ière version sur site ObjectW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.0.5 (12/02) : compilateur CIDL/PSDL, générateur XMI UML, déploiement 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.0.6 (03/03) : nouvelle chaîne compilation / génération, runtime C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.0.7 (07/03) : service PSS, outil C&amp;A, infrastructure déploiement, browser,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.0.8 (10/03) : service trader, stabilisation et améliorations diver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OpenCCM 1.0 (juin 2004) : couverture complète du 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lage de conditionnement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t d’assembl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059280" y="3019320"/>
            <a:ext cx="2965320" cy="19940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utillage de conditionnement et d’assemblag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enC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-3240" y="1268280"/>
            <a:ext cx="1808280" cy="1467000"/>
            <a:chOff x="-3240" y="1268280"/>
            <a:chExt cx="1808280" cy="1467000"/>
          </a:xfrm>
        </p:grpSpPr>
        <p:sp>
          <p:nvSpPr>
            <p:cNvPr id="919" name=""/>
            <p:cNvSpPr/>
            <p:nvPr/>
          </p:nvSpPr>
          <p:spPr>
            <a:xfrm>
              <a:off x="-3240" y="203148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Développ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720720" y="1268280"/>
              <a:ext cx="326880" cy="860400"/>
              <a:chOff x="720720" y="1268280"/>
              <a:chExt cx="326880" cy="860400"/>
            </a:xfrm>
          </p:grpSpPr>
          <p:sp>
            <p:nvSpPr>
              <p:cNvPr id="921" name=""/>
              <p:cNvSpPr/>
              <p:nvPr/>
            </p:nvSpPr>
            <p:spPr>
              <a:xfrm>
                <a:off x="817920" y="1268280"/>
                <a:ext cx="132120" cy="1695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20720" y="1437840"/>
                <a:ext cx="326880" cy="69084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7583400" y="5157720"/>
            <a:ext cx="1540080" cy="1390320"/>
            <a:chOff x="7583400" y="5157720"/>
            <a:chExt cx="1540080" cy="1390320"/>
          </a:xfrm>
        </p:grpSpPr>
        <p:sp>
          <p:nvSpPr>
            <p:cNvPr id="924" name=""/>
            <p:cNvSpPr/>
            <p:nvPr/>
          </p:nvSpPr>
          <p:spPr>
            <a:xfrm>
              <a:off x="7583400" y="5844240"/>
              <a:ext cx="15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Utilisa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8170920" y="5157720"/>
              <a:ext cx="326160" cy="774000"/>
              <a:chOff x="8170920" y="5157720"/>
              <a:chExt cx="326160" cy="774000"/>
            </a:xfrm>
          </p:grpSpPr>
          <p:sp>
            <p:nvSpPr>
              <p:cNvPr id="926" name=""/>
              <p:cNvSpPr/>
              <p:nvPr/>
            </p:nvSpPr>
            <p:spPr>
              <a:xfrm>
                <a:off x="8268120" y="515772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70920" y="5310000"/>
                <a:ext cx="326160" cy="62172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8" name=""/>
          <p:cNvGrpSpPr/>
          <p:nvPr/>
        </p:nvGrpSpPr>
        <p:grpSpPr>
          <a:xfrm>
            <a:off x="611280" y="4653000"/>
            <a:ext cx="1880640" cy="863280"/>
            <a:chOff x="611280" y="4653000"/>
            <a:chExt cx="1880640" cy="863280"/>
          </a:xfrm>
        </p:grpSpPr>
        <p:sp>
          <p:nvSpPr>
            <p:cNvPr id="929" name=""/>
            <p:cNvSpPr/>
            <p:nvPr/>
          </p:nvSpPr>
          <p:spPr>
            <a:xfrm flipV="1">
              <a:off x="794520" y="4653000"/>
              <a:ext cx="1697400" cy="7977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96240" y="4696560"/>
              <a:ext cx="1697760" cy="7977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611280" y="4718520"/>
              <a:ext cx="1697760" cy="7977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 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scrip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044720" y="2997360"/>
            <a:ext cx="1368360" cy="936360"/>
            <a:chOff x="1044720" y="2997360"/>
            <a:chExt cx="1368360" cy="936360"/>
          </a:xfrm>
        </p:grpSpPr>
        <p:grpSp>
          <p:nvGrpSpPr>
            <p:cNvPr id="933" name=""/>
            <p:cNvGrpSpPr/>
            <p:nvPr/>
          </p:nvGrpSpPr>
          <p:grpSpPr>
            <a:xfrm>
              <a:off x="1044720" y="2997360"/>
              <a:ext cx="1241640" cy="793800"/>
              <a:chOff x="1044720" y="2997360"/>
              <a:chExt cx="1241640" cy="793800"/>
            </a:xfrm>
          </p:grpSpPr>
          <p:sp>
            <p:nvSpPr>
              <p:cNvPr id="934" name=""/>
              <p:cNvSpPr/>
              <p:nvPr/>
            </p:nvSpPr>
            <p:spPr>
              <a:xfrm>
                <a:off x="1044720" y="2997360"/>
                <a:ext cx="1241640" cy="793800"/>
              </a:xfrm>
              <a:custGeom>
                <a:avLst/>
                <a:gdLst/>
                <a:ahLst/>
                <a:rect l="l" t="t" r="r" b="b"/>
                <a:pathLst>
                  <a:path w="577" h="343">
                    <a:moveTo>
                      <a:pt x="0" y="54"/>
                    </a:moveTo>
                    <a:lnTo>
                      <a:pt x="54" y="0"/>
                    </a:lnTo>
                    <a:lnTo>
                      <a:pt x="235" y="0"/>
                    </a:lnTo>
                    <a:lnTo>
                      <a:pt x="289" y="54"/>
                    </a:lnTo>
                    <a:lnTo>
                      <a:pt x="0" y="54"/>
                    </a:lnTo>
                    <a:close/>
                    <a:moveTo>
                      <a:pt x="0" y="343"/>
                    </a:moveTo>
                    <a:lnTo>
                      <a:pt x="577" y="343"/>
                    </a:lnTo>
                    <a:lnTo>
                      <a:pt x="577" y="54"/>
                    </a:lnTo>
                    <a:lnTo>
                      <a:pt x="0" y="54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86000" y="330984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.j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1100520" y="3068640"/>
              <a:ext cx="1241280" cy="793800"/>
              <a:chOff x="1100520" y="3068640"/>
              <a:chExt cx="1241280" cy="793800"/>
            </a:xfrm>
          </p:grpSpPr>
          <p:sp>
            <p:nvSpPr>
              <p:cNvPr id="937" name=""/>
              <p:cNvSpPr/>
              <p:nvPr/>
            </p:nvSpPr>
            <p:spPr>
              <a:xfrm>
                <a:off x="1100520" y="3068640"/>
                <a:ext cx="1241280" cy="793800"/>
              </a:xfrm>
              <a:custGeom>
                <a:avLst/>
                <a:gdLst/>
                <a:ahLst/>
                <a:rect l="l" t="t" r="r" b="b"/>
                <a:pathLst>
                  <a:path w="577" h="343">
                    <a:moveTo>
                      <a:pt x="0" y="54"/>
                    </a:moveTo>
                    <a:lnTo>
                      <a:pt x="54" y="0"/>
                    </a:lnTo>
                    <a:lnTo>
                      <a:pt x="235" y="0"/>
                    </a:lnTo>
                    <a:lnTo>
                      <a:pt x="289" y="54"/>
                    </a:lnTo>
                    <a:lnTo>
                      <a:pt x="0" y="54"/>
                    </a:lnTo>
                    <a:close/>
                    <a:moveTo>
                      <a:pt x="0" y="343"/>
                    </a:moveTo>
                    <a:lnTo>
                      <a:pt x="577" y="343"/>
                    </a:lnTo>
                    <a:lnTo>
                      <a:pt x="577" y="54"/>
                    </a:lnTo>
                    <a:lnTo>
                      <a:pt x="0" y="54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441440" y="338112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.j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1171800" y="3140280"/>
              <a:ext cx="1241280" cy="793440"/>
              <a:chOff x="1171800" y="3140280"/>
              <a:chExt cx="1241280" cy="793440"/>
            </a:xfrm>
          </p:grpSpPr>
          <p:sp>
            <p:nvSpPr>
              <p:cNvPr id="940" name=""/>
              <p:cNvSpPr/>
              <p:nvPr/>
            </p:nvSpPr>
            <p:spPr>
              <a:xfrm>
                <a:off x="1171800" y="3140280"/>
                <a:ext cx="1241280" cy="793440"/>
              </a:xfrm>
              <a:custGeom>
                <a:avLst/>
                <a:gdLst/>
                <a:ahLst/>
                <a:rect l="l" t="t" r="r" b="b"/>
                <a:pathLst>
                  <a:path w="577" h="343">
                    <a:moveTo>
                      <a:pt x="0" y="54"/>
                    </a:moveTo>
                    <a:lnTo>
                      <a:pt x="54" y="0"/>
                    </a:lnTo>
                    <a:lnTo>
                      <a:pt x="235" y="0"/>
                    </a:lnTo>
                    <a:lnTo>
                      <a:pt x="289" y="54"/>
                    </a:lnTo>
                    <a:lnTo>
                      <a:pt x="0" y="54"/>
                    </a:lnTo>
                    <a:close/>
                    <a:moveTo>
                      <a:pt x="0" y="343"/>
                    </a:moveTo>
                    <a:lnTo>
                      <a:pt x="577" y="343"/>
                    </a:lnTo>
                    <a:lnTo>
                      <a:pt x="577" y="54"/>
                    </a:lnTo>
                    <a:lnTo>
                      <a:pt x="0" y="54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12720" y="345240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.j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2" name=""/>
          <p:cNvGrpSpPr/>
          <p:nvPr/>
        </p:nvGrpSpPr>
        <p:grpSpPr>
          <a:xfrm>
            <a:off x="3924360" y="1412640"/>
            <a:ext cx="1510920" cy="861480"/>
            <a:chOff x="3924360" y="1412640"/>
            <a:chExt cx="1510920" cy="861480"/>
          </a:xfrm>
        </p:grpSpPr>
        <p:sp>
          <p:nvSpPr>
            <p:cNvPr id="943" name=""/>
            <p:cNvSpPr/>
            <p:nvPr/>
          </p:nvSpPr>
          <p:spPr>
            <a:xfrm flipV="1">
              <a:off x="4071600" y="1411920"/>
              <a:ext cx="1363680" cy="7959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992400" y="1455480"/>
              <a:ext cx="1364040" cy="7959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3924360" y="1477800"/>
              <a:ext cx="1364040" cy="7959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 Propert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escrip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3530160" y="5157720"/>
            <a:ext cx="2020320" cy="1390320"/>
            <a:chOff x="3530160" y="5157720"/>
            <a:chExt cx="2020320" cy="1390320"/>
          </a:xfrm>
        </p:grpSpPr>
        <p:sp>
          <p:nvSpPr>
            <p:cNvPr id="947" name=""/>
            <p:cNvSpPr/>
            <p:nvPr/>
          </p:nvSpPr>
          <p:spPr>
            <a:xfrm>
              <a:off x="3530160" y="5844240"/>
              <a:ext cx="202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Conditionn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Assembl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4354560" y="5157720"/>
              <a:ext cx="326520" cy="774000"/>
              <a:chOff x="4354560" y="5157720"/>
              <a:chExt cx="326520" cy="774000"/>
            </a:xfrm>
          </p:grpSpPr>
          <p:sp>
            <p:nvSpPr>
              <p:cNvPr id="949" name=""/>
              <p:cNvSpPr/>
              <p:nvPr/>
            </p:nvSpPr>
            <p:spPr>
              <a:xfrm>
                <a:off x="4451760" y="5157720"/>
                <a:ext cx="132120" cy="15228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354560" y="5310000"/>
                <a:ext cx="326520" cy="62172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1979640" y="1341000"/>
            <a:ext cx="1439640" cy="933120"/>
            <a:chOff x="1979640" y="1341000"/>
            <a:chExt cx="1439640" cy="933120"/>
          </a:xfrm>
        </p:grpSpPr>
        <p:sp>
          <p:nvSpPr>
            <p:cNvPr id="952" name=""/>
            <p:cNvSpPr/>
            <p:nvPr/>
          </p:nvSpPr>
          <p:spPr>
            <a:xfrm flipV="1">
              <a:off x="2119680" y="1340640"/>
              <a:ext cx="1299600" cy="86220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2044440" y="1387800"/>
              <a:ext cx="1299960" cy="86220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1979640" y="1411560"/>
              <a:ext cx="1299960" cy="86220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 CORBA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867280" y="1412640"/>
            <a:ext cx="1510920" cy="861480"/>
            <a:chOff x="5867280" y="1412640"/>
            <a:chExt cx="1510920" cy="861480"/>
          </a:xfrm>
        </p:grpSpPr>
        <p:sp>
          <p:nvSpPr>
            <p:cNvPr id="956" name=""/>
            <p:cNvSpPr/>
            <p:nvPr/>
          </p:nvSpPr>
          <p:spPr>
            <a:xfrm flipV="1">
              <a:off x="6014520" y="1411920"/>
              <a:ext cx="1363680" cy="7959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5935320" y="1455480"/>
              <a:ext cx="1364040" cy="7959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5867280" y="1477800"/>
              <a:ext cx="1364040" cy="7959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L Assemb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escrip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999120" y="4005360"/>
            <a:ext cx="1676520" cy="8636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927840" y="2755800"/>
            <a:ext cx="1441440" cy="6494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93080" y="4076640"/>
            <a:ext cx="1676160" cy="8636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64360" y="4149720"/>
            <a:ext cx="1676520" cy="8636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018200" y="2852640"/>
            <a:ext cx="1441440" cy="6494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91280" y="2924280"/>
            <a:ext cx="1441440" cy="64908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11280" y="3573360"/>
            <a:ext cx="57636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2484360" y="4723920"/>
            <a:ext cx="50328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987640" y="2349360"/>
            <a:ext cx="432000" cy="64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500720" y="234936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5364000" y="2349360"/>
            <a:ext cx="720720" cy="64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084720" y="3284280"/>
            <a:ext cx="792360" cy="21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84720" y="4292640"/>
            <a:ext cx="792360" cy="7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lage de conditionnement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t d’assembl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18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e interface graphique Sw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sants graphiques d’édition XML générés avec Apollon à partir des 4 DTD XML du 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ipulation d’archives Z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g-ins pour le canevas Brow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326160" y="4185360"/>
            <a:ext cx="1474920" cy="852840"/>
            <a:chOff x="326160" y="4185360"/>
            <a:chExt cx="1474920" cy="852840"/>
          </a:xfrm>
        </p:grpSpPr>
        <p:sp>
          <p:nvSpPr>
            <p:cNvPr id="975" name=""/>
            <p:cNvSpPr/>
            <p:nvPr/>
          </p:nvSpPr>
          <p:spPr>
            <a:xfrm>
              <a:off x="326160" y="4185360"/>
              <a:ext cx="1251000" cy="657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 DTD XML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u C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160" y="4245840"/>
              <a:ext cx="1251000" cy="657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 DTD XML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u C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8800" y="4309200"/>
              <a:ext cx="1251000" cy="657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 DTD XML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u C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0080" y="4380480"/>
              <a:ext cx="1251000" cy="657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 DTD XML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u C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554200" y="4249800"/>
            <a:ext cx="1584360" cy="723960"/>
          </a:xfrm>
          <a:prstGeom prst="hexagon">
            <a:avLst>
              <a:gd name="adj" fmla="val 54712"/>
              <a:gd name="vf" fmla="val 11547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o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+ Z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87800" y="5805360"/>
            <a:ext cx="3905280" cy="507960"/>
          </a:xfrm>
          <a:prstGeom prst="hexagon">
            <a:avLst>
              <a:gd name="adj" fmla="val 192204"/>
              <a:gd name="vf" fmla="val 11547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nevas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5076720" y="3573360"/>
            <a:ext cx="1513080" cy="2082240"/>
            <a:chOff x="5076720" y="3573360"/>
            <a:chExt cx="1513080" cy="2082240"/>
          </a:xfrm>
        </p:grpSpPr>
        <p:sp>
          <p:nvSpPr>
            <p:cNvPr id="982" name=""/>
            <p:cNvSpPr/>
            <p:nvPr/>
          </p:nvSpPr>
          <p:spPr>
            <a:xfrm>
              <a:off x="5076720" y="5307840"/>
              <a:ext cx="1511280" cy="34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lug-in 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"/>
            <p:cNvGrpSpPr/>
            <p:nvPr/>
          </p:nvGrpSpPr>
          <p:grpSpPr>
            <a:xfrm>
              <a:off x="5076720" y="3573360"/>
              <a:ext cx="1513080" cy="863640"/>
              <a:chOff x="5076720" y="3573360"/>
              <a:chExt cx="1513080" cy="863640"/>
            </a:xfrm>
          </p:grpSpPr>
          <p:sp>
            <p:nvSpPr>
              <p:cNvPr id="984" name=""/>
              <p:cNvSpPr/>
              <p:nvPr/>
            </p:nvSpPr>
            <p:spPr>
              <a:xfrm>
                <a:off x="5076720" y="3573360"/>
                <a:ext cx="1513080" cy="863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Binding Ze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5456160" y="3933720"/>
                <a:ext cx="754200" cy="361800"/>
                <a:chOff x="5456160" y="3933720"/>
                <a:chExt cx="754200" cy="36180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5745240" y="393372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889600" y="4069080"/>
                  <a:ext cx="14472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600880" y="4069800"/>
                  <a:ext cx="144360" cy="90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672160" y="420516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56160" y="4205160"/>
                  <a:ext cx="14472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862600" y="4205160"/>
                  <a:ext cx="14472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066000" y="420444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993" name=""/>
                <p:cNvCxnSpPr>
                  <a:stCxn id="986" idx="3"/>
                  <a:endCxn id="988" idx="7"/>
                </p:cNvCxnSpPr>
                <p:nvPr/>
              </p:nvCxnSpPr>
              <p:spPr>
                <a:xfrm flipH="1">
                  <a:off x="5724360" y="4010760"/>
                  <a:ext cx="41760" cy="72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4" name=""/>
                <p:cNvCxnSpPr>
                  <a:stCxn id="988" idx="3"/>
                  <a:endCxn id="990" idx="7"/>
                </p:cNvCxnSpPr>
                <p:nvPr/>
              </p:nvCxnSpPr>
              <p:spPr>
                <a:xfrm flipH="1">
                  <a:off x="5579640" y="4147560"/>
                  <a:ext cx="41760" cy="7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5" name=""/>
                <p:cNvCxnSpPr>
                  <a:stCxn id="988" idx="5"/>
                  <a:endCxn id="989" idx="0"/>
                </p:cNvCxnSpPr>
                <p:nvPr/>
              </p:nvCxnSpPr>
              <p:spPr>
                <a:xfrm>
                  <a:off x="5724360" y="4147560"/>
                  <a:ext cx="20880" cy="58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6" name=""/>
                <p:cNvCxnSpPr>
                  <a:stCxn id="986" idx="5"/>
                  <a:endCxn id="987" idx="1"/>
                </p:cNvCxnSpPr>
                <p:nvPr/>
              </p:nvCxnSpPr>
              <p:spPr>
                <a:xfrm>
                  <a:off x="5868720" y="4011120"/>
                  <a:ext cx="41760" cy="7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7" name=""/>
                <p:cNvCxnSpPr>
                  <a:stCxn id="987" idx="4"/>
                  <a:endCxn id="991" idx="0"/>
                </p:cNvCxnSpPr>
                <p:nvPr/>
              </p:nvCxnSpPr>
              <p:spPr>
                <a:xfrm flipH="1">
                  <a:off x="5934960" y="4159080"/>
                  <a:ext cx="27720" cy="46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8" name=""/>
                <p:cNvCxnSpPr>
                  <a:stCxn id="987" idx="5"/>
                  <a:endCxn id="992" idx="1"/>
                </p:cNvCxnSpPr>
                <p:nvPr/>
              </p:nvCxnSpPr>
              <p:spPr>
                <a:xfrm>
                  <a:off x="6013080" y="4146480"/>
                  <a:ext cx="73800" cy="7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</p:grpSp>
        <p:grpSp>
          <p:nvGrpSpPr>
            <p:cNvPr id="999" name=""/>
            <p:cNvGrpSpPr/>
            <p:nvPr/>
          </p:nvGrpSpPr>
          <p:grpSpPr>
            <a:xfrm>
              <a:off x="5076720" y="4438440"/>
              <a:ext cx="1513080" cy="863640"/>
              <a:chOff x="5076720" y="4438440"/>
              <a:chExt cx="1513080" cy="863640"/>
            </a:xfrm>
          </p:grpSpPr>
          <p:sp>
            <p:nvSpPr>
              <p:cNvPr id="1000" name=""/>
              <p:cNvSpPr/>
              <p:nvPr/>
            </p:nvSpPr>
            <p:spPr>
              <a:xfrm>
                <a:off x="5076720" y="4438440"/>
                <a:ext cx="1513080" cy="863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Binding Sw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5456160" y="4798800"/>
                <a:ext cx="754200" cy="361800"/>
                <a:chOff x="5456160" y="4798800"/>
                <a:chExt cx="754200" cy="36180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5745240" y="479880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889600" y="4934160"/>
                  <a:ext cx="14472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00880" y="4934880"/>
                  <a:ext cx="144360" cy="90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72160" y="507024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456160" y="5070240"/>
                  <a:ext cx="14472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862600" y="5070240"/>
                  <a:ext cx="14472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066000" y="506952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09" name=""/>
                <p:cNvCxnSpPr>
                  <a:stCxn id="1002" idx="3"/>
                  <a:endCxn id="1004" idx="7"/>
                </p:cNvCxnSpPr>
                <p:nvPr/>
              </p:nvCxnSpPr>
              <p:spPr>
                <a:xfrm flipH="1">
                  <a:off x="5724360" y="4875840"/>
                  <a:ext cx="41760" cy="72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0" name=""/>
                <p:cNvCxnSpPr>
                  <a:stCxn id="1004" idx="3"/>
                  <a:endCxn id="1006" idx="7"/>
                </p:cNvCxnSpPr>
                <p:nvPr/>
              </p:nvCxnSpPr>
              <p:spPr>
                <a:xfrm flipH="1">
                  <a:off x="5579640" y="5012640"/>
                  <a:ext cx="41760" cy="7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1" name=""/>
                <p:cNvCxnSpPr>
                  <a:stCxn id="1004" idx="5"/>
                  <a:endCxn id="1005" idx="0"/>
                </p:cNvCxnSpPr>
                <p:nvPr/>
              </p:nvCxnSpPr>
              <p:spPr>
                <a:xfrm>
                  <a:off x="5724360" y="5012640"/>
                  <a:ext cx="20880" cy="58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2" name=""/>
                <p:cNvCxnSpPr>
                  <a:stCxn id="1002" idx="5"/>
                  <a:endCxn id="1003" idx="1"/>
                </p:cNvCxnSpPr>
                <p:nvPr/>
              </p:nvCxnSpPr>
              <p:spPr>
                <a:xfrm>
                  <a:off x="5868720" y="4876200"/>
                  <a:ext cx="41760" cy="7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3" name=""/>
                <p:cNvCxnSpPr>
                  <a:stCxn id="1003" idx="4"/>
                  <a:endCxn id="1007" idx="0"/>
                </p:cNvCxnSpPr>
                <p:nvPr/>
              </p:nvCxnSpPr>
              <p:spPr>
                <a:xfrm flipH="1">
                  <a:off x="5934960" y="5024160"/>
                  <a:ext cx="27720" cy="46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4" name=""/>
                <p:cNvCxnSpPr>
                  <a:stCxn id="1003" idx="5"/>
                  <a:endCxn id="1008" idx="1"/>
                </p:cNvCxnSpPr>
                <p:nvPr/>
              </p:nvCxnSpPr>
              <p:spPr>
                <a:xfrm>
                  <a:off x="6013080" y="5011560"/>
                  <a:ext cx="73800" cy="7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</p:grpSp>
      </p:grpSp>
      <p:grpSp>
        <p:nvGrpSpPr>
          <p:cNvPr id="1015" name=""/>
          <p:cNvGrpSpPr/>
          <p:nvPr/>
        </p:nvGrpSpPr>
        <p:grpSpPr>
          <a:xfrm>
            <a:off x="7310520" y="4438800"/>
            <a:ext cx="1512720" cy="1216800"/>
            <a:chOff x="7310520" y="4438800"/>
            <a:chExt cx="1512720" cy="1216800"/>
          </a:xfrm>
        </p:grpSpPr>
        <p:sp>
          <p:nvSpPr>
            <p:cNvPr id="1016" name=""/>
            <p:cNvSpPr/>
            <p:nvPr/>
          </p:nvSpPr>
          <p:spPr>
            <a:xfrm>
              <a:off x="7310520" y="5307840"/>
              <a:ext cx="1511280" cy="34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lug-in 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310520" y="4438800"/>
              <a:ext cx="1512720" cy="863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rchi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Z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1906560" y="4395960"/>
            <a:ext cx="504720" cy="433080"/>
          </a:xfrm>
          <a:prstGeom prst="rightArrow">
            <a:avLst>
              <a:gd name="adj1" fmla="val 50000"/>
              <a:gd name="adj2" fmla="val 2913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82920" y="4394160"/>
            <a:ext cx="505080" cy="433440"/>
          </a:xfrm>
          <a:prstGeom prst="rightArrow">
            <a:avLst>
              <a:gd name="adj1" fmla="val 50000"/>
              <a:gd name="adj2" fmla="val 29132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lage de conditionnement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t d’assembl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 canevas pour construire des outils de conditionnement et d’assemblage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eur adaptable via canevas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ants d’édition XML adaptables via générateur Apoll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égrable dans d’autres applications S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tilisateurs peuvent construire leur propre outillage de conditionnement et d’assembl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penCCM fournit une instance prête à l’emplo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e instance de l’outillage de conditionnement et d’assembl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’infrastructure répartie</a:t>
            </a:r>
            <a:br>
              <a:rPr sz="3600"/>
            </a:b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de déploiemen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3679920" y="4076640"/>
            <a:ext cx="199224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frastructure réparti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déploi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50920" y="2924280"/>
            <a:ext cx="1441440" cy="64908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627280" y="422100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til IH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ploi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1908000" y="5300640"/>
            <a:ext cx="700200" cy="4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50920" y="5229360"/>
            <a:ext cx="1676160" cy="11048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763640" y="4437000"/>
            <a:ext cx="72072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702400" y="1413000"/>
            <a:ext cx="3047400" cy="1990080"/>
            <a:chOff x="5702400" y="1413000"/>
            <a:chExt cx="3047400" cy="1990080"/>
          </a:xfrm>
        </p:grpSpPr>
        <p:sp>
          <p:nvSpPr>
            <p:cNvPr id="1034" name="Cloud"/>
            <p:cNvSpPr/>
            <p:nvPr/>
          </p:nvSpPr>
          <p:spPr>
            <a:xfrm>
              <a:off x="6006960" y="1413000"/>
              <a:ext cx="2742840" cy="18378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ploy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Cloud"/>
            <p:cNvSpPr/>
            <p:nvPr/>
          </p:nvSpPr>
          <p:spPr>
            <a:xfrm>
              <a:off x="5854680" y="1488960"/>
              <a:ext cx="2742840" cy="18378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ploy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Cloud"/>
            <p:cNvSpPr/>
            <p:nvPr/>
          </p:nvSpPr>
          <p:spPr>
            <a:xfrm>
              <a:off x="5702400" y="1564920"/>
              <a:ext cx="2742840" cy="1838160"/>
            </a:xfrm>
            <a:prstGeom prst="pi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ploy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Cloud"/>
          <p:cNvSpPr/>
          <p:nvPr/>
        </p:nvSpPr>
        <p:spPr>
          <a:xfrm>
            <a:off x="5580000" y="1700280"/>
            <a:ext cx="2743200" cy="1838160"/>
          </a:xfrm>
          <a:prstGeom prst="pie">
            <a:avLst/>
          </a:prstGeom>
          <a:solidFill>
            <a:srgbClr val="fab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ploy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859280" y="4292640"/>
            <a:ext cx="4103640" cy="1368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rastructure réparti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o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247920" y="2836800"/>
            <a:ext cx="12708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4" y="17"/>
                </a:lnTo>
                <a:lnTo>
                  <a:pt x="66" y="9"/>
                </a:lnTo>
                <a:lnTo>
                  <a:pt x="57" y="2"/>
                </a:lnTo>
                <a:lnTo>
                  <a:pt x="46" y="0"/>
                </a:lnTo>
                <a:lnTo>
                  <a:pt x="34" y="0"/>
                </a:lnTo>
                <a:lnTo>
                  <a:pt x="24" y="2"/>
                </a:lnTo>
                <a:lnTo>
                  <a:pt x="14" y="9"/>
                </a:lnTo>
                <a:lnTo>
                  <a:pt x="6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6" y="60"/>
                </a:lnTo>
                <a:lnTo>
                  <a:pt x="14" y="69"/>
                </a:lnTo>
                <a:lnTo>
                  <a:pt x="24" y="75"/>
                </a:lnTo>
                <a:lnTo>
                  <a:pt x="34" y="78"/>
                </a:lnTo>
                <a:lnTo>
                  <a:pt x="46" y="78"/>
                </a:lnTo>
                <a:lnTo>
                  <a:pt x="57" y="75"/>
                </a:lnTo>
                <a:lnTo>
                  <a:pt x="66" y="69"/>
                </a:lnTo>
                <a:lnTo>
                  <a:pt x="74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54320" y="2960640"/>
            <a:ext cx="314280" cy="504720"/>
          </a:xfrm>
          <a:custGeom>
            <a:avLst/>
            <a:gdLst/>
            <a:ahLst/>
            <a:rect l="l" t="t" r="r" b="b"/>
            <a:pathLst>
              <a:path w="198" h="318">
                <a:moveTo>
                  <a:pt x="101" y="164"/>
                </a:moveTo>
                <a:lnTo>
                  <a:pt x="147" y="318"/>
                </a:lnTo>
                <a:lnTo>
                  <a:pt x="184" y="318"/>
                </a:lnTo>
                <a:lnTo>
                  <a:pt x="147" y="139"/>
                </a:lnTo>
                <a:lnTo>
                  <a:pt x="147" y="35"/>
                </a:lnTo>
                <a:lnTo>
                  <a:pt x="175" y="120"/>
                </a:lnTo>
                <a:lnTo>
                  <a:pt x="198" y="104"/>
                </a:lnTo>
                <a:lnTo>
                  <a:pt x="166" y="0"/>
                </a:lnTo>
                <a:lnTo>
                  <a:pt x="101" y="5"/>
                </a:lnTo>
                <a:lnTo>
                  <a:pt x="37" y="0"/>
                </a:lnTo>
                <a:lnTo>
                  <a:pt x="0" y="109"/>
                </a:lnTo>
                <a:lnTo>
                  <a:pt x="27" y="120"/>
                </a:lnTo>
                <a:lnTo>
                  <a:pt x="55" y="35"/>
                </a:lnTo>
                <a:lnTo>
                  <a:pt x="55" y="139"/>
                </a:lnTo>
                <a:lnTo>
                  <a:pt x="18" y="318"/>
                </a:lnTo>
                <a:lnTo>
                  <a:pt x="55" y="318"/>
                </a:lnTo>
                <a:lnTo>
                  <a:pt x="101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409840" y="353700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Install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738440" y="3284640"/>
            <a:ext cx="863640" cy="115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484360" y="5734080"/>
            <a:ext cx="6516720" cy="503280"/>
          </a:xfrm>
          <a:prstGeom prst="leftRightArrow">
            <a:avLst>
              <a:gd name="adj1" fmla="val 62046"/>
              <a:gd name="adj2" fmla="val 3213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B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059280" y="5659560"/>
            <a:ext cx="4681440" cy="433440"/>
          </a:xfrm>
          <a:custGeom>
            <a:avLst/>
            <a:gdLst>
              <a:gd name="textAreaLeft" fmla="*/ 927720 w 4681440"/>
              <a:gd name="textAreaRight" fmla="*/ 3285360 w 46814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3" hR="21600" stAng="10800000" swAng="-5400000"/>
                <a:lnTo>
                  <a:pt x="10878" y="21600"/>
                </a:lnTo>
                <a:arcTo wR="8563" hR="21600" stAng="5400000" swAng="-2896245"/>
                <a:lnTo>
                  <a:pt x="21110" y="7200"/>
                </a:lnTo>
                <a:lnTo>
                  <a:pt x="18283" y="0"/>
                </a:lnTo>
                <a:lnTo>
                  <a:pt x="14475" y="7200"/>
                </a:lnTo>
                <a:lnTo>
                  <a:pt x="16635" y="7200"/>
                </a:lnTo>
                <a:arcTo wR="8563" hR="21600" stAng="2503755" swAng="2710498"/>
                <a:lnTo>
                  <a:pt x="9720" y="21402"/>
                </a:lnTo>
                <a:arcTo wR="8563" hR="21600" stAng="5585748" swAng="5214252"/>
                <a:close/>
              </a:path>
              <a:path fill="darkenLess" w="21600" h="21600">
                <a:moveTo>
                  <a:pt x="0" y="0"/>
                </a:moveTo>
                <a:arcTo wR="8563" hR="21600" stAng="10800000" swAng="-5400000"/>
                <a:lnTo>
                  <a:pt x="10878" y="21600"/>
                </a:lnTo>
                <a:arcTo wR="8563" hR="21600" stAng="5400000" swAng="185748"/>
                <a:lnTo>
                  <a:pt x="9720" y="21402"/>
                </a:lnTo>
                <a:arcTo wR="8563" hR="21600" stAng="5585748" swAng="5214252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730920" y="3525840"/>
            <a:ext cx="360360" cy="719280"/>
          </a:xfrm>
          <a:prstGeom prst="upArrow">
            <a:avLst>
              <a:gd name="adj1" fmla="val 50000"/>
              <a:gd name="adj2" fmla="val 499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0920" y="4076640"/>
            <a:ext cx="1441440" cy="6494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frastructure réparti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déploi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util IHM de déploi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uellement une console tex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tard une IHM permettant d’assigner les composants aux si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’infrastructure répartie de déploi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éfinie dans le projet IST COACH – Distributed Computing Infrastructure (DCI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alisée en composants CCM dont les facettes sont les interfaces de déploiement définies dans la spécification 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ébergée dans des conteneurs CCM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éploiement avec propriétés non fonctionnelles comme persistance, transactions, sécurité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éploiement transactionnel intégré dans Open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panne durant déploiement alors retour à l’état avant déploi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composants de l’infrastructure répartie de déploi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DCIManager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= un domaine de déploiement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ett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mblyFa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Fin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res po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NodeManager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= une machine virtuell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ett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ctiva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res po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ServerManager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= un serveur de composant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et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res po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ntainerManager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= un conteneur de composant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et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res po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ssemblyManager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= un assemblage déployé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et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mb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res po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utres ports pour administration et supervision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ACH Distributed Computing Infrastructu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179280" y="1413000"/>
          <a:ext cx="878544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CI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1"/>
          <a:srcRect l="3624" t="3242" r="3624" b="3962"/>
          <a:stretch/>
        </p:blipFill>
        <p:spPr>
          <a:xfrm>
            <a:off x="179280" y="1341360"/>
            <a:ext cx="878544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état d’avancement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projet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98480"/>
            <a:ext cx="838188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mplantation partielle du 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aîne de compilation OMG IDL, PSDL et C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utillage de conditionnement et d’assembl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frastructure de déploi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upport d’exécution (composants Session et service PS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utillage d’administ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verses démonstrations (~ 7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Non encore couver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upport à l’exécution, i.e. conten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eur CORBA Component Descrip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eneurs pour composants Service, Process et Ent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jeure partie des interfaces des conten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égration des services dans les conten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98640" indent="-316080">
              <a:lnSpc>
                <a:spcPct val="11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ersistance, transaction, sécurité, notif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Node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rcRect l="3213" t="3192" r="3213" b="3990"/>
          <a:stretch/>
        </p:blipFill>
        <p:spPr>
          <a:xfrm>
            <a:off x="179280" y="1320840"/>
            <a:ext cx="878544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Assembly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rcRect l="3471" t="3066" r="3471" b="3504"/>
          <a:stretch/>
        </p:blipFill>
        <p:spPr>
          <a:xfrm>
            <a:off x="179280" y="1341360"/>
            <a:ext cx="878544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composants permanents de l’infrastructure DC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1064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9907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5053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008760" y="1371600"/>
              <a:ext cx="2133360" cy="4248720"/>
              <a:chOff x="6008760" y="1371600"/>
              <a:chExt cx="2133360" cy="42487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008760" y="137160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465960" y="52844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3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1074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1082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1083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1086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1089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"/>
          <p:cNvGrpSpPr/>
          <p:nvPr/>
        </p:nvGrpSpPr>
        <p:grpSpPr>
          <a:xfrm>
            <a:off x="1143000" y="3700440"/>
            <a:ext cx="1752120" cy="335880"/>
            <a:chOff x="1143000" y="3700440"/>
            <a:chExt cx="1752120" cy="335880"/>
          </a:xfrm>
        </p:grpSpPr>
        <p:sp>
          <p:nvSpPr>
            <p:cNvPr id="1092" name=""/>
            <p:cNvSpPr/>
            <p:nvPr/>
          </p:nvSpPr>
          <p:spPr>
            <a:xfrm>
              <a:off x="1143000" y="371016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212840" y="370044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stallation des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1097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1098" name=""/>
              <p:cNvSpPr/>
              <p:nvPr/>
            </p:nvSpPr>
            <p:spPr>
              <a:xfrm>
                <a:off x="9907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1101" name=""/>
              <p:cNvSpPr/>
              <p:nvPr/>
            </p:nvSpPr>
            <p:spPr>
              <a:xfrm>
                <a:off x="35053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6008760" y="1371600"/>
              <a:ext cx="2133360" cy="4248720"/>
              <a:chOff x="6008760" y="1371600"/>
              <a:chExt cx="2133360" cy="4248720"/>
            </a:xfrm>
          </p:grpSpPr>
          <p:sp>
            <p:nvSpPr>
              <p:cNvPr id="1104" name=""/>
              <p:cNvSpPr/>
              <p:nvPr/>
            </p:nvSpPr>
            <p:spPr>
              <a:xfrm>
                <a:off x="6008760" y="137160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465960" y="52844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6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1107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1115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1116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1119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1122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4" name=""/>
          <p:cNvGrpSpPr/>
          <p:nvPr/>
        </p:nvGrpSpPr>
        <p:grpSpPr>
          <a:xfrm>
            <a:off x="1143000" y="3689280"/>
            <a:ext cx="1752120" cy="335880"/>
            <a:chOff x="1143000" y="3689280"/>
            <a:chExt cx="1752120" cy="335880"/>
          </a:xfrm>
        </p:grpSpPr>
        <p:sp>
          <p:nvSpPr>
            <p:cNvPr id="1125" name=""/>
            <p:cNvSpPr/>
            <p:nvPr/>
          </p:nvSpPr>
          <p:spPr>
            <a:xfrm>
              <a:off x="1143000" y="369900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212840" y="368928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 flipV="1">
            <a:off x="2057400" y="4027320"/>
            <a:ext cx="0" cy="392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 flipV="1">
            <a:off x="2819520" y="403812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flipV="1">
            <a:off x="2971800" y="3733560"/>
            <a:ext cx="3200400" cy="5331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1143000" y="4800600"/>
            <a:ext cx="6858000" cy="577800"/>
            <a:chOff x="1143000" y="4800600"/>
            <a:chExt cx="6858000" cy="577800"/>
          </a:xfrm>
        </p:grpSpPr>
        <p:sp>
          <p:nvSpPr>
            <p:cNvPr id="1131" name=""/>
            <p:cNvSpPr/>
            <p:nvPr/>
          </p:nvSpPr>
          <p:spPr>
            <a:xfrm>
              <a:off x="1143000" y="4800600"/>
              <a:ext cx="6858000" cy="533160"/>
            </a:xfrm>
            <a:prstGeom prst="rect">
              <a:avLst/>
            </a:prstGeom>
            <a:solidFill>
              <a:srgbClr val="b30796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22560" y="5065560"/>
              <a:ext cx="1981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 Narrow"/>
                </a:rPr>
                <a:t>Installed Assemb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 flipH="1">
            <a:off x="533160" y="384336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61640" y="2778120"/>
            <a:ext cx="1171800" cy="794880"/>
            <a:chOff x="161640" y="2778120"/>
            <a:chExt cx="1171800" cy="794880"/>
          </a:xfrm>
        </p:grpSpPr>
        <p:sp>
          <p:nvSpPr>
            <p:cNvPr id="1135" name=""/>
            <p:cNvSpPr/>
            <p:nvPr/>
          </p:nvSpPr>
          <p:spPr>
            <a:xfrm>
              <a:off x="210960" y="2782800"/>
              <a:ext cx="1067040" cy="78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161640" y="2778120"/>
              <a:ext cx="1171800" cy="794880"/>
              <a:chOff x="161640" y="2778120"/>
              <a:chExt cx="1171800" cy="79488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193680" y="2778120"/>
                <a:ext cx="1139760" cy="794880"/>
                <a:chOff x="193680" y="2778120"/>
                <a:chExt cx="1139760" cy="79488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193680" y="2793960"/>
                  <a:ext cx="1077840" cy="779040"/>
                </a:xfrm>
                <a:prstGeom prst="rect">
                  <a:avLst/>
                </a:prstGeom>
                <a:solidFill>
                  <a:srgbClr val="b3079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66760" y="2778120"/>
                  <a:ext cx="106668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Arial Narrow"/>
                    </a:rPr>
                    <a:t>Assigned</a:t>
                  </a:r>
                  <a:br>
                    <a:rPr sz="1600"/>
                  </a:br>
                  <a:r>
                    <a:rPr b="1" lang="de-DE" sz="1600" spc="-1" strike="noStrike">
                      <a:solidFill>
                        <a:srgbClr val="000000"/>
                      </a:solidFill>
                      <a:latin typeface="Arial Narrow"/>
                    </a:rPr>
                    <a:t>Assembl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161640" y="3292200"/>
                <a:ext cx="575280" cy="264240"/>
                <a:chOff x="161640" y="3292200"/>
                <a:chExt cx="575280" cy="26424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236520" y="3312720"/>
                  <a:ext cx="426960" cy="201600"/>
                </a:xfrm>
                <a:prstGeom prst="rect">
                  <a:avLst/>
                </a:prstGeom>
                <a:solidFill>
                  <a:srgbClr val="ff7c5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61640" y="3292200"/>
                  <a:ext cx="575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XML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89400" y="3282840"/>
                <a:ext cx="546480" cy="264240"/>
                <a:chOff x="689400" y="3282840"/>
                <a:chExt cx="546480" cy="26424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9520" y="3314160"/>
                  <a:ext cx="426960" cy="200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89400" y="3282840"/>
                  <a:ext cx="5464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Co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6" name=""/>
          <p:cNvGrpSpPr/>
          <p:nvPr/>
        </p:nvGrpSpPr>
        <p:grpSpPr>
          <a:xfrm>
            <a:off x="4097160" y="4884840"/>
            <a:ext cx="285840" cy="336600"/>
            <a:chOff x="4097160" y="4884840"/>
            <a:chExt cx="285840" cy="336600"/>
          </a:xfrm>
        </p:grpSpPr>
        <p:sp>
          <p:nvSpPr>
            <p:cNvPr id="1147" name=""/>
            <p:cNvSpPr/>
            <p:nvPr/>
          </p:nvSpPr>
          <p:spPr>
            <a:xfrm>
              <a:off x="4125960" y="488628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78160" y="500400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178160" y="502920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00560" y="519120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33960" y="515160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67080" y="515628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46560" y="514836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73560" y="517356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19480" y="507384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4880" y="491652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76800" y="506592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92640" y="499284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03800" y="498636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63840" y="501804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54480" y="504828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67080" y="497700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17760" y="491652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290840" y="491976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89320" y="498780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62320" y="489600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14880" y="488628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11640" y="491004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16320" y="490392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24240" y="49039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230720" y="489924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257720" y="489132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25760" y="495792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329000" y="498312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332240" y="500544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329000" y="500544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327560" y="501984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1800" y="499896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45040" y="498168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46480" y="497376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19480" y="497196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49720" y="492768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70240" y="493092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000" y="495000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314600" y="513576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05080" y="507384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14600" y="513720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21080" y="516096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05080" y="504684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84640" y="503388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227480" y="497520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252680" y="499752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19560" y="497520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51240" y="497052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57720" y="504972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78240" y="507060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92640" y="497520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00480" y="504972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19480" y="498960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33880" y="497520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62320" y="498780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82840" y="500868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8400" y="495468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22800" y="505476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86080" y="503388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95880" y="492120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43400" y="501480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30800" y="503100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79960" y="504684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143240" y="499428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22720" y="507852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122720" y="507528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097160" y="505152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140000" y="488484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68880" y="489276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79680" y="489924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174920" y="492768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47920" y="50007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63840" y="508968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313160" y="512928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71760" y="517680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67080" y="515484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89400" y="516096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17760" y="514836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16320" y="513396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244760" y="514188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119480" y="496260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24160" y="499896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65640" y="501480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292640" y="499428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278240" y="502920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219560" y="491508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94080" y="511020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57640" y="504972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38640" y="509436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68880" y="517068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89400" y="518148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0840" y="516744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19640" y="520236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217760" y="513576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192560" y="491328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203720" y="492912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6960" y="491508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203720" y="489744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205160" y="490212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19560" y="489600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236840" y="489600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268880" y="490536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265640" y="489420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273560" y="489924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87600" y="491184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327560" y="497196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305240" y="499752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225680" y="499752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82920" y="504036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275000" y="507204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290840" y="502128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287600" y="499608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06680" y="502452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271760" y="505476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78240" y="507384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51240" y="500076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24476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251240" y="497988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2424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257720" y="505476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306680" y="498168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94080" y="499104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97320" y="499896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28920" y="499896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43320" y="492300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254480" y="498960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08480" y="498960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238640" y="499428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243320" y="498636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44760" y="498636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43320" y="498780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236840" y="498636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300560" y="498780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300560" y="498960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298760" y="498636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70240" y="495936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87880" y="494496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46480" y="497700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43240" y="495936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52960" y="495144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73480" y="496116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164120" y="492624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62400" y="490068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267080" y="490068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32240" y="499104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333680" y="500868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338720" y="501480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492960" y="4902120"/>
            <a:ext cx="285840" cy="336600"/>
            <a:chOff x="6492960" y="4902120"/>
            <a:chExt cx="285840" cy="336600"/>
          </a:xfrm>
        </p:grpSpPr>
        <p:sp>
          <p:nvSpPr>
            <p:cNvPr id="1295" name=""/>
            <p:cNvSpPr/>
            <p:nvPr/>
          </p:nvSpPr>
          <p:spPr>
            <a:xfrm>
              <a:off x="6521760" y="490356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573960" y="502128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573960" y="504648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96360" y="520848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29760" y="516888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62880" y="517356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42360" y="516564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69360" y="519084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515280" y="509112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10680" y="493380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72600" y="508320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88440" y="501012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699600" y="500364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659640" y="503532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650280" y="506556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662880" y="499428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613560" y="493380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686640" y="493704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585120" y="500508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58120" y="491328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610680" y="490356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607440" y="492732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12120" y="492120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620040" y="49212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26520" y="491652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653520" y="490860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21560" y="497520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24800" y="500040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28040" y="502272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24800" y="502272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23360" y="503712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37600" y="501624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40840" y="499896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42280" y="499104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15280" y="498924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545520" y="494496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566040" y="494820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35800" y="496728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710400" y="515304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00880" y="509112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10400" y="515448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716880" y="517824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00880" y="506412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80440" y="505116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623280" y="499248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648480" y="501480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615360" y="499248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47040" y="498780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53520" y="506700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674040" y="508788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688440" y="499248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596280" y="506700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515280" y="500688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529680" y="499248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558120" y="500508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578640" y="502596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604200" y="497196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18600" y="507204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581880" y="505116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691680" y="493848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739200" y="503208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26600" y="504828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575760" y="506412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539040" y="501156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518520" y="509580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518520" y="509256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492960" y="506880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35800" y="490212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664680" y="491004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675480" y="491652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570720" y="494496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543720" y="50180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59640" y="510696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08960" y="514656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67560" y="519408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62880" y="517212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85200" y="517824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13560" y="516564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12120" y="515124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40560" y="515916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15280" y="497988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519960" y="501624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61440" y="503208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88440" y="501156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74040" y="504648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15360" y="493236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89880" y="512748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553440" y="506700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34440" y="511164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64680" y="518796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85200" y="519876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86640" y="518472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715440" y="521964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13560" y="515304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588360" y="493056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99520" y="494640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02760" y="493236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99520" y="491472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00960" y="491940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15360" y="491328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32640" y="491328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64680" y="492264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61440" y="491148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69360" y="491652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83400" y="492912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723360" y="498924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701040" y="501480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1480" y="501480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78720" y="505764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70800" y="508932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86640" y="503856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83400" y="501336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702480" y="504180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67560" y="507204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74040" y="509112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47040" y="501804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4056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47040" y="49971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004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53520" y="507204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02480" y="499896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8988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93120" y="501624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24720" y="501624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39120" y="494028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50280" y="500688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04280" y="500688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34440" y="501156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39120" y="500364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40560" y="500364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639120" y="500508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632640" y="500364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696360" y="500508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696360" y="500688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694560" y="500364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566040" y="497664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583680" y="496224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542280" y="499428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539040" y="497664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548760" y="496872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69280" y="497844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9920" y="494352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58200" y="491796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662880" y="491796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28040" y="500832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29480" y="502596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34520" y="503208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1903320" y="4905360"/>
            <a:ext cx="285840" cy="336600"/>
            <a:chOff x="1903320" y="4905360"/>
            <a:chExt cx="285840" cy="336600"/>
          </a:xfrm>
        </p:grpSpPr>
        <p:sp>
          <p:nvSpPr>
            <p:cNvPr id="1443" name=""/>
            <p:cNvSpPr/>
            <p:nvPr/>
          </p:nvSpPr>
          <p:spPr>
            <a:xfrm>
              <a:off x="1932120" y="490680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984320" y="502452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984320" y="504972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06720" y="521172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040120" y="517212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0732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052720" y="516888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079720" y="519408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925640" y="509436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21040" y="493704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082960" y="508644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98800" y="501336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109960" y="500688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070000" y="503856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060640" y="506880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073240" y="499752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023920" y="493704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097000" y="494028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95480" y="500832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968480" y="491652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021040" y="490680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017800" y="493056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022480" y="492444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030400" y="49244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03688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063880" y="491184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131920" y="497844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135160" y="500364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138400" y="502596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35160" y="502596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133720" y="504036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947960" y="501948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951200" y="500220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2640" y="499428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925640" y="499248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955880" y="494820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976400" y="495144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46160" y="497052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20760" y="515628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911240" y="509436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120760" y="515772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27240" y="518148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911240" y="506736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990800" y="505440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033640" y="499572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58840" y="501804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025720" y="499572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057400" y="499104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063880" y="507024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084400" y="509112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098800" y="499572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006640" y="507024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925640" y="501012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940040" y="499572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968480" y="500832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989000" y="502920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014560" y="497520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28960" y="507528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992240" y="505440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02040" y="494172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49560" y="503532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36960" y="505152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986120" y="506736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49400" y="501480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928880" y="509904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928880" y="509580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903320" y="507204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946160" y="490536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075040" y="491328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085840" y="491976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81080" y="494820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54080" y="50212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070000" y="511020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19320" y="514980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77920" y="519732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073240" y="517536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95560" y="518148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023920" y="516888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22480" y="515448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050920" y="516240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925640" y="498312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930320" y="501948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71800" y="503532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098800" y="501480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84400" y="504972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25720" y="493560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100240" y="513072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963800" y="507024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044800" y="511488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075040" y="519120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095560" y="520200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097000" y="518796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25800" y="522288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023920" y="515628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998720" y="493380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009880" y="494964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013120" y="493560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009880" y="491796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11320" y="492264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25720" y="491652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043000" y="491652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75040" y="492588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071800" y="491472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79720" y="491976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93760" y="493236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33720" y="499248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11400" y="501804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031840" y="501804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089080" y="506088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081160" y="509256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097000" y="504180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093760" y="501660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12840" y="504504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077920" y="507528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084400" y="509436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02128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05092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057400" y="500040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03040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063880" y="507528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12840" y="500220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00240" y="501156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03480" y="501948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35080" y="501948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049480" y="494352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06064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1464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44800" y="501480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049480" y="500688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050920" y="500688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049480" y="500832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043000" y="500688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10672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10672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104920" y="500688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76400" y="497988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994040" y="496548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952640" y="499752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949400" y="497988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59120" y="497196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979640" y="498168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970280" y="494676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68560" y="492120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073240" y="492120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138400" y="501156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39840" y="502920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144880" y="503532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4776840" y="4903920"/>
            <a:ext cx="436680" cy="318960"/>
            <a:chOff x="4776840" y="4903920"/>
            <a:chExt cx="436680" cy="318960"/>
          </a:xfrm>
        </p:grpSpPr>
        <p:sp>
          <p:nvSpPr>
            <p:cNvPr id="1591" name=""/>
            <p:cNvSpPr/>
            <p:nvPr/>
          </p:nvSpPr>
          <p:spPr>
            <a:xfrm>
              <a:off x="4776840" y="490392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2" name=""/>
            <p:cNvGrpSpPr/>
            <p:nvPr/>
          </p:nvGrpSpPr>
          <p:grpSpPr>
            <a:xfrm>
              <a:off x="4848480" y="4948200"/>
              <a:ext cx="134640" cy="246960"/>
              <a:chOff x="4848480" y="4948200"/>
              <a:chExt cx="134640" cy="246960"/>
            </a:xfrm>
          </p:grpSpPr>
          <p:sp>
            <p:nvSpPr>
              <p:cNvPr id="1593" name=""/>
              <p:cNvSpPr/>
              <p:nvPr/>
            </p:nvSpPr>
            <p:spPr>
              <a:xfrm>
                <a:off x="4848480" y="49482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869720" y="495216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4937400" y="4935240"/>
              <a:ext cx="132840" cy="248760"/>
              <a:chOff x="4937400" y="4935240"/>
              <a:chExt cx="132840" cy="248760"/>
            </a:xfrm>
          </p:grpSpPr>
          <p:sp>
            <p:nvSpPr>
              <p:cNvPr id="1596" name=""/>
              <p:cNvSpPr/>
              <p:nvPr/>
            </p:nvSpPr>
            <p:spPr>
              <a:xfrm>
                <a:off x="4937400" y="493524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958280" y="493920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5019840" y="4929120"/>
              <a:ext cx="134640" cy="246960"/>
              <a:chOff x="5019840" y="4929120"/>
              <a:chExt cx="134640" cy="246960"/>
            </a:xfrm>
          </p:grpSpPr>
          <p:sp>
            <p:nvSpPr>
              <p:cNvPr id="1599" name=""/>
              <p:cNvSpPr/>
              <p:nvPr/>
            </p:nvSpPr>
            <p:spPr>
              <a:xfrm>
                <a:off x="5019840" y="492912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041080" y="493308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01" name="" descr=""/>
          <p:cNvPicPr/>
          <p:nvPr/>
        </p:nvPicPr>
        <p:blipFill>
          <a:blip r:embed="rId1"/>
          <a:stretch/>
        </p:blipFill>
        <p:spPr>
          <a:xfrm>
            <a:off x="7313760" y="4857840"/>
            <a:ext cx="44280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4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stancia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assembl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1605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1606" name=""/>
              <p:cNvSpPr/>
              <p:nvPr/>
            </p:nvSpPr>
            <p:spPr>
              <a:xfrm>
                <a:off x="9907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1609" name=""/>
              <p:cNvSpPr/>
              <p:nvPr/>
            </p:nvSpPr>
            <p:spPr>
              <a:xfrm>
                <a:off x="35053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6008760" y="1371600"/>
              <a:ext cx="2133360" cy="4248720"/>
              <a:chOff x="6008760" y="1371600"/>
              <a:chExt cx="2133360" cy="4248720"/>
            </a:xfrm>
          </p:grpSpPr>
          <p:sp>
            <p:nvSpPr>
              <p:cNvPr id="1612" name=""/>
              <p:cNvSpPr/>
              <p:nvPr/>
            </p:nvSpPr>
            <p:spPr>
              <a:xfrm>
                <a:off x="6008760" y="137160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465960" y="52844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4" name=""/>
          <p:cNvGrpSpPr/>
          <p:nvPr/>
        </p:nvGrpSpPr>
        <p:grpSpPr>
          <a:xfrm>
            <a:off x="1143000" y="2971800"/>
            <a:ext cx="1752120" cy="335880"/>
            <a:chOff x="1143000" y="2971800"/>
            <a:chExt cx="1752120" cy="335880"/>
          </a:xfrm>
        </p:grpSpPr>
        <p:sp>
          <p:nvSpPr>
            <p:cNvPr id="1615" name=""/>
            <p:cNvSpPr/>
            <p:nvPr/>
          </p:nvSpPr>
          <p:spPr>
            <a:xfrm>
              <a:off x="1143000" y="298152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212840" y="297180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ssemblyMg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1618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1626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1627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1630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1633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5" name=""/>
          <p:cNvGrpSpPr/>
          <p:nvPr/>
        </p:nvGrpSpPr>
        <p:grpSpPr>
          <a:xfrm>
            <a:off x="1143000" y="3689280"/>
            <a:ext cx="1752120" cy="335880"/>
            <a:chOff x="1143000" y="3689280"/>
            <a:chExt cx="1752120" cy="335880"/>
          </a:xfrm>
        </p:grpSpPr>
        <p:sp>
          <p:nvSpPr>
            <p:cNvPr id="1636" name=""/>
            <p:cNvSpPr/>
            <p:nvPr/>
          </p:nvSpPr>
          <p:spPr>
            <a:xfrm>
              <a:off x="1143000" y="369900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212840" y="368928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1143000" y="4800600"/>
            <a:ext cx="6858000" cy="533520"/>
          </a:xfrm>
          <a:prstGeom prst="rect">
            <a:avLst/>
          </a:prstGeom>
          <a:solidFill>
            <a:srgbClr val="b3079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122560" y="5065560"/>
            <a:ext cx="198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Narrow"/>
              </a:rPr>
              <a:t>Installed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6576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16104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1430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2035080" y="2522520"/>
            <a:ext cx="0" cy="495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2971440" y="2590920"/>
            <a:ext cx="685800" cy="3808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2971800" y="2590920"/>
            <a:ext cx="3200400" cy="5331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533160" y="384336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6600" y="345600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 Narrow"/>
              </a:rPr>
              <a:t>instant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2035080" y="3268800"/>
            <a:ext cx="0" cy="457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4097160" y="4884840"/>
            <a:ext cx="285840" cy="336600"/>
            <a:chOff x="4097160" y="4884840"/>
            <a:chExt cx="285840" cy="336600"/>
          </a:xfrm>
        </p:grpSpPr>
        <p:sp>
          <p:nvSpPr>
            <p:cNvPr id="1650" name=""/>
            <p:cNvSpPr/>
            <p:nvPr/>
          </p:nvSpPr>
          <p:spPr>
            <a:xfrm>
              <a:off x="4125960" y="488628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178160" y="500400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178160" y="502920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00560" y="519120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233960" y="515160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267080" y="515628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246560" y="514836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273560" y="517356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119480" y="507384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214880" y="491652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276800" y="506592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292640" y="499284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03800" y="498636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263840" y="501804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254480" y="504828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267080" y="497700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217760" y="491652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290840" y="491976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89320" y="498780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162320" y="489600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214880" y="488628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11640" y="491004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216320" y="490392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224240" y="49039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230720" y="489924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257720" y="489132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325760" y="495792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329000" y="498312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332240" y="500544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329000" y="500544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327560" y="501984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141800" y="499896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145040" y="498168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146480" y="497376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119480" y="497196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149720" y="492768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170240" y="493092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140000" y="495000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314600" y="513576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105080" y="507384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314600" y="513720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321080" y="516096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105080" y="504684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184640" y="503388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227480" y="497520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252680" y="499752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219560" y="497520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251240" y="497052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257720" y="504972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278240" y="507060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292640" y="497520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200480" y="504972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119480" y="498960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133880" y="497520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162320" y="498780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182840" y="500868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208400" y="495468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222800" y="505476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186080" y="503388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295880" y="492120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343400" y="501480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330800" y="503100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179960" y="504684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143240" y="499428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122720" y="507852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122720" y="507528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097160" y="505152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140000" y="488484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268880" y="489276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279680" y="489924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174920" y="492768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147920" y="50007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263840" y="508968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13160" y="512928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71760" y="517680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267080" y="515484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289400" y="516096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217760" y="514836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216320" y="513396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244760" y="514188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119480" y="496260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124160" y="499896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265640" y="501480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92640" y="499428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78240" y="502920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19560" y="491508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94080" y="511020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157640" y="504972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38640" y="509436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68880" y="517068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89400" y="518148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90840" y="516744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19640" y="520236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17760" y="513576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92560" y="491328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03720" y="492912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06960" y="491508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03720" y="489744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05160" y="490212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19560" y="489600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36840" y="489600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68880" y="490536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65640" y="489420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273560" y="489924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87600" y="491184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27560" y="497196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05240" y="499752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225680" y="499752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82920" y="504036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275000" y="507204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290840" y="502128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287600" y="499608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306680" y="502452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271760" y="505476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278240" y="507384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251240" y="500076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24476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251240" y="497988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22424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257720" y="505476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06680" y="498168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294080" y="499104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297320" y="499896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228920" y="499896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243320" y="492300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54480" y="498960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308480" y="498960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38640" y="499428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3320" y="498636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44760" y="498636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43320" y="498780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236840" y="498636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300560" y="498780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300560" y="498960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298760" y="498636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170240" y="495936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187880" y="494496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46480" y="497700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143240" y="495936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152960" y="495144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173480" y="496116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164120" y="492624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62400" y="490068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267080" y="490068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332240" y="499104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333680" y="500868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338720" y="501480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6492960" y="4902120"/>
            <a:ext cx="285840" cy="336600"/>
            <a:chOff x="6492960" y="4902120"/>
            <a:chExt cx="285840" cy="336600"/>
          </a:xfrm>
        </p:grpSpPr>
        <p:sp>
          <p:nvSpPr>
            <p:cNvPr id="1798" name=""/>
            <p:cNvSpPr/>
            <p:nvPr/>
          </p:nvSpPr>
          <p:spPr>
            <a:xfrm>
              <a:off x="6521760" y="490356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573960" y="502128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573960" y="504648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696360" y="520848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29760" y="516888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662880" y="517356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642360" y="516564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69360" y="519084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515280" y="509112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610680" y="493380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672600" y="508320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88440" y="501012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699600" y="500364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659640" y="503532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650280" y="506556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662880" y="499428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613560" y="493380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686640" y="493704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585120" y="500508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558120" y="491328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610680" y="490356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607440" y="492732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612120" y="492120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620040" y="49212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626520" y="491652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653520" y="490860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721560" y="497520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24800" y="500040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28040" y="502272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24800" y="502272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23360" y="503712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37600" y="501624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540840" y="499896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542280" y="499104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515280" y="498924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545520" y="494496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566040" y="494820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535800" y="496728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710400" y="515304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500880" y="509112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710400" y="515448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716880" y="517824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00880" y="506412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80440" y="505116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23280" y="499248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648480" y="501480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615360" y="499248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647040" y="498780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653520" y="506700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674040" y="508788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688440" y="499248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96280" y="506700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515280" y="500688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680" y="499248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58120" y="500508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78640" y="502596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604200" y="497196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618600" y="507204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81880" y="505116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691680" y="493848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739200" y="503208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726600" y="504828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575760" y="506412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539040" y="501156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518520" y="509580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518520" y="509256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492960" y="506880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535800" y="490212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664680" y="491004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675480" y="491652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570720" y="494496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543720" y="50180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659640" y="510696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708960" y="514656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667560" y="519408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662880" y="517212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685200" y="517824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613560" y="516564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612120" y="515124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640560" y="515916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515280" y="497988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519960" y="501624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661440" y="503208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688440" y="501156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674040" y="504648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615360" y="493236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689880" y="512748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553440" y="506700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634440" y="511164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664680" y="518796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685200" y="519876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686640" y="518472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715440" y="521964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613560" y="515304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588360" y="493056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599520" y="494640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602760" y="493236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599520" y="491472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600960" y="491940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615360" y="491328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632640" y="491328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664680" y="492264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661440" y="491148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669360" y="491652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683400" y="492912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723360" y="498924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01040" y="501480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621480" y="501480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678720" y="505764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70800" y="508932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6640" y="503856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83400" y="501336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02480" y="504180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667560" y="507204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674040" y="509112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647040" y="501804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64056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647040" y="49971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62004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653520" y="507204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702480" y="499896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8988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693120" y="501624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624720" y="501624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639120" y="494028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650280" y="500688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704280" y="500688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634440" y="501156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639120" y="500364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640560" y="500364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639120" y="500508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632640" y="500364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696360" y="500508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696360" y="500688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694560" y="500364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566040" y="497664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583680" y="496224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542280" y="499428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539040" y="497664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48760" y="496872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569280" y="497844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559920" y="494352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658200" y="491796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62880" y="491796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728040" y="500832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729480" y="502596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734520" y="503208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5" name=""/>
          <p:cNvGrpSpPr/>
          <p:nvPr/>
        </p:nvGrpSpPr>
        <p:grpSpPr>
          <a:xfrm>
            <a:off x="1903320" y="4905360"/>
            <a:ext cx="285840" cy="336600"/>
            <a:chOff x="1903320" y="4905360"/>
            <a:chExt cx="285840" cy="336600"/>
          </a:xfrm>
        </p:grpSpPr>
        <p:sp>
          <p:nvSpPr>
            <p:cNvPr id="1946" name=""/>
            <p:cNvSpPr/>
            <p:nvPr/>
          </p:nvSpPr>
          <p:spPr>
            <a:xfrm>
              <a:off x="1932120" y="490680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984320" y="502452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84320" y="504972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106720" y="521172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040120" y="517212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0732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052720" y="516888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079720" y="519408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25640" y="509436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21040" y="493704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82960" y="508644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098800" y="501336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109960" y="500688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070000" y="503856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060640" y="506880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073240" y="499752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023920" y="493704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097000" y="494028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995480" y="500832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968480" y="491652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021040" y="490680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017800" y="493056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022480" y="492444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030400" y="49244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03688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063880" y="491184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131920" y="497844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135160" y="500364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138400" y="502596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135160" y="502596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133720" y="504036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947960" y="501948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951200" y="500220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952640" y="499428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925640" y="499248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955880" y="494820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976400" y="495144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946160" y="497052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120760" y="515628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911240" y="509436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120760" y="515772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127240" y="518148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11240" y="506736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90800" y="505440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033640" y="499572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058840" y="501804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025720" y="499572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057400" y="499104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063880" y="507024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084400" y="509112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098800" y="499572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006640" y="507024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925640" y="501012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940040" y="499572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968480" y="500832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989000" y="502920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014560" y="497520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28960" y="507528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992240" y="505440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102040" y="494172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149560" y="503532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136960" y="505152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986120" y="506736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949400" y="501480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928880" y="509904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928880" y="509580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903320" y="507204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946160" y="490536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075040" y="491328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085840" y="491976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981080" y="494820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54080" y="50212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070000" y="511020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19320" y="514980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077920" y="519732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073240" y="517536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095560" y="518148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023920" y="516888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022480" y="515448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050920" y="516240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25640" y="498312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930320" y="501948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071800" y="503532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098800" y="501480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084400" y="504972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025720" y="493560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100240" y="513072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963800" y="507024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044800" y="511488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075040" y="519120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095560" y="520200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097000" y="518796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125800" y="522288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023920" y="515628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998720" y="493380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009880" y="494964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013120" y="493560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009880" y="491796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011320" y="492264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025720" y="491652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043000" y="491652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075040" y="492588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071800" y="491472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079720" y="491976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093760" y="493236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133720" y="499248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111400" y="501804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031840" y="501804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089080" y="506088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081160" y="509256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097000" y="504180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093760" y="501660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112840" y="504504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077920" y="507528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084400" y="509436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057400" y="502128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05092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057400" y="500040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03040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063880" y="507528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112840" y="500220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100240" y="501156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103480" y="501948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035080" y="501948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049480" y="494352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06064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11464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044800" y="501480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049480" y="500688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050920" y="500688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049480" y="500832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043000" y="500688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10672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10672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104920" y="500688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976400" y="497988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994040" y="496548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952640" y="499752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949400" y="497988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959120" y="497196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979640" y="498168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970280" y="494676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068560" y="492120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073240" y="492120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138400" y="501156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139840" y="502920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144880" y="503532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4776840" y="4903920"/>
            <a:ext cx="436680" cy="318960"/>
            <a:chOff x="4776840" y="4903920"/>
            <a:chExt cx="436680" cy="318960"/>
          </a:xfrm>
        </p:grpSpPr>
        <p:sp>
          <p:nvSpPr>
            <p:cNvPr id="2094" name=""/>
            <p:cNvSpPr/>
            <p:nvPr/>
          </p:nvSpPr>
          <p:spPr>
            <a:xfrm>
              <a:off x="4776840" y="490392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5" name=""/>
            <p:cNvGrpSpPr/>
            <p:nvPr/>
          </p:nvGrpSpPr>
          <p:grpSpPr>
            <a:xfrm>
              <a:off x="4848480" y="4948200"/>
              <a:ext cx="134640" cy="246960"/>
              <a:chOff x="4848480" y="4948200"/>
              <a:chExt cx="134640" cy="246960"/>
            </a:xfrm>
          </p:grpSpPr>
          <p:sp>
            <p:nvSpPr>
              <p:cNvPr id="2096" name=""/>
              <p:cNvSpPr/>
              <p:nvPr/>
            </p:nvSpPr>
            <p:spPr>
              <a:xfrm>
                <a:off x="4848480" y="49482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4869720" y="495216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4937400" y="4935240"/>
              <a:ext cx="132840" cy="248760"/>
              <a:chOff x="4937400" y="4935240"/>
              <a:chExt cx="132840" cy="248760"/>
            </a:xfrm>
          </p:grpSpPr>
          <p:sp>
            <p:nvSpPr>
              <p:cNvPr id="2099" name=""/>
              <p:cNvSpPr/>
              <p:nvPr/>
            </p:nvSpPr>
            <p:spPr>
              <a:xfrm>
                <a:off x="4937400" y="493524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958280" y="493920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5019840" y="4929120"/>
              <a:ext cx="134640" cy="246960"/>
              <a:chOff x="5019840" y="4929120"/>
              <a:chExt cx="134640" cy="246960"/>
            </a:xfrm>
          </p:grpSpPr>
          <p:sp>
            <p:nvSpPr>
              <p:cNvPr id="2102" name=""/>
              <p:cNvSpPr/>
              <p:nvPr/>
            </p:nvSpPr>
            <p:spPr>
              <a:xfrm>
                <a:off x="5019840" y="492912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041080" y="493308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04" name="" descr=""/>
          <p:cNvPicPr/>
          <p:nvPr/>
        </p:nvPicPr>
        <p:blipFill>
          <a:blip r:embed="rId1"/>
          <a:stretch/>
        </p:blipFill>
        <p:spPr>
          <a:xfrm>
            <a:off x="7313760" y="4857840"/>
            <a:ext cx="44280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evt="end">
                                        <p:tn val="675"/>
                                      </p:cond>
                                    </p:stCondLst>
                                  </p:cTn>
                                  <p:tgtEl>
                                    <p:spTgt spid="1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stancia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assembl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2108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2109" name=""/>
              <p:cNvSpPr/>
              <p:nvPr/>
            </p:nvSpPr>
            <p:spPr>
              <a:xfrm>
                <a:off x="990720" y="138312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2112" name=""/>
              <p:cNvSpPr/>
              <p:nvPr/>
            </p:nvSpPr>
            <p:spPr>
              <a:xfrm>
                <a:off x="3505320" y="138312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6008760" y="1371600"/>
              <a:ext cx="2133360" cy="4246920"/>
              <a:chOff x="6008760" y="1371600"/>
              <a:chExt cx="2133360" cy="4246920"/>
            </a:xfrm>
          </p:grpSpPr>
          <p:sp>
            <p:nvSpPr>
              <p:cNvPr id="2115" name=""/>
              <p:cNvSpPr/>
              <p:nvPr/>
            </p:nvSpPr>
            <p:spPr>
              <a:xfrm>
                <a:off x="6008760" y="137160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465960" y="52826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7" name=""/>
          <p:cNvGrpSpPr/>
          <p:nvPr/>
        </p:nvGrpSpPr>
        <p:grpSpPr>
          <a:xfrm>
            <a:off x="1143000" y="2971800"/>
            <a:ext cx="1752120" cy="335880"/>
            <a:chOff x="1143000" y="2971800"/>
            <a:chExt cx="1752120" cy="335880"/>
          </a:xfrm>
        </p:grpSpPr>
        <p:sp>
          <p:nvSpPr>
            <p:cNvPr id="2118" name=""/>
            <p:cNvSpPr/>
            <p:nvPr/>
          </p:nvSpPr>
          <p:spPr>
            <a:xfrm>
              <a:off x="1143000" y="298152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212840" y="297180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ssemblyMg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2121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2129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2130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2133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2136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8" name=""/>
          <p:cNvGrpSpPr/>
          <p:nvPr/>
        </p:nvGrpSpPr>
        <p:grpSpPr>
          <a:xfrm>
            <a:off x="1143000" y="3689280"/>
            <a:ext cx="1752120" cy="335880"/>
            <a:chOff x="1143000" y="3689280"/>
            <a:chExt cx="1752120" cy="335880"/>
          </a:xfrm>
        </p:grpSpPr>
        <p:sp>
          <p:nvSpPr>
            <p:cNvPr id="2139" name=""/>
            <p:cNvSpPr/>
            <p:nvPr/>
          </p:nvSpPr>
          <p:spPr>
            <a:xfrm>
              <a:off x="1143000" y="369900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12840" y="368928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1143000" y="4800600"/>
            <a:ext cx="6858000" cy="533520"/>
          </a:xfrm>
          <a:prstGeom prst="rect">
            <a:avLst/>
          </a:prstGeom>
          <a:solidFill>
            <a:srgbClr val="b3079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122560" y="5065560"/>
            <a:ext cx="198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Narrow"/>
              </a:rPr>
              <a:t>Installed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576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6104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1430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989000" y="2361960"/>
            <a:ext cx="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533160" y="384336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4097160" y="4884840"/>
            <a:ext cx="285840" cy="336600"/>
            <a:chOff x="4097160" y="4884840"/>
            <a:chExt cx="285840" cy="336600"/>
          </a:xfrm>
        </p:grpSpPr>
        <p:sp>
          <p:nvSpPr>
            <p:cNvPr id="2149" name=""/>
            <p:cNvSpPr/>
            <p:nvPr/>
          </p:nvSpPr>
          <p:spPr>
            <a:xfrm>
              <a:off x="4125960" y="488628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178160" y="500400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178160" y="502920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300560" y="519120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233960" y="515160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267080" y="515628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46560" y="514836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273560" y="517356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119480" y="507384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214880" y="491652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276800" y="506592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292640" y="499284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03800" y="498636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263840" y="501804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254480" y="504828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267080" y="497700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217760" y="491652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290840" y="491976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189320" y="498780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62320" y="489600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214880" y="488628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211640" y="491004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216320" y="490392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24240" y="49039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230720" y="489924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257720" y="489132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325760" y="495792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329000" y="498312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332240" y="500544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329000" y="500544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327560" y="501984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141800" y="499896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145040" y="498168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146480" y="497376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19480" y="497196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149720" y="492768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70240" y="493092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140000" y="495000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314600" y="513576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105080" y="507384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14600" y="513720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321080" y="516096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5080" y="504684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184640" y="503388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227480" y="497520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252680" y="499752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219560" y="497520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251240" y="497052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257720" y="504972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278240" y="507060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292640" y="497520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200480" y="504972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119480" y="498960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33880" y="497520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162320" y="498780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82840" y="500868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208400" y="495468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222800" y="505476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186080" y="503388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295880" y="492120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343400" y="501480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330800" y="503100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179960" y="504684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143240" y="499428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122720" y="507852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22720" y="507528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097160" y="505152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40000" y="488484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268880" y="489276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279680" y="489924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174920" y="492768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147920" y="50007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263840" y="508968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313160" y="512928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271760" y="517680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267080" y="515484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289400" y="516096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217760" y="514836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216320" y="513396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244760" y="514188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19480" y="496260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124160" y="499896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265640" y="501480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292640" y="499428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278240" y="502920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219560" y="491508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294080" y="511020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57640" y="504972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238640" y="509436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268880" y="517068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289400" y="518148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290840" y="516744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319640" y="520236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217760" y="513576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192560" y="491328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203720" y="492912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206960" y="491508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03720" y="489744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205160" y="490212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219560" y="489600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236840" y="489600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268880" y="490536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265640" y="489420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273560" y="489924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87600" y="491184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27560" y="497196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305240" y="499752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25680" y="499752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82920" y="504036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275000" y="507204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90840" y="502128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287600" y="499608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306680" y="502452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71760" y="505476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278240" y="507384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51240" y="500076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4476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51240" y="497988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2424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57720" y="505476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306680" y="498168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94080" y="499104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97320" y="499896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28920" y="499896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43320" y="492300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54480" y="498960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308480" y="498960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38640" y="499428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243320" y="498636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244760" y="498636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243320" y="498780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36840" y="498636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300560" y="498780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00560" y="498960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298760" y="498636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170240" y="495936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494496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146480" y="497700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143240" y="495936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152960" y="495144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173480" y="496116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64120" y="492624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262400" y="490068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267080" y="490068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332240" y="499104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333680" y="500868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338720" y="501480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6492960" y="4902120"/>
            <a:ext cx="285840" cy="336600"/>
            <a:chOff x="6492960" y="4902120"/>
            <a:chExt cx="285840" cy="336600"/>
          </a:xfrm>
        </p:grpSpPr>
        <p:sp>
          <p:nvSpPr>
            <p:cNvPr id="2297" name=""/>
            <p:cNvSpPr/>
            <p:nvPr/>
          </p:nvSpPr>
          <p:spPr>
            <a:xfrm>
              <a:off x="6521760" y="490356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573960" y="502128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573960" y="504648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696360" y="520848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629760" y="516888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62880" y="517356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642360" y="516564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669360" y="519084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515280" y="509112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610680" y="493380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72600" y="508320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688440" y="501012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699600" y="500364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659640" y="503532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650280" y="506556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662880" y="499428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613560" y="493380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86640" y="493704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85120" y="500508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558120" y="491328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610680" y="490356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607440" y="492732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612120" y="492120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620040" y="49212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626520" y="491652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653520" y="490860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721560" y="497520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724800" y="500040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728040" y="502272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724800" y="502272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723360" y="503712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537600" y="501624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540840" y="499896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542280" y="499104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515280" y="498924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545520" y="494496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66040" y="494820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535800" y="496728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710400" y="515304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500880" y="509112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710400" y="515448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716880" y="517824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500880" y="506412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580440" y="505116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623280" y="499248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648480" y="501480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615360" y="499248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647040" y="498780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653520" y="506700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674040" y="508788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688440" y="499248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596280" y="506700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515280" y="500688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529680" y="499248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8120" y="500508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78640" y="502596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604200" y="497196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618600" y="507204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581880" y="505116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691680" y="493848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739200" y="503208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726600" y="504828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575760" y="506412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539040" y="501156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518520" y="509580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518520" y="509256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492960" y="506880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535800" y="490212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664680" y="491004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675480" y="491652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570720" y="494496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543720" y="50180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659640" y="510696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708960" y="514656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667560" y="519408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662880" y="517212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685200" y="517824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613560" y="516564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612120" y="515124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640560" y="515916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515280" y="497988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519960" y="501624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661440" y="503208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688440" y="501156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674040" y="504648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615360" y="493236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689880" y="512748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553440" y="506700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634440" y="511164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664680" y="518796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85200" y="519876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686640" y="518472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715440" y="521964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613560" y="515304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588360" y="493056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599520" y="494640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602760" y="493236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599520" y="491472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600960" y="491940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615360" y="491328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632640" y="491328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664680" y="492264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661440" y="491148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669360" y="491652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683400" y="492912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723360" y="498924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701040" y="501480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621480" y="501480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678720" y="505764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670800" y="508932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686640" y="503856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683400" y="501336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702480" y="504180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667560" y="507204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674040" y="509112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647040" y="501804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64056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647040" y="49971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62004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653520" y="507204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702480" y="499896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68988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693120" y="501624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624720" y="501624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639120" y="494028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650280" y="500688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704280" y="500688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634440" y="501156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639120" y="500364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640560" y="500364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639120" y="500508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632640" y="500364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696360" y="500508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696360" y="500688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694560" y="500364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566040" y="497664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583680" y="496224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542280" y="499428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539040" y="497664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548760" y="496872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69280" y="497844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559920" y="494352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658200" y="491796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662880" y="491796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728040" y="500832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729480" y="502596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734520" y="503208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1903320" y="4905360"/>
            <a:ext cx="285840" cy="336600"/>
            <a:chOff x="1903320" y="4905360"/>
            <a:chExt cx="285840" cy="336600"/>
          </a:xfrm>
        </p:grpSpPr>
        <p:sp>
          <p:nvSpPr>
            <p:cNvPr id="2445" name=""/>
            <p:cNvSpPr/>
            <p:nvPr/>
          </p:nvSpPr>
          <p:spPr>
            <a:xfrm>
              <a:off x="1932120" y="490680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984320" y="502452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984320" y="504972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106720" y="521172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040120" y="517212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0732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052720" y="516888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079720" y="519408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925640" y="509436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021040" y="493704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082960" y="508644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098800" y="501336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109960" y="500688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070000" y="503856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060640" y="506880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073240" y="499752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023920" y="493704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097000" y="494028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995480" y="500832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968480" y="491652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021040" y="490680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017800" y="493056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022480" y="492444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030400" y="49244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03688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063880" y="491184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31920" y="497844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35160" y="500364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138400" y="502596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135160" y="502596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133720" y="504036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947960" y="501948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951200" y="500220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952640" y="499428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925640" y="499248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955880" y="494820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976400" y="495144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946160" y="497052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120760" y="515628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911240" y="509436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120760" y="515772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127240" y="518148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911240" y="506736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990800" y="505440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033640" y="499572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058840" y="501804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025720" y="499572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057400" y="499104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63880" y="507024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084400" y="509112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098800" y="499572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006640" y="507024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925640" y="501012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940040" y="499572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968480" y="500832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989000" y="502920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014560" y="497520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028960" y="507528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992240" y="505440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102040" y="494172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149560" y="503532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136960" y="505152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986120" y="506736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949400" y="501480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928880" y="509904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928880" y="509580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903320" y="507204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946160" y="490536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075040" y="491328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085840" y="491976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81080" y="494820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954080" y="50212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070000" y="511020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119320" y="514980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077920" y="519732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073240" y="517536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095560" y="518148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023920" y="516888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022480" y="515448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050920" y="516240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925640" y="498312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930320" y="501948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071800" y="503532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098800" y="501480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084400" y="504972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025720" y="493560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100240" y="513072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963800" y="507024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044800" y="511488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075040" y="519120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095560" y="520200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097000" y="518796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125800" y="522288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023920" y="515628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98720" y="493380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009880" y="494964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013120" y="493560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009880" y="491796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011320" y="492264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025720" y="491652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043000" y="491652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075040" y="492588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071800" y="491472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079720" y="491976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093760" y="493236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133720" y="499248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111400" y="501804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031840" y="501804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089080" y="506088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081160" y="509256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097000" y="504180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093760" y="501660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112840" y="504504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077920" y="507528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084400" y="509436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057400" y="502128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05092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057400" y="500040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03040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063880" y="507528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112840" y="500220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100240" y="501156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103480" y="501948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035080" y="501948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049480" y="494352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06064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11464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044800" y="501480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049480" y="500688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050920" y="500688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049480" y="500832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043000" y="500688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10672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10672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104920" y="500688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976400" y="497988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994040" y="496548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952640" y="499752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949400" y="497988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959120" y="497196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979640" y="498168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970280" y="494676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068560" y="492120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073240" y="492120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38400" y="501156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39840" y="502920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44880" y="503532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2" name=""/>
          <p:cNvGrpSpPr/>
          <p:nvPr/>
        </p:nvGrpSpPr>
        <p:grpSpPr>
          <a:xfrm>
            <a:off x="4776840" y="4903920"/>
            <a:ext cx="436680" cy="318960"/>
            <a:chOff x="4776840" y="4903920"/>
            <a:chExt cx="436680" cy="318960"/>
          </a:xfrm>
        </p:grpSpPr>
        <p:sp>
          <p:nvSpPr>
            <p:cNvPr id="2593" name=""/>
            <p:cNvSpPr/>
            <p:nvPr/>
          </p:nvSpPr>
          <p:spPr>
            <a:xfrm>
              <a:off x="4776840" y="490392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4" name=""/>
            <p:cNvGrpSpPr/>
            <p:nvPr/>
          </p:nvGrpSpPr>
          <p:grpSpPr>
            <a:xfrm>
              <a:off x="4848480" y="4948200"/>
              <a:ext cx="134640" cy="246960"/>
              <a:chOff x="4848480" y="4948200"/>
              <a:chExt cx="134640" cy="246960"/>
            </a:xfrm>
          </p:grpSpPr>
          <p:sp>
            <p:nvSpPr>
              <p:cNvPr id="2595" name=""/>
              <p:cNvSpPr/>
              <p:nvPr/>
            </p:nvSpPr>
            <p:spPr>
              <a:xfrm>
                <a:off x="4848480" y="49482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4869720" y="495216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7" name=""/>
            <p:cNvGrpSpPr/>
            <p:nvPr/>
          </p:nvGrpSpPr>
          <p:grpSpPr>
            <a:xfrm>
              <a:off x="4937400" y="4935240"/>
              <a:ext cx="132840" cy="248760"/>
              <a:chOff x="4937400" y="4935240"/>
              <a:chExt cx="132840" cy="248760"/>
            </a:xfrm>
          </p:grpSpPr>
          <p:sp>
            <p:nvSpPr>
              <p:cNvPr id="2598" name=""/>
              <p:cNvSpPr/>
              <p:nvPr/>
            </p:nvSpPr>
            <p:spPr>
              <a:xfrm>
                <a:off x="4937400" y="493524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4958280" y="493920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0" name=""/>
            <p:cNvGrpSpPr/>
            <p:nvPr/>
          </p:nvGrpSpPr>
          <p:grpSpPr>
            <a:xfrm>
              <a:off x="5019840" y="4929120"/>
              <a:ext cx="134640" cy="246960"/>
              <a:chOff x="5019840" y="4929120"/>
              <a:chExt cx="134640" cy="246960"/>
            </a:xfrm>
          </p:grpSpPr>
          <p:sp>
            <p:nvSpPr>
              <p:cNvPr id="2601" name=""/>
              <p:cNvSpPr/>
              <p:nvPr/>
            </p:nvSpPr>
            <p:spPr>
              <a:xfrm>
                <a:off x="5019840" y="492912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041080" y="493308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03" name="" descr=""/>
          <p:cNvPicPr/>
          <p:nvPr/>
        </p:nvPicPr>
        <p:blipFill>
          <a:blip r:embed="rId1"/>
          <a:stretch/>
        </p:blipFill>
        <p:spPr>
          <a:xfrm>
            <a:off x="7313760" y="4857840"/>
            <a:ext cx="442800" cy="441360"/>
          </a:xfrm>
          <a:prstGeom prst="rect">
            <a:avLst/>
          </a:prstGeom>
          <a:ln w="0">
            <a:noFill/>
          </a:ln>
        </p:spPr>
      </p:pic>
      <p:grpSp>
        <p:nvGrpSpPr>
          <p:cNvPr id="2604" name=""/>
          <p:cNvGrpSpPr/>
          <p:nvPr/>
        </p:nvGrpSpPr>
        <p:grpSpPr>
          <a:xfrm>
            <a:off x="4054320" y="1827360"/>
            <a:ext cx="285840" cy="335880"/>
            <a:chOff x="4054320" y="1827360"/>
            <a:chExt cx="285840" cy="335880"/>
          </a:xfrm>
        </p:grpSpPr>
        <p:sp>
          <p:nvSpPr>
            <p:cNvPr id="2605" name=""/>
            <p:cNvSpPr/>
            <p:nvPr/>
          </p:nvSpPr>
          <p:spPr>
            <a:xfrm>
              <a:off x="4083120" y="1828440"/>
              <a:ext cx="234720" cy="17136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135320" y="1946160"/>
              <a:ext cx="28800" cy="4248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135320" y="1971360"/>
              <a:ext cx="152640" cy="19008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257720" y="2133360"/>
              <a:ext cx="20520" cy="2808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191120" y="2093760"/>
              <a:ext cx="34920" cy="6768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224240" y="2098440"/>
              <a:ext cx="33480" cy="3312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203720" y="2090520"/>
              <a:ext cx="23760" cy="4248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230720" y="2115720"/>
              <a:ext cx="12600" cy="4428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076640" y="2016000"/>
              <a:ext cx="42840" cy="4068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172040" y="1858680"/>
              <a:ext cx="115920" cy="17748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233960" y="2008080"/>
              <a:ext cx="21960" cy="756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249800" y="1935000"/>
              <a:ext cx="11160" cy="3600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260960" y="1928520"/>
              <a:ext cx="20520" cy="1224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221000" y="1960200"/>
              <a:ext cx="28800" cy="2196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211640" y="1990440"/>
              <a:ext cx="58680" cy="93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224240" y="1919160"/>
              <a:ext cx="36720" cy="5976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174920" y="1858680"/>
              <a:ext cx="60480" cy="8064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248000" y="1861920"/>
              <a:ext cx="41400" cy="16776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146480" y="1929960"/>
              <a:ext cx="106560" cy="11556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119480" y="1838160"/>
              <a:ext cx="57240" cy="3132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172040" y="1828440"/>
              <a:ext cx="115920" cy="6804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168800" y="1852200"/>
              <a:ext cx="15840" cy="612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173480" y="1846080"/>
              <a:ext cx="20520" cy="1224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181400" y="1846080"/>
              <a:ext cx="14400" cy="900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187880" y="1841400"/>
              <a:ext cx="15840" cy="1224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214880" y="1833480"/>
              <a:ext cx="17280" cy="2484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282920" y="1900080"/>
              <a:ext cx="11160" cy="2340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286160" y="1925280"/>
              <a:ext cx="30240" cy="2340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289400" y="1947600"/>
              <a:ext cx="22320" cy="900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86160" y="1947600"/>
              <a:ext cx="33480" cy="2196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284720" y="1962000"/>
              <a:ext cx="20520" cy="2664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098960" y="1941120"/>
              <a:ext cx="41040" cy="2988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102200" y="1923840"/>
              <a:ext cx="60120" cy="2340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103640" y="1915920"/>
              <a:ext cx="31680" cy="1872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076640" y="1914120"/>
              <a:ext cx="38160" cy="3780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106880" y="1869840"/>
              <a:ext cx="19080" cy="2988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127400" y="1873080"/>
              <a:ext cx="23760" cy="1872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097160" y="1892160"/>
              <a:ext cx="41400" cy="266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271760" y="2077920"/>
              <a:ext cx="63720" cy="7560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062240" y="2016000"/>
              <a:ext cx="133560" cy="14544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4271760" y="2079360"/>
              <a:ext cx="65160" cy="6948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278240" y="2103120"/>
              <a:ext cx="15840" cy="5688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062240" y="1989000"/>
              <a:ext cx="131760" cy="17244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141800" y="1976040"/>
              <a:ext cx="88920" cy="9972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184640" y="1917360"/>
              <a:ext cx="27000" cy="1728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209840" y="1939680"/>
              <a:ext cx="11160" cy="612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176720" y="1917360"/>
              <a:ext cx="20520" cy="1404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208400" y="1912680"/>
              <a:ext cx="30240" cy="2988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214880" y="1991880"/>
              <a:ext cx="50760" cy="792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235400" y="2012760"/>
              <a:ext cx="17640" cy="108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249800" y="1917360"/>
              <a:ext cx="28440" cy="1548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157640" y="1991880"/>
              <a:ext cx="93600" cy="4752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076640" y="1931760"/>
              <a:ext cx="65160" cy="6480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91040" y="1917360"/>
              <a:ext cx="17280" cy="205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119480" y="1929960"/>
              <a:ext cx="39600" cy="2844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140000" y="1950840"/>
              <a:ext cx="22320" cy="3132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165560" y="1896840"/>
              <a:ext cx="23760" cy="11556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179960" y="1996920"/>
              <a:ext cx="77760" cy="3600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143240" y="1976040"/>
              <a:ext cx="106560" cy="7128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253040" y="1863360"/>
              <a:ext cx="48960" cy="16632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300560" y="1956960"/>
              <a:ext cx="15840" cy="79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287960" y="1973160"/>
              <a:ext cx="14040" cy="1548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137120" y="1989000"/>
              <a:ext cx="36360" cy="9792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100400" y="1936440"/>
              <a:ext cx="15840" cy="1404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79880" y="2020680"/>
              <a:ext cx="39600" cy="3600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79880" y="2017440"/>
              <a:ext cx="39600" cy="1080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54320" y="1993680"/>
              <a:ext cx="147600" cy="16956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97160" y="1827360"/>
              <a:ext cx="128880" cy="8208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226040" y="1834920"/>
              <a:ext cx="87120" cy="11088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236840" y="1841400"/>
              <a:ext cx="6480" cy="900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132080" y="1869840"/>
              <a:ext cx="15840" cy="2016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105080" y="1942920"/>
              <a:ext cx="14400" cy="900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221000" y="2031840"/>
              <a:ext cx="69840" cy="12816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270320" y="2071440"/>
              <a:ext cx="66600" cy="9000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228920" y="2118960"/>
              <a:ext cx="12960" cy="4248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224240" y="2097000"/>
              <a:ext cx="50760" cy="6444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246560" y="2103120"/>
              <a:ext cx="19080" cy="2016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174920" y="2090520"/>
              <a:ext cx="49320" cy="7092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173480" y="2076120"/>
              <a:ext cx="39600" cy="432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201920" y="2084040"/>
              <a:ext cx="30240" cy="288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076640" y="1904760"/>
              <a:ext cx="23760" cy="4104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081320" y="1941120"/>
              <a:ext cx="9720" cy="108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222800" y="1956960"/>
              <a:ext cx="33120" cy="2520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249800" y="1936440"/>
              <a:ext cx="12600" cy="4104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235400" y="1971360"/>
              <a:ext cx="15840" cy="612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176720" y="1857240"/>
              <a:ext cx="85680" cy="4392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251240" y="2052360"/>
              <a:ext cx="88920" cy="6300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114800" y="1991880"/>
              <a:ext cx="17280" cy="2988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195800" y="2036520"/>
              <a:ext cx="54000" cy="3780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226040" y="2112840"/>
              <a:ext cx="10800" cy="4536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246560" y="2123640"/>
              <a:ext cx="17280" cy="237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248000" y="2109600"/>
              <a:ext cx="23760" cy="2988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276800" y="2144520"/>
              <a:ext cx="6120" cy="1368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174920" y="2077920"/>
              <a:ext cx="52560" cy="4860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49720" y="1855440"/>
              <a:ext cx="19080" cy="2520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160880" y="1871280"/>
              <a:ext cx="15840" cy="2052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164120" y="1857240"/>
              <a:ext cx="21960" cy="2016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160880" y="1839600"/>
              <a:ext cx="15840" cy="432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162320" y="1844280"/>
              <a:ext cx="15840" cy="936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176720" y="1838160"/>
              <a:ext cx="11160" cy="90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194000" y="1838160"/>
              <a:ext cx="33480" cy="2160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226040" y="1847520"/>
              <a:ext cx="17280" cy="1224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222800" y="1836360"/>
              <a:ext cx="4680" cy="75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230720" y="1841400"/>
              <a:ext cx="9360" cy="756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244760" y="1854000"/>
              <a:ext cx="43200" cy="4896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284720" y="1914120"/>
              <a:ext cx="7920" cy="3456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262400" y="1939680"/>
              <a:ext cx="19080" cy="23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182840" y="1939680"/>
              <a:ext cx="43200" cy="3456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240080" y="1982520"/>
              <a:ext cx="11160" cy="900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232160" y="2014200"/>
              <a:ext cx="25560" cy="1080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248000" y="1963440"/>
              <a:ext cx="6480" cy="61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244760" y="1938240"/>
              <a:ext cx="6480" cy="2016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263840" y="1966680"/>
              <a:ext cx="7920" cy="2340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228920" y="1996920"/>
              <a:ext cx="33480" cy="756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235400" y="2016000"/>
              <a:ext cx="20520" cy="432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208400" y="1942920"/>
              <a:ext cx="12600" cy="756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201920" y="1935000"/>
              <a:ext cx="11160" cy="432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208400" y="1922040"/>
              <a:ext cx="12600" cy="612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181400" y="1935000"/>
              <a:ext cx="11160" cy="43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214880" y="1996920"/>
              <a:ext cx="4680" cy="432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263840" y="1923840"/>
              <a:ext cx="11160" cy="432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251240" y="1933200"/>
              <a:ext cx="11160" cy="6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254480" y="1941120"/>
              <a:ext cx="7920" cy="936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186080" y="1941120"/>
              <a:ext cx="20880" cy="1080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200480" y="1865160"/>
              <a:ext cx="69840" cy="5364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211640" y="1931760"/>
              <a:ext cx="7920" cy="43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265640" y="1931760"/>
              <a:ext cx="4680" cy="43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195800" y="1936440"/>
              <a:ext cx="20520" cy="756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200480" y="1928520"/>
              <a:ext cx="14400" cy="756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201920" y="1928520"/>
              <a:ext cx="12960" cy="756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200480" y="1929960"/>
              <a:ext cx="14400" cy="612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94000" y="1928520"/>
              <a:ext cx="30240" cy="1224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257720" y="1929960"/>
              <a:ext cx="11160" cy="6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257720" y="1931760"/>
              <a:ext cx="11160" cy="432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255920" y="1928520"/>
              <a:ext cx="22320" cy="1224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27400" y="1901520"/>
              <a:ext cx="44640" cy="2520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145040" y="1887120"/>
              <a:ext cx="12600" cy="158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103640" y="1919160"/>
              <a:ext cx="19080" cy="1368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100400" y="1901520"/>
              <a:ext cx="15840" cy="1728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110120" y="1893600"/>
              <a:ext cx="25200" cy="2196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130640" y="1903320"/>
              <a:ext cx="33480" cy="2340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121280" y="1868400"/>
              <a:ext cx="17280" cy="1368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219560" y="1842840"/>
              <a:ext cx="6480" cy="1548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224240" y="1842840"/>
              <a:ext cx="12600" cy="140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289400" y="1933200"/>
              <a:ext cx="17280" cy="1548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290840" y="1950840"/>
              <a:ext cx="20880" cy="432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295880" y="1956960"/>
              <a:ext cx="23760" cy="1728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6416640" y="1833480"/>
            <a:ext cx="285840" cy="336600"/>
            <a:chOff x="6416640" y="1833480"/>
            <a:chExt cx="285840" cy="336600"/>
          </a:xfrm>
        </p:grpSpPr>
        <p:sp>
          <p:nvSpPr>
            <p:cNvPr id="2753" name=""/>
            <p:cNvSpPr/>
            <p:nvPr/>
          </p:nvSpPr>
          <p:spPr>
            <a:xfrm>
              <a:off x="6445440" y="183492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497640" y="195264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497640" y="197784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620040" y="213984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553440" y="210024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586560" y="210492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566040" y="209700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593040" y="212220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438960" y="202248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534360" y="186516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596280" y="201456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612120" y="194148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23280" y="193500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583320" y="196668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573960" y="199692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586560" y="192564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537240" y="186516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610320" y="186840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508800" y="193644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481800" y="184464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534360" y="183492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531120" y="185868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535800" y="185256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543720" y="18525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550200" y="184788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577200" y="183996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645240" y="190656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648480" y="193176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651720" y="195408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648480" y="195408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647040" y="196848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461280" y="194760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464520" y="193032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465960" y="192240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438960" y="192060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469200" y="187632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489720" y="187956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459480" y="189864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634080" y="208440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424560" y="202248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634080" y="208584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640560" y="210960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424560" y="199548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504120" y="198252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546960" y="192384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72160" y="194616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539040" y="192384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570720" y="191916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577200" y="199836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597720" y="201924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612120" y="192384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519960" y="199836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438960" y="193824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453360" y="192384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481800" y="193644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502320" y="195732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527880" y="190332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542280" y="200340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505560" y="198252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615360" y="186984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662880" y="196344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650280" y="197964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499440" y="199548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462720" y="194292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442200" y="202716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442200" y="202392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416640" y="200016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459480" y="183348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588360" y="184140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599160" y="184788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494400" y="187632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467400" y="19494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583320" y="203832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632640" y="207792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591240" y="212544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586560" y="210348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608880" y="210960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537240" y="209700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535800" y="208260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564240" y="209052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438960" y="191124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443640" y="194760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585120" y="196344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612120" y="194292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597720" y="197784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539040" y="186372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613560" y="205884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477120" y="199836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558120" y="204300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588360" y="211932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608880" y="213012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610320" y="211608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639120" y="215100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537240" y="208440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512040" y="186192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523200" y="187776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526440" y="186372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523200" y="184608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524640" y="185076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539040" y="184464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556320" y="184464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588360" y="185400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85120" y="184284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593040" y="184788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607080" y="186048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47040" y="192060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624720" y="194616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545160" y="194616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602400" y="198900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594480" y="202068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610320" y="196992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607080" y="194472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626160" y="197316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591240" y="200340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597720" y="202248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570720" y="194940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564240" y="194148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570720" y="192852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543720" y="194148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577200" y="200340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626160" y="193032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613560" y="193968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6616800" y="194760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548400" y="194760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562800" y="187164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573960" y="193824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627960" y="193824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558120" y="194292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562800" y="193500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564240" y="193500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562800" y="193644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556320" y="193500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620040" y="193644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620040" y="193824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618240" y="193500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489720" y="190800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507360" y="189360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465960" y="192564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462720" y="190800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472440" y="190008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492960" y="190980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483600" y="187488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581880" y="184932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586560" y="184932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651720" y="193968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653160" y="195732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658200" y="196344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1860480" y="1936800"/>
            <a:ext cx="285840" cy="336600"/>
            <a:chOff x="1860480" y="1936800"/>
            <a:chExt cx="285840" cy="336600"/>
          </a:xfrm>
        </p:grpSpPr>
        <p:sp>
          <p:nvSpPr>
            <p:cNvPr id="2901" name=""/>
            <p:cNvSpPr/>
            <p:nvPr/>
          </p:nvSpPr>
          <p:spPr>
            <a:xfrm>
              <a:off x="1889280" y="193824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941480" y="205596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941480" y="208116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2063880" y="224316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997280" y="220356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030400" y="220824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2009880" y="220032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036880" y="222552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882800" y="212580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978200" y="196848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040120" y="211788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055960" y="204480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067120" y="203832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027160" y="207000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017800" y="210024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030400" y="202896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981080" y="196848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054160" y="197172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952640" y="203976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1925640" y="194796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978200" y="193824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974960" y="196200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979640" y="195588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987560" y="19558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994040" y="195120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021040" y="194328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089080" y="200988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092320" y="203508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095560" y="205740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092320" y="205740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090880" y="207180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1905120" y="205092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1908360" y="203364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1909800" y="202572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1882800" y="202392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1913040" y="197964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1933560" y="198288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903320" y="200196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077920" y="218772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868400" y="212580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077920" y="218916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084400" y="221292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868400" y="209880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1947960" y="208584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990800" y="202716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016000" y="204948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982880" y="202716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014560" y="202248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021040" y="210168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41560" y="212256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055960" y="202716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963800" y="210168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882800" y="204156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1897200" y="202716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925640" y="203976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1946160" y="206064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1971720" y="200664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986120" y="210672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949400" y="208584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059200" y="197316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106720" y="206676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094120" y="208296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943280" y="209880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1906560" y="204624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1886040" y="213048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886040" y="212724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860480" y="210348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903320" y="193680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032200" y="194472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2043000" y="195120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1938240" y="197964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911240" y="20527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027160" y="214164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076480" y="218124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035080" y="222876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030400" y="220680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052720" y="221292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1981080" y="220032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979640" y="218592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008080" y="219384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1882800" y="201456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887480" y="205092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28960" y="206676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055960" y="204624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041560" y="208116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1982880" y="196704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057400" y="216216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1920960" y="210168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001960" y="214632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032200" y="222264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052720" y="223344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054160" y="221940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082960" y="225432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1981080" y="218772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1955880" y="196524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967040" y="198108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1970280" y="196704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967040" y="194940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968480" y="195408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1982880" y="194796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000160" y="194796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032200" y="195732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028960" y="194616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036880" y="195120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050920" y="196380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2090880" y="202392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068560" y="204948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989000" y="204948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2046240" y="209232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038320" y="212400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054160" y="207324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050920" y="204804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070000" y="207648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035080" y="210672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041560" y="212580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014560" y="205272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008080" y="204480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014560" y="203184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987560" y="204480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021040" y="210672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070000" y="203364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057400" y="204300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06064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992240" y="205092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2006640" y="197496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017800" y="204156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071800" y="204156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001960" y="204624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006640" y="203832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008080" y="203832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006640" y="203976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000160" y="203832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063880" y="203976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063880" y="204156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2062080" y="203832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933560" y="201132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951200" y="199692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909800" y="202896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906560" y="201132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916280" y="200340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936800" y="201312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927440" y="197820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025720" y="195264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030400" y="195264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095560" y="204300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097000" y="206064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102040" y="206676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4711680" y="2257560"/>
            <a:ext cx="436680" cy="318960"/>
            <a:chOff x="4711680" y="2257560"/>
            <a:chExt cx="436680" cy="318960"/>
          </a:xfrm>
        </p:grpSpPr>
        <p:sp>
          <p:nvSpPr>
            <p:cNvPr id="3049" name=""/>
            <p:cNvSpPr/>
            <p:nvPr/>
          </p:nvSpPr>
          <p:spPr>
            <a:xfrm>
              <a:off x="4711680" y="225756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0" name=""/>
            <p:cNvGrpSpPr/>
            <p:nvPr/>
          </p:nvGrpSpPr>
          <p:grpSpPr>
            <a:xfrm>
              <a:off x="4783320" y="2301840"/>
              <a:ext cx="134640" cy="246960"/>
              <a:chOff x="4783320" y="2301840"/>
              <a:chExt cx="134640" cy="246960"/>
            </a:xfrm>
          </p:grpSpPr>
          <p:sp>
            <p:nvSpPr>
              <p:cNvPr id="3051" name=""/>
              <p:cNvSpPr/>
              <p:nvPr/>
            </p:nvSpPr>
            <p:spPr>
              <a:xfrm>
                <a:off x="4783320" y="230184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04560" y="230580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3" name=""/>
            <p:cNvGrpSpPr/>
            <p:nvPr/>
          </p:nvGrpSpPr>
          <p:grpSpPr>
            <a:xfrm>
              <a:off x="4872240" y="2288880"/>
              <a:ext cx="132840" cy="248760"/>
              <a:chOff x="4872240" y="2288880"/>
              <a:chExt cx="132840" cy="248760"/>
            </a:xfrm>
          </p:grpSpPr>
          <p:sp>
            <p:nvSpPr>
              <p:cNvPr id="3054" name=""/>
              <p:cNvSpPr/>
              <p:nvPr/>
            </p:nvSpPr>
            <p:spPr>
              <a:xfrm>
                <a:off x="4872240" y="228888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893120" y="229284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"/>
            <p:cNvGrpSpPr/>
            <p:nvPr/>
          </p:nvGrpSpPr>
          <p:grpSpPr>
            <a:xfrm>
              <a:off x="4954680" y="2282760"/>
              <a:ext cx="134640" cy="246960"/>
              <a:chOff x="4954680" y="2282760"/>
              <a:chExt cx="134640" cy="246960"/>
            </a:xfrm>
          </p:grpSpPr>
          <p:sp>
            <p:nvSpPr>
              <p:cNvPr id="3057" name=""/>
              <p:cNvSpPr/>
              <p:nvPr/>
            </p:nvSpPr>
            <p:spPr>
              <a:xfrm>
                <a:off x="4954680" y="228276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975920" y="228672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059" name="" descr=""/>
          <p:cNvPicPr/>
          <p:nvPr/>
        </p:nvPicPr>
        <p:blipFill>
          <a:blip r:embed="rId2"/>
          <a:stretch/>
        </p:blipFill>
        <p:spPr>
          <a:xfrm>
            <a:off x="7270920" y="2133720"/>
            <a:ext cx="442800" cy="441360"/>
          </a:xfrm>
          <a:prstGeom prst="rect">
            <a:avLst/>
          </a:prstGeom>
          <a:ln w="0">
            <a:noFill/>
          </a:ln>
        </p:spPr>
      </p:pic>
      <p:sp>
        <p:nvSpPr>
          <p:cNvPr id="3060" name=""/>
          <p:cNvSpPr/>
          <p:nvPr/>
        </p:nvSpPr>
        <p:spPr>
          <a:xfrm flipH="1">
            <a:off x="2404800" y="2320920"/>
            <a:ext cx="1657080" cy="587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2971800" y="2328840"/>
            <a:ext cx="3679920" cy="700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5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3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7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8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terconnexion et le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émarrage des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4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3065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3066" name=""/>
              <p:cNvSpPr/>
              <p:nvPr/>
            </p:nvSpPr>
            <p:spPr>
              <a:xfrm>
                <a:off x="990720" y="138312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8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3069" name=""/>
              <p:cNvSpPr/>
              <p:nvPr/>
            </p:nvSpPr>
            <p:spPr>
              <a:xfrm>
                <a:off x="3505320" y="138312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1" name=""/>
            <p:cNvGrpSpPr/>
            <p:nvPr/>
          </p:nvGrpSpPr>
          <p:grpSpPr>
            <a:xfrm>
              <a:off x="6008760" y="1371600"/>
              <a:ext cx="2133360" cy="4246920"/>
              <a:chOff x="6008760" y="1371600"/>
              <a:chExt cx="2133360" cy="4246920"/>
            </a:xfrm>
          </p:grpSpPr>
          <p:sp>
            <p:nvSpPr>
              <p:cNvPr id="3072" name=""/>
              <p:cNvSpPr/>
              <p:nvPr/>
            </p:nvSpPr>
            <p:spPr>
              <a:xfrm>
                <a:off x="6008760" y="137160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465960" y="52826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4" name=""/>
          <p:cNvGrpSpPr/>
          <p:nvPr/>
        </p:nvGrpSpPr>
        <p:grpSpPr>
          <a:xfrm>
            <a:off x="1143000" y="2971800"/>
            <a:ext cx="1752120" cy="335880"/>
            <a:chOff x="1143000" y="2971800"/>
            <a:chExt cx="1752120" cy="335880"/>
          </a:xfrm>
        </p:grpSpPr>
        <p:sp>
          <p:nvSpPr>
            <p:cNvPr id="3075" name=""/>
            <p:cNvSpPr/>
            <p:nvPr/>
          </p:nvSpPr>
          <p:spPr>
            <a:xfrm>
              <a:off x="1143000" y="298152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212840" y="297180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ssemblyMg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7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3078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3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5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3086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3087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3090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2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3093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5" name=""/>
          <p:cNvGrpSpPr/>
          <p:nvPr/>
        </p:nvGrpSpPr>
        <p:grpSpPr>
          <a:xfrm>
            <a:off x="1143000" y="3689280"/>
            <a:ext cx="1752120" cy="335880"/>
            <a:chOff x="1143000" y="3689280"/>
            <a:chExt cx="1752120" cy="335880"/>
          </a:xfrm>
        </p:grpSpPr>
        <p:sp>
          <p:nvSpPr>
            <p:cNvPr id="3096" name=""/>
            <p:cNvSpPr/>
            <p:nvPr/>
          </p:nvSpPr>
          <p:spPr>
            <a:xfrm>
              <a:off x="1143000" y="369900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212840" y="368928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8" name=""/>
          <p:cNvSpPr/>
          <p:nvPr/>
        </p:nvSpPr>
        <p:spPr>
          <a:xfrm>
            <a:off x="1143000" y="4800600"/>
            <a:ext cx="6858000" cy="533520"/>
          </a:xfrm>
          <a:prstGeom prst="rect">
            <a:avLst/>
          </a:prstGeom>
          <a:solidFill>
            <a:srgbClr val="b3079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2122560" y="5065560"/>
            <a:ext cx="198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Narrow"/>
              </a:rPr>
              <a:t>Installed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0" name=""/>
          <p:cNvGrpSpPr/>
          <p:nvPr/>
        </p:nvGrpSpPr>
        <p:grpSpPr>
          <a:xfrm>
            <a:off x="762120" y="1403280"/>
            <a:ext cx="7684920" cy="1295280"/>
            <a:chOff x="762120" y="1403280"/>
            <a:chExt cx="7684920" cy="1295280"/>
          </a:xfrm>
        </p:grpSpPr>
        <p:sp>
          <p:nvSpPr>
            <p:cNvPr id="3101" name=""/>
            <p:cNvSpPr/>
            <p:nvPr/>
          </p:nvSpPr>
          <p:spPr>
            <a:xfrm>
              <a:off x="763560" y="1414440"/>
              <a:ext cx="7683480" cy="1284120"/>
            </a:xfrm>
            <a:prstGeom prst="rect">
              <a:avLst/>
            </a:prstGeom>
            <a:solidFill>
              <a:srgbClr val="00d8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62120" y="1403280"/>
              <a:ext cx="2284200" cy="312840"/>
            </a:xfrm>
            <a:prstGeom prst="rect">
              <a:avLst/>
            </a:prstGeom>
            <a:solidFill>
              <a:srgbClr val="00d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 Narrow"/>
                </a:rPr>
                <a:t>Running Assemb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3" name=""/>
          <p:cNvSpPr/>
          <p:nvPr/>
        </p:nvSpPr>
        <p:spPr>
          <a:xfrm>
            <a:off x="11430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36576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616104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6686640" y="1946160"/>
            <a:ext cx="69048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 flipV="1">
            <a:off x="4952880" y="1957320"/>
            <a:ext cx="145908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4299120" y="2070000"/>
            <a:ext cx="598320" cy="2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2090880" y="2151000"/>
            <a:ext cx="2709720" cy="2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 flipH="1">
            <a:off x="1904760" y="2286000"/>
            <a:ext cx="7596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H="1">
            <a:off x="2742840" y="2209680"/>
            <a:ext cx="1523880" cy="685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 flipH="1">
            <a:off x="533160" y="384336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3" name=""/>
          <p:cNvGrpSpPr/>
          <p:nvPr/>
        </p:nvGrpSpPr>
        <p:grpSpPr>
          <a:xfrm>
            <a:off x="4097160" y="4884840"/>
            <a:ext cx="285840" cy="336600"/>
            <a:chOff x="4097160" y="4884840"/>
            <a:chExt cx="285840" cy="336600"/>
          </a:xfrm>
        </p:grpSpPr>
        <p:sp>
          <p:nvSpPr>
            <p:cNvPr id="3114" name=""/>
            <p:cNvSpPr/>
            <p:nvPr/>
          </p:nvSpPr>
          <p:spPr>
            <a:xfrm>
              <a:off x="4125960" y="488628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178160" y="500400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178160" y="502920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4300560" y="519120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233960" y="515160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4267080" y="515628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4246560" y="514836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4273560" y="517356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119480" y="507384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214880" y="491652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276800" y="506592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292640" y="499284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303800" y="498636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263840" y="501804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254480" y="504828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267080" y="497700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217760" y="491652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290840" y="491976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189320" y="498780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162320" y="489600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214880" y="488628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4211640" y="491004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216320" y="490392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224240" y="49039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230720" y="489924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257720" y="489132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325760" y="495792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329000" y="498312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332240" y="500544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329000" y="500544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327560" y="501984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141800" y="499896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145040" y="498168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146480" y="497376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119480" y="497196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149720" y="492768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170240" y="493092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4140000" y="495000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314600" y="513576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105080" y="507384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314600" y="513720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4321080" y="516096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4105080" y="504684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4184640" y="503388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4227480" y="497520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4252680" y="499752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4219560" y="497520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251240" y="497052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257720" y="504972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278240" y="507060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292640" y="497520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200480" y="504972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4119480" y="498960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133880" y="497520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162320" y="498780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182840" y="500868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208400" y="495468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222800" y="505476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86080" y="503388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295880" y="492120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343400" y="501480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330800" y="503100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179960" y="504684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143240" y="499428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122720" y="507852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122720" y="507528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097160" y="505152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140000" y="488484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268880" y="489276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279680" y="489924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174920" y="492768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147920" y="50007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263840" y="508968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313160" y="512928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271760" y="517680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267080" y="515484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289400" y="516096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217760" y="514836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216320" y="513396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244760" y="514188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119480" y="496260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4124160" y="499896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4265640" y="501480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4292640" y="499428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278240" y="502920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4219560" y="491508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294080" y="511020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157640" y="504972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238640" y="509436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268880" y="517068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4289400" y="518148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4290840" y="516744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319640" y="520236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217760" y="513576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192560" y="491328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203720" y="492912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206960" y="491508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4203720" y="489744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4205160" y="490212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4219560" y="489600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4236840" y="489600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4268880" y="490536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4265640" y="489420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4273560" y="489924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4287600" y="491184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327560" y="497196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305240" y="499752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225680" y="499752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282920" y="504036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275000" y="507204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290840" y="502128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287600" y="499608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306680" y="502452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271760" y="505476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278240" y="507384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251240" y="500076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24476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251240" y="497988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22424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257720" y="505476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306680" y="498168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294080" y="499104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97320" y="499896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228920" y="499896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243320" y="492300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254480" y="498960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308480" y="498960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238640" y="499428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243320" y="498636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244760" y="498636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243320" y="498780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236840" y="498636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300560" y="498780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300560" y="498960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298760" y="498636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170240" y="495936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187880" y="494496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146480" y="497700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143240" y="495936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152960" y="495144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173480" y="496116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164120" y="492624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262400" y="490068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267080" y="490068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332240" y="499104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4333680" y="500868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338720" y="501480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6492960" y="4902120"/>
            <a:ext cx="285840" cy="336600"/>
            <a:chOff x="6492960" y="4902120"/>
            <a:chExt cx="285840" cy="336600"/>
          </a:xfrm>
        </p:grpSpPr>
        <p:sp>
          <p:nvSpPr>
            <p:cNvPr id="3262" name=""/>
            <p:cNvSpPr/>
            <p:nvPr/>
          </p:nvSpPr>
          <p:spPr>
            <a:xfrm>
              <a:off x="6521760" y="490356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573960" y="502128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573960" y="504648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696360" y="520848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629760" y="516888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662880" y="517356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642360" y="516564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6669360" y="519084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6515280" y="509112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610680" y="493380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672600" y="508320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688440" y="501012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699600" y="500364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659640" y="503532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6650280" y="506556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6662880" y="499428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6613560" y="493380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6686640" y="493704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6585120" y="500508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6558120" y="491328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6610680" y="490356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6607440" y="492732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6612120" y="492120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6620040" y="49212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6626520" y="491652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6653520" y="490860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6721560" y="497520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6724800" y="500040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6728040" y="502272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724800" y="502272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723360" y="503712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537600" y="501624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6540840" y="499896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6542280" y="499104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6515280" y="498924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6545520" y="494496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566040" y="494820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535800" y="496728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6710400" y="515304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500880" y="509112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710400" y="515448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6716880" y="517824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6500880" y="506412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580440" y="505116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623280" y="499248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6648480" y="501480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615360" y="499248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6647040" y="498780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653520" y="506700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674040" y="508788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688440" y="499248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6596280" y="506700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515280" y="500688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529680" y="499248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558120" y="500508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578640" y="502596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604200" y="497196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618600" y="507204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6581880" y="505116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691680" y="493848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739200" y="503208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6726600" y="504828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6575760" y="506412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6539040" y="501156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6518520" y="509580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518520" y="509256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492960" y="506880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535800" y="490212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664680" y="491004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675480" y="491652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570720" y="494496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543720" y="50180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659640" y="510696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708960" y="514656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667560" y="519408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662880" y="517212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685200" y="517824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613560" y="516564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6612120" y="515124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6640560" y="515916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515280" y="497988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519960" y="501624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661440" y="503208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688440" y="501156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6674040" y="504648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615360" y="493236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6689880" y="512748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553440" y="506700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634440" y="511164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6664680" y="518796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685200" y="519876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686640" y="518472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6715440" y="521964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6613560" y="515304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588360" y="493056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599520" y="494640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602760" y="493236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599520" y="491472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600960" y="491940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615360" y="491328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632640" y="491328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664680" y="492264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661440" y="491148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669360" y="491652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683400" y="492912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723360" y="498924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701040" y="501480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621480" y="501480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678720" y="505764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670800" y="508932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686640" y="503856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683400" y="501336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702480" y="504180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667560" y="507204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674040" y="509112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647040" y="501804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664056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6647040" y="49971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662004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6653520" y="507204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702480" y="499896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668988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693120" y="501624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6624720" y="501624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6639120" y="494028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650280" y="500688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704280" y="500688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6634440" y="501156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6639120" y="500364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6640560" y="500364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639120" y="500508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6632640" y="500364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696360" y="500508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6696360" y="500688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694560" y="500364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566040" y="497664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583680" y="496224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542280" y="499428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539040" y="497664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548760" y="496872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6569280" y="497844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559920" y="494352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658200" y="491796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662880" y="491796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728040" y="500832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729480" y="502596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734520" y="503208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9" name=""/>
          <p:cNvGrpSpPr/>
          <p:nvPr/>
        </p:nvGrpSpPr>
        <p:grpSpPr>
          <a:xfrm>
            <a:off x="1903320" y="4905360"/>
            <a:ext cx="285840" cy="336600"/>
            <a:chOff x="1903320" y="4905360"/>
            <a:chExt cx="285840" cy="336600"/>
          </a:xfrm>
        </p:grpSpPr>
        <p:sp>
          <p:nvSpPr>
            <p:cNvPr id="3410" name=""/>
            <p:cNvSpPr/>
            <p:nvPr/>
          </p:nvSpPr>
          <p:spPr>
            <a:xfrm>
              <a:off x="1932120" y="490680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984320" y="502452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1984320" y="504972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106720" y="521172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040120" y="517212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0732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052720" y="516888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2079720" y="519408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925640" y="509436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021040" y="493704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2082960" y="508644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098800" y="501336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109960" y="500688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070000" y="503856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060640" y="506880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073240" y="499752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023920" y="493704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097000" y="494028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995480" y="500832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968480" y="491652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021040" y="490680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017800" y="493056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022480" y="492444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030400" y="49244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03688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063880" y="491184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131920" y="497844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135160" y="500364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138400" y="502596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135160" y="502596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133720" y="504036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947960" y="501948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951200" y="500220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952640" y="499428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925640" y="499248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955880" y="494820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976400" y="495144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946160" y="497052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120760" y="515628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911240" y="509436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120760" y="515772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127240" y="518148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911240" y="506736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990800" y="505440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2033640" y="499572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2058840" y="501804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2025720" y="499572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2057400" y="499104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2063880" y="507024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2084400" y="509112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2098800" y="499572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2006640" y="507024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925640" y="501012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940040" y="499572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968480" y="500832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989000" y="502920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014560" y="497520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028960" y="507528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992240" y="505440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102040" y="494172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149560" y="503532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2136960" y="505152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986120" y="506736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949400" y="501480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928880" y="509904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1928880" y="509580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903320" y="507204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946160" y="490536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075040" y="491328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085840" y="491976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1981080" y="494820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1954080" y="50212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070000" y="511020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119320" y="514980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077920" y="519732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073240" y="517536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095560" y="518148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023920" y="516888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022480" y="515448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050920" y="516240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1925640" y="498312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930320" y="501948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071800" y="503532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098800" y="501480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084400" y="504972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025720" y="493560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100240" y="513072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1963800" y="507024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044800" y="511488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075040" y="519120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095560" y="520200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097000" y="518796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125800" y="522288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023920" y="515628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998720" y="493380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009880" y="494964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013120" y="493560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009880" y="491796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011320" y="492264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025720" y="491652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043000" y="491652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075040" y="492588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071800" y="491472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079720" y="491976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093760" y="493236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133720" y="499248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111400" y="501804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031840" y="501804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089080" y="506088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081160" y="509256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097000" y="504180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093760" y="501660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112840" y="504504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077920" y="507528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084400" y="509436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057400" y="502128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05092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057400" y="500040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03040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063880" y="507528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112840" y="500220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100240" y="501156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103480" y="501948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035080" y="501948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049480" y="494352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06064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11464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044800" y="501480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049480" y="500688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050920" y="500688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049480" y="500832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043000" y="500688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10672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10672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104920" y="500688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1976400" y="497988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1994040" y="496548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952640" y="499752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1949400" y="497988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1959120" y="497196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1979640" y="498168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1970280" y="494676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068560" y="492120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073240" y="492120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138400" y="501156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139840" y="502920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144880" y="503532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7" name=""/>
          <p:cNvGrpSpPr/>
          <p:nvPr/>
        </p:nvGrpSpPr>
        <p:grpSpPr>
          <a:xfrm>
            <a:off x="4776840" y="4903920"/>
            <a:ext cx="436680" cy="318960"/>
            <a:chOff x="4776840" y="4903920"/>
            <a:chExt cx="436680" cy="318960"/>
          </a:xfrm>
        </p:grpSpPr>
        <p:sp>
          <p:nvSpPr>
            <p:cNvPr id="3558" name=""/>
            <p:cNvSpPr/>
            <p:nvPr/>
          </p:nvSpPr>
          <p:spPr>
            <a:xfrm>
              <a:off x="4776840" y="490392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9" name=""/>
            <p:cNvGrpSpPr/>
            <p:nvPr/>
          </p:nvGrpSpPr>
          <p:grpSpPr>
            <a:xfrm>
              <a:off x="4848480" y="4948200"/>
              <a:ext cx="134640" cy="246960"/>
              <a:chOff x="4848480" y="4948200"/>
              <a:chExt cx="134640" cy="246960"/>
            </a:xfrm>
          </p:grpSpPr>
          <p:sp>
            <p:nvSpPr>
              <p:cNvPr id="3560" name=""/>
              <p:cNvSpPr/>
              <p:nvPr/>
            </p:nvSpPr>
            <p:spPr>
              <a:xfrm>
                <a:off x="4848480" y="49482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4869720" y="495216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2" name=""/>
            <p:cNvGrpSpPr/>
            <p:nvPr/>
          </p:nvGrpSpPr>
          <p:grpSpPr>
            <a:xfrm>
              <a:off x="4937400" y="4935240"/>
              <a:ext cx="132840" cy="248760"/>
              <a:chOff x="4937400" y="4935240"/>
              <a:chExt cx="132840" cy="248760"/>
            </a:xfrm>
          </p:grpSpPr>
          <p:sp>
            <p:nvSpPr>
              <p:cNvPr id="3563" name=""/>
              <p:cNvSpPr/>
              <p:nvPr/>
            </p:nvSpPr>
            <p:spPr>
              <a:xfrm>
                <a:off x="4937400" y="493524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4958280" y="493920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5" name=""/>
            <p:cNvGrpSpPr/>
            <p:nvPr/>
          </p:nvGrpSpPr>
          <p:grpSpPr>
            <a:xfrm>
              <a:off x="5019840" y="4929120"/>
              <a:ext cx="134640" cy="246960"/>
              <a:chOff x="5019840" y="4929120"/>
              <a:chExt cx="134640" cy="246960"/>
            </a:xfrm>
          </p:grpSpPr>
          <p:sp>
            <p:nvSpPr>
              <p:cNvPr id="3566" name=""/>
              <p:cNvSpPr/>
              <p:nvPr/>
            </p:nvSpPr>
            <p:spPr>
              <a:xfrm>
                <a:off x="5019840" y="492912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041080" y="493308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568" name="" descr=""/>
          <p:cNvPicPr/>
          <p:nvPr/>
        </p:nvPicPr>
        <p:blipFill>
          <a:blip r:embed="rId1"/>
          <a:stretch/>
        </p:blipFill>
        <p:spPr>
          <a:xfrm>
            <a:off x="7313760" y="4857840"/>
            <a:ext cx="442800" cy="441360"/>
          </a:xfrm>
          <a:prstGeom prst="rect">
            <a:avLst/>
          </a:prstGeom>
          <a:ln w="0">
            <a:noFill/>
          </a:ln>
        </p:spPr>
      </p:pic>
      <p:grpSp>
        <p:nvGrpSpPr>
          <p:cNvPr id="3569" name=""/>
          <p:cNvGrpSpPr/>
          <p:nvPr/>
        </p:nvGrpSpPr>
        <p:grpSpPr>
          <a:xfrm>
            <a:off x="4054320" y="1827360"/>
            <a:ext cx="285840" cy="335880"/>
            <a:chOff x="4054320" y="1827360"/>
            <a:chExt cx="285840" cy="335880"/>
          </a:xfrm>
        </p:grpSpPr>
        <p:sp>
          <p:nvSpPr>
            <p:cNvPr id="3570" name=""/>
            <p:cNvSpPr/>
            <p:nvPr/>
          </p:nvSpPr>
          <p:spPr>
            <a:xfrm>
              <a:off x="4083120" y="1828440"/>
              <a:ext cx="234720" cy="17136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4135320" y="1946160"/>
              <a:ext cx="28800" cy="4248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4135320" y="1971360"/>
              <a:ext cx="152640" cy="19008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4257720" y="2133360"/>
              <a:ext cx="20520" cy="2808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4191120" y="2093760"/>
              <a:ext cx="34920" cy="6768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4224240" y="2098440"/>
              <a:ext cx="33480" cy="3312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4203720" y="2090520"/>
              <a:ext cx="23760" cy="4248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4230720" y="2115720"/>
              <a:ext cx="12600" cy="4428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4076640" y="2016000"/>
              <a:ext cx="42840" cy="4068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4172040" y="1858680"/>
              <a:ext cx="115920" cy="17748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4233960" y="2008080"/>
              <a:ext cx="21960" cy="756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249800" y="1935000"/>
              <a:ext cx="11160" cy="3600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260960" y="1928520"/>
              <a:ext cx="20520" cy="1224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221000" y="1960200"/>
              <a:ext cx="28800" cy="2196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211640" y="1990440"/>
              <a:ext cx="58680" cy="93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224240" y="1919160"/>
              <a:ext cx="36720" cy="5976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174920" y="1858680"/>
              <a:ext cx="60480" cy="8064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248000" y="1861920"/>
              <a:ext cx="41400" cy="16776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146480" y="1929960"/>
              <a:ext cx="106560" cy="11556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4119480" y="1838160"/>
              <a:ext cx="57240" cy="3132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172040" y="1828440"/>
              <a:ext cx="115920" cy="6804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168800" y="1852200"/>
              <a:ext cx="15840" cy="612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4173480" y="1846080"/>
              <a:ext cx="20520" cy="1224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181400" y="1846080"/>
              <a:ext cx="14400" cy="900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4187880" y="1841400"/>
              <a:ext cx="15840" cy="1224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214880" y="1833480"/>
              <a:ext cx="17280" cy="2484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4282920" y="1900080"/>
              <a:ext cx="11160" cy="2340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4286160" y="1925280"/>
              <a:ext cx="30240" cy="2340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4289400" y="1947600"/>
              <a:ext cx="22320" cy="900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286160" y="1947600"/>
              <a:ext cx="33480" cy="2196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284720" y="1962000"/>
              <a:ext cx="20520" cy="2664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098960" y="1941120"/>
              <a:ext cx="41040" cy="2988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4102200" y="1923840"/>
              <a:ext cx="60120" cy="2340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4103640" y="1915920"/>
              <a:ext cx="31680" cy="1872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076640" y="1914120"/>
              <a:ext cx="38160" cy="3780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106880" y="1869840"/>
              <a:ext cx="19080" cy="2988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4127400" y="1873080"/>
              <a:ext cx="23760" cy="1872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4097160" y="1892160"/>
              <a:ext cx="41400" cy="266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4271760" y="2077920"/>
              <a:ext cx="63720" cy="7560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4062240" y="2016000"/>
              <a:ext cx="133560" cy="14544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4271760" y="2079360"/>
              <a:ext cx="65160" cy="6948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278240" y="2103120"/>
              <a:ext cx="15840" cy="5688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062240" y="1989000"/>
              <a:ext cx="131760" cy="17244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141800" y="1976040"/>
              <a:ext cx="88920" cy="9972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184640" y="1917360"/>
              <a:ext cx="27000" cy="1728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4209840" y="1939680"/>
              <a:ext cx="11160" cy="612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176720" y="1917360"/>
              <a:ext cx="20520" cy="1404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208400" y="1912680"/>
              <a:ext cx="30240" cy="2988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214880" y="1991880"/>
              <a:ext cx="50760" cy="792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235400" y="2012760"/>
              <a:ext cx="17640" cy="108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249800" y="1917360"/>
              <a:ext cx="28440" cy="1548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157640" y="1991880"/>
              <a:ext cx="93600" cy="4752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076640" y="1931760"/>
              <a:ext cx="65160" cy="6480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091040" y="1917360"/>
              <a:ext cx="17280" cy="205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119480" y="1929960"/>
              <a:ext cx="39600" cy="2844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4140000" y="1950840"/>
              <a:ext cx="22320" cy="3132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165560" y="1896840"/>
              <a:ext cx="23760" cy="11556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4179960" y="1996920"/>
              <a:ext cx="77760" cy="3600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4143240" y="1976040"/>
              <a:ext cx="106560" cy="7128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253040" y="1863360"/>
              <a:ext cx="48960" cy="16632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4300560" y="1956960"/>
              <a:ext cx="15840" cy="79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287960" y="1973160"/>
              <a:ext cx="14040" cy="1548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137120" y="1989000"/>
              <a:ext cx="36360" cy="9792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4100400" y="1936440"/>
              <a:ext cx="15840" cy="1404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079880" y="2020680"/>
              <a:ext cx="39600" cy="3600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079880" y="2017440"/>
              <a:ext cx="39600" cy="1080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054320" y="1993680"/>
              <a:ext cx="147600" cy="16956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097160" y="1827360"/>
              <a:ext cx="128880" cy="8208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226040" y="1834920"/>
              <a:ext cx="87120" cy="11088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236840" y="1841400"/>
              <a:ext cx="6480" cy="900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132080" y="1869840"/>
              <a:ext cx="15840" cy="2016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105080" y="1942920"/>
              <a:ext cx="14400" cy="900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221000" y="2031840"/>
              <a:ext cx="69840" cy="12816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270320" y="2071440"/>
              <a:ext cx="66600" cy="9000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228920" y="2118960"/>
              <a:ext cx="12960" cy="4248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224240" y="2097000"/>
              <a:ext cx="50760" cy="6444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246560" y="2103120"/>
              <a:ext cx="19080" cy="2016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174920" y="2090520"/>
              <a:ext cx="49320" cy="7092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173480" y="2076120"/>
              <a:ext cx="39600" cy="432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201920" y="2084040"/>
              <a:ext cx="30240" cy="288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076640" y="1904760"/>
              <a:ext cx="23760" cy="4104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081320" y="1941120"/>
              <a:ext cx="9720" cy="108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222800" y="1956960"/>
              <a:ext cx="33120" cy="2520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249800" y="1936440"/>
              <a:ext cx="12600" cy="4104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235400" y="1971360"/>
              <a:ext cx="15840" cy="612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176720" y="1857240"/>
              <a:ext cx="85680" cy="4392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4251240" y="2052360"/>
              <a:ext cx="88920" cy="6300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4114800" y="1991880"/>
              <a:ext cx="17280" cy="2988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4195800" y="2036520"/>
              <a:ext cx="54000" cy="3780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4226040" y="2112840"/>
              <a:ext cx="10800" cy="4536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4246560" y="2123640"/>
              <a:ext cx="17280" cy="237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4248000" y="2109600"/>
              <a:ext cx="23760" cy="2988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4276800" y="2144520"/>
              <a:ext cx="6120" cy="1368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174920" y="2077920"/>
              <a:ext cx="52560" cy="4860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149720" y="1855440"/>
              <a:ext cx="19080" cy="2520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4160880" y="1871280"/>
              <a:ext cx="15840" cy="2052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4164120" y="1857240"/>
              <a:ext cx="21960" cy="2016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4160880" y="1839600"/>
              <a:ext cx="15840" cy="432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162320" y="1844280"/>
              <a:ext cx="15840" cy="936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176720" y="1838160"/>
              <a:ext cx="11160" cy="90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4194000" y="1838160"/>
              <a:ext cx="33480" cy="2160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4226040" y="1847520"/>
              <a:ext cx="17280" cy="1224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4222800" y="1836360"/>
              <a:ext cx="4680" cy="75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4230720" y="1841400"/>
              <a:ext cx="9360" cy="756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244760" y="1854000"/>
              <a:ext cx="43200" cy="4896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284720" y="1914120"/>
              <a:ext cx="7920" cy="3456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262400" y="1939680"/>
              <a:ext cx="19080" cy="23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182840" y="1939680"/>
              <a:ext cx="43200" cy="3456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240080" y="1982520"/>
              <a:ext cx="11160" cy="900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232160" y="2014200"/>
              <a:ext cx="25560" cy="1080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248000" y="1963440"/>
              <a:ext cx="6480" cy="61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244760" y="1938240"/>
              <a:ext cx="6480" cy="2016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263840" y="1966680"/>
              <a:ext cx="7920" cy="2340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228920" y="1996920"/>
              <a:ext cx="33480" cy="756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235400" y="2016000"/>
              <a:ext cx="20520" cy="432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208400" y="1942920"/>
              <a:ext cx="12600" cy="756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201920" y="1935000"/>
              <a:ext cx="11160" cy="432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208400" y="1922040"/>
              <a:ext cx="12600" cy="612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181400" y="1935000"/>
              <a:ext cx="11160" cy="43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214880" y="1996920"/>
              <a:ext cx="4680" cy="432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263840" y="1923840"/>
              <a:ext cx="11160" cy="432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251240" y="1933200"/>
              <a:ext cx="11160" cy="6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254480" y="1941120"/>
              <a:ext cx="7920" cy="936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4186080" y="1941120"/>
              <a:ext cx="20880" cy="1080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200480" y="1865160"/>
              <a:ext cx="69840" cy="5364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211640" y="1931760"/>
              <a:ext cx="7920" cy="43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265640" y="1931760"/>
              <a:ext cx="4680" cy="43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195800" y="1936440"/>
              <a:ext cx="20520" cy="756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200480" y="1928520"/>
              <a:ext cx="14400" cy="756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201920" y="1928520"/>
              <a:ext cx="12960" cy="756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4200480" y="1929960"/>
              <a:ext cx="14400" cy="612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194000" y="1928520"/>
              <a:ext cx="30240" cy="1224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257720" y="1929960"/>
              <a:ext cx="11160" cy="6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257720" y="1931760"/>
              <a:ext cx="11160" cy="432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255920" y="1928520"/>
              <a:ext cx="22320" cy="1224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27400" y="1901520"/>
              <a:ext cx="44640" cy="2520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45040" y="1887120"/>
              <a:ext cx="12600" cy="158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4103640" y="1919160"/>
              <a:ext cx="19080" cy="1368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100400" y="1901520"/>
              <a:ext cx="15840" cy="1728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110120" y="1893600"/>
              <a:ext cx="25200" cy="2196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130640" y="1903320"/>
              <a:ext cx="33480" cy="2340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121280" y="1868400"/>
              <a:ext cx="17280" cy="1368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219560" y="1842840"/>
              <a:ext cx="6480" cy="1548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224240" y="1842840"/>
              <a:ext cx="12600" cy="140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289400" y="1933200"/>
              <a:ext cx="17280" cy="1548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4290840" y="1950840"/>
              <a:ext cx="20880" cy="432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295880" y="1956960"/>
              <a:ext cx="23760" cy="1728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7" name=""/>
          <p:cNvGrpSpPr/>
          <p:nvPr/>
        </p:nvGrpSpPr>
        <p:grpSpPr>
          <a:xfrm>
            <a:off x="6416640" y="1833480"/>
            <a:ext cx="285840" cy="336600"/>
            <a:chOff x="6416640" y="1833480"/>
            <a:chExt cx="285840" cy="336600"/>
          </a:xfrm>
        </p:grpSpPr>
        <p:sp>
          <p:nvSpPr>
            <p:cNvPr id="3718" name=""/>
            <p:cNvSpPr/>
            <p:nvPr/>
          </p:nvSpPr>
          <p:spPr>
            <a:xfrm>
              <a:off x="6445440" y="183492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6497640" y="195264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497640" y="197784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620040" y="213984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553440" y="210024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586560" y="210492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566040" y="209700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593040" y="212220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6438960" y="202248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6534360" y="186516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6596280" y="201456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6612120" y="194148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623280" y="193500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3320" y="196668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6573960" y="199692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586560" y="192564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537240" y="186516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6610320" y="186840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6508800" y="193644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6481800" y="184464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534360" y="183492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531120" y="185868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6535800" y="185256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6543720" y="18525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6550200" y="184788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6577200" y="183996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6645240" y="190656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6648480" y="193176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6651720" y="195408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6648480" y="195408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6647040" y="196848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6461280" y="194760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6464520" y="193032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6465960" y="192240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6438960" y="192060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6469200" y="187632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6489720" y="187956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6459480" y="189864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634080" y="208440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6424560" y="202248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6634080" y="208584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6640560" y="210960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6424560" y="199548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6504120" y="198252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6546960" y="192384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572160" y="194616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6539040" y="192384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6570720" y="191916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6577200" y="199836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6597720" y="201924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6612120" y="192384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6519960" y="199836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6438960" y="193824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6453360" y="192384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6481800" y="193644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6502320" y="195732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6527880" y="190332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542280" y="200340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6505560" y="198252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615360" y="186984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6662880" y="196344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6650280" y="197964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6499440" y="199548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6462720" y="194292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442200" y="202716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6442200" y="202392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6416640" y="200016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6459480" y="183348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6588360" y="184140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599160" y="184788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6494400" y="187632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6467400" y="19494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6583320" y="203832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6632640" y="207792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6591240" y="212544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6586560" y="210348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6608880" y="210960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537240" y="209700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535800" y="208260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6564240" y="209052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438960" y="191124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6443640" y="194760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6585120" y="196344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6612120" y="194292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6597720" y="197784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6539040" y="186372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613560" y="205884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77120" y="199836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58120" y="204300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588360" y="211932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608880" y="213012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610320" y="211608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6639120" y="215100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6537240" y="208440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512040" y="186192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523200" y="187776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526440" y="186372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6523200" y="184608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6524640" y="185076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6539040" y="184464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556320" y="184464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8360" y="185400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585120" y="184284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593040" y="184788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607080" y="186048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647040" y="192060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6624720" y="194616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545160" y="194616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602400" y="198900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594480" y="202068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610320" y="196992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6607080" y="194472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6626160" y="197316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6591240" y="200340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6597720" y="202248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6570720" y="194940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6564240" y="194148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6570720" y="192852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6543720" y="194148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6577200" y="200340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626160" y="193032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6613560" y="193968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616800" y="194760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548400" y="194760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562800" y="187164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573960" y="193824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627960" y="193824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558120" y="194292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562800" y="193500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564240" y="193500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562800" y="193644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556320" y="193500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620040" y="193644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620040" y="193824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618240" y="193500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489720" y="190800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507360" y="189360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465960" y="192564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462720" y="190800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6472440" y="190008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492960" y="190980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483600" y="187488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581880" y="184932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6586560" y="184932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6651720" y="193968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6653160" y="195732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6658200" y="196344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5" name=""/>
          <p:cNvGrpSpPr/>
          <p:nvPr/>
        </p:nvGrpSpPr>
        <p:grpSpPr>
          <a:xfrm>
            <a:off x="1860480" y="1936800"/>
            <a:ext cx="285840" cy="336600"/>
            <a:chOff x="1860480" y="1936800"/>
            <a:chExt cx="285840" cy="336600"/>
          </a:xfrm>
        </p:grpSpPr>
        <p:sp>
          <p:nvSpPr>
            <p:cNvPr id="3866" name=""/>
            <p:cNvSpPr/>
            <p:nvPr/>
          </p:nvSpPr>
          <p:spPr>
            <a:xfrm>
              <a:off x="1889280" y="193824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941480" y="205596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941480" y="208116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063880" y="224316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997280" y="220356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030400" y="220824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009880" y="220032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036880" y="222552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882800" y="212580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978200" y="196848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040120" y="211788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055960" y="204480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067120" y="203832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027160" y="207000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2017800" y="210024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2030400" y="202896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81080" y="196848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054160" y="197172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952640" y="203976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925640" y="194796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978200" y="193824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1974960" y="196200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1979640" y="195588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987560" y="19558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1994040" y="195120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021040" y="194328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089080" y="200988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092320" y="203508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095560" y="205740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092320" y="205740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090880" y="207180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905120" y="205092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908360" y="203364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1909800" y="202572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882800" y="202392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913040" y="197964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1933560" y="198288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1903320" y="200196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077920" y="218772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1868400" y="212580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77920" y="218916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084400" y="221292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1868400" y="209880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947960" y="208584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990800" y="202716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016000" y="204948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982880" y="202716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014560" y="202248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21040" y="210168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041560" y="212256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055960" y="202716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963800" y="210168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882800" y="204156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1897200" y="202716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925640" y="203976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1946160" y="206064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1971720" y="200664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986120" y="210672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949400" y="208584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059200" y="197316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106720" y="206676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094120" y="208296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943280" y="209880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906560" y="204624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886040" y="213048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886040" y="212724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860480" y="210348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03320" y="193680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032200" y="194472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043000" y="195120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38240" y="197964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911240" y="20527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27160" y="214164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76480" y="218124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35080" y="222876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030400" y="220680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052720" y="221292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981080" y="220032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979640" y="218592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008080" y="219384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882800" y="201456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87480" y="205092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028960" y="206676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055960" y="204624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041560" y="208116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982880" y="196704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057400" y="216216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920960" y="210168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01960" y="214632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032200" y="222264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052720" y="223344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054160" y="221940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082960" y="225432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981080" y="218772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955880" y="196524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967040" y="198108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970280" y="196704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967040" y="194940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968480" y="195408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982880" y="194796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000160" y="194796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032200" y="195732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028960" y="194616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036880" y="195120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050920" y="196380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090880" y="202392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068560" y="204948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989000" y="204948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046240" y="209232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038320" y="212400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054160" y="207324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050920" y="204804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070000" y="207648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035080" y="210672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041560" y="212580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014560" y="205272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008080" y="204480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014560" y="203184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987560" y="204480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021040" y="210672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070000" y="203364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057400" y="204300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06064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992240" y="205092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006640" y="197496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017800" y="204156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071800" y="204156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001960" y="204624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006640" y="203832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008080" y="203832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006640" y="203976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000160" y="203832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063880" y="203976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063880" y="204156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062080" y="203832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933560" y="201132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951200" y="199692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909800" y="202896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906560" y="201132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916280" y="200340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36800" y="201312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927440" y="197820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025720" y="195264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030400" y="195264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095560" y="204300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097000" y="206064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102040" y="206676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3" name=""/>
          <p:cNvGrpSpPr/>
          <p:nvPr/>
        </p:nvGrpSpPr>
        <p:grpSpPr>
          <a:xfrm>
            <a:off x="4711680" y="2257560"/>
            <a:ext cx="436680" cy="318960"/>
            <a:chOff x="4711680" y="2257560"/>
            <a:chExt cx="436680" cy="318960"/>
          </a:xfrm>
        </p:grpSpPr>
        <p:sp>
          <p:nvSpPr>
            <p:cNvPr id="4014" name=""/>
            <p:cNvSpPr/>
            <p:nvPr/>
          </p:nvSpPr>
          <p:spPr>
            <a:xfrm>
              <a:off x="4711680" y="225756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5" name=""/>
            <p:cNvGrpSpPr/>
            <p:nvPr/>
          </p:nvGrpSpPr>
          <p:grpSpPr>
            <a:xfrm>
              <a:off x="4783320" y="2301840"/>
              <a:ext cx="134640" cy="246960"/>
              <a:chOff x="4783320" y="2301840"/>
              <a:chExt cx="134640" cy="246960"/>
            </a:xfrm>
          </p:grpSpPr>
          <p:sp>
            <p:nvSpPr>
              <p:cNvPr id="4016" name=""/>
              <p:cNvSpPr/>
              <p:nvPr/>
            </p:nvSpPr>
            <p:spPr>
              <a:xfrm>
                <a:off x="4783320" y="230184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4804560" y="230580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8" name=""/>
            <p:cNvGrpSpPr/>
            <p:nvPr/>
          </p:nvGrpSpPr>
          <p:grpSpPr>
            <a:xfrm>
              <a:off x="4872240" y="2288880"/>
              <a:ext cx="132840" cy="248760"/>
              <a:chOff x="4872240" y="2288880"/>
              <a:chExt cx="132840" cy="248760"/>
            </a:xfrm>
          </p:grpSpPr>
          <p:sp>
            <p:nvSpPr>
              <p:cNvPr id="4019" name=""/>
              <p:cNvSpPr/>
              <p:nvPr/>
            </p:nvSpPr>
            <p:spPr>
              <a:xfrm>
                <a:off x="4872240" y="228888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4893120" y="229284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1" name=""/>
            <p:cNvGrpSpPr/>
            <p:nvPr/>
          </p:nvGrpSpPr>
          <p:grpSpPr>
            <a:xfrm>
              <a:off x="4954680" y="2282760"/>
              <a:ext cx="134640" cy="246960"/>
              <a:chOff x="4954680" y="2282760"/>
              <a:chExt cx="134640" cy="246960"/>
            </a:xfrm>
          </p:grpSpPr>
          <p:sp>
            <p:nvSpPr>
              <p:cNvPr id="4022" name=""/>
              <p:cNvSpPr/>
              <p:nvPr/>
            </p:nvSpPr>
            <p:spPr>
              <a:xfrm>
                <a:off x="4954680" y="228276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4975920" y="228672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24" name="" descr=""/>
          <p:cNvPicPr/>
          <p:nvPr/>
        </p:nvPicPr>
        <p:blipFill>
          <a:blip r:embed="rId2"/>
          <a:stretch/>
        </p:blipFill>
        <p:spPr>
          <a:xfrm>
            <a:off x="7270920" y="2133720"/>
            <a:ext cx="442800" cy="441360"/>
          </a:xfrm>
          <a:prstGeom prst="rect">
            <a:avLst/>
          </a:prstGeom>
          <a:ln w="0">
            <a:noFill/>
          </a:ln>
        </p:spPr>
      </p:pic>
      <p:sp>
        <p:nvSpPr>
          <p:cNvPr id="4025" name=""/>
          <p:cNvSpPr/>
          <p:nvPr/>
        </p:nvSpPr>
        <p:spPr>
          <a:xfrm>
            <a:off x="4348080" y="1994040"/>
            <a:ext cx="282744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6" name=""/>
          <p:cNvGrpSpPr/>
          <p:nvPr/>
        </p:nvGrpSpPr>
        <p:grpSpPr>
          <a:xfrm>
            <a:off x="2081160" y="1453680"/>
            <a:ext cx="5468760" cy="692280"/>
            <a:chOff x="2081160" y="1453680"/>
            <a:chExt cx="5468760" cy="692280"/>
          </a:xfrm>
        </p:grpSpPr>
        <p:sp>
          <p:nvSpPr>
            <p:cNvPr id="4027" name=""/>
            <p:cNvSpPr/>
            <p:nvPr/>
          </p:nvSpPr>
          <p:spPr>
            <a:xfrm flipV="1">
              <a:off x="2081160" y="1460160"/>
              <a:ext cx="4245120" cy="47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H="1" flipV="1">
              <a:off x="6308280" y="1453680"/>
              <a:ext cx="124164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9" name=""/>
          <p:cNvSpPr/>
          <p:nvPr/>
        </p:nvSpPr>
        <p:spPr>
          <a:xfrm flipH="1">
            <a:off x="2971440" y="2112840"/>
            <a:ext cx="3406680" cy="1078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411120" y="1600200"/>
            <a:ext cx="804708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3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5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500"/>
                            </p:stCondLst>
                            <p:childTnLst>
                              <p:par>
                                <p:cTn id="7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3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erspectiv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tudier d’autres propriétés extra fonctionnelles pour le déploi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écurité pour autoriser ou non les déploie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partition de ch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site = Assemblage + Compos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ssemblage offre une interface de compos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ortation et importation des ports de l’assembl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’outillage</a:t>
            </a:r>
            <a:br>
              <a:rPr sz="3600"/>
            </a:b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d’administratio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035" name="" descr=""/>
          <p:cNvPicPr/>
          <p:nvPr/>
        </p:nvPicPr>
        <p:blipFill>
          <a:blip r:embed="rId1"/>
          <a:stretch/>
        </p:blipFill>
        <p:spPr>
          <a:xfrm>
            <a:off x="3679920" y="4076640"/>
            <a:ext cx="199224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lage d’administration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nsole de navigation et de contrô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sonnalisation du canevas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frastructure d’observation et de test interactif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ée par Lucent dans projet IST COA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ponible à partir OpenCCM 0.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logiciel libre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381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tièrement écrit en Jav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N JDK 1.2.x, 1.3.x et 1.4.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bilité, maintenance et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, Solaris, Windows et Windows CE pour P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nstruit au dessus de CORBA 2.4 (et +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Bacus 4.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ORB 1.2.1, 1.3.0, 1.3.1, 1.4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rland Enterprise Server 5.0.2 et 5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tilise d’autres logiciels libr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Web : Apollon et Monolo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hydra : Ze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ache : Ant, Log4j, Velocity et Xe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n Microsystems : JavaC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L : JIDLscri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15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otype d’un plug-in pour Eclip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nsole de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avigation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Plug-in pour canevas Brow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Offre navigation et menus de contrôle pou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éférentiel des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CMHom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CM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I de déploiement CCM + DC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mmage -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s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rtage -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sTra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action –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s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ification –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sNot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e instance du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navigateur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041" name="" descr=""/>
          <p:cNvPicPr/>
          <p:nvPr/>
        </p:nvPicPr>
        <p:blipFill>
          <a:blip r:embed="rId1"/>
          <a:stretch/>
        </p:blipFill>
        <p:spPr>
          <a:xfrm>
            <a:off x="179280" y="1314360"/>
            <a:ext cx="878544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frastructure COACH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’observation et de t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2773440" y="4307400"/>
            <a:ext cx="35272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rveurs de composants Open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773440" y="5180760"/>
            <a:ext cx="35272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cepteurs d’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73440" y="5980680"/>
            <a:ext cx="352728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us COR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2773440" y="3431160"/>
            <a:ext cx="352728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osants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468360" y="2207160"/>
            <a:ext cx="187164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3602160" y="1486440"/>
            <a:ext cx="187164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6804000" y="3138840"/>
            <a:ext cx="187164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osant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log de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6804000" y="1414800"/>
            <a:ext cx="187164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avigateur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6372360" y="4187880"/>
            <a:ext cx="1871640" cy="1473120"/>
          </a:xfrm>
          <a:custGeom>
            <a:avLst/>
            <a:gdLst>
              <a:gd name="textAreaLeft" fmla="*/ 623880 w 1871640"/>
              <a:gd name="textAreaRight" fmla="*/ 1603080 w 1871640"/>
              <a:gd name="textAreaTop" fmla="*/ 1018800 h 1473120"/>
              <a:gd name="textAreaBottom" fmla="*/ 1261800 h 1473120"/>
            </a:gdLst>
            <a:ahLst/>
            <a:rect l="textAreaLeft" t="textAreaTop" r="textAreaRight" b="textAreaBottom"/>
            <a:pathLst>
              <a:path w="21600" h="21600">
                <a:moveTo>
                  <a:pt x="0" y="18037"/>
                </a:moveTo>
                <a:lnTo>
                  <a:pt x="14937" y="18037"/>
                </a:lnTo>
                <a:lnTo>
                  <a:pt x="14937" y="7200"/>
                </a:lnTo>
                <a:lnTo>
                  <a:pt x="11837" y="7200"/>
                </a:lnTo>
                <a:lnTo>
                  <a:pt x="1671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4356000" y="2421000"/>
            <a:ext cx="432000" cy="936720"/>
          </a:xfrm>
          <a:prstGeom prst="downArrow">
            <a:avLst>
              <a:gd name="adj1" fmla="val 50000"/>
              <a:gd name="adj2" fmla="val 5420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7524720" y="2205000"/>
            <a:ext cx="432000" cy="936720"/>
          </a:xfrm>
          <a:prstGeom prst="downArrow">
            <a:avLst>
              <a:gd name="adj1" fmla="val 50000"/>
              <a:gd name="adj2" fmla="val 5420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 rot="4117200">
            <a:off x="2771640" y="1773000"/>
            <a:ext cx="431640" cy="936720"/>
          </a:xfrm>
          <a:prstGeom prst="downArrow">
            <a:avLst>
              <a:gd name="adj1" fmla="val 50000"/>
              <a:gd name="adj2" fmla="val 542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infrastructure COACH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’observation et de t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cc"/>
                </a:solidFill>
                <a:latin typeface="Arial"/>
              </a:rPr>
              <a:t>Captures écran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cc"/>
                </a:solidFill>
                <a:latin typeface="Arial"/>
              </a:rPr>
              <a:t>prochainement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a plate-forme d’exécutio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059" name="" descr=""/>
          <p:cNvPicPr/>
          <p:nvPr/>
        </p:nvPicPr>
        <p:blipFill>
          <a:blip r:embed="rId1"/>
          <a:stretch/>
        </p:blipFill>
        <p:spPr>
          <a:xfrm>
            <a:off x="3679920" y="4076640"/>
            <a:ext cx="199224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late-forme d’exécu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struite au dessus d’un bus CORBA 2.4 et des services fourni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scripts pour démarrer / arrêter les serv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mage, Transaction, Cour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e bibliothèque run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semble de classes héritées par le code conteneur génér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e implantation du service de persistance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ite au dessus de J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tuellement produit Kodo, prochainement ObjectWeb Spee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"/>
          <p:cNvSpPr/>
          <p:nvPr/>
        </p:nvSpPr>
        <p:spPr>
          <a:xfrm>
            <a:off x="5148360" y="1414440"/>
            <a:ext cx="3671640" cy="1582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osants applica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611280" y="1414440"/>
            <a:ext cx="3671640" cy="1582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osants D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plate-forme d’exécu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065" name="" descr=""/>
          <p:cNvPicPr/>
          <p:nvPr/>
        </p:nvPicPr>
        <p:blipFill>
          <a:blip r:embed="rId1"/>
          <a:stretch/>
        </p:blipFill>
        <p:spPr>
          <a:xfrm>
            <a:off x="1042920" y="1785960"/>
            <a:ext cx="792360" cy="646200"/>
          </a:xfrm>
          <a:prstGeom prst="rect">
            <a:avLst/>
          </a:prstGeom>
          <a:ln w="0">
            <a:noFill/>
          </a:ln>
        </p:spPr>
      </p:pic>
      <p:pic>
        <p:nvPicPr>
          <p:cNvPr id="4066" name="" descr=""/>
          <p:cNvPicPr/>
          <p:nvPr/>
        </p:nvPicPr>
        <p:blipFill>
          <a:blip r:embed="rId2"/>
          <a:stretch/>
        </p:blipFill>
        <p:spPr>
          <a:xfrm>
            <a:off x="5292720" y="1787400"/>
            <a:ext cx="792000" cy="646200"/>
          </a:xfrm>
          <a:prstGeom prst="rect">
            <a:avLst/>
          </a:prstGeom>
          <a:ln w="0">
            <a:noFill/>
          </a:ln>
        </p:spPr>
      </p:pic>
      <p:pic>
        <p:nvPicPr>
          <p:cNvPr id="4067" name="" descr=""/>
          <p:cNvPicPr/>
          <p:nvPr/>
        </p:nvPicPr>
        <p:blipFill>
          <a:blip r:embed="rId3"/>
          <a:stretch/>
        </p:blipFill>
        <p:spPr>
          <a:xfrm>
            <a:off x="2230560" y="1816200"/>
            <a:ext cx="720720" cy="587160"/>
          </a:xfrm>
          <a:prstGeom prst="rect">
            <a:avLst/>
          </a:prstGeom>
          <a:ln w="0">
            <a:noFill/>
          </a:ln>
        </p:spPr>
      </p:pic>
      <p:sp>
        <p:nvSpPr>
          <p:cNvPr id="4068" name=""/>
          <p:cNvSpPr/>
          <p:nvPr/>
        </p:nvSpPr>
        <p:spPr>
          <a:xfrm>
            <a:off x="755640" y="5222880"/>
            <a:ext cx="1584360" cy="1079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m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2795760" y="5222880"/>
            <a:ext cx="1584000" cy="1079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4835520" y="5222880"/>
            <a:ext cx="1584360" cy="1079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ur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539640" y="3933720"/>
            <a:ext cx="6048360" cy="1179720"/>
          </a:xfrm>
          <a:prstGeom prst="leftRightArrow">
            <a:avLst>
              <a:gd name="adj1" fmla="val 62046"/>
              <a:gd name="adj2" fmla="val 1272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us CORBA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611280" y="3213000"/>
            <a:ext cx="8281800" cy="647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untime OpenCCM des Conten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6953400" y="4003560"/>
            <a:ext cx="1939680" cy="505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enCCM P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7203960" y="5216400"/>
            <a:ext cx="1440000" cy="1092240"/>
          </a:xfrm>
          <a:prstGeom prst="can">
            <a:avLst>
              <a:gd name="adj" fmla="val 25000"/>
            </a:avLst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port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6953400" y="4579920"/>
            <a:ext cx="1939680" cy="504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untime J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6" name="" descr=""/>
          <p:cNvPicPr/>
          <p:nvPr/>
        </p:nvPicPr>
        <p:blipFill>
          <a:blip r:embed="rId4"/>
          <a:stretch/>
        </p:blipFill>
        <p:spPr>
          <a:xfrm>
            <a:off x="6696000" y="1816200"/>
            <a:ext cx="720720" cy="587160"/>
          </a:xfrm>
          <a:prstGeom prst="rect">
            <a:avLst/>
          </a:prstGeom>
          <a:ln w="0">
            <a:noFill/>
          </a:ln>
        </p:spPr>
      </p:pic>
      <p:pic>
        <p:nvPicPr>
          <p:cNvPr id="4077" name="" descr=""/>
          <p:cNvPicPr/>
          <p:nvPr/>
        </p:nvPicPr>
        <p:blipFill>
          <a:blip r:embed="rId5"/>
          <a:stretch/>
        </p:blipFill>
        <p:spPr>
          <a:xfrm>
            <a:off x="8028000" y="1846440"/>
            <a:ext cx="647640" cy="528480"/>
          </a:xfrm>
          <a:prstGeom prst="rect">
            <a:avLst/>
          </a:prstGeom>
          <a:ln w="0">
            <a:noFill/>
          </a:ln>
        </p:spPr>
      </p:pic>
      <p:pic>
        <p:nvPicPr>
          <p:cNvPr id="4078" name="" descr=""/>
          <p:cNvPicPr/>
          <p:nvPr/>
        </p:nvPicPr>
        <p:blipFill>
          <a:blip r:embed="rId6"/>
          <a:stretch/>
        </p:blipFill>
        <p:spPr>
          <a:xfrm>
            <a:off x="3348000" y="1816200"/>
            <a:ext cx="720720" cy="58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cc"/>
                </a:solidFill>
                <a:latin typeface="Arial"/>
              </a:rPr>
              <a:t>A COMPLETER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 la recherche du Graal :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conteneurs ouver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468360" y="3780000"/>
            <a:ext cx="7920000" cy="1179360"/>
          </a:xfrm>
          <a:prstGeom prst="leftRightArrow">
            <a:avLst>
              <a:gd name="adj1" fmla="val 62046"/>
              <a:gd name="adj2" fmla="val 1666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444760" y="4156200"/>
            <a:ext cx="396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bject Request Broker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R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826920" y="1125360"/>
            <a:ext cx="7489800" cy="3024000"/>
            <a:chOff x="826920" y="1125360"/>
            <a:chExt cx="7489800" cy="3024000"/>
          </a:xfrm>
        </p:grpSpPr>
        <p:sp>
          <p:nvSpPr>
            <p:cNvPr id="4085" name=""/>
            <p:cNvSpPr/>
            <p:nvPr/>
          </p:nvSpPr>
          <p:spPr>
            <a:xfrm>
              <a:off x="826920" y="1125360"/>
              <a:ext cx="2230200" cy="2728800"/>
            </a:xfrm>
            <a:custGeom>
              <a:avLst/>
              <a:gdLst>
                <a:gd name="textAreaLeft" fmla="*/ 108720 w 2230200"/>
                <a:gd name="textAreaRight" fmla="*/ 2121480 w 2230200"/>
                <a:gd name="textAreaTop" fmla="*/ 108720 h 2728800"/>
                <a:gd name="textAreaBottom" fmla="*/ 2620080 h 2728800"/>
              </a:gdLst>
              <a:ahLst/>
              <a:rect l="textAreaLeft" t="textAreaTop" r="textAreaRight" b="textAreaBottom"/>
              <a:pathLst>
                <a:path w="21600" h="26428">
                  <a:moveTo>
                    <a:pt x="3600" y="0"/>
                  </a:moveTo>
                  <a:arcTo wR="3600" hR="3600" stAng="16200000" swAng="-5400000"/>
                  <a:lnTo>
                    <a:pt x="0" y="22828"/>
                  </a:lnTo>
                  <a:arcTo wR="3600" hR="3600" stAng="10800000" swAng="-5400000"/>
                  <a:lnTo>
                    <a:pt x="18000" y="264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846040" y="1125360"/>
              <a:ext cx="2230560" cy="2728800"/>
            </a:xfrm>
            <a:custGeom>
              <a:avLst/>
              <a:gdLst>
                <a:gd name="textAreaLeft" fmla="*/ 108720 w 2230560"/>
                <a:gd name="textAreaRight" fmla="*/ 2121840 w 2230560"/>
                <a:gd name="textAreaTop" fmla="*/ 108720 h 2728800"/>
                <a:gd name="textAreaBottom" fmla="*/ 2620080 h 2728800"/>
              </a:gdLst>
              <a:ahLst/>
              <a:rect l="textAreaLeft" t="textAreaTop" r="textAreaRight" b="textAreaBottom"/>
              <a:pathLst>
                <a:path w="21600" h="26424">
                  <a:moveTo>
                    <a:pt x="3600" y="0"/>
                  </a:moveTo>
                  <a:arcTo wR="3600" hR="3600" stAng="16200000" swAng="-5400000"/>
                  <a:lnTo>
                    <a:pt x="0" y="22824"/>
                  </a:lnTo>
                  <a:arcTo wR="3600" hR="3600" stAng="10800000" swAng="-5400000"/>
                  <a:lnTo>
                    <a:pt x="18000" y="264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358440" y="1125360"/>
              <a:ext cx="2230200" cy="2728800"/>
            </a:xfrm>
            <a:custGeom>
              <a:avLst/>
              <a:gdLst>
                <a:gd name="textAreaLeft" fmla="*/ 108720 w 2230200"/>
                <a:gd name="textAreaRight" fmla="*/ 2121480 w 2230200"/>
                <a:gd name="textAreaTop" fmla="*/ 108720 h 2728800"/>
                <a:gd name="textAreaBottom" fmla="*/ 2620080 h 2728800"/>
              </a:gdLst>
              <a:ahLst/>
              <a:rect l="textAreaLeft" t="textAreaTop" r="textAreaRight" b="textAreaBottom"/>
              <a:pathLst>
                <a:path w="21600" h="26428">
                  <a:moveTo>
                    <a:pt x="3600" y="0"/>
                  </a:moveTo>
                  <a:arcTo wR="3600" hR="3600" stAng="16200000" swAng="-5400000"/>
                  <a:lnTo>
                    <a:pt x="0" y="22828"/>
                  </a:lnTo>
                  <a:arcTo wR="3600" hR="3600" stAng="10800000" swAng="-5400000"/>
                  <a:lnTo>
                    <a:pt x="18000" y="264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358440" y="1198440"/>
              <a:ext cx="257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CM Contai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146240" y="3263760"/>
              <a:ext cx="1352880" cy="517320"/>
            </a:xfrm>
            <a:prstGeom prst="plus">
              <a:avLst>
                <a:gd name="adj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O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835440" y="3190680"/>
              <a:ext cx="1355040" cy="515880"/>
            </a:xfrm>
            <a:prstGeom prst="plus">
              <a:avLst>
                <a:gd name="adj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O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403680" y="3190680"/>
              <a:ext cx="1352880" cy="515880"/>
            </a:xfrm>
            <a:prstGeom prst="plus">
              <a:avLst>
                <a:gd name="adj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OA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V="1">
              <a:off x="6960600" y="3633120"/>
              <a:ext cx="0" cy="515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V="1">
              <a:off x="4472640" y="3633120"/>
              <a:ext cx="0" cy="515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V="1">
              <a:off x="1862280" y="3706560"/>
              <a:ext cx="0" cy="442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905400" y="1198440"/>
              <a:ext cx="21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JB Contai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926680" y="1198440"/>
              <a:ext cx="239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CM Contai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7" name=""/>
          <p:cNvSpPr/>
          <p:nvPr/>
        </p:nvSpPr>
        <p:spPr>
          <a:xfrm>
            <a:off x="1101600" y="4869000"/>
            <a:ext cx="1309680" cy="73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1101600" y="5237280"/>
            <a:ext cx="344520" cy="295200"/>
          </a:xfrm>
          <a:custGeom>
            <a:avLst/>
            <a:gdLst>
              <a:gd name="textAreaLeft" fmla="*/ 86040 w 344520"/>
              <a:gd name="textAreaRight" fmla="*/ 258480 w 34452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4718160" y="4867200"/>
            <a:ext cx="1293840" cy="73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4772160" y="5237280"/>
            <a:ext cx="276120" cy="295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21680 h 295200"/>
              <a:gd name="textAreaBottom" fmla="*/ 173520 h 29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2843280" y="4867200"/>
            <a:ext cx="1446120" cy="73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3043080" y="5257800"/>
            <a:ext cx="206640" cy="220680"/>
          </a:xfrm>
          <a:prstGeom prst="irregularSeal1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6289560" y="4867200"/>
            <a:ext cx="1378080" cy="73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6442200" y="5237280"/>
            <a:ext cx="206280" cy="295200"/>
          </a:xfrm>
          <a:prstGeom prst="can">
            <a:avLst>
              <a:gd name="adj" fmla="val 25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5" name=""/>
          <p:cNvGrpSpPr/>
          <p:nvPr/>
        </p:nvGrpSpPr>
        <p:grpSpPr>
          <a:xfrm>
            <a:off x="1187280" y="1658880"/>
            <a:ext cx="6556320" cy="1195560"/>
            <a:chOff x="1187280" y="1658880"/>
            <a:chExt cx="6556320" cy="1195560"/>
          </a:xfrm>
        </p:grpSpPr>
        <p:sp>
          <p:nvSpPr>
            <p:cNvPr id="4106" name=""/>
            <p:cNvSpPr/>
            <p:nvPr/>
          </p:nvSpPr>
          <p:spPr>
            <a:xfrm>
              <a:off x="1778400" y="2116080"/>
              <a:ext cx="612720" cy="738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J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710160" y="1906560"/>
              <a:ext cx="534960" cy="5907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4345560" y="1735200"/>
              <a:ext cx="534960" cy="590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120360" y="1735200"/>
              <a:ext cx="534960" cy="590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208280" y="1735200"/>
              <a:ext cx="535320" cy="590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672960" y="2009880"/>
              <a:ext cx="535320" cy="590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306520" y="1658880"/>
              <a:ext cx="612720" cy="738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J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187280" y="1658880"/>
              <a:ext cx="612360" cy="738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J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4" name=""/>
          <p:cNvGrpSpPr/>
          <p:nvPr/>
        </p:nvGrpSpPr>
        <p:grpSpPr>
          <a:xfrm>
            <a:off x="1763640" y="4581360"/>
            <a:ext cx="5202360" cy="408240"/>
            <a:chOff x="1763640" y="4581360"/>
            <a:chExt cx="5202360" cy="408240"/>
          </a:xfrm>
        </p:grpSpPr>
        <p:sp>
          <p:nvSpPr>
            <p:cNvPr id="4115" name=""/>
            <p:cNvSpPr/>
            <p:nvPr/>
          </p:nvSpPr>
          <p:spPr>
            <a:xfrm flipV="1">
              <a:off x="3619440" y="4581360"/>
              <a:ext cx="1800" cy="408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V="1">
              <a:off x="5380200" y="4581360"/>
              <a:ext cx="1440" cy="408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V="1">
              <a:off x="6964200" y="4581360"/>
              <a:ext cx="1800" cy="408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 flipV="1">
              <a:off x="1763640" y="4581360"/>
              <a:ext cx="1800" cy="408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1260360" y="2649600"/>
            <a:ext cx="6480000" cy="761400"/>
            <a:chOff x="1260360" y="2649600"/>
            <a:chExt cx="6480000" cy="761400"/>
          </a:xfrm>
        </p:grpSpPr>
        <p:sp>
          <p:nvSpPr>
            <p:cNvPr id="4120" name=""/>
            <p:cNvSpPr/>
            <p:nvPr/>
          </p:nvSpPr>
          <p:spPr>
            <a:xfrm>
              <a:off x="5867280" y="3115800"/>
              <a:ext cx="380880" cy="295200"/>
            </a:xfrm>
            <a:custGeom>
              <a:avLst/>
              <a:gdLst>
                <a:gd name="textAreaLeft" fmla="*/ 95040 w 380880"/>
                <a:gd name="textAreaRight" fmla="*/ 285840 w 380880"/>
                <a:gd name="textAreaTop" fmla="*/ 73800 h 295200"/>
                <a:gd name="textAreaBottom" fmla="*/ 221400 h 2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3577680" y="2884320"/>
              <a:ext cx="380880" cy="294840"/>
            </a:xfrm>
            <a:custGeom>
              <a:avLst/>
              <a:gdLst>
                <a:gd name="textAreaLeft" fmla="*/ 95040 w 380880"/>
                <a:gd name="textAreaRight" fmla="*/ 285840 w 380880"/>
                <a:gd name="textAreaTop" fmla="*/ 73800 h 294840"/>
                <a:gd name="textAreaBottom" fmla="*/ 221400 h 2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717280" y="3030120"/>
              <a:ext cx="303480" cy="295200"/>
            </a:xfrm>
            <a:custGeom>
              <a:avLst/>
              <a:gdLst>
                <a:gd name="textAreaLeft" fmla="*/ 124920 w 303480"/>
                <a:gd name="textAreaRight" fmla="*/ 178560 w 303480"/>
                <a:gd name="textAreaTop" fmla="*/ 121680 h 295200"/>
                <a:gd name="textAreaBottom" fmla="*/ 173520 h 2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163120" y="2954160"/>
              <a:ext cx="305280" cy="294840"/>
            </a:xfrm>
            <a:custGeom>
              <a:avLst/>
              <a:gdLst>
                <a:gd name="textAreaLeft" fmla="*/ 125640 w 305280"/>
                <a:gd name="textAreaRight" fmla="*/ 179640 w 305280"/>
                <a:gd name="textAreaTop" fmla="*/ 121320 h 294840"/>
                <a:gd name="textAreaBottom" fmla="*/ 173520 h 2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512480" y="2960280"/>
              <a:ext cx="227880" cy="222120"/>
            </a:xfrm>
            <a:prstGeom prst="irregularSeal1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934880" y="2673000"/>
              <a:ext cx="228240" cy="220320"/>
            </a:xfrm>
            <a:prstGeom prst="irregularSeal1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431080" y="2884320"/>
              <a:ext cx="227880" cy="221760"/>
            </a:xfrm>
            <a:prstGeom prst="irregularSeal1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259400" y="2649600"/>
              <a:ext cx="227880" cy="294840"/>
            </a:xfrm>
            <a:prstGeom prst="can">
              <a:avLst>
                <a:gd name="adj" fmla="val 25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360680" y="2747520"/>
              <a:ext cx="228240" cy="295200"/>
            </a:xfrm>
            <a:prstGeom prst="can">
              <a:avLst>
                <a:gd name="adj" fmla="val 25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447960" y="2746080"/>
              <a:ext cx="305640" cy="294840"/>
            </a:xfrm>
            <a:custGeom>
              <a:avLst/>
              <a:gdLst>
                <a:gd name="textAreaLeft" fmla="*/ 126000 w 305640"/>
                <a:gd name="textAreaRight" fmla="*/ 179640 w 305640"/>
                <a:gd name="textAreaTop" fmla="*/ 121320 h 294840"/>
                <a:gd name="textAreaBottom" fmla="*/ 173520 h 2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260360" y="2882520"/>
              <a:ext cx="227880" cy="294840"/>
            </a:xfrm>
            <a:prstGeom prst="can">
              <a:avLst>
                <a:gd name="adj" fmla="val 25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1" name=""/>
          <p:cNvSpPr/>
          <p:nvPr/>
        </p:nvSpPr>
        <p:spPr>
          <a:xfrm>
            <a:off x="3851280" y="5662440"/>
            <a:ext cx="1309680" cy="7383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3995640" y="6094440"/>
            <a:ext cx="206640" cy="222120"/>
          </a:xfrm>
          <a:prstGeom prst="flowChartCollat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5364000" y="5662440"/>
            <a:ext cx="1743120" cy="7383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ult-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5651640" y="6094440"/>
            <a:ext cx="276120" cy="222120"/>
          </a:xfrm>
          <a:prstGeom prst="lightningBolt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7164360" y="5662440"/>
            <a:ext cx="1743120" cy="7383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179280" y="5662440"/>
            <a:ext cx="1836720" cy="7383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lecom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2124000" y="5662440"/>
            <a:ext cx="1656000" cy="7383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eam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o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7667640" y="2421000"/>
            <a:ext cx="276120" cy="222120"/>
          </a:xfrm>
          <a:prstGeom prst="lightningBolt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5219640" y="2205000"/>
            <a:ext cx="206280" cy="222120"/>
          </a:xfrm>
          <a:prstGeom prst="flowChartCollat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6084720" y="2421000"/>
            <a:ext cx="206640" cy="222120"/>
          </a:xfrm>
          <a:prstGeom prst="flowChartCollat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 rot="16200000">
            <a:off x="7459560" y="6085800"/>
            <a:ext cx="206280" cy="222480"/>
          </a:xfrm>
          <a:prstGeom prst="flowChartCollate">
            <a:avLst/>
          </a:prstGeom>
          <a:solidFill>
            <a:srgbClr val="b307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 rot="16200000">
            <a:off x="979560" y="2412720"/>
            <a:ext cx="206280" cy="222120"/>
          </a:xfrm>
          <a:prstGeom prst="flowChartCollate">
            <a:avLst/>
          </a:prstGeom>
          <a:solidFill>
            <a:srgbClr val="b307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 rot="16200000">
            <a:off x="3571920" y="2495160"/>
            <a:ext cx="206280" cy="222120"/>
          </a:xfrm>
          <a:prstGeom prst="flowChartCollate">
            <a:avLst/>
          </a:prstGeom>
          <a:solidFill>
            <a:srgbClr val="b307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539640" y="6021360"/>
            <a:ext cx="344520" cy="295200"/>
          </a:xfrm>
          <a:custGeom>
            <a:avLst/>
            <a:gdLst>
              <a:gd name="textAreaLeft" fmla="*/ 86040 w 344520"/>
              <a:gd name="textAreaRight" fmla="*/ 258480 w 34452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307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 flipV="1">
            <a:off x="826920" y="4510080"/>
            <a:ext cx="0" cy="1224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 flipV="1">
            <a:off x="2627280" y="4510080"/>
            <a:ext cx="0" cy="1224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 flipV="1">
            <a:off x="4500720" y="4510080"/>
            <a:ext cx="0" cy="1224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 flipV="1">
            <a:off x="6227640" y="4510080"/>
            <a:ext cx="0" cy="1224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 flipV="1">
            <a:off x="7885080" y="4510080"/>
            <a:ext cx="0" cy="1224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1692360" y="2852640"/>
            <a:ext cx="344520" cy="295200"/>
          </a:xfrm>
          <a:custGeom>
            <a:avLst/>
            <a:gdLst>
              <a:gd name="textAreaLeft" fmla="*/ 86040 w 344520"/>
              <a:gd name="textAreaRight" fmla="*/ 258480 w 34452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307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4211640" y="2349360"/>
            <a:ext cx="344520" cy="295560"/>
          </a:xfrm>
          <a:custGeom>
            <a:avLst/>
            <a:gdLst>
              <a:gd name="textAreaLeft" fmla="*/ 86040 w 344520"/>
              <a:gd name="textAreaRight" fmla="*/ 258480 w 344520"/>
              <a:gd name="textAreaTop" fmla="*/ 73800 h 295560"/>
              <a:gd name="textAreaBottom" fmla="*/ 221760 h 295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307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6804000" y="1628640"/>
            <a:ext cx="344520" cy="295560"/>
          </a:xfrm>
          <a:custGeom>
            <a:avLst/>
            <a:gdLst>
              <a:gd name="textAreaLeft" fmla="*/ 86040 w 344520"/>
              <a:gd name="textAreaRight" fmla="*/ 258480 w 344520"/>
              <a:gd name="textAreaTop" fmla="*/ 73800 h 295560"/>
              <a:gd name="textAreaBottom" fmla="*/ 221760 h 295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307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 txBox="1"/>
          <p:nvPr/>
        </p:nvSpPr>
        <p:spPr>
          <a:xfrm>
            <a:off x="2016000" y="765000"/>
            <a:ext cx="4894560" cy="37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4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3366">
                    <a:alpha val="90000"/>
                  </a:srgbClr>
                </a:solidFill>
                <a:latin typeface="Arial Black"/>
              </a:rPr>
              <a:t>Flexibilité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3366">
                  <a:alpha val="90000"/>
                </a:srgbClr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9" dur="20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2" dur="2000"/>
                                        <p:tgtEl>
                                          <p:spTgt spid="4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5" dur="2000"/>
                                        <p:tgtEl>
                                          <p:spTgt spid="4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8" dur="20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1" dur="2000"/>
                                        <p:tgtEl>
                                          <p:spTgt spid="4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4" dur="2000"/>
                                        <p:tgtEl>
                                          <p:spTgt spid="4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7" dur="20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0" dur="20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3" dur="20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6" dur="20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9" dur="20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2" dur="2000"/>
                                        <p:tgtEl>
                                          <p:spTgt spid="4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5" dur="20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8" dur="2000"/>
                                        <p:tgtEl>
                                          <p:spTgt spid="4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1" dur="2000"/>
                                        <p:tgtEl>
                                          <p:spTgt spid="4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4" dur="2000"/>
                                        <p:tgtEl>
                                          <p:spTgt spid="4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7" dur="20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0" dur="2000"/>
                                        <p:tgtEl>
                                          <p:spTgt spid="4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3" dur="2000"/>
                                        <p:tgtEl>
                                          <p:spTgt spid="4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6" dur="20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9" dur="20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2" dur="2000"/>
                                        <p:tgtEl>
                                          <p:spTgt spid="4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7" dur="500"/>
                                        <p:tgtEl>
                                          <p:spTgt spid="4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156" name="" descr=""/>
          <p:cNvPicPr/>
          <p:nvPr/>
        </p:nvPicPr>
        <p:blipFill>
          <a:blip r:embed="rId1"/>
          <a:stretch/>
        </p:blipFill>
        <p:spPr>
          <a:xfrm>
            <a:off x="3679920" y="4076640"/>
            <a:ext cx="199224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ressources Internet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projet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Site Web : </a:t>
            </a:r>
            <a:r>
              <a:rPr b="1" lang="fr-FR" sz="20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openccm.objectweb.or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formation et 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Forge : </a:t>
            </a:r>
            <a:r>
              <a:rPr b="1" lang="fr-FR" sz="20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forge.objectweb.org/projects/open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iers releases, CVS, suivi des bugs et des tâ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iste public : </a:t>
            </a:r>
            <a:r>
              <a:rPr b="1" lang="fr-FR" sz="20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openccm@objectweb.or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ide aux utilisateurs, rapports de bugs et de tâ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~ 130 inscr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iste team : </a:t>
            </a:r>
            <a:r>
              <a:rPr b="1" lang="fr-FR" sz="20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openccm-team@objectweb.or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imation équipe de développement (surtout LIF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mits CVS : </a:t>
            </a:r>
            <a:r>
              <a:rPr b="1" lang="fr-FR" sz="20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openccm-commits@objectweb.or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uivi de tous les commits CV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 projet OpenCC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plate-forme CCM pour concevoir, développer, conditionner, assembler, déployer, exécuter et administrer des applications réparties à base de composants COR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plate-forme logiciel pour construire des plates-formes 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logiciel libre LGPL hébergé par le consortium ObjectW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a partie conteneur d’OpenCCM est à compléter !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eur CORBA Component Descrip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eneurs pour composants Service, Process et Ent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jeure partie des interfaces des conten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égration des services dans les conten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istance, transaction, sécurité, not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en cours sur les conteneurs ouve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trois axes de recherch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OpenCCM - projet INRIA Jacquar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3818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uverture de la chaîne de produc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rs des modèles de plus haut niveau (UML 2.0, EDOC, DSL, AD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plate-forme CCM prête pour démarche M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105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er de nouvelles chaînes de p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Fiabilisation et flexibilite de l’infrastructure de déploi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urtage de composants sur l’étagère avec TORBA/TOS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ploiement avec propriétés extra fonctionnell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sactionnel, sécurité, répartition de charge, QoS,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site = composant + assemblage + gl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105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er l’infrastructure de déploi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Structures d’accueil adaptabl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eneurs ouverts et connec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ibration des petits équipements aux mainfr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truction de services, e.g. transaction GOT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105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er les structures accue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1" name=""/>
          <p:cNvGrpSpPr/>
          <p:nvPr/>
        </p:nvGrpSpPr>
        <p:grpSpPr>
          <a:xfrm>
            <a:off x="7740720" y="5302080"/>
            <a:ext cx="1224000" cy="1079640"/>
            <a:chOff x="7740720" y="5302080"/>
            <a:chExt cx="1224000" cy="1079640"/>
          </a:xfrm>
        </p:grpSpPr>
        <p:grpSp>
          <p:nvGrpSpPr>
            <p:cNvPr id="4162" name=""/>
            <p:cNvGrpSpPr/>
            <p:nvPr/>
          </p:nvGrpSpPr>
          <p:grpSpPr>
            <a:xfrm>
              <a:off x="7764480" y="5322240"/>
              <a:ext cx="1200240" cy="1059480"/>
              <a:chOff x="7764480" y="5322240"/>
              <a:chExt cx="1200240" cy="1059480"/>
            </a:xfrm>
          </p:grpSpPr>
          <p:sp>
            <p:nvSpPr>
              <p:cNvPr id="4163" name=""/>
              <p:cNvSpPr/>
              <p:nvPr/>
            </p:nvSpPr>
            <p:spPr>
              <a:xfrm>
                <a:off x="7901280" y="5322240"/>
                <a:ext cx="403920" cy="494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rot="16200000">
                <a:off x="8192880" y="5039640"/>
                <a:ext cx="343080" cy="120024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8400600" y="5322240"/>
                <a:ext cx="403920" cy="10594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rot="16200000">
                <a:off x="8198640" y="5469480"/>
                <a:ext cx="343080" cy="11883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7901280" y="5816520"/>
                <a:ext cx="403920" cy="56520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8" name=""/>
            <p:cNvSpPr/>
            <p:nvPr/>
          </p:nvSpPr>
          <p:spPr>
            <a:xfrm>
              <a:off x="7877520" y="5302080"/>
              <a:ext cx="403920" cy="49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9" name=""/>
            <p:cNvGrpSpPr/>
            <p:nvPr/>
          </p:nvGrpSpPr>
          <p:grpSpPr>
            <a:xfrm>
              <a:off x="7740720" y="5448240"/>
              <a:ext cx="1200240" cy="343080"/>
              <a:chOff x="7740720" y="5448240"/>
              <a:chExt cx="1200240" cy="343080"/>
            </a:xfrm>
          </p:grpSpPr>
          <p:sp>
            <p:nvSpPr>
              <p:cNvPr id="4170" name=""/>
              <p:cNvSpPr/>
              <p:nvPr/>
            </p:nvSpPr>
            <p:spPr>
              <a:xfrm rot="16200000">
                <a:off x="8169120" y="5019480"/>
                <a:ext cx="343080" cy="120024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 txBox="1"/>
              <p:nvPr/>
            </p:nvSpPr>
            <p:spPr>
              <a:xfrm>
                <a:off x="7883280" y="5564160"/>
                <a:ext cx="962640" cy="15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JACQUARD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172" name=""/>
            <p:cNvSpPr/>
            <p:nvPr/>
          </p:nvSpPr>
          <p:spPr>
            <a:xfrm>
              <a:off x="8376840" y="5302080"/>
              <a:ext cx="403920" cy="105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 rot="16200000">
              <a:off x="8192880" y="5448240"/>
              <a:ext cx="343080" cy="1200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 txBox="1"/>
            <p:nvPr/>
          </p:nvSpPr>
          <p:spPr>
            <a:xfrm>
              <a:off x="7907040" y="5992920"/>
              <a:ext cx="962640" cy="15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JACQUARD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7877520" y="5796360"/>
              <a:ext cx="403920" cy="564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cc"/>
                </a:solidFill>
                <a:latin typeface="Arial"/>
              </a:rPr>
              <a:t>Essayer et adopter</a:t>
            </a:r>
            <a:br>
              <a:rPr sz="2800"/>
            </a:br>
            <a:r>
              <a:rPr b="1" lang="fr-FR" sz="2800" spc="-1" strike="noStrike">
                <a:solidFill>
                  <a:srgbClr val="0000cc"/>
                </a:solidFill>
                <a:latin typeface="Arial"/>
              </a:rPr>
              <a:t>OpenCC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4177" name=""/>
          <p:cNvGrpSpPr/>
          <p:nvPr/>
        </p:nvGrpSpPr>
        <p:grpSpPr>
          <a:xfrm>
            <a:off x="2087640" y="1557360"/>
            <a:ext cx="6511680" cy="3781440"/>
            <a:chOff x="2087640" y="1557360"/>
            <a:chExt cx="6511680" cy="3781440"/>
          </a:xfrm>
        </p:grpSpPr>
        <p:sp>
          <p:nvSpPr>
            <p:cNvPr id="4178" name=""/>
            <p:cNvSpPr/>
            <p:nvPr/>
          </p:nvSpPr>
          <p:spPr>
            <a:xfrm>
              <a:off x="2185560" y="1581120"/>
              <a:ext cx="6360840" cy="3745080"/>
            </a:xfrm>
            <a:custGeom>
              <a:avLst/>
              <a:gdLst/>
              <a:ahLst/>
              <a:rect l="l" t="t" r="r" b="b"/>
              <a:pathLst>
                <a:path w="4007" h="2359">
                  <a:moveTo>
                    <a:pt x="0" y="781"/>
                  </a:moveTo>
                  <a:lnTo>
                    <a:pt x="539" y="669"/>
                  </a:lnTo>
                  <a:lnTo>
                    <a:pt x="771" y="588"/>
                  </a:lnTo>
                  <a:lnTo>
                    <a:pt x="1029" y="526"/>
                  </a:lnTo>
                  <a:lnTo>
                    <a:pt x="1277" y="433"/>
                  </a:lnTo>
                  <a:lnTo>
                    <a:pt x="1551" y="359"/>
                  </a:lnTo>
                  <a:lnTo>
                    <a:pt x="1760" y="326"/>
                  </a:lnTo>
                  <a:lnTo>
                    <a:pt x="2045" y="182"/>
                  </a:lnTo>
                  <a:lnTo>
                    <a:pt x="2231" y="115"/>
                  </a:lnTo>
                  <a:lnTo>
                    <a:pt x="2422" y="93"/>
                  </a:lnTo>
                  <a:lnTo>
                    <a:pt x="2793" y="0"/>
                  </a:lnTo>
                  <a:lnTo>
                    <a:pt x="2939" y="68"/>
                  </a:lnTo>
                  <a:lnTo>
                    <a:pt x="3141" y="347"/>
                  </a:lnTo>
                  <a:lnTo>
                    <a:pt x="3248" y="448"/>
                  </a:lnTo>
                  <a:lnTo>
                    <a:pt x="3401" y="714"/>
                  </a:lnTo>
                  <a:lnTo>
                    <a:pt x="3596" y="977"/>
                  </a:lnTo>
                  <a:lnTo>
                    <a:pt x="3722" y="1068"/>
                  </a:lnTo>
                  <a:lnTo>
                    <a:pt x="3905" y="1157"/>
                  </a:lnTo>
                  <a:lnTo>
                    <a:pt x="3940" y="1258"/>
                  </a:lnTo>
                  <a:lnTo>
                    <a:pt x="4007" y="1354"/>
                  </a:lnTo>
                  <a:lnTo>
                    <a:pt x="3991" y="1443"/>
                  </a:lnTo>
                  <a:lnTo>
                    <a:pt x="3956" y="1498"/>
                  </a:lnTo>
                  <a:lnTo>
                    <a:pt x="3749" y="1575"/>
                  </a:lnTo>
                  <a:lnTo>
                    <a:pt x="3585" y="1675"/>
                  </a:lnTo>
                  <a:lnTo>
                    <a:pt x="3401" y="1693"/>
                  </a:lnTo>
                  <a:lnTo>
                    <a:pt x="3097" y="1794"/>
                  </a:lnTo>
                  <a:lnTo>
                    <a:pt x="2944" y="1808"/>
                  </a:lnTo>
                  <a:lnTo>
                    <a:pt x="2658" y="1919"/>
                  </a:lnTo>
                  <a:lnTo>
                    <a:pt x="2366" y="1942"/>
                  </a:lnTo>
                  <a:lnTo>
                    <a:pt x="2271" y="1986"/>
                  </a:lnTo>
                  <a:lnTo>
                    <a:pt x="2203" y="2037"/>
                  </a:lnTo>
                  <a:lnTo>
                    <a:pt x="2001" y="2060"/>
                  </a:lnTo>
                  <a:lnTo>
                    <a:pt x="1674" y="2182"/>
                  </a:lnTo>
                  <a:lnTo>
                    <a:pt x="1428" y="2252"/>
                  </a:lnTo>
                  <a:lnTo>
                    <a:pt x="1147" y="2336"/>
                  </a:lnTo>
                  <a:lnTo>
                    <a:pt x="973" y="2359"/>
                  </a:lnTo>
                  <a:lnTo>
                    <a:pt x="859" y="2336"/>
                  </a:lnTo>
                  <a:lnTo>
                    <a:pt x="792" y="2292"/>
                  </a:lnTo>
                  <a:lnTo>
                    <a:pt x="636" y="2031"/>
                  </a:lnTo>
                  <a:lnTo>
                    <a:pt x="539" y="1705"/>
                  </a:lnTo>
                  <a:lnTo>
                    <a:pt x="451" y="1586"/>
                  </a:lnTo>
                  <a:lnTo>
                    <a:pt x="304" y="1476"/>
                  </a:lnTo>
                  <a:lnTo>
                    <a:pt x="237" y="1406"/>
                  </a:lnTo>
                  <a:lnTo>
                    <a:pt x="186" y="1209"/>
                  </a:lnTo>
                  <a:lnTo>
                    <a:pt x="51" y="1003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087640" y="1557360"/>
              <a:ext cx="6511680" cy="3781440"/>
            </a:xfrm>
            <a:custGeom>
              <a:avLst/>
              <a:gdLst/>
              <a:ahLst/>
              <a:rect l="l" t="t" r="r" b="b"/>
              <a:pathLst>
                <a:path w="4102" h="2382">
                  <a:moveTo>
                    <a:pt x="197" y="729"/>
                  </a:moveTo>
                  <a:lnTo>
                    <a:pt x="617" y="651"/>
                  </a:lnTo>
                  <a:lnTo>
                    <a:pt x="810" y="591"/>
                  </a:lnTo>
                  <a:lnTo>
                    <a:pt x="988" y="539"/>
                  </a:lnTo>
                  <a:lnTo>
                    <a:pt x="1146" y="495"/>
                  </a:lnTo>
                  <a:lnTo>
                    <a:pt x="1325" y="429"/>
                  </a:lnTo>
                  <a:lnTo>
                    <a:pt x="1539" y="377"/>
                  </a:lnTo>
                  <a:lnTo>
                    <a:pt x="1764" y="333"/>
                  </a:lnTo>
                  <a:lnTo>
                    <a:pt x="1899" y="273"/>
                  </a:lnTo>
                  <a:lnTo>
                    <a:pt x="2068" y="193"/>
                  </a:lnTo>
                  <a:lnTo>
                    <a:pt x="2258" y="125"/>
                  </a:lnTo>
                  <a:lnTo>
                    <a:pt x="2439" y="96"/>
                  </a:lnTo>
                  <a:lnTo>
                    <a:pt x="2662" y="44"/>
                  </a:lnTo>
                  <a:lnTo>
                    <a:pt x="2809" y="8"/>
                  </a:lnTo>
                  <a:lnTo>
                    <a:pt x="2887" y="0"/>
                  </a:lnTo>
                  <a:lnTo>
                    <a:pt x="2990" y="60"/>
                  </a:lnTo>
                  <a:lnTo>
                    <a:pt x="3113" y="208"/>
                  </a:lnTo>
                  <a:lnTo>
                    <a:pt x="3203" y="333"/>
                  </a:lnTo>
                  <a:lnTo>
                    <a:pt x="3326" y="451"/>
                  </a:lnTo>
                  <a:lnTo>
                    <a:pt x="3417" y="607"/>
                  </a:lnTo>
                  <a:lnTo>
                    <a:pt x="3505" y="739"/>
                  </a:lnTo>
                  <a:lnTo>
                    <a:pt x="3607" y="880"/>
                  </a:lnTo>
                  <a:lnTo>
                    <a:pt x="3674" y="961"/>
                  </a:lnTo>
                  <a:lnTo>
                    <a:pt x="3765" y="1051"/>
                  </a:lnTo>
                  <a:lnTo>
                    <a:pt x="3923" y="1132"/>
                  </a:lnTo>
                  <a:lnTo>
                    <a:pt x="3979" y="1169"/>
                  </a:lnTo>
                  <a:lnTo>
                    <a:pt x="4034" y="1280"/>
                  </a:lnTo>
                  <a:lnTo>
                    <a:pt x="4102" y="1377"/>
                  </a:lnTo>
                  <a:lnTo>
                    <a:pt x="4090" y="1450"/>
                  </a:lnTo>
                  <a:lnTo>
                    <a:pt x="4023" y="1523"/>
                  </a:lnTo>
                  <a:lnTo>
                    <a:pt x="3876" y="1583"/>
                  </a:lnTo>
                  <a:lnTo>
                    <a:pt x="3651" y="1694"/>
                  </a:lnTo>
                  <a:lnTo>
                    <a:pt x="3484" y="1723"/>
                  </a:lnTo>
                  <a:lnTo>
                    <a:pt x="3303" y="1775"/>
                  </a:lnTo>
                  <a:lnTo>
                    <a:pt x="3192" y="1812"/>
                  </a:lnTo>
                  <a:lnTo>
                    <a:pt x="3022" y="1843"/>
                  </a:lnTo>
                  <a:lnTo>
                    <a:pt x="2887" y="1887"/>
                  </a:lnTo>
                  <a:lnTo>
                    <a:pt x="2741" y="1939"/>
                  </a:lnTo>
                  <a:lnTo>
                    <a:pt x="2516" y="1968"/>
                  </a:lnTo>
                  <a:lnTo>
                    <a:pt x="2428" y="1975"/>
                  </a:lnTo>
                  <a:lnTo>
                    <a:pt x="2282" y="2064"/>
                  </a:lnTo>
                  <a:lnTo>
                    <a:pt x="2045" y="2101"/>
                  </a:lnTo>
                  <a:lnTo>
                    <a:pt x="1708" y="2226"/>
                  </a:lnTo>
                  <a:lnTo>
                    <a:pt x="1460" y="2286"/>
                  </a:lnTo>
                  <a:lnTo>
                    <a:pt x="1246" y="2353"/>
                  </a:lnTo>
                  <a:lnTo>
                    <a:pt x="1044" y="2382"/>
                  </a:lnTo>
                  <a:lnTo>
                    <a:pt x="954" y="2374"/>
                  </a:lnTo>
                  <a:lnTo>
                    <a:pt x="877" y="2345"/>
                  </a:lnTo>
                  <a:lnTo>
                    <a:pt x="787" y="2218"/>
                  </a:lnTo>
                  <a:lnTo>
                    <a:pt x="684" y="2093"/>
                  </a:lnTo>
                  <a:lnTo>
                    <a:pt x="652" y="2012"/>
                  </a:lnTo>
                  <a:lnTo>
                    <a:pt x="629" y="1887"/>
                  </a:lnTo>
                  <a:lnTo>
                    <a:pt x="596" y="1791"/>
                  </a:lnTo>
                  <a:lnTo>
                    <a:pt x="550" y="1687"/>
                  </a:lnTo>
                  <a:lnTo>
                    <a:pt x="403" y="1554"/>
                  </a:lnTo>
                  <a:lnTo>
                    <a:pt x="315" y="1458"/>
                  </a:lnTo>
                  <a:lnTo>
                    <a:pt x="257" y="1280"/>
                  </a:lnTo>
                  <a:lnTo>
                    <a:pt x="178" y="1153"/>
                  </a:lnTo>
                  <a:lnTo>
                    <a:pt x="90" y="1021"/>
                  </a:lnTo>
                  <a:lnTo>
                    <a:pt x="34" y="888"/>
                  </a:lnTo>
                  <a:lnTo>
                    <a:pt x="0" y="820"/>
                  </a:lnTo>
                  <a:lnTo>
                    <a:pt x="34" y="770"/>
                  </a:lnTo>
                  <a:lnTo>
                    <a:pt x="123" y="739"/>
                  </a:lnTo>
                  <a:lnTo>
                    <a:pt x="201" y="755"/>
                  </a:lnTo>
                  <a:lnTo>
                    <a:pt x="225" y="799"/>
                  </a:lnTo>
                  <a:lnTo>
                    <a:pt x="123" y="836"/>
                  </a:lnTo>
                  <a:lnTo>
                    <a:pt x="123" y="903"/>
                  </a:lnTo>
                  <a:lnTo>
                    <a:pt x="157" y="992"/>
                  </a:lnTo>
                  <a:lnTo>
                    <a:pt x="213" y="1095"/>
                  </a:lnTo>
                  <a:lnTo>
                    <a:pt x="292" y="1213"/>
                  </a:lnTo>
                  <a:lnTo>
                    <a:pt x="348" y="1302"/>
                  </a:lnTo>
                  <a:lnTo>
                    <a:pt x="383" y="1435"/>
                  </a:lnTo>
                  <a:lnTo>
                    <a:pt x="438" y="1494"/>
                  </a:lnTo>
                  <a:lnTo>
                    <a:pt x="550" y="1598"/>
                  </a:lnTo>
                  <a:lnTo>
                    <a:pt x="605" y="1658"/>
                  </a:lnTo>
                  <a:lnTo>
                    <a:pt x="652" y="1739"/>
                  </a:lnTo>
                  <a:lnTo>
                    <a:pt x="673" y="1820"/>
                  </a:lnTo>
                  <a:lnTo>
                    <a:pt x="708" y="1901"/>
                  </a:lnTo>
                  <a:lnTo>
                    <a:pt x="742" y="2033"/>
                  </a:lnTo>
                  <a:lnTo>
                    <a:pt x="810" y="2145"/>
                  </a:lnTo>
                  <a:lnTo>
                    <a:pt x="933" y="2308"/>
                  </a:lnTo>
                  <a:lnTo>
                    <a:pt x="1023" y="2338"/>
                  </a:lnTo>
                  <a:lnTo>
                    <a:pt x="1112" y="2338"/>
                  </a:lnTo>
                  <a:lnTo>
                    <a:pt x="1293" y="2293"/>
                  </a:lnTo>
                  <a:lnTo>
                    <a:pt x="1518" y="2234"/>
                  </a:lnTo>
                  <a:lnTo>
                    <a:pt x="1720" y="2168"/>
                  </a:lnTo>
                  <a:lnTo>
                    <a:pt x="1887" y="2101"/>
                  </a:lnTo>
                  <a:lnTo>
                    <a:pt x="2022" y="2049"/>
                  </a:lnTo>
                  <a:lnTo>
                    <a:pt x="2156" y="2012"/>
                  </a:lnTo>
                  <a:lnTo>
                    <a:pt x="2270" y="2012"/>
                  </a:lnTo>
                  <a:lnTo>
                    <a:pt x="2337" y="1960"/>
                  </a:lnTo>
                  <a:lnTo>
                    <a:pt x="2495" y="1923"/>
                  </a:lnTo>
                  <a:lnTo>
                    <a:pt x="2641" y="1908"/>
                  </a:lnTo>
                  <a:lnTo>
                    <a:pt x="2730" y="1901"/>
                  </a:lnTo>
                  <a:lnTo>
                    <a:pt x="3001" y="1798"/>
                  </a:lnTo>
                  <a:lnTo>
                    <a:pt x="3157" y="1775"/>
                  </a:lnTo>
                  <a:lnTo>
                    <a:pt x="3291" y="1731"/>
                  </a:lnTo>
                  <a:lnTo>
                    <a:pt x="3461" y="1671"/>
                  </a:lnTo>
                  <a:lnTo>
                    <a:pt x="3642" y="1658"/>
                  </a:lnTo>
                  <a:lnTo>
                    <a:pt x="3798" y="1568"/>
                  </a:lnTo>
                  <a:lnTo>
                    <a:pt x="3923" y="1509"/>
                  </a:lnTo>
                  <a:lnTo>
                    <a:pt x="3999" y="1471"/>
                  </a:lnTo>
                  <a:lnTo>
                    <a:pt x="4023" y="1406"/>
                  </a:lnTo>
                  <a:lnTo>
                    <a:pt x="4023" y="1338"/>
                  </a:lnTo>
                  <a:lnTo>
                    <a:pt x="3967" y="1273"/>
                  </a:lnTo>
                  <a:lnTo>
                    <a:pt x="3932" y="1176"/>
                  </a:lnTo>
                  <a:lnTo>
                    <a:pt x="3809" y="1132"/>
                  </a:lnTo>
                  <a:lnTo>
                    <a:pt x="3698" y="1065"/>
                  </a:lnTo>
                  <a:lnTo>
                    <a:pt x="3607" y="984"/>
                  </a:lnTo>
                  <a:lnTo>
                    <a:pt x="3461" y="776"/>
                  </a:lnTo>
                  <a:lnTo>
                    <a:pt x="3349" y="614"/>
                  </a:lnTo>
                  <a:lnTo>
                    <a:pt x="3282" y="495"/>
                  </a:lnTo>
                  <a:lnTo>
                    <a:pt x="3157" y="377"/>
                  </a:lnTo>
                  <a:lnTo>
                    <a:pt x="3069" y="244"/>
                  </a:lnTo>
                  <a:lnTo>
                    <a:pt x="2966" y="112"/>
                  </a:lnTo>
                  <a:lnTo>
                    <a:pt x="2911" y="89"/>
                  </a:lnTo>
                  <a:lnTo>
                    <a:pt x="2855" y="52"/>
                  </a:lnTo>
                  <a:lnTo>
                    <a:pt x="2607" y="104"/>
                  </a:lnTo>
                  <a:lnTo>
                    <a:pt x="2472" y="141"/>
                  </a:lnTo>
                  <a:lnTo>
                    <a:pt x="2270" y="163"/>
                  </a:lnTo>
                  <a:lnTo>
                    <a:pt x="2100" y="222"/>
                  </a:lnTo>
                  <a:lnTo>
                    <a:pt x="1854" y="354"/>
                  </a:lnTo>
                  <a:lnTo>
                    <a:pt x="1731" y="393"/>
                  </a:lnTo>
                  <a:lnTo>
                    <a:pt x="1585" y="399"/>
                  </a:lnTo>
                  <a:lnTo>
                    <a:pt x="1281" y="481"/>
                  </a:lnTo>
                  <a:lnTo>
                    <a:pt x="1100" y="570"/>
                  </a:lnTo>
                  <a:lnTo>
                    <a:pt x="842" y="643"/>
                  </a:lnTo>
                  <a:lnTo>
                    <a:pt x="292" y="770"/>
                  </a:lnTo>
                  <a:lnTo>
                    <a:pt x="197" y="7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0" name=""/>
          <p:cNvGrpSpPr/>
          <p:nvPr/>
        </p:nvGrpSpPr>
        <p:grpSpPr>
          <a:xfrm>
            <a:off x="250920" y="2182680"/>
            <a:ext cx="2481120" cy="3984840"/>
            <a:chOff x="250920" y="2182680"/>
            <a:chExt cx="2481120" cy="3984840"/>
          </a:xfrm>
        </p:grpSpPr>
        <p:sp>
          <p:nvSpPr>
            <p:cNvPr id="4181" name=""/>
            <p:cNvSpPr/>
            <p:nvPr/>
          </p:nvSpPr>
          <p:spPr>
            <a:xfrm>
              <a:off x="250920" y="2182680"/>
              <a:ext cx="1415880" cy="860400"/>
            </a:xfrm>
            <a:custGeom>
              <a:avLst/>
              <a:gdLst/>
              <a:ahLst/>
              <a:rect l="l" t="t" r="r" b="b"/>
              <a:pathLst>
                <a:path w="892" h="542">
                  <a:moveTo>
                    <a:pt x="599" y="234"/>
                  </a:moveTo>
                  <a:lnTo>
                    <a:pt x="567" y="159"/>
                  </a:lnTo>
                  <a:lnTo>
                    <a:pt x="509" y="90"/>
                  </a:lnTo>
                  <a:lnTo>
                    <a:pt x="446" y="46"/>
                  </a:lnTo>
                  <a:lnTo>
                    <a:pt x="360" y="11"/>
                  </a:lnTo>
                  <a:lnTo>
                    <a:pt x="293" y="0"/>
                  </a:lnTo>
                  <a:lnTo>
                    <a:pt x="207" y="0"/>
                  </a:lnTo>
                  <a:lnTo>
                    <a:pt x="121" y="18"/>
                  </a:lnTo>
                  <a:lnTo>
                    <a:pt x="51" y="53"/>
                  </a:lnTo>
                  <a:lnTo>
                    <a:pt x="17" y="113"/>
                  </a:lnTo>
                  <a:lnTo>
                    <a:pt x="0" y="200"/>
                  </a:lnTo>
                  <a:lnTo>
                    <a:pt x="35" y="316"/>
                  </a:lnTo>
                  <a:lnTo>
                    <a:pt x="86" y="403"/>
                  </a:lnTo>
                  <a:lnTo>
                    <a:pt x="154" y="460"/>
                  </a:lnTo>
                  <a:lnTo>
                    <a:pt x="223" y="496"/>
                  </a:lnTo>
                  <a:lnTo>
                    <a:pt x="321" y="527"/>
                  </a:lnTo>
                  <a:lnTo>
                    <a:pt x="423" y="542"/>
                  </a:lnTo>
                  <a:lnTo>
                    <a:pt x="516" y="532"/>
                  </a:lnTo>
                  <a:lnTo>
                    <a:pt x="595" y="509"/>
                  </a:lnTo>
                  <a:lnTo>
                    <a:pt x="646" y="437"/>
                  </a:lnTo>
                  <a:lnTo>
                    <a:pt x="653" y="370"/>
                  </a:lnTo>
                  <a:lnTo>
                    <a:pt x="646" y="313"/>
                  </a:lnTo>
                  <a:lnTo>
                    <a:pt x="634" y="290"/>
                  </a:lnTo>
                  <a:lnTo>
                    <a:pt x="783" y="313"/>
                  </a:lnTo>
                  <a:lnTo>
                    <a:pt x="876" y="316"/>
                  </a:lnTo>
                  <a:lnTo>
                    <a:pt x="892" y="278"/>
                  </a:lnTo>
                  <a:lnTo>
                    <a:pt x="869" y="237"/>
                  </a:lnTo>
                  <a:lnTo>
                    <a:pt x="783" y="244"/>
                  </a:lnTo>
                  <a:lnTo>
                    <a:pt x="653" y="249"/>
                  </a:lnTo>
                  <a:lnTo>
                    <a:pt x="599" y="234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755640" y="3181320"/>
              <a:ext cx="1150920" cy="1355760"/>
            </a:xfrm>
            <a:custGeom>
              <a:avLst/>
              <a:gdLst/>
              <a:ahLst/>
              <a:rect l="l" t="t" r="r" b="b"/>
              <a:pathLst>
                <a:path w="725" h="854">
                  <a:moveTo>
                    <a:pt x="168" y="0"/>
                  </a:moveTo>
                  <a:lnTo>
                    <a:pt x="270" y="0"/>
                  </a:lnTo>
                  <a:lnTo>
                    <a:pt x="346" y="0"/>
                  </a:lnTo>
                  <a:lnTo>
                    <a:pt x="444" y="23"/>
                  </a:lnTo>
                  <a:lnTo>
                    <a:pt x="495" y="57"/>
                  </a:lnTo>
                  <a:lnTo>
                    <a:pt x="565" y="109"/>
                  </a:lnTo>
                  <a:lnTo>
                    <a:pt x="616" y="168"/>
                  </a:lnTo>
                  <a:lnTo>
                    <a:pt x="655" y="251"/>
                  </a:lnTo>
                  <a:lnTo>
                    <a:pt x="701" y="339"/>
                  </a:lnTo>
                  <a:lnTo>
                    <a:pt x="725" y="456"/>
                  </a:lnTo>
                  <a:lnTo>
                    <a:pt x="725" y="567"/>
                  </a:lnTo>
                  <a:lnTo>
                    <a:pt x="708" y="676"/>
                  </a:lnTo>
                  <a:lnTo>
                    <a:pt x="655" y="764"/>
                  </a:lnTo>
                  <a:lnTo>
                    <a:pt x="599" y="810"/>
                  </a:lnTo>
                  <a:lnTo>
                    <a:pt x="518" y="847"/>
                  </a:lnTo>
                  <a:lnTo>
                    <a:pt x="425" y="854"/>
                  </a:lnTo>
                  <a:lnTo>
                    <a:pt x="323" y="844"/>
                  </a:lnTo>
                  <a:lnTo>
                    <a:pt x="226" y="821"/>
                  </a:lnTo>
                  <a:lnTo>
                    <a:pt x="168" y="787"/>
                  </a:lnTo>
                  <a:lnTo>
                    <a:pt x="133" y="720"/>
                  </a:lnTo>
                  <a:lnTo>
                    <a:pt x="105" y="676"/>
                  </a:lnTo>
                  <a:lnTo>
                    <a:pt x="116" y="619"/>
                  </a:lnTo>
                  <a:lnTo>
                    <a:pt x="133" y="552"/>
                  </a:lnTo>
                  <a:lnTo>
                    <a:pt x="156" y="485"/>
                  </a:lnTo>
                  <a:lnTo>
                    <a:pt x="172" y="430"/>
                  </a:lnTo>
                  <a:lnTo>
                    <a:pt x="149" y="378"/>
                  </a:lnTo>
                  <a:lnTo>
                    <a:pt x="105" y="321"/>
                  </a:lnTo>
                  <a:lnTo>
                    <a:pt x="47" y="265"/>
                  </a:lnTo>
                  <a:lnTo>
                    <a:pt x="0" y="187"/>
                  </a:lnTo>
                  <a:lnTo>
                    <a:pt x="0" y="97"/>
                  </a:lnTo>
                  <a:lnTo>
                    <a:pt x="47" y="45"/>
                  </a:lnTo>
                  <a:lnTo>
                    <a:pt x="105" y="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969840" y="3103560"/>
              <a:ext cx="1762200" cy="1036800"/>
            </a:xfrm>
            <a:custGeom>
              <a:avLst/>
              <a:gdLst/>
              <a:ahLst/>
              <a:rect l="l" t="t" r="r" b="b"/>
              <a:pathLst>
                <a:path w="1110" h="653">
                  <a:moveTo>
                    <a:pt x="0" y="158"/>
                  </a:moveTo>
                  <a:lnTo>
                    <a:pt x="67" y="101"/>
                  </a:lnTo>
                  <a:lnTo>
                    <a:pt x="165" y="124"/>
                  </a:lnTo>
                  <a:lnTo>
                    <a:pt x="286" y="196"/>
                  </a:lnTo>
                  <a:lnTo>
                    <a:pt x="388" y="333"/>
                  </a:lnTo>
                  <a:lnTo>
                    <a:pt x="513" y="439"/>
                  </a:lnTo>
                  <a:lnTo>
                    <a:pt x="597" y="503"/>
                  </a:lnTo>
                  <a:lnTo>
                    <a:pt x="745" y="537"/>
                  </a:lnTo>
                  <a:lnTo>
                    <a:pt x="803" y="537"/>
                  </a:lnTo>
                  <a:lnTo>
                    <a:pt x="820" y="447"/>
                  </a:lnTo>
                  <a:lnTo>
                    <a:pt x="815" y="266"/>
                  </a:lnTo>
                  <a:lnTo>
                    <a:pt x="785" y="158"/>
                  </a:lnTo>
                  <a:lnTo>
                    <a:pt x="768" y="57"/>
                  </a:lnTo>
                  <a:lnTo>
                    <a:pt x="803" y="0"/>
                  </a:lnTo>
                  <a:lnTo>
                    <a:pt x="898" y="0"/>
                  </a:lnTo>
                  <a:lnTo>
                    <a:pt x="917" y="68"/>
                  </a:lnTo>
                  <a:lnTo>
                    <a:pt x="854" y="135"/>
                  </a:lnTo>
                  <a:lnTo>
                    <a:pt x="898" y="181"/>
                  </a:lnTo>
                  <a:lnTo>
                    <a:pt x="984" y="184"/>
                  </a:lnTo>
                  <a:lnTo>
                    <a:pt x="1052" y="196"/>
                  </a:lnTo>
                  <a:lnTo>
                    <a:pt x="1086" y="225"/>
                  </a:lnTo>
                  <a:lnTo>
                    <a:pt x="1110" y="292"/>
                  </a:lnTo>
                  <a:lnTo>
                    <a:pt x="1052" y="315"/>
                  </a:lnTo>
                  <a:lnTo>
                    <a:pt x="1001" y="312"/>
                  </a:lnTo>
                  <a:lnTo>
                    <a:pt x="968" y="271"/>
                  </a:lnTo>
                  <a:lnTo>
                    <a:pt x="887" y="271"/>
                  </a:lnTo>
                  <a:lnTo>
                    <a:pt x="882" y="312"/>
                  </a:lnTo>
                  <a:lnTo>
                    <a:pt x="922" y="473"/>
                  </a:lnTo>
                  <a:lnTo>
                    <a:pt x="917" y="581"/>
                  </a:lnTo>
                  <a:lnTo>
                    <a:pt x="866" y="653"/>
                  </a:lnTo>
                  <a:lnTo>
                    <a:pt x="745" y="653"/>
                  </a:lnTo>
                  <a:lnTo>
                    <a:pt x="546" y="593"/>
                  </a:lnTo>
                  <a:lnTo>
                    <a:pt x="376" y="514"/>
                  </a:lnTo>
                  <a:lnTo>
                    <a:pt x="234" y="424"/>
                  </a:lnTo>
                  <a:lnTo>
                    <a:pt x="118" y="333"/>
                  </a:lnTo>
                  <a:lnTo>
                    <a:pt x="16" y="24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416240" y="4255920"/>
              <a:ext cx="1226880" cy="1708200"/>
            </a:xfrm>
            <a:custGeom>
              <a:avLst/>
              <a:gdLst/>
              <a:ahLst/>
              <a:rect l="l" t="t" r="r" b="b"/>
              <a:pathLst>
                <a:path w="773" h="1076">
                  <a:moveTo>
                    <a:pt x="86" y="0"/>
                  </a:moveTo>
                  <a:lnTo>
                    <a:pt x="223" y="57"/>
                  </a:lnTo>
                  <a:lnTo>
                    <a:pt x="292" y="145"/>
                  </a:lnTo>
                  <a:lnTo>
                    <a:pt x="344" y="246"/>
                  </a:lnTo>
                  <a:lnTo>
                    <a:pt x="383" y="394"/>
                  </a:lnTo>
                  <a:lnTo>
                    <a:pt x="383" y="503"/>
                  </a:lnTo>
                  <a:lnTo>
                    <a:pt x="348" y="648"/>
                  </a:lnTo>
                  <a:lnTo>
                    <a:pt x="281" y="770"/>
                  </a:lnTo>
                  <a:lnTo>
                    <a:pt x="281" y="882"/>
                  </a:lnTo>
                  <a:lnTo>
                    <a:pt x="309" y="938"/>
                  </a:lnTo>
                  <a:lnTo>
                    <a:pt x="360" y="938"/>
                  </a:lnTo>
                  <a:lnTo>
                    <a:pt x="464" y="931"/>
                  </a:lnTo>
                  <a:lnTo>
                    <a:pt x="601" y="949"/>
                  </a:lnTo>
                  <a:lnTo>
                    <a:pt x="722" y="987"/>
                  </a:lnTo>
                  <a:lnTo>
                    <a:pt x="761" y="1005"/>
                  </a:lnTo>
                  <a:lnTo>
                    <a:pt x="773" y="1039"/>
                  </a:lnTo>
                  <a:lnTo>
                    <a:pt x="675" y="1073"/>
                  </a:lnTo>
                  <a:lnTo>
                    <a:pt x="601" y="1076"/>
                  </a:lnTo>
                  <a:lnTo>
                    <a:pt x="539" y="1053"/>
                  </a:lnTo>
                  <a:lnTo>
                    <a:pt x="434" y="1008"/>
                  </a:lnTo>
                  <a:lnTo>
                    <a:pt x="316" y="1005"/>
                  </a:lnTo>
                  <a:lnTo>
                    <a:pt x="223" y="1042"/>
                  </a:lnTo>
                  <a:lnTo>
                    <a:pt x="160" y="1031"/>
                  </a:lnTo>
                  <a:lnTo>
                    <a:pt x="137" y="987"/>
                  </a:lnTo>
                  <a:lnTo>
                    <a:pt x="172" y="915"/>
                  </a:lnTo>
                  <a:lnTo>
                    <a:pt x="188" y="793"/>
                  </a:lnTo>
                  <a:lnTo>
                    <a:pt x="207" y="669"/>
                  </a:lnTo>
                  <a:lnTo>
                    <a:pt x="230" y="492"/>
                  </a:lnTo>
                  <a:lnTo>
                    <a:pt x="223" y="402"/>
                  </a:lnTo>
                  <a:lnTo>
                    <a:pt x="172" y="293"/>
                  </a:lnTo>
                  <a:lnTo>
                    <a:pt x="102" y="216"/>
                  </a:lnTo>
                  <a:lnTo>
                    <a:pt x="39" y="138"/>
                  </a:lnTo>
                  <a:lnTo>
                    <a:pt x="0" y="60"/>
                  </a:lnTo>
                  <a:lnTo>
                    <a:pt x="23" y="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730440" y="4243320"/>
              <a:ext cx="747720" cy="1924200"/>
            </a:xfrm>
            <a:custGeom>
              <a:avLst/>
              <a:gdLst/>
              <a:ahLst/>
              <a:rect l="l" t="t" r="r" b="b"/>
              <a:pathLst>
                <a:path w="471" h="1212">
                  <a:moveTo>
                    <a:pt x="151" y="275"/>
                  </a:moveTo>
                  <a:lnTo>
                    <a:pt x="209" y="89"/>
                  </a:lnTo>
                  <a:lnTo>
                    <a:pt x="332" y="0"/>
                  </a:lnTo>
                  <a:lnTo>
                    <a:pt x="471" y="34"/>
                  </a:lnTo>
                  <a:lnTo>
                    <a:pt x="464" y="135"/>
                  </a:lnTo>
                  <a:lnTo>
                    <a:pt x="379" y="234"/>
                  </a:lnTo>
                  <a:lnTo>
                    <a:pt x="297" y="376"/>
                  </a:lnTo>
                  <a:lnTo>
                    <a:pt x="255" y="499"/>
                  </a:lnTo>
                  <a:lnTo>
                    <a:pt x="228" y="592"/>
                  </a:lnTo>
                  <a:lnTo>
                    <a:pt x="228" y="699"/>
                  </a:lnTo>
                  <a:lnTo>
                    <a:pt x="244" y="803"/>
                  </a:lnTo>
                  <a:lnTo>
                    <a:pt x="290" y="911"/>
                  </a:lnTo>
                  <a:lnTo>
                    <a:pt x="332" y="981"/>
                  </a:lnTo>
                  <a:lnTo>
                    <a:pt x="348" y="1026"/>
                  </a:lnTo>
                  <a:lnTo>
                    <a:pt x="348" y="1067"/>
                  </a:lnTo>
                  <a:lnTo>
                    <a:pt x="290" y="1090"/>
                  </a:lnTo>
                  <a:lnTo>
                    <a:pt x="204" y="1126"/>
                  </a:lnTo>
                  <a:lnTo>
                    <a:pt x="151" y="1201"/>
                  </a:lnTo>
                  <a:lnTo>
                    <a:pt x="100" y="1212"/>
                  </a:lnTo>
                  <a:lnTo>
                    <a:pt x="35" y="1201"/>
                  </a:lnTo>
                  <a:lnTo>
                    <a:pt x="0" y="1145"/>
                  </a:lnTo>
                  <a:lnTo>
                    <a:pt x="35" y="1104"/>
                  </a:lnTo>
                  <a:lnTo>
                    <a:pt x="116" y="1078"/>
                  </a:lnTo>
                  <a:lnTo>
                    <a:pt x="186" y="1045"/>
                  </a:lnTo>
                  <a:lnTo>
                    <a:pt x="221" y="978"/>
                  </a:lnTo>
                  <a:lnTo>
                    <a:pt x="209" y="903"/>
                  </a:lnTo>
                  <a:lnTo>
                    <a:pt x="170" y="803"/>
                  </a:lnTo>
                  <a:lnTo>
                    <a:pt x="135" y="703"/>
                  </a:lnTo>
                  <a:lnTo>
                    <a:pt x="116" y="587"/>
                  </a:lnTo>
                  <a:lnTo>
                    <a:pt x="105" y="488"/>
                  </a:lnTo>
                  <a:lnTo>
                    <a:pt x="123" y="402"/>
                  </a:lnTo>
                  <a:lnTo>
                    <a:pt x="123" y="330"/>
                  </a:lnTo>
                  <a:lnTo>
                    <a:pt x="151" y="275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6" name=""/>
          <p:cNvSpPr txBox="1"/>
          <p:nvPr/>
        </p:nvSpPr>
        <p:spPr>
          <a:xfrm>
            <a:off x="3038400" y="2370240"/>
            <a:ext cx="427032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3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os questions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187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992240" cy="1838520"/>
          </a:xfrm>
          <a:prstGeom prst="rect">
            <a:avLst/>
          </a:prstGeom>
          <a:ln w="0">
            <a:noFill/>
          </a:ln>
        </p:spPr>
      </p:pic>
      <p:sp>
        <p:nvSpPr>
          <p:cNvPr id="4188" name=""/>
          <p:cNvSpPr/>
          <p:nvPr/>
        </p:nvSpPr>
        <p:spPr>
          <a:xfrm>
            <a:off x="2462400" y="59659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http://openccm.objectweb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communauté Open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381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Nombreux utilisateurs / évaluateur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toutes origines, i.e. universités et industri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eaucoup de rapports de bugs, de demandes d’informations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jet Cadena – Kansas Univers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HALES – Perco/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ucent – projet IST COACH – test interactif et observation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racom – projet IST COACH – canevas de gestion d’éléments de résea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eu de contributeur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ncipalement équipe au LIF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 Huynh - THALES - générateur XM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ke Gratsas - Bank of Lithuania - portage B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ucent - IST COACH - observation et test interactif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49:21Z</dcterms:created>
  <dc:creator>Philippe MERLE</dc:creator>
  <dc:description/>
  <dc:language>en-US</dc:language>
  <cp:lastModifiedBy>merle</cp:lastModifiedBy>
  <cp:lastPrinted>2002-04-09T14:53:00Z</cp:lastPrinted>
  <dcterms:modified xsi:type="dcterms:W3CDTF">2003-09-01T16:10:18Z</dcterms:modified>
  <cp:revision>309</cp:revision>
  <dc:subject/>
  <dc:title>Modèle de composants CORBA</dc:title>
</cp:coreProperties>
</file>