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A43-58EB-44E8-9402-28BACD545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6D7-0FE7-4C74-8ECC-5D9D77E15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2325-D1A1-454B-90F4-3B39BB88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E64F-C216-44F6-A612-6C5FDC9C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B04D-DA02-4CB3-B59D-085C458D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7051-A09B-4A62-A3BB-DBF6E514A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B5E2-3C46-49C0-82E7-3054283D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3A2-9D05-4E8C-B2EE-C2CA5BF3B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54A5-7D1E-4980-9437-B92DA49D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6506-6C19-47F2-ACE1-BC38B3C7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51E3-FF45-44B9-ADCB-69DCEB794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52D-5C42-412F-9E1C-5E75502EE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A7D-2DE9-422E-BB29-CACDED32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472-E5C2-4062-8D46-CEF69FC0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C07-3409-47BC-A315-96AE64FC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9D1-D63D-4EFB-B7DC-6144E98A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2747-6635-4EBB-B4E1-8ACCE970F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D72-CCBD-42A7-B02C-2C4F47FC0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8B75-5597-40A4-BC77-7D161701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4548-8FF0-46BD-83F4-4CF2EA9B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BCEA-335C-41A2-B614-647702F1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BD53-2412-48D9-AF09-DB60934D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65D6-8B21-4B22-A354-0A5130E4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301-84DD-4E09-8C13-86BDDCDC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2A6-B499-4742-A7F4-20329378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580-1290-4C6F-85B0-9E138D94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1049"/>
              </a:spcBef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898640" indent="-316080">
              <a:lnSpc>
                <a:spcPct val="90000"/>
              </a:lnSpc>
              <a:spcBef>
                <a:spcPts val="10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6597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8DB95F-C3C3-4229-A5D6-05D24B67A107}" type="slidenum">
              <a:rPr b="1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97720"/>
            <a:ext cx="20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© 2003, P. Mer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219320"/>
            <a:ext cx="883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295280"/>
            <a:ext cx="8839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1560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CAR’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28600" y="324000"/>
            <a:ext cx="1447920" cy="496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2952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209680" cy="75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2227320" cy="71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02960" y="4874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CAR’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4600" y="1400040"/>
            <a:ext cx="663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École d’été sur les Intergiciel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r la Construction d’Applications Ré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8080" y="5846760"/>
            <a:ext cx="990720" cy="81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243320" y="5867280"/>
            <a:ext cx="658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6904080" y="5943600"/>
            <a:ext cx="1828800" cy="533520"/>
            <a:chOff x="6904080" y="5943600"/>
            <a:chExt cx="1828800" cy="533520"/>
          </a:xfrm>
        </p:grpSpPr>
        <p:sp>
          <p:nvSpPr>
            <p:cNvPr id="54" name=""/>
            <p:cNvSpPr/>
            <p:nvPr/>
          </p:nvSpPr>
          <p:spPr>
            <a:xfrm>
              <a:off x="6904080" y="5943600"/>
              <a:ext cx="182880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7015320" y="6018120"/>
              <a:ext cx="16081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219320" y="2438280"/>
            <a:ext cx="6705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28520" algn="ctr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0960" algn="ctr">
              <a:lnSpc>
                <a:spcPct val="120000"/>
              </a:lnSpc>
              <a:spcBef>
                <a:spcPts val="3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60280" algn="ctr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C:\corba\run_demo_0.7\run_dinner_ORBacus.bat" TargetMode="External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Etude de cas d’une application </a:t>
            </a:r>
            <a:br>
              <a:rPr sz="3200"/>
            </a:b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construite avec CC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35760" cy="14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hilippe Mer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Projet Jacquard (INRIA et LIF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http://www.lifl.fr/~mer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451640" y="4005360"/>
            <a:ext cx="1224000" cy="1079280"/>
            <a:chOff x="7451640" y="4005360"/>
            <a:chExt cx="1224000" cy="1079280"/>
          </a:xfrm>
        </p:grpSpPr>
        <p:grpSp>
          <p:nvGrpSpPr>
            <p:cNvPr id="104" name=""/>
            <p:cNvGrpSpPr/>
            <p:nvPr/>
          </p:nvGrpSpPr>
          <p:grpSpPr>
            <a:xfrm>
              <a:off x="7475400" y="4025520"/>
              <a:ext cx="1200240" cy="1059120"/>
              <a:chOff x="7475400" y="4025520"/>
              <a:chExt cx="1200240" cy="1059120"/>
            </a:xfrm>
          </p:grpSpPr>
          <p:sp>
            <p:nvSpPr>
              <p:cNvPr id="105" name=""/>
              <p:cNvSpPr/>
              <p:nvPr/>
            </p:nvSpPr>
            <p:spPr>
              <a:xfrm>
                <a:off x="7612200" y="4025520"/>
                <a:ext cx="403920" cy="494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7904160" y="3743280"/>
                <a:ext cx="342720" cy="12002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11520" y="4025520"/>
                <a:ext cx="403920" cy="105912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7909560" y="4172760"/>
                <a:ext cx="342720" cy="11883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12200" y="4519800"/>
                <a:ext cx="403920" cy="5648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588440" y="4005360"/>
              <a:ext cx="403920" cy="49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451640" y="4151880"/>
              <a:ext cx="1200240" cy="342720"/>
              <a:chOff x="7451640" y="4151880"/>
              <a:chExt cx="1200240" cy="342720"/>
            </a:xfrm>
          </p:grpSpPr>
          <p:sp>
            <p:nvSpPr>
              <p:cNvPr id="112" name=""/>
              <p:cNvSpPr/>
              <p:nvPr/>
            </p:nvSpPr>
            <p:spPr>
              <a:xfrm rot="16200000">
                <a:off x="7880400" y="3723120"/>
                <a:ext cx="342720" cy="1200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7594200" y="4267440"/>
                <a:ext cx="962640" cy="15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JACQUARD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8087760" y="4005360"/>
              <a:ext cx="403920" cy="1059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7904160" y="4151520"/>
              <a:ext cx="342720" cy="1200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7617960" y="4695840"/>
              <a:ext cx="962640" cy="15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JACQUARD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8440" y="4499640"/>
              <a:ext cx="40392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telier Objecteering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vec profil UML pour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54080" y="1341360"/>
            <a:ext cx="8856720" cy="468000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6021360"/>
            <a:ext cx="83818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éveloppement LIFL dans projet RNTL ACCO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nclusion 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as si compliqué si correctement expliqué (?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as parfait mais puiss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Bonne source d’inspiration pour faire mieux ;-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Merc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73" name=""/>
          <p:cNvGrpSpPr/>
          <p:nvPr/>
        </p:nvGrpSpPr>
        <p:grpSpPr>
          <a:xfrm>
            <a:off x="2087640" y="1557360"/>
            <a:ext cx="6511680" cy="3781440"/>
            <a:chOff x="2087640" y="1557360"/>
            <a:chExt cx="6511680" cy="3781440"/>
          </a:xfrm>
        </p:grpSpPr>
        <p:sp>
          <p:nvSpPr>
            <p:cNvPr id="2074" name=""/>
            <p:cNvSpPr/>
            <p:nvPr/>
          </p:nvSpPr>
          <p:spPr>
            <a:xfrm>
              <a:off x="2185560" y="1581120"/>
              <a:ext cx="6360840" cy="3745080"/>
            </a:xfrm>
            <a:custGeom>
              <a:avLst/>
              <a:gdLst/>
              <a:ahLst/>
              <a:rect l="l" t="t" r="r" b="b"/>
              <a:pathLst>
                <a:path w="4007" h="2359">
                  <a:moveTo>
                    <a:pt x="0" y="781"/>
                  </a:moveTo>
                  <a:lnTo>
                    <a:pt x="539" y="669"/>
                  </a:lnTo>
                  <a:lnTo>
                    <a:pt x="771" y="588"/>
                  </a:lnTo>
                  <a:lnTo>
                    <a:pt x="1029" y="526"/>
                  </a:lnTo>
                  <a:lnTo>
                    <a:pt x="1277" y="433"/>
                  </a:lnTo>
                  <a:lnTo>
                    <a:pt x="1551" y="359"/>
                  </a:lnTo>
                  <a:lnTo>
                    <a:pt x="1760" y="326"/>
                  </a:lnTo>
                  <a:lnTo>
                    <a:pt x="2045" y="182"/>
                  </a:lnTo>
                  <a:lnTo>
                    <a:pt x="2231" y="115"/>
                  </a:lnTo>
                  <a:lnTo>
                    <a:pt x="2422" y="93"/>
                  </a:lnTo>
                  <a:lnTo>
                    <a:pt x="2793" y="0"/>
                  </a:lnTo>
                  <a:lnTo>
                    <a:pt x="2939" y="68"/>
                  </a:lnTo>
                  <a:lnTo>
                    <a:pt x="3141" y="347"/>
                  </a:lnTo>
                  <a:lnTo>
                    <a:pt x="3248" y="448"/>
                  </a:lnTo>
                  <a:lnTo>
                    <a:pt x="3401" y="714"/>
                  </a:lnTo>
                  <a:lnTo>
                    <a:pt x="3596" y="977"/>
                  </a:lnTo>
                  <a:lnTo>
                    <a:pt x="3722" y="1068"/>
                  </a:lnTo>
                  <a:lnTo>
                    <a:pt x="3905" y="1157"/>
                  </a:lnTo>
                  <a:lnTo>
                    <a:pt x="3940" y="1258"/>
                  </a:lnTo>
                  <a:lnTo>
                    <a:pt x="4007" y="1354"/>
                  </a:lnTo>
                  <a:lnTo>
                    <a:pt x="3991" y="1443"/>
                  </a:lnTo>
                  <a:lnTo>
                    <a:pt x="3956" y="1498"/>
                  </a:lnTo>
                  <a:lnTo>
                    <a:pt x="3749" y="1575"/>
                  </a:lnTo>
                  <a:lnTo>
                    <a:pt x="3585" y="1675"/>
                  </a:lnTo>
                  <a:lnTo>
                    <a:pt x="3401" y="1693"/>
                  </a:lnTo>
                  <a:lnTo>
                    <a:pt x="3097" y="1794"/>
                  </a:lnTo>
                  <a:lnTo>
                    <a:pt x="2944" y="1808"/>
                  </a:lnTo>
                  <a:lnTo>
                    <a:pt x="2658" y="1919"/>
                  </a:lnTo>
                  <a:lnTo>
                    <a:pt x="2366" y="1942"/>
                  </a:lnTo>
                  <a:lnTo>
                    <a:pt x="2271" y="1986"/>
                  </a:lnTo>
                  <a:lnTo>
                    <a:pt x="2203" y="2037"/>
                  </a:lnTo>
                  <a:lnTo>
                    <a:pt x="2001" y="2060"/>
                  </a:lnTo>
                  <a:lnTo>
                    <a:pt x="1674" y="2182"/>
                  </a:lnTo>
                  <a:lnTo>
                    <a:pt x="1428" y="2252"/>
                  </a:lnTo>
                  <a:lnTo>
                    <a:pt x="1147" y="2336"/>
                  </a:lnTo>
                  <a:lnTo>
                    <a:pt x="973" y="2359"/>
                  </a:lnTo>
                  <a:lnTo>
                    <a:pt x="859" y="2336"/>
                  </a:lnTo>
                  <a:lnTo>
                    <a:pt x="792" y="2292"/>
                  </a:lnTo>
                  <a:lnTo>
                    <a:pt x="636" y="2031"/>
                  </a:lnTo>
                  <a:lnTo>
                    <a:pt x="539" y="1705"/>
                  </a:lnTo>
                  <a:lnTo>
                    <a:pt x="451" y="1586"/>
                  </a:lnTo>
                  <a:lnTo>
                    <a:pt x="304" y="1476"/>
                  </a:lnTo>
                  <a:lnTo>
                    <a:pt x="237" y="1406"/>
                  </a:lnTo>
                  <a:lnTo>
                    <a:pt x="186" y="1209"/>
                  </a:lnTo>
                  <a:lnTo>
                    <a:pt x="51" y="1003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087640" y="1557360"/>
              <a:ext cx="6511680" cy="3781440"/>
            </a:xfrm>
            <a:custGeom>
              <a:avLst/>
              <a:gdLst/>
              <a:ahLst/>
              <a:rect l="l" t="t" r="r" b="b"/>
              <a:pathLst>
                <a:path w="4102" h="2382">
                  <a:moveTo>
                    <a:pt x="197" y="729"/>
                  </a:moveTo>
                  <a:lnTo>
                    <a:pt x="617" y="651"/>
                  </a:lnTo>
                  <a:lnTo>
                    <a:pt x="810" y="591"/>
                  </a:lnTo>
                  <a:lnTo>
                    <a:pt x="988" y="539"/>
                  </a:lnTo>
                  <a:lnTo>
                    <a:pt x="1146" y="495"/>
                  </a:lnTo>
                  <a:lnTo>
                    <a:pt x="1325" y="429"/>
                  </a:lnTo>
                  <a:lnTo>
                    <a:pt x="1539" y="377"/>
                  </a:lnTo>
                  <a:lnTo>
                    <a:pt x="1764" y="333"/>
                  </a:lnTo>
                  <a:lnTo>
                    <a:pt x="1899" y="273"/>
                  </a:lnTo>
                  <a:lnTo>
                    <a:pt x="2068" y="193"/>
                  </a:lnTo>
                  <a:lnTo>
                    <a:pt x="2258" y="125"/>
                  </a:lnTo>
                  <a:lnTo>
                    <a:pt x="2439" y="96"/>
                  </a:lnTo>
                  <a:lnTo>
                    <a:pt x="2662" y="44"/>
                  </a:lnTo>
                  <a:lnTo>
                    <a:pt x="2809" y="8"/>
                  </a:lnTo>
                  <a:lnTo>
                    <a:pt x="2887" y="0"/>
                  </a:lnTo>
                  <a:lnTo>
                    <a:pt x="2990" y="60"/>
                  </a:lnTo>
                  <a:lnTo>
                    <a:pt x="3113" y="208"/>
                  </a:lnTo>
                  <a:lnTo>
                    <a:pt x="3203" y="333"/>
                  </a:lnTo>
                  <a:lnTo>
                    <a:pt x="3326" y="451"/>
                  </a:lnTo>
                  <a:lnTo>
                    <a:pt x="3417" y="607"/>
                  </a:lnTo>
                  <a:lnTo>
                    <a:pt x="3505" y="739"/>
                  </a:lnTo>
                  <a:lnTo>
                    <a:pt x="3607" y="880"/>
                  </a:lnTo>
                  <a:lnTo>
                    <a:pt x="3674" y="961"/>
                  </a:lnTo>
                  <a:lnTo>
                    <a:pt x="3765" y="1051"/>
                  </a:lnTo>
                  <a:lnTo>
                    <a:pt x="3923" y="1132"/>
                  </a:lnTo>
                  <a:lnTo>
                    <a:pt x="3979" y="1169"/>
                  </a:lnTo>
                  <a:lnTo>
                    <a:pt x="4034" y="1280"/>
                  </a:lnTo>
                  <a:lnTo>
                    <a:pt x="4102" y="1377"/>
                  </a:lnTo>
                  <a:lnTo>
                    <a:pt x="4090" y="1450"/>
                  </a:lnTo>
                  <a:lnTo>
                    <a:pt x="4023" y="1523"/>
                  </a:lnTo>
                  <a:lnTo>
                    <a:pt x="3876" y="1583"/>
                  </a:lnTo>
                  <a:lnTo>
                    <a:pt x="3651" y="1694"/>
                  </a:lnTo>
                  <a:lnTo>
                    <a:pt x="3484" y="1723"/>
                  </a:lnTo>
                  <a:lnTo>
                    <a:pt x="3303" y="1775"/>
                  </a:lnTo>
                  <a:lnTo>
                    <a:pt x="3192" y="1812"/>
                  </a:lnTo>
                  <a:lnTo>
                    <a:pt x="3022" y="1843"/>
                  </a:lnTo>
                  <a:lnTo>
                    <a:pt x="2887" y="1887"/>
                  </a:lnTo>
                  <a:lnTo>
                    <a:pt x="2741" y="1939"/>
                  </a:lnTo>
                  <a:lnTo>
                    <a:pt x="2516" y="1968"/>
                  </a:lnTo>
                  <a:lnTo>
                    <a:pt x="2428" y="1975"/>
                  </a:lnTo>
                  <a:lnTo>
                    <a:pt x="2282" y="2064"/>
                  </a:lnTo>
                  <a:lnTo>
                    <a:pt x="2045" y="2101"/>
                  </a:lnTo>
                  <a:lnTo>
                    <a:pt x="1708" y="2226"/>
                  </a:lnTo>
                  <a:lnTo>
                    <a:pt x="1460" y="2286"/>
                  </a:lnTo>
                  <a:lnTo>
                    <a:pt x="1246" y="2353"/>
                  </a:lnTo>
                  <a:lnTo>
                    <a:pt x="1044" y="2382"/>
                  </a:lnTo>
                  <a:lnTo>
                    <a:pt x="954" y="2374"/>
                  </a:lnTo>
                  <a:lnTo>
                    <a:pt x="877" y="2345"/>
                  </a:lnTo>
                  <a:lnTo>
                    <a:pt x="787" y="2218"/>
                  </a:lnTo>
                  <a:lnTo>
                    <a:pt x="684" y="2093"/>
                  </a:lnTo>
                  <a:lnTo>
                    <a:pt x="652" y="2012"/>
                  </a:lnTo>
                  <a:lnTo>
                    <a:pt x="629" y="1887"/>
                  </a:lnTo>
                  <a:lnTo>
                    <a:pt x="596" y="1791"/>
                  </a:lnTo>
                  <a:lnTo>
                    <a:pt x="550" y="1687"/>
                  </a:lnTo>
                  <a:lnTo>
                    <a:pt x="403" y="1554"/>
                  </a:lnTo>
                  <a:lnTo>
                    <a:pt x="315" y="1458"/>
                  </a:lnTo>
                  <a:lnTo>
                    <a:pt x="257" y="1280"/>
                  </a:lnTo>
                  <a:lnTo>
                    <a:pt x="178" y="1153"/>
                  </a:lnTo>
                  <a:lnTo>
                    <a:pt x="90" y="1021"/>
                  </a:lnTo>
                  <a:lnTo>
                    <a:pt x="34" y="888"/>
                  </a:lnTo>
                  <a:lnTo>
                    <a:pt x="0" y="820"/>
                  </a:lnTo>
                  <a:lnTo>
                    <a:pt x="34" y="770"/>
                  </a:lnTo>
                  <a:lnTo>
                    <a:pt x="123" y="739"/>
                  </a:lnTo>
                  <a:lnTo>
                    <a:pt x="201" y="755"/>
                  </a:lnTo>
                  <a:lnTo>
                    <a:pt x="225" y="799"/>
                  </a:lnTo>
                  <a:lnTo>
                    <a:pt x="123" y="836"/>
                  </a:lnTo>
                  <a:lnTo>
                    <a:pt x="123" y="903"/>
                  </a:lnTo>
                  <a:lnTo>
                    <a:pt x="157" y="992"/>
                  </a:lnTo>
                  <a:lnTo>
                    <a:pt x="213" y="1095"/>
                  </a:lnTo>
                  <a:lnTo>
                    <a:pt x="292" y="1213"/>
                  </a:lnTo>
                  <a:lnTo>
                    <a:pt x="348" y="1302"/>
                  </a:lnTo>
                  <a:lnTo>
                    <a:pt x="383" y="1435"/>
                  </a:lnTo>
                  <a:lnTo>
                    <a:pt x="438" y="1494"/>
                  </a:lnTo>
                  <a:lnTo>
                    <a:pt x="550" y="1598"/>
                  </a:lnTo>
                  <a:lnTo>
                    <a:pt x="605" y="1658"/>
                  </a:lnTo>
                  <a:lnTo>
                    <a:pt x="652" y="1739"/>
                  </a:lnTo>
                  <a:lnTo>
                    <a:pt x="673" y="1820"/>
                  </a:lnTo>
                  <a:lnTo>
                    <a:pt x="708" y="1901"/>
                  </a:lnTo>
                  <a:lnTo>
                    <a:pt x="742" y="2033"/>
                  </a:lnTo>
                  <a:lnTo>
                    <a:pt x="810" y="2145"/>
                  </a:lnTo>
                  <a:lnTo>
                    <a:pt x="933" y="2308"/>
                  </a:lnTo>
                  <a:lnTo>
                    <a:pt x="1023" y="2338"/>
                  </a:lnTo>
                  <a:lnTo>
                    <a:pt x="1112" y="2338"/>
                  </a:lnTo>
                  <a:lnTo>
                    <a:pt x="1293" y="2293"/>
                  </a:lnTo>
                  <a:lnTo>
                    <a:pt x="1518" y="2234"/>
                  </a:lnTo>
                  <a:lnTo>
                    <a:pt x="1720" y="2168"/>
                  </a:lnTo>
                  <a:lnTo>
                    <a:pt x="1887" y="2101"/>
                  </a:lnTo>
                  <a:lnTo>
                    <a:pt x="2022" y="2049"/>
                  </a:lnTo>
                  <a:lnTo>
                    <a:pt x="2156" y="2012"/>
                  </a:lnTo>
                  <a:lnTo>
                    <a:pt x="2270" y="2012"/>
                  </a:lnTo>
                  <a:lnTo>
                    <a:pt x="2337" y="1960"/>
                  </a:lnTo>
                  <a:lnTo>
                    <a:pt x="2495" y="1923"/>
                  </a:lnTo>
                  <a:lnTo>
                    <a:pt x="2641" y="1908"/>
                  </a:lnTo>
                  <a:lnTo>
                    <a:pt x="2730" y="1901"/>
                  </a:lnTo>
                  <a:lnTo>
                    <a:pt x="3001" y="1798"/>
                  </a:lnTo>
                  <a:lnTo>
                    <a:pt x="3157" y="1775"/>
                  </a:lnTo>
                  <a:lnTo>
                    <a:pt x="3291" y="1731"/>
                  </a:lnTo>
                  <a:lnTo>
                    <a:pt x="3461" y="1671"/>
                  </a:lnTo>
                  <a:lnTo>
                    <a:pt x="3642" y="1658"/>
                  </a:lnTo>
                  <a:lnTo>
                    <a:pt x="3798" y="1568"/>
                  </a:lnTo>
                  <a:lnTo>
                    <a:pt x="3923" y="1509"/>
                  </a:lnTo>
                  <a:lnTo>
                    <a:pt x="3999" y="1471"/>
                  </a:lnTo>
                  <a:lnTo>
                    <a:pt x="4023" y="1406"/>
                  </a:lnTo>
                  <a:lnTo>
                    <a:pt x="4023" y="1338"/>
                  </a:lnTo>
                  <a:lnTo>
                    <a:pt x="3967" y="1273"/>
                  </a:lnTo>
                  <a:lnTo>
                    <a:pt x="3932" y="1176"/>
                  </a:lnTo>
                  <a:lnTo>
                    <a:pt x="3809" y="1132"/>
                  </a:lnTo>
                  <a:lnTo>
                    <a:pt x="3698" y="1065"/>
                  </a:lnTo>
                  <a:lnTo>
                    <a:pt x="3607" y="984"/>
                  </a:lnTo>
                  <a:lnTo>
                    <a:pt x="3461" y="776"/>
                  </a:lnTo>
                  <a:lnTo>
                    <a:pt x="3349" y="614"/>
                  </a:lnTo>
                  <a:lnTo>
                    <a:pt x="3282" y="495"/>
                  </a:lnTo>
                  <a:lnTo>
                    <a:pt x="3157" y="377"/>
                  </a:lnTo>
                  <a:lnTo>
                    <a:pt x="3069" y="244"/>
                  </a:lnTo>
                  <a:lnTo>
                    <a:pt x="2966" y="112"/>
                  </a:lnTo>
                  <a:lnTo>
                    <a:pt x="2911" y="89"/>
                  </a:lnTo>
                  <a:lnTo>
                    <a:pt x="2855" y="52"/>
                  </a:lnTo>
                  <a:lnTo>
                    <a:pt x="2607" y="104"/>
                  </a:lnTo>
                  <a:lnTo>
                    <a:pt x="2472" y="141"/>
                  </a:lnTo>
                  <a:lnTo>
                    <a:pt x="2270" y="163"/>
                  </a:lnTo>
                  <a:lnTo>
                    <a:pt x="2100" y="222"/>
                  </a:lnTo>
                  <a:lnTo>
                    <a:pt x="1854" y="354"/>
                  </a:lnTo>
                  <a:lnTo>
                    <a:pt x="1731" y="393"/>
                  </a:lnTo>
                  <a:lnTo>
                    <a:pt x="1585" y="399"/>
                  </a:lnTo>
                  <a:lnTo>
                    <a:pt x="1281" y="481"/>
                  </a:lnTo>
                  <a:lnTo>
                    <a:pt x="1100" y="570"/>
                  </a:lnTo>
                  <a:lnTo>
                    <a:pt x="842" y="643"/>
                  </a:lnTo>
                  <a:lnTo>
                    <a:pt x="292" y="770"/>
                  </a:lnTo>
                  <a:lnTo>
                    <a:pt x="197" y="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50920" y="2182680"/>
            <a:ext cx="2481120" cy="3984840"/>
            <a:chOff x="250920" y="2182680"/>
            <a:chExt cx="2481120" cy="3984840"/>
          </a:xfrm>
        </p:grpSpPr>
        <p:sp>
          <p:nvSpPr>
            <p:cNvPr id="2077" name=""/>
            <p:cNvSpPr/>
            <p:nvPr/>
          </p:nvSpPr>
          <p:spPr>
            <a:xfrm>
              <a:off x="250920" y="2182680"/>
              <a:ext cx="1415880" cy="860400"/>
            </a:xfrm>
            <a:custGeom>
              <a:avLst/>
              <a:gdLst/>
              <a:ahLst/>
              <a:rect l="l" t="t" r="r" b="b"/>
              <a:pathLst>
                <a:path w="892" h="542">
                  <a:moveTo>
                    <a:pt x="599" y="234"/>
                  </a:moveTo>
                  <a:lnTo>
                    <a:pt x="567" y="159"/>
                  </a:lnTo>
                  <a:lnTo>
                    <a:pt x="509" y="90"/>
                  </a:lnTo>
                  <a:lnTo>
                    <a:pt x="446" y="46"/>
                  </a:lnTo>
                  <a:lnTo>
                    <a:pt x="360" y="11"/>
                  </a:lnTo>
                  <a:lnTo>
                    <a:pt x="293" y="0"/>
                  </a:lnTo>
                  <a:lnTo>
                    <a:pt x="207" y="0"/>
                  </a:lnTo>
                  <a:lnTo>
                    <a:pt x="121" y="18"/>
                  </a:lnTo>
                  <a:lnTo>
                    <a:pt x="51" y="53"/>
                  </a:lnTo>
                  <a:lnTo>
                    <a:pt x="17" y="113"/>
                  </a:lnTo>
                  <a:lnTo>
                    <a:pt x="0" y="200"/>
                  </a:lnTo>
                  <a:lnTo>
                    <a:pt x="35" y="316"/>
                  </a:lnTo>
                  <a:lnTo>
                    <a:pt x="86" y="403"/>
                  </a:lnTo>
                  <a:lnTo>
                    <a:pt x="154" y="460"/>
                  </a:lnTo>
                  <a:lnTo>
                    <a:pt x="223" y="496"/>
                  </a:lnTo>
                  <a:lnTo>
                    <a:pt x="321" y="527"/>
                  </a:lnTo>
                  <a:lnTo>
                    <a:pt x="423" y="542"/>
                  </a:lnTo>
                  <a:lnTo>
                    <a:pt x="516" y="532"/>
                  </a:lnTo>
                  <a:lnTo>
                    <a:pt x="595" y="509"/>
                  </a:lnTo>
                  <a:lnTo>
                    <a:pt x="646" y="437"/>
                  </a:lnTo>
                  <a:lnTo>
                    <a:pt x="653" y="370"/>
                  </a:lnTo>
                  <a:lnTo>
                    <a:pt x="646" y="313"/>
                  </a:lnTo>
                  <a:lnTo>
                    <a:pt x="634" y="290"/>
                  </a:lnTo>
                  <a:lnTo>
                    <a:pt x="783" y="313"/>
                  </a:lnTo>
                  <a:lnTo>
                    <a:pt x="876" y="316"/>
                  </a:lnTo>
                  <a:lnTo>
                    <a:pt x="892" y="278"/>
                  </a:lnTo>
                  <a:lnTo>
                    <a:pt x="869" y="237"/>
                  </a:lnTo>
                  <a:lnTo>
                    <a:pt x="783" y="244"/>
                  </a:lnTo>
                  <a:lnTo>
                    <a:pt x="653" y="249"/>
                  </a:lnTo>
                  <a:lnTo>
                    <a:pt x="599" y="234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55640" y="3181320"/>
              <a:ext cx="1150920" cy="135576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168" y="0"/>
                  </a:moveTo>
                  <a:lnTo>
                    <a:pt x="270" y="0"/>
                  </a:lnTo>
                  <a:lnTo>
                    <a:pt x="346" y="0"/>
                  </a:lnTo>
                  <a:lnTo>
                    <a:pt x="444" y="23"/>
                  </a:lnTo>
                  <a:lnTo>
                    <a:pt x="495" y="57"/>
                  </a:lnTo>
                  <a:lnTo>
                    <a:pt x="565" y="109"/>
                  </a:lnTo>
                  <a:lnTo>
                    <a:pt x="616" y="168"/>
                  </a:lnTo>
                  <a:lnTo>
                    <a:pt x="655" y="251"/>
                  </a:lnTo>
                  <a:lnTo>
                    <a:pt x="701" y="339"/>
                  </a:lnTo>
                  <a:lnTo>
                    <a:pt x="725" y="456"/>
                  </a:lnTo>
                  <a:lnTo>
                    <a:pt x="725" y="567"/>
                  </a:lnTo>
                  <a:lnTo>
                    <a:pt x="708" y="676"/>
                  </a:lnTo>
                  <a:lnTo>
                    <a:pt x="655" y="764"/>
                  </a:lnTo>
                  <a:lnTo>
                    <a:pt x="599" y="810"/>
                  </a:lnTo>
                  <a:lnTo>
                    <a:pt x="518" y="847"/>
                  </a:lnTo>
                  <a:lnTo>
                    <a:pt x="425" y="854"/>
                  </a:lnTo>
                  <a:lnTo>
                    <a:pt x="323" y="844"/>
                  </a:lnTo>
                  <a:lnTo>
                    <a:pt x="226" y="821"/>
                  </a:lnTo>
                  <a:lnTo>
                    <a:pt x="168" y="787"/>
                  </a:lnTo>
                  <a:lnTo>
                    <a:pt x="133" y="720"/>
                  </a:lnTo>
                  <a:lnTo>
                    <a:pt x="105" y="676"/>
                  </a:lnTo>
                  <a:lnTo>
                    <a:pt x="116" y="619"/>
                  </a:lnTo>
                  <a:lnTo>
                    <a:pt x="133" y="552"/>
                  </a:lnTo>
                  <a:lnTo>
                    <a:pt x="156" y="485"/>
                  </a:lnTo>
                  <a:lnTo>
                    <a:pt x="172" y="430"/>
                  </a:lnTo>
                  <a:lnTo>
                    <a:pt x="149" y="378"/>
                  </a:lnTo>
                  <a:lnTo>
                    <a:pt x="105" y="321"/>
                  </a:lnTo>
                  <a:lnTo>
                    <a:pt x="47" y="265"/>
                  </a:lnTo>
                  <a:lnTo>
                    <a:pt x="0" y="187"/>
                  </a:lnTo>
                  <a:lnTo>
                    <a:pt x="0" y="97"/>
                  </a:lnTo>
                  <a:lnTo>
                    <a:pt x="47" y="45"/>
                  </a:lnTo>
                  <a:lnTo>
                    <a:pt x="105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69840" y="3103560"/>
              <a:ext cx="1762200" cy="1036800"/>
            </a:xfrm>
            <a:custGeom>
              <a:avLst/>
              <a:gdLst/>
              <a:ahLst/>
              <a:rect l="l" t="t" r="r" b="b"/>
              <a:pathLst>
                <a:path w="1110" h="653">
                  <a:moveTo>
                    <a:pt x="0" y="158"/>
                  </a:moveTo>
                  <a:lnTo>
                    <a:pt x="67" y="101"/>
                  </a:lnTo>
                  <a:lnTo>
                    <a:pt x="165" y="124"/>
                  </a:lnTo>
                  <a:lnTo>
                    <a:pt x="286" y="196"/>
                  </a:lnTo>
                  <a:lnTo>
                    <a:pt x="388" y="333"/>
                  </a:lnTo>
                  <a:lnTo>
                    <a:pt x="513" y="439"/>
                  </a:lnTo>
                  <a:lnTo>
                    <a:pt x="597" y="503"/>
                  </a:lnTo>
                  <a:lnTo>
                    <a:pt x="745" y="537"/>
                  </a:lnTo>
                  <a:lnTo>
                    <a:pt x="803" y="537"/>
                  </a:lnTo>
                  <a:lnTo>
                    <a:pt x="820" y="447"/>
                  </a:lnTo>
                  <a:lnTo>
                    <a:pt x="815" y="266"/>
                  </a:lnTo>
                  <a:lnTo>
                    <a:pt x="785" y="158"/>
                  </a:lnTo>
                  <a:lnTo>
                    <a:pt x="768" y="57"/>
                  </a:lnTo>
                  <a:lnTo>
                    <a:pt x="803" y="0"/>
                  </a:lnTo>
                  <a:lnTo>
                    <a:pt x="898" y="0"/>
                  </a:lnTo>
                  <a:lnTo>
                    <a:pt x="917" y="68"/>
                  </a:lnTo>
                  <a:lnTo>
                    <a:pt x="854" y="135"/>
                  </a:lnTo>
                  <a:lnTo>
                    <a:pt x="898" y="181"/>
                  </a:lnTo>
                  <a:lnTo>
                    <a:pt x="984" y="184"/>
                  </a:lnTo>
                  <a:lnTo>
                    <a:pt x="1052" y="196"/>
                  </a:lnTo>
                  <a:lnTo>
                    <a:pt x="1086" y="225"/>
                  </a:lnTo>
                  <a:lnTo>
                    <a:pt x="1110" y="292"/>
                  </a:lnTo>
                  <a:lnTo>
                    <a:pt x="1052" y="315"/>
                  </a:lnTo>
                  <a:lnTo>
                    <a:pt x="1001" y="312"/>
                  </a:lnTo>
                  <a:lnTo>
                    <a:pt x="968" y="271"/>
                  </a:lnTo>
                  <a:lnTo>
                    <a:pt x="887" y="271"/>
                  </a:lnTo>
                  <a:lnTo>
                    <a:pt x="882" y="312"/>
                  </a:lnTo>
                  <a:lnTo>
                    <a:pt x="922" y="473"/>
                  </a:lnTo>
                  <a:lnTo>
                    <a:pt x="917" y="581"/>
                  </a:lnTo>
                  <a:lnTo>
                    <a:pt x="866" y="653"/>
                  </a:lnTo>
                  <a:lnTo>
                    <a:pt x="745" y="653"/>
                  </a:lnTo>
                  <a:lnTo>
                    <a:pt x="546" y="593"/>
                  </a:lnTo>
                  <a:lnTo>
                    <a:pt x="376" y="514"/>
                  </a:lnTo>
                  <a:lnTo>
                    <a:pt x="234" y="424"/>
                  </a:lnTo>
                  <a:lnTo>
                    <a:pt x="118" y="333"/>
                  </a:lnTo>
                  <a:lnTo>
                    <a:pt x="16" y="2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416240" y="4255920"/>
              <a:ext cx="1226880" cy="1708200"/>
            </a:xfrm>
            <a:custGeom>
              <a:avLst/>
              <a:gdLst/>
              <a:ahLst/>
              <a:rect l="l" t="t" r="r" b="b"/>
              <a:pathLst>
                <a:path w="773" h="1076">
                  <a:moveTo>
                    <a:pt x="86" y="0"/>
                  </a:moveTo>
                  <a:lnTo>
                    <a:pt x="223" y="57"/>
                  </a:lnTo>
                  <a:lnTo>
                    <a:pt x="292" y="145"/>
                  </a:lnTo>
                  <a:lnTo>
                    <a:pt x="344" y="246"/>
                  </a:lnTo>
                  <a:lnTo>
                    <a:pt x="383" y="394"/>
                  </a:lnTo>
                  <a:lnTo>
                    <a:pt x="383" y="503"/>
                  </a:lnTo>
                  <a:lnTo>
                    <a:pt x="348" y="648"/>
                  </a:lnTo>
                  <a:lnTo>
                    <a:pt x="281" y="770"/>
                  </a:lnTo>
                  <a:lnTo>
                    <a:pt x="281" y="882"/>
                  </a:lnTo>
                  <a:lnTo>
                    <a:pt x="309" y="938"/>
                  </a:lnTo>
                  <a:lnTo>
                    <a:pt x="360" y="938"/>
                  </a:lnTo>
                  <a:lnTo>
                    <a:pt x="464" y="931"/>
                  </a:lnTo>
                  <a:lnTo>
                    <a:pt x="601" y="949"/>
                  </a:lnTo>
                  <a:lnTo>
                    <a:pt x="722" y="987"/>
                  </a:lnTo>
                  <a:lnTo>
                    <a:pt x="761" y="1005"/>
                  </a:lnTo>
                  <a:lnTo>
                    <a:pt x="773" y="1039"/>
                  </a:lnTo>
                  <a:lnTo>
                    <a:pt x="675" y="1073"/>
                  </a:lnTo>
                  <a:lnTo>
                    <a:pt x="601" y="1076"/>
                  </a:lnTo>
                  <a:lnTo>
                    <a:pt x="539" y="1053"/>
                  </a:lnTo>
                  <a:lnTo>
                    <a:pt x="434" y="1008"/>
                  </a:lnTo>
                  <a:lnTo>
                    <a:pt x="316" y="1005"/>
                  </a:lnTo>
                  <a:lnTo>
                    <a:pt x="223" y="1042"/>
                  </a:lnTo>
                  <a:lnTo>
                    <a:pt x="160" y="1031"/>
                  </a:lnTo>
                  <a:lnTo>
                    <a:pt x="137" y="987"/>
                  </a:lnTo>
                  <a:lnTo>
                    <a:pt x="172" y="915"/>
                  </a:lnTo>
                  <a:lnTo>
                    <a:pt x="188" y="793"/>
                  </a:lnTo>
                  <a:lnTo>
                    <a:pt x="207" y="669"/>
                  </a:lnTo>
                  <a:lnTo>
                    <a:pt x="230" y="492"/>
                  </a:lnTo>
                  <a:lnTo>
                    <a:pt x="223" y="402"/>
                  </a:lnTo>
                  <a:lnTo>
                    <a:pt x="172" y="293"/>
                  </a:lnTo>
                  <a:lnTo>
                    <a:pt x="102" y="216"/>
                  </a:lnTo>
                  <a:lnTo>
                    <a:pt x="39" y="138"/>
                  </a:lnTo>
                  <a:lnTo>
                    <a:pt x="0" y="60"/>
                  </a:lnTo>
                  <a:lnTo>
                    <a:pt x="23" y="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0440" y="4243320"/>
              <a:ext cx="747720" cy="1924200"/>
            </a:xfrm>
            <a:custGeom>
              <a:avLst/>
              <a:gdLst/>
              <a:ahLst/>
              <a:rect l="l" t="t" r="r" b="b"/>
              <a:pathLst>
                <a:path w="471" h="1212">
                  <a:moveTo>
                    <a:pt x="151" y="275"/>
                  </a:moveTo>
                  <a:lnTo>
                    <a:pt x="209" y="89"/>
                  </a:lnTo>
                  <a:lnTo>
                    <a:pt x="332" y="0"/>
                  </a:lnTo>
                  <a:lnTo>
                    <a:pt x="471" y="34"/>
                  </a:lnTo>
                  <a:lnTo>
                    <a:pt x="464" y="135"/>
                  </a:lnTo>
                  <a:lnTo>
                    <a:pt x="379" y="234"/>
                  </a:lnTo>
                  <a:lnTo>
                    <a:pt x="297" y="376"/>
                  </a:lnTo>
                  <a:lnTo>
                    <a:pt x="255" y="499"/>
                  </a:lnTo>
                  <a:lnTo>
                    <a:pt x="228" y="592"/>
                  </a:lnTo>
                  <a:lnTo>
                    <a:pt x="228" y="699"/>
                  </a:lnTo>
                  <a:lnTo>
                    <a:pt x="244" y="803"/>
                  </a:lnTo>
                  <a:lnTo>
                    <a:pt x="290" y="911"/>
                  </a:lnTo>
                  <a:lnTo>
                    <a:pt x="332" y="981"/>
                  </a:lnTo>
                  <a:lnTo>
                    <a:pt x="348" y="1026"/>
                  </a:lnTo>
                  <a:lnTo>
                    <a:pt x="348" y="1067"/>
                  </a:lnTo>
                  <a:lnTo>
                    <a:pt x="290" y="1090"/>
                  </a:lnTo>
                  <a:lnTo>
                    <a:pt x="204" y="1126"/>
                  </a:lnTo>
                  <a:lnTo>
                    <a:pt x="151" y="1201"/>
                  </a:lnTo>
                  <a:lnTo>
                    <a:pt x="100" y="1212"/>
                  </a:lnTo>
                  <a:lnTo>
                    <a:pt x="35" y="1201"/>
                  </a:lnTo>
                  <a:lnTo>
                    <a:pt x="0" y="1145"/>
                  </a:lnTo>
                  <a:lnTo>
                    <a:pt x="35" y="1104"/>
                  </a:lnTo>
                  <a:lnTo>
                    <a:pt x="116" y="1078"/>
                  </a:lnTo>
                  <a:lnTo>
                    <a:pt x="186" y="1045"/>
                  </a:lnTo>
                  <a:lnTo>
                    <a:pt x="221" y="978"/>
                  </a:lnTo>
                  <a:lnTo>
                    <a:pt x="209" y="903"/>
                  </a:lnTo>
                  <a:lnTo>
                    <a:pt x="170" y="803"/>
                  </a:lnTo>
                  <a:lnTo>
                    <a:pt x="135" y="703"/>
                  </a:lnTo>
                  <a:lnTo>
                    <a:pt x="116" y="587"/>
                  </a:lnTo>
                  <a:lnTo>
                    <a:pt x="105" y="488"/>
                  </a:lnTo>
                  <a:lnTo>
                    <a:pt x="123" y="402"/>
                  </a:lnTo>
                  <a:lnTo>
                    <a:pt x="123" y="330"/>
                  </a:lnTo>
                  <a:lnTo>
                    <a:pt x="151" y="275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 txBox="1"/>
          <p:nvPr/>
        </p:nvSpPr>
        <p:spPr>
          <a:xfrm>
            <a:off x="3038400" y="2370240"/>
            <a:ext cx="427032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os questions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graphique informel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08000" y="1557360"/>
            <a:ext cx="7126920" cy="4246920"/>
            <a:chOff x="108000" y="1557360"/>
            <a:chExt cx="7126920" cy="4246920"/>
          </a:xfrm>
        </p:grpSpPr>
        <p:grpSp>
          <p:nvGrpSpPr>
            <p:cNvPr id="802" name=""/>
            <p:cNvGrpSpPr/>
            <p:nvPr/>
          </p:nvGrpSpPr>
          <p:grpSpPr>
            <a:xfrm>
              <a:off x="108000" y="3861720"/>
              <a:ext cx="3634200" cy="1346400"/>
              <a:chOff x="108000" y="3861720"/>
              <a:chExt cx="3634200" cy="1346400"/>
            </a:xfrm>
          </p:grpSpPr>
          <p:sp>
            <p:nvSpPr>
              <p:cNvPr id="803" name=""/>
              <p:cNvSpPr/>
              <p:nvPr/>
            </p:nvSpPr>
            <p:spPr>
              <a:xfrm flipH="1">
                <a:off x="1728000" y="4534920"/>
                <a:ext cx="20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8000" y="3861720"/>
                <a:ext cx="1946880" cy="13464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F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4185720" y="1557360"/>
              <a:ext cx="1952280" cy="1709280"/>
              <a:chOff x="4185720" y="1557360"/>
              <a:chExt cx="1952280" cy="1709280"/>
            </a:xfrm>
          </p:grpSpPr>
          <p:sp>
            <p:nvSpPr>
              <p:cNvPr id="806" name=""/>
              <p:cNvSpPr/>
              <p:nvPr/>
            </p:nvSpPr>
            <p:spPr>
              <a:xfrm flipV="1">
                <a:off x="5162040" y="1880640"/>
                <a:ext cx="0" cy="13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5400000">
                <a:off x="4492080" y="1250640"/>
                <a:ext cx="1339560" cy="19522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br>
                  <a:rPr sz="2000"/>
                </a:b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de 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3093120" y="3268080"/>
              <a:ext cx="4141800" cy="253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ork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1947600" y="41673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the_f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profil UML 1.x pour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mposant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a facette fourchette utilisée par les philosophe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87640" y="2276640"/>
            <a:ext cx="374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816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mposant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a facette fourchette utilisée par les philosophe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00720" y="1357200"/>
            <a:ext cx="4535280" cy="2792520"/>
          </a:xfrm>
          <a:custGeom>
            <a:avLst/>
            <a:gdLst/>
            <a:ahLst/>
            <a:rect l="l" t="t" r="r" b="b"/>
            <a:pathLst>
              <a:path w="3357" h="2090">
                <a:moveTo>
                  <a:pt x="0" y="2090"/>
                </a:moveTo>
                <a:lnTo>
                  <a:pt x="3339" y="2075"/>
                </a:lnTo>
                <a:lnTo>
                  <a:pt x="3357" y="4"/>
                </a:lnTo>
                <a:lnTo>
                  <a:pt x="2912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827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828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831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268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mposant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a facette fourchette utilisée par les philosophe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43280" y="2637000"/>
            <a:ext cx="2449800" cy="252072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838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839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maison de ForkManag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elon les 3 not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4360" y="5084640"/>
            <a:ext cx="7643520" cy="110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</a:rPr>
              <a:t>//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manages </a:t>
            </a:r>
            <a:r>
              <a:rPr b="1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8360" y="1916280"/>
            <a:ext cx="2523960" cy="24606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k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933480" y="2421000"/>
            <a:ext cx="1909800" cy="1655280"/>
            <a:chOff x="933480" y="2421000"/>
            <a:chExt cx="1909800" cy="1655280"/>
          </a:xfrm>
        </p:grpSpPr>
        <p:grpSp>
          <p:nvGrpSpPr>
            <p:cNvPr id="849" name=""/>
            <p:cNvGrpSpPr/>
            <p:nvPr/>
          </p:nvGrpSpPr>
          <p:grpSpPr>
            <a:xfrm>
              <a:off x="933480" y="3319200"/>
              <a:ext cx="973440" cy="524880"/>
              <a:chOff x="933480" y="3319200"/>
              <a:chExt cx="973440" cy="524880"/>
            </a:xfrm>
          </p:grpSpPr>
          <p:sp>
            <p:nvSpPr>
              <p:cNvPr id="850" name=""/>
              <p:cNvSpPr/>
              <p:nvPr/>
            </p:nvSpPr>
            <p:spPr>
              <a:xfrm flipH="1">
                <a:off x="1367280" y="358164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933480" y="3319200"/>
                <a:ext cx="521640" cy="5248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2025720" y="2421000"/>
              <a:ext cx="523440" cy="666000"/>
              <a:chOff x="2025720" y="2421000"/>
              <a:chExt cx="523440" cy="666000"/>
            </a:xfrm>
          </p:grpSpPr>
          <p:sp>
            <p:nvSpPr>
              <p:cNvPr id="853" name=""/>
              <p:cNvSpPr/>
              <p:nvPr/>
            </p:nvSpPr>
            <p:spPr>
              <a:xfrm flipV="1">
                <a:off x="2287440" y="2546640"/>
                <a:ext cx="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400000">
                <a:off x="2026440" y="2420280"/>
                <a:ext cx="52200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1733400" y="3087720"/>
              <a:ext cx="1109880" cy="98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1568160" y="1504800"/>
            <a:ext cx="323640" cy="411120"/>
            <a:chOff x="1568160" y="1504800"/>
            <a:chExt cx="323640" cy="411120"/>
          </a:xfrm>
        </p:grpSpPr>
        <p:sp>
          <p:nvSpPr>
            <p:cNvPr id="857" name=""/>
            <p:cNvSpPr/>
            <p:nvPr/>
          </p:nvSpPr>
          <p:spPr>
            <a:xfrm flipV="1">
              <a:off x="1730160" y="15825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5400000">
              <a:off x="1568880" y="150408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3832200" y="1949400"/>
            <a:ext cx="498780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événement StatusInfo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s UML / CCM et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4625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num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Stat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ATING, THINKING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UNGRY, STARVING, DEAD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venttype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string name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PhilosopherState state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unsigned long ticks_since_last_meal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boolean has_lef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boolean has_righ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0" y="133992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623160" y="57085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rofil UML pour 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09480" y="57085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MG IDL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22600" y="1289160"/>
            <a:ext cx="0" cy="51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graphique informel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826920" y="1700280"/>
            <a:ext cx="6262560" cy="3960000"/>
            <a:chOff x="826920" y="1700280"/>
            <a:chExt cx="6262560" cy="3960000"/>
          </a:xfrm>
        </p:grpSpPr>
        <p:sp>
          <p:nvSpPr>
            <p:cNvPr id="868" name=""/>
            <p:cNvSpPr/>
            <p:nvPr/>
          </p:nvSpPr>
          <p:spPr>
            <a:xfrm>
              <a:off x="904680" y="2534040"/>
              <a:ext cx="5031360" cy="3126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587200" y="2613600"/>
              <a:ext cx="1502280" cy="913320"/>
              <a:chOff x="5587200" y="2613600"/>
              <a:chExt cx="1502280" cy="9133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5587200" y="3020400"/>
                <a:ext cx="462960" cy="127800"/>
                <a:chOff x="5587200" y="3020400"/>
                <a:chExt cx="462960" cy="127800"/>
              </a:xfrm>
            </p:grpSpPr>
            <p:sp>
              <p:nvSpPr>
                <p:cNvPr id="871" name=""/>
                <p:cNvSpPr/>
                <p:nvPr/>
              </p:nvSpPr>
              <p:spPr>
                <a:xfrm flipH="1">
                  <a:off x="5703840" y="3084120"/>
                  <a:ext cx="346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587200" y="3020400"/>
                  <a:ext cx="171720" cy="1278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 rot="16200000">
                <a:off x="6116760" y="2554200"/>
                <a:ext cx="913320" cy="103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5587200" y="3679560"/>
              <a:ext cx="1502280" cy="913320"/>
              <a:chOff x="5587200" y="3679560"/>
              <a:chExt cx="1502280" cy="91332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5587200" y="4086360"/>
                <a:ext cx="462960" cy="127800"/>
                <a:chOff x="5587200" y="4086360"/>
                <a:chExt cx="462960" cy="127800"/>
              </a:xfrm>
            </p:grpSpPr>
            <p:sp>
              <p:nvSpPr>
                <p:cNvPr id="876" name=""/>
                <p:cNvSpPr/>
                <p:nvPr/>
              </p:nvSpPr>
              <p:spPr>
                <a:xfrm flipH="1">
                  <a:off x="5703840" y="4150080"/>
                  <a:ext cx="346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587200" y="4086360"/>
                  <a:ext cx="171720" cy="1278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 rot="16200000">
                <a:off x="6116760" y="3620160"/>
                <a:ext cx="913320" cy="103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5587200" y="4898880"/>
              <a:ext cx="1251360" cy="456480"/>
              <a:chOff x="5587200" y="4898880"/>
              <a:chExt cx="1251360" cy="456480"/>
            </a:xfrm>
          </p:grpSpPr>
          <p:sp>
            <p:nvSpPr>
              <p:cNvPr id="880" name=""/>
              <p:cNvSpPr/>
              <p:nvPr/>
            </p:nvSpPr>
            <p:spPr>
              <a:xfrm flipH="1">
                <a:off x="5840280" y="5127480"/>
                <a:ext cx="51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7200" y="5017680"/>
                <a:ext cx="250560" cy="2181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270480" y="4898880"/>
                <a:ext cx="568080" cy="4564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826920" y="4442040"/>
              <a:ext cx="1832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8000" y="3409200"/>
              <a:ext cx="18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3082680" y="1700280"/>
              <a:ext cx="1063800" cy="820440"/>
              <a:chOff x="3082680" y="1700280"/>
              <a:chExt cx="1063800" cy="820440"/>
            </a:xfrm>
          </p:grpSpPr>
          <p:sp>
            <p:nvSpPr>
              <p:cNvPr id="886" name=""/>
              <p:cNvSpPr/>
              <p:nvPr/>
            </p:nvSpPr>
            <p:spPr>
              <a:xfrm flipV="1">
                <a:off x="3614760" y="1855080"/>
                <a:ext cx="0" cy="6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400000">
                <a:off x="3292920" y="1490040"/>
                <a:ext cx="643320" cy="10638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8" name=""/>
          <p:cNvSpPr/>
          <p:nvPr/>
        </p:nvSpPr>
        <p:spPr>
          <a:xfrm>
            <a:off x="6576840" y="276552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cept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k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86200" y="378936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cept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k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05400" y="5447160"/>
            <a:ext cx="1720080" cy="39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ribu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74560" y="47973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usInfo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profil UML 1.x pour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92520" y="2192400"/>
            <a:ext cx="35812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pplication du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2343240"/>
            <a:ext cx="1285920" cy="157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59280" y="3860640"/>
            <a:ext cx="28872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2781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24000" y="3357720"/>
            <a:ext cx="7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716000" y="2707920"/>
            <a:ext cx="647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1413000"/>
            <a:ext cx="1905120" cy="1800000"/>
          </a:xfrm>
          <a:prstGeom prst="cloudCallout">
            <a:avLst>
              <a:gd name="adj1" fmla="val -7533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27120" y="3522600"/>
            <a:ext cx="72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1366920" cy="180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59600" y="1125360"/>
            <a:ext cx="1905120" cy="1820880"/>
          </a:xfrm>
          <a:prstGeom prst="cloudCallout">
            <a:avLst>
              <a:gd name="adj1" fmla="val -86083"/>
              <a:gd name="adj2" fmla="val -8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8320" y="2968560"/>
            <a:ext cx="135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48120" y="4381560"/>
            <a:ext cx="131436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6353280" y="4170240"/>
            <a:ext cx="1944720" cy="1727280"/>
          </a:xfrm>
          <a:prstGeom prst="cloudCallout">
            <a:avLst>
              <a:gd name="adj1" fmla="val 104282"/>
              <a:gd name="adj2" fmla="val -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92720" y="4508640"/>
            <a:ext cx="3589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634920" y="494172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440" y="5769000"/>
            <a:ext cx="118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sto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049640" y="2421000"/>
            <a:ext cx="708120" cy="717840"/>
            <a:chOff x="4049640" y="2421000"/>
            <a:chExt cx="708120" cy="71784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4198680" y="2421000"/>
              <a:ext cx="4107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049640" y="27399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89520" y="4365720"/>
            <a:ext cx="708120" cy="717840"/>
            <a:chOff x="3089520" y="4365720"/>
            <a:chExt cx="708120" cy="71784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3238560" y="4365720"/>
              <a:ext cx="4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089520" y="46846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94240" y="3933720"/>
            <a:ext cx="708120" cy="717840"/>
            <a:chOff x="5394240" y="3933720"/>
            <a:chExt cx="708120" cy="71784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5543280" y="3933720"/>
              <a:ext cx="4107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94240" y="42526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rchette à gauc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chette à droi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source d’événements StatusInfo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897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900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905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909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915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4572000" y="1844640"/>
            <a:ext cx="2664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rchette à gauc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chette à droi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source d’événements StatusInfo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921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924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929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933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939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>
            <a:off x="1332000" y="1270080"/>
            <a:ext cx="7704000" cy="2087640"/>
          </a:xfrm>
          <a:custGeom>
            <a:avLst/>
            <a:gdLst/>
            <a:ahLst/>
            <a:rect l="l" t="t" r="r" b="b"/>
            <a:pathLst>
              <a:path w="3788" h="1007">
                <a:moveTo>
                  <a:pt x="0" y="1007"/>
                </a:moveTo>
                <a:lnTo>
                  <a:pt x="759" y="0"/>
                </a:lnTo>
                <a:lnTo>
                  <a:pt x="3788" y="0"/>
                </a:lnTo>
                <a:lnTo>
                  <a:pt x="3781" y="569"/>
                </a:lnTo>
                <a:lnTo>
                  <a:pt x="3586" y="569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rchette à gauc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chette à droi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source d’événements StatusInfo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945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948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953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957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5" name=""/>
          <p:cNvSpPr/>
          <p:nvPr/>
        </p:nvSpPr>
        <p:spPr>
          <a:xfrm>
            <a:off x="1547640" y="3070080"/>
            <a:ext cx="7417080" cy="1798920"/>
          </a:xfrm>
          <a:custGeom>
            <a:avLst/>
            <a:gdLst/>
            <a:ahLst/>
            <a:rect l="l" t="t" r="r" b="b"/>
            <a:pathLst>
              <a:path w="3913" h="808">
                <a:moveTo>
                  <a:pt x="0" y="679"/>
                </a:moveTo>
                <a:lnTo>
                  <a:pt x="137" y="807"/>
                </a:lnTo>
                <a:lnTo>
                  <a:pt x="3910" y="808"/>
                </a:lnTo>
                <a:lnTo>
                  <a:pt x="3913" y="0"/>
                </a:lnTo>
                <a:lnTo>
                  <a:pt x="3730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rchette à gauc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fouchette à droi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cc"/>
                </a:solidFill>
                <a:latin typeface="Courier New"/>
              </a:rPr>
              <a:t>// La source d’événements StatusInfo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969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971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972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976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977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981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5724360" y="3741840"/>
            <a:ext cx="2880000" cy="1774800"/>
          </a:xfrm>
          <a:custGeom>
            <a:avLst/>
            <a:gdLst/>
            <a:ahLst/>
            <a:rect l="l" t="t" r="r" b="b"/>
            <a:pathLst>
              <a:path w="2777" h="995">
                <a:moveTo>
                  <a:pt x="0" y="995"/>
                </a:moveTo>
                <a:lnTo>
                  <a:pt x="2777" y="988"/>
                </a:lnTo>
                <a:lnTo>
                  <a:pt x="2768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maison de Philosopher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elon les 3 not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55640" y="4797360"/>
            <a:ext cx="806436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OMG 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manages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08000" y="1679400"/>
            <a:ext cx="2700360" cy="27352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2735280"/>
              <a:gd name="textAreaBottom" fmla="*/ 2603520 h 2735280"/>
            </a:gdLst>
            <a:ahLst/>
            <a:rect l="textAreaLeft" t="textAreaTop" r="textAreaRight" b="textAreaBottom"/>
            <a:pathLst>
              <a:path w="21600" h="21879">
                <a:moveTo>
                  <a:pt x="3600" y="0"/>
                </a:moveTo>
                <a:arcTo wR="3600" hR="3600" stAng="16200000" swAng="-5400000"/>
                <a:lnTo>
                  <a:pt x="0" y="18279"/>
                </a:lnTo>
                <a:arcTo wR="3600" hR="3600" stAng="10800000" swAng="-5400000"/>
                <a:lnTo>
                  <a:pt x="18000" y="21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ilosopher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68360" y="2182680"/>
            <a:ext cx="2230920" cy="2160360"/>
            <a:chOff x="468360" y="2182680"/>
            <a:chExt cx="2230920" cy="2160360"/>
          </a:xfrm>
        </p:grpSpPr>
        <p:sp>
          <p:nvSpPr>
            <p:cNvPr id="994" name=""/>
            <p:cNvSpPr/>
            <p:nvPr/>
          </p:nvSpPr>
          <p:spPr>
            <a:xfrm>
              <a:off x="496080" y="263772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2164320" y="2680920"/>
              <a:ext cx="534960" cy="498600"/>
              <a:chOff x="2164320" y="2680920"/>
              <a:chExt cx="534960" cy="49860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2164320" y="2903040"/>
                <a:ext cx="164520" cy="69840"/>
                <a:chOff x="2164320" y="2903040"/>
                <a:chExt cx="164520" cy="69840"/>
              </a:xfrm>
            </p:grpSpPr>
            <p:sp>
              <p:nvSpPr>
                <p:cNvPr id="997" name=""/>
                <p:cNvSpPr/>
                <p:nvPr/>
              </p:nvSpPr>
              <p:spPr>
                <a:xfrm flipH="1">
                  <a:off x="2205360" y="29379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164320" y="29030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 rot="16200000">
                <a:off x="2266200" y="274644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164320" y="3262320"/>
              <a:ext cx="534960" cy="498600"/>
              <a:chOff x="2164320" y="3262320"/>
              <a:chExt cx="534960" cy="49860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2164320" y="3484440"/>
                <a:ext cx="164520" cy="69840"/>
                <a:chOff x="2164320" y="3484440"/>
                <a:chExt cx="164520" cy="69840"/>
              </a:xfrm>
            </p:grpSpPr>
            <p:sp>
              <p:nvSpPr>
                <p:cNvPr id="1002" name=""/>
                <p:cNvSpPr/>
                <p:nvPr/>
              </p:nvSpPr>
              <p:spPr>
                <a:xfrm flipH="1">
                  <a:off x="2205360" y="35193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164320" y="34844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 rot="16200000">
                <a:off x="2266200" y="332784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2164320" y="3927600"/>
              <a:ext cx="445680" cy="249120"/>
              <a:chOff x="2164320" y="3927600"/>
              <a:chExt cx="445680" cy="249120"/>
            </a:xfrm>
          </p:grpSpPr>
          <p:sp>
            <p:nvSpPr>
              <p:cNvPr id="1006" name=""/>
              <p:cNvSpPr/>
              <p:nvPr/>
            </p:nvSpPr>
            <p:spPr>
              <a:xfrm flipH="1">
                <a:off x="2254320" y="40521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164320" y="39924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407680" y="39276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9" name=""/>
            <p:cNvSpPr/>
            <p:nvPr/>
          </p:nvSpPr>
          <p:spPr>
            <a:xfrm>
              <a:off x="468360" y="36784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2480" y="31294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1271880" y="2182680"/>
              <a:ext cx="379080" cy="447480"/>
              <a:chOff x="1271880" y="2182680"/>
              <a:chExt cx="379080" cy="447480"/>
            </a:xfrm>
          </p:grpSpPr>
          <p:sp>
            <p:nvSpPr>
              <p:cNvPr id="1012" name=""/>
              <p:cNvSpPr/>
              <p:nvPr/>
            </p:nvSpPr>
            <p:spPr>
              <a:xfrm flipV="1">
                <a:off x="1461600" y="22669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5400000">
                <a:off x="1285920" y="21686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4" name=""/>
          <p:cNvGrpSpPr/>
          <p:nvPr/>
        </p:nvGrpSpPr>
        <p:grpSpPr>
          <a:xfrm>
            <a:off x="1296720" y="1268280"/>
            <a:ext cx="323640" cy="411120"/>
            <a:chOff x="1296720" y="1268280"/>
            <a:chExt cx="323640" cy="411120"/>
          </a:xfrm>
        </p:grpSpPr>
        <p:sp>
          <p:nvSpPr>
            <p:cNvPr id="1015" name=""/>
            <p:cNvSpPr/>
            <p:nvPr/>
          </p:nvSpPr>
          <p:spPr>
            <a:xfrm flipV="1">
              <a:off x="1458720" y="13460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5400000">
              <a:off x="1297440" y="126756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3346560" y="1555920"/>
            <a:ext cx="5689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graphique informel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1314360" y="1484280"/>
            <a:ext cx="7055640" cy="4536000"/>
            <a:chOff x="1314360" y="1484280"/>
            <a:chExt cx="7055640" cy="4536000"/>
          </a:xfrm>
        </p:grpSpPr>
        <p:sp>
          <p:nvSpPr>
            <p:cNvPr id="1020" name=""/>
            <p:cNvSpPr/>
            <p:nvPr/>
          </p:nvSpPr>
          <p:spPr>
            <a:xfrm>
              <a:off x="3232800" y="3051720"/>
              <a:ext cx="5137200" cy="296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1314360" y="3956760"/>
              <a:ext cx="2012400" cy="1157400"/>
              <a:chOff x="1314360" y="3956760"/>
              <a:chExt cx="2012400" cy="1157400"/>
            </a:xfrm>
          </p:grpSpPr>
          <p:sp>
            <p:nvSpPr>
              <p:cNvPr id="1022" name=""/>
              <p:cNvSpPr/>
              <p:nvPr/>
            </p:nvSpPr>
            <p:spPr>
              <a:xfrm flipH="1">
                <a:off x="2288520" y="4528440"/>
                <a:ext cx="10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314360" y="3956760"/>
                <a:ext cx="1038240" cy="11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5259960" y="1484280"/>
              <a:ext cx="1083240" cy="1566000"/>
              <a:chOff x="5259960" y="1484280"/>
              <a:chExt cx="1083240" cy="1566000"/>
            </a:xfrm>
          </p:grpSpPr>
          <p:sp>
            <p:nvSpPr>
              <p:cNvPr id="1025" name=""/>
              <p:cNvSpPr/>
              <p:nvPr/>
            </p:nvSpPr>
            <p:spPr>
              <a:xfrm flipV="1">
                <a:off x="5801760" y="1780200"/>
                <a:ext cx="0" cy="12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5400000">
                <a:off x="5187600" y="1556280"/>
                <a:ext cx="1227600" cy="10832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br>
                  <a:rPr sz="2000"/>
                </a:b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de 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7" name=""/>
          <p:cNvSpPr/>
          <p:nvPr/>
        </p:nvSpPr>
        <p:spPr>
          <a:xfrm>
            <a:off x="898200" y="416232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ven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us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22160" y="4162320"/>
            <a:ext cx="6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profil UML 1.x pour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85016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cc"/>
                </a:solidFill>
                <a:latin typeface="Courier New"/>
              </a:rPr>
              <a:t>// Le puit de réception de StatusInfo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372360" y="1413000"/>
            <a:ext cx="2592360" cy="1584360"/>
            <a:chOff x="6372360" y="1413000"/>
            <a:chExt cx="2592360" cy="1584360"/>
          </a:xfrm>
        </p:grpSpPr>
        <p:sp>
          <p:nvSpPr>
            <p:cNvPr id="1034" name=""/>
            <p:cNvSpPr/>
            <p:nvPr/>
          </p:nvSpPr>
          <p:spPr>
            <a:xfrm>
              <a:off x="7077240" y="196056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372360" y="2276640"/>
              <a:ext cx="739440" cy="404280"/>
              <a:chOff x="6372360" y="2276640"/>
              <a:chExt cx="739440" cy="404280"/>
            </a:xfrm>
          </p:grpSpPr>
          <p:sp>
            <p:nvSpPr>
              <p:cNvPr id="1036" name=""/>
              <p:cNvSpPr/>
              <p:nvPr/>
            </p:nvSpPr>
            <p:spPr>
              <a:xfrm flipH="1">
                <a:off x="6730200" y="247644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372360" y="227664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7821720" y="1413000"/>
              <a:ext cx="398160" cy="546840"/>
              <a:chOff x="7821720" y="1413000"/>
              <a:chExt cx="398160" cy="54684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8020800" y="151596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7806240" y="142812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1" name=""/>
          <p:cNvSpPr/>
          <p:nvPr/>
        </p:nvSpPr>
        <p:spPr>
          <a:xfrm>
            <a:off x="1547640" y="1628640"/>
            <a:ext cx="6264360" cy="1008360"/>
          </a:xfrm>
          <a:custGeom>
            <a:avLst/>
            <a:gdLst/>
            <a:ahLst/>
            <a:rect l="l" t="t" r="r" b="b"/>
            <a:pathLst>
              <a:path w="2661" h="237">
                <a:moveTo>
                  <a:pt x="0" y="237"/>
                </a:moveTo>
                <a:lnTo>
                  <a:pt x="0" y="9"/>
                </a:lnTo>
                <a:lnTo>
                  <a:pt x="2661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cc"/>
                </a:solidFill>
                <a:latin typeface="Courier New"/>
              </a:rPr>
              <a:t>// Le puit de réception de StatusInfo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6372360" y="1413000"/>
            <a:ext cx="2592360" cy="1584360"/>
            <a:chOff x="6372360" y="1413000"/>
            <a:chExt cx="2592360" cy="1584360"/>
          </a:xfrm>
        </p:grpSpPr>
        <p:sp>
          <p:nvSpPr>
            <p:cNvPr id="1045" name=""/>
            <p:cNvSpPr/>
            <p:nvPr/>
          </p:nvSpPr>
          <p:spPr>
            <a:xfrm>
              <a:off x="7077240" y="196056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6372360" y="2276640"/>
              <a:ext cx="739440" cy="404280"/>
              <a:chOff x="6372360" y="2276640"/>
              <a:chExt cx="739440" cy="404280"/>
            </a:xfrm>
          </p:grpSpPr>
          <p:sp>
            <p:nvSpPr>
              <p:cNvPr id="1047" name=""/>
              <p:cNvSpPr/>
              <p:nvPr/>
            </p:nvSpPr>
            <p:spPr>
              <a:xfrm flipH="1">
                <a:off x="6730200" y="247644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372360" y="227664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7821720" y="1413000"/>
              <a:ext cx="398160" cy="546840"/>
              <a:chOff x="7821720" y="1413000"/>
              <a:chExt cx="398160" cy="546840"/>
            </a:xfrm>
          </p:grpSpPr>
          <p:sp>
            <p:nvSpPr>
              <p:cNvPr id="1050" name=""/>
              <p:cNvSpPr/>
              <p:nvPr/>
            </p:nvSpPr>
            <p:spPr>
              <a:xfrm flipV="1">
                <a:off x="8020800" y="151596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5400000">
                <a:off x="7806240" y="142812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2" name=""/>
          <p:cNvSpPr/>
          <p:nvPr/>
        </p:nvSpPr>
        <p:spPr>
          <a:xfrm>
            <a:off x="5580000" y="2806560"/>
            <a:ext cx="936720" cy="1368720"/>
          </a:xfrm>
          <a:custGeom>
            <a:avLst/>
            <a:gdLst/>
            <a:ahLst/>
            <a:rect l="l" t="t" r="r" b="b"/>
            <a:pathLst>
              <a:path w="1325" h="494">
                <a:moveTo>
                  <a:pt x="0" y="494"/>
                </a:moveTo>
                <a:lnTo>
                  <a:pt x="649" y="494"/>
                </a:lnTo>
                <a:lnTo>
                  <a:pt x="1325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maison de Observer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elon les 3 not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572000" y="2421000"/>
            <a:ext cx="4321080" cy="141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// OMG 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</a:t>
            </a:r>
            <a:r>
              <a:rPr b="1" lang="fr-FR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65400" y="2108160"/>
            <a:ext cx="2514600" cy="211284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server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116000" y="2540160"/>
            <a:ext cx="2592360" cy="1583640"/>
            <a:chOff x="1116000" y="2540160"/>
            <a:chExt cx="2592360" cy="1583640"/>
          </a:xfrm>
        </p:grpSpPr>
        <p:sp>
          <p:nvSpPr>
            <p:cNvPr id="1057" name=""/>
            <p:cNvSpPr/>
            <p:nvPr/>
          </p:nvSpPr>
          <p:spPr>
            <a:xfrm>
              <a:off x="1820880" y="3087360"/>
              <a:ext cx="1887480" cy="103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1116000" y="3403440"/>
              <a:ext cx="739440" cy="403920"/>
              <a:chOff x="1116000" y="3403440"/>
              <a:chExt cx="739440" cy="40392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1473840" y="360288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16000" y="3403440"/>
                <a:ext cx="381600" cy="40392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2565360" y="2540160"/>
              <a:ext cx="398160" cy="546840"/>
              <a:chOff x="2565360" y="2540160"/>
              <a:chExt cx="398160" cy="546840"/>
            </a:xfrm>
          </p:grpSpPr>
          <p:sp>
            <p:nvSpPr>
              <p:cNvPr id="1062" name=""/>
              <p:cNvSpPr/>
              <p:nvPr/>
            </p:nvSpPr>
            <p:spPr>
              <a:xfrm flipV="1">
                <a:off x="2764440" y="2643480"/>
                <a:ext cx="0" cy="44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2550240" y="2555280"/>
                <a:ext cx="42840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2360520" y="1697040"/>
            <a:ext cx="324000" cy="411120"/>
            <a:chOff x="2360520" y="1697040"/>
            <a:chExt cx="324000" cy="411120"/>
          </a:xfrm>
        </p:grpSpPr>
        <p:sp>
          <p:nvSpPr>
            <p:cNvPr id="1065" name=""/>
            <p:cNvSpPr/>
            <p:nvPr/>
          </p:nvSpPr>
          <p:spPr>
            <a:xfrm flipV="1">
              <a:off x="2522520" y="17748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2361240" y="1695960"/>
              <a:ext cx="322200" cy="3240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179280" y="4724280"/>
            <a:ext cx="882036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3213000"/>
            <a:ext cx="1852560" cy="1614600"/>
          </a:xfrm>
          <a:prstGeom prst="roundRect">
            <a:avLst>
              <a:gd name="adj" fmla="val 12495"/>
            </a:avLst>
          </a:prstGeom>
          <a:solidFill>
            <a:srgbClr val="6391bb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98520" y="3262320"/>
            <a:ext cx="766080" cy="1059480"/>
            <a:chOff x="1298520" y="3262320"/>
            <a:chExt cx="766080" cy="1059480"/>
          </a:xfrm>
        </p:grpSpPr>
        <p:sp>
          <p:nvSpPr>
            <p:cNvPr id="146" name=""/>
            <p:cNvSpPr/>
            <p:nvPr/>
          </p:nvSpPr>
          <p:spPr>
            <a:xfrm>
              <a:off x="1375560" y="3266640"/>
              <a:ext cx="628920" cy="540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15600" y="3637440"/>
              <a:ext cx="77040" cy="1346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15600" y="3716640"/>
              <a:ext cx="408960" cy="59940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43560" y="4226760"/>
              <a:ext cx="54720" cy="892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65000" y="4102200"/>
              <a:ext cx="93600" cy="21420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3920" y="4116600"/>
              <a:ext cx="89640" cy="105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8840" y="4091760"/>
              <a:ext cx="63360" cy="1346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71200" y="4171320"/>
              <a:ext cx="33480" cy="14040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58280" y="3857040"/>
              <a:ext cx="114480" cy="1288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13880" y="3362040"/>
              <a:ext cx="310680" cy="55980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9840" y="3832200"/>
              <a:ext cx="58680" cy="2484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2320" y="3602160"/>
              <a:ext cx="29880" cy="11412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2200" y="3581640"/>
              <a:ext cx="54720" cy="39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45280" y="3681360"/>
              <a:ext cx="77040" cy="7020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20080" y="3776760"/>
              <a:ext cx="156960" cy="3060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3920" y="3552480"/>
              <a:ext cx="98280" cy="18900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440" y="3362040"/>
              <a:ext cx="162000" cy="25488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7640" y="3372120"/>
              <a:ext cx="110880" cy="52920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5480" y="3586320"/>
              <a:ext cx="285480" cy="36468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73120" y="3297240"/>
              <a:ext cx="153360" cy="997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13880" y="3266640"/>
              <a:ext cx="310680" cy="21528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05240" y="3341520"/>
              <a:ext cx="42120" cy="201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7840" y="3322080"/>
              <a:ext cx="54720" cy="39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39080" y="332208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6360" y="3307320"/>
              <a:ext cx="42120" cy="39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28720" y="3282480"/>
              <a:ext cx="46080" cy="79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11240" y="3492360"/>
              <a:ext cx="29880" cy="7452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19880" y="3571560"/>
              <a:ext cx="81000" cy="7452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8520" y="3641760"/>
              <a:ext cx="59760" cy="291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19880" y="3641760"/>
              <a:ext cx="89640" cy="70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15920" y="3687120"/>
              <a:ext cx="54720" cy="8496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18040" y="3621600"/>
              <a:ext cx="109800" cy="950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6680" y="3566880"/>
              <a:ext cx="160920" cy="7452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0640" y="3542040"/>
              <a:ext cx="84600" cy="5976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8280" y="3536280"/>
              <a:ext cx="102240" cy="11988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39280" y="3396960"/>
              <a:ext cx="51120" cy="950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94360" y="3407400"/>
              <a:ext cx="63360" cy="5976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3000" y="3467160"/>
              <a:ext cx="110880" cy="8496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1360" y="4052160"/>
              <a:ext cx="170640" cy="23904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19400" y="3857040"/>
              <a:ext cx="357840" cy="4590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1360" y="4056840"/>
              <a:ext cx="174600" cy="21960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98640" y="4131360"/>
              <a:ext cx="42120" cy="18000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19400" y="3772080"/>
              <a:ext cx="353160" cy="54396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32880" y="3731400"/>
              <a:ext cx="238320" cy="31500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47720" y="3546720"/>
              <a:ext cx="72360" cy="554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5040" y="3616920"/>
              <a:ext cx="29880" cy="2016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26480" y="3546720"/>
              <a:ext cx="54720" cy="450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1440" y="3531960"/>
              <a:ext cx="81000" cy="950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28720" y="3781440"/>
              <a:ext cx="135720" cy="25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83800" y="3846960"/>
              <a:ext cx="47160" cy="432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2320" y="3546720"/>
              <a:ext cx="75960" cy="496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75360" y="3781440"/>
              <a:ext cx="250560" cy="1504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8280" y="3592080"/>
              <a:ext cx="174600" cy="20484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6800" y="3546720"/>
              <a:ext cx="46080" cy="65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73120" y="3586320"/>
              <a:ext cx="105840" cy="9036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7840" y="3652200"/>
              <a:ext cx="59760" cy="997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6600" y="3481920"/>
              <a:ext cx="63360" cy="36468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35120" y="3797280"/>
              <a:ext cx="208080" cy="11412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36840" y="3731400"/>
              <a:ext cx="285480" cy="22536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0960" y="3376440"/>
              <a:ext cx="131040" cy="5245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58400" y="3671280"/>
              <a:ext cx="42120" cy="25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24560" y="3722400"/>
              <a:ext cx="37440" cy="496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0280" y="3772080"/>
              <a:ext cx="97200" cy="30924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22000" y="3606840"/>
              <a:ext cx="42120" cy="450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6920" y="3871800"/>
              <a:ext cx="105840" cy="11412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66920" y="3861720"/>
              <a:ext cx="105840" cy="3492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8520" y="3786840"/>
              <a:ext cx="395640" cy="5349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3000" y="3262320"/>
              <a:ext cx="345240" cy="25956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58600" y="3287160"/>
              <a:ext cx="233280" cy="34992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87760" y="3307320"/>
              <a:ext cx="17280" cy="291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06600" y="3396960"/>
              <a:ext cx="42120" cy="6444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34240" y="362700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45280" y="3907080"/>
              <a:ext cx="187200" cy="40464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7400" y="4031640"/>
              <a:ext cx="178200" cy="2844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6520" y="4181400"/>
              <a:ext cx="34560" cy="1346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3920" y="4112280"/>
              <a:ext cx="135720" cy="20376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3680" y="4131360"/>
              <a:ext cx="51120" cy="6444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1440" y="4091760"/>
              <a:ext cx="132120" cy="224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17840" y="4046400"/>
              <a:ext cx="105840" cy="1440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94160" y="4071600"/>
              <a:ext cx="81000" cy="100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58280" y="3507120"/>
              <a:ext cx="63360" cy="13032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0880" y="3621600"/>
              <a:ext cx="25920" cy="3492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49960" y="3671280"/>
              <a:ext cx="88560" cy="8028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2320" y="3606840"/>
              <a:ext cx="33480" cy="13032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83800" y="3716640"/>
              <a:ext cx="42120" cy="2016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26480" y="3357360"/>
              <a:ext cx="229320" cy="1393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26280" y="3971520"/>
              <a:ext cx="238320" cy="19944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60520" y="3781440"/>
              <a:ext cx="46080" cy="950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7600" y="3921840"/>
              <a:ext cx="144720" cy="11988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58600" y="4161960"/>
              <a:ext cx="28800" cy="14364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13680" y="4196160"/>
              <a:ext cx="46080" cy="7560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7640" y="4151880"/>
              <a:ext cx="63360" cy="950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94680" y="4261680"/>
              <a:ext cx="16200" cy="4392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21440" y="4052160"/>
              <a:ext cx="140760" cy="15408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4120" y="3351600"/>
              <a:ext cx="51120" cy="8028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84000" y="3401640"/>
              <a:ext cx="42120" cy="65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2640" y="3357360"/>
              <a:ext cx="58680" cy="6444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84000" y="3301920"/>
              <a:ext cx="42120" cy="1440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87960" y="3316680"/>
              <a:ext cx="42120" cy="3060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26480" y="3297240"/>
              <a:ext cx="29880" cy="291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2920" y="3297240"/>
              <a:ext cx="89640" cy="6912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58600" y="3326760"/>
              <a:ext cx="46080" cy="39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49960" y="3291480"/>
              <a:ext cx="12240" cy="2484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71200" y="3307320"/>
              <a:ext cx="24840" cy="24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08640" y="3347280"/>
              <a:ext cx="115560" cy="1551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5920" y="3536280"/>
              <a:ext cx="20880" cy="10980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6160" y="3616920"/>
              <a:ext cx="51120" cy="7452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2680" y="3616920"/>
              <a:ext cx="115560" cy="10980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96400" y="3751920"/>
              <a:ext cx="29880" cy="291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75160" y="3851640"/>
              <a:ext cx="68400" cy="3492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7640" y="3691800"/>
              <a:ext cx="17280" cy="20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08640" y="3612240"/>
              <a:ext cx="17280" cy="6444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0120" y="3701880"/>
              <a:ext cx="20880" cy="7452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66520" y="3797280"/>
              <a:ext cx="89640" cy="248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3800" y="3857040"/>
              <a:ext cx="54720" cy="1440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11440" y="3627000"/>
              <a:ext cx="33480" cy="2484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4160" y="3602160"/>
              <a:ext cx="29880" cy="1440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1440" y="3561480"/>
              <a:ext cx="33480" cy="2016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39080" y="3602160"/>
              <a:ext cx="29880" cy="1440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28720" y="3797280"/>
              <a:ext cx="12240" cy="1440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0120" y="3566880"/>
              <a:ext cx="29880" cy="144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6280" y="3596400"/>
              <a:ext cx="29880" cy="201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34920" y="3621600"/>
              <a:ext cx="20880" cy="3060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51680" y="3621600"/>
              <a:ext cx="55800" cy="3492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90200" y="3382200"/>
              <a:ext cx="187200" cy="16992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20080" y="3592080"/>
              <a:ext cx="20880" cy="1440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64800" y="3592080"/>
              <a:ext cx="12240" cy="144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7600" y="3606840"/>
              <a:ext cx="54720" cy="248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90200" y="3581640"/>
              <a:ext cx="38520" cy="24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4160" y="3581640"/>
              <a:ext cx="34560" cy="248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0200" y="3586320"/>
              <a:ext cx="38520" cy="20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2920" y="3581640"/>
              <a:ext cx="81000" cy="39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43560" y="3586320"/>
              <a:ext cx="29880" cy="2016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3560" y="3592080"/>
              <a:ext cx="29880" cy="144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38880" y="3581640"/>
              <a:ext cx="59760" cy="39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4360" y="3496680"/>
              <a:ext cx="119520" cy="8028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1520" y="3451320"/>
              <a:ext cx="33480" cy="5076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30640" y="3552480"/>
              <a:ext cx="51120" cy="4392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2000" y="3496680"/>
              <a:ext cx="42120" cy="554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920" y="3471840"/>
              <a:ext cx="67320" cy="7020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03000" y="3502440"/>
              <a:ext cx="89640" cy="7452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7800" y="3392640"/>
              <a:ext cx="46080" cy="4392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41320" y="3312000"/>
              <a:ext cx="17280" cy="496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53920" y="3312000"/>
              <a:ext cx="33480" cy="450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28520" y="3596400"/>
              <a:ext cx="46080" cy="496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32480" y="3652200"/>
              <a:ext cx="55800" cy="14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45800" y="3671280"/>
              <a:ext cx="63360" cy="554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pplication à l’exé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5120" y="5056200"/>
            <a:ext cx="7705440" cy="1397160"/>
          </a:xfrm>
          <a:prstGeom prst="roundRect">
            <a:avLst>
              <a:gd name="adj" fmla="val 12495"/>
            </a:avLst>
          </a:prstGeom>
          <a:solidFill>
            <a:srgbClr val="6391bb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d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048200" y="5106960"/>
            <a:ext cx="1117440" cy="957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03440" y="1413000"/>
            <a:ext cx="7705440" cy="1396800"/>
          </a:xfrm>
          <a:prstGeom prst="roundRect">
            <a:avLst>
              <a:gd name="adj" fmla="val 12495"/>
            </a:avLst>
          </a:prstGeom>
          <a:solidFill>
            <a:srgbClr val="6391bb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52520" y="1844640"/>
            <a:ext cx="1008000" cy="895320"/>
            <a:chOff x="1352520" y="1844640"/>
            <a:chExt cx="1008000" cy="895320"/>
          </a:xfrm>
        </p:grpSpPr>
        <p:sp>
          <p:nvSpPr>
            <p:cNvPr id="298" name=""/>
            <p:cNvSpPr/>
            <p:nvPr/>
          </p:nvSpPr>
          <p:spPr>
            <a:xfrm>
              <a:off x="1352520" y="1844640"/>
              <a:ext cx="1008000" cy="89532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722240" y="1933560"/>
              <a:ext cx="307080" cy="699120"/>
              <a:chOff x="1722240" y="1933560"/>
              <a:chExt cx="307080" cy="699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722240" y="1933560"/>
                <a:ext cx="217440" cy="35532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0480" y="1945440"/>
                <a:ext cx="258840" cy="68724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4124160" y="1844640"/>
            <a:ext cx="1008000" cy="895320"/>
            <a:chOff x="4124160" y="1844640"/>
            <a:chExt cx="1008000" cy="895320"/>
          </a:xfrm>
        </p:grpSpPr>
        <p:sp>
          <p:nvSpPr>
            <p:cNvPr id="303" name=""/>
            <p:cNvSpPr/>
            <p:nvPr/>
          </p:nvSpPr>
          <p:spPr>
            <a:xfrm>
              <a:off x="4124160" y="1844640"/>
              <a:ext cx="1008000" cy="89532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493880" y="1933560"/>
              <a:ext cx="307080" cy="699120"/>
              <a:chOff x="4493880" y="1933560"/>
              <a:chExt cx="307080" cy="699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493880" y="1933560"/>
                <a:ext cx="217440" cy="35532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42120" y="1945440"/>
                <a:ext cx="258840" cy="68724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896160" y="1844640"/>
            <a:ext cx="1008000" cy="895320"/>
            <a:chOff x="6896160" y="1844640"/>
            <a:chExt cx="1008000" cy="895320"/>
          </a:xfrm>
        </p:grpSpPr>
        <p:sp>
          <p:nvSpPr>
            <p:cNvPr id="308" name=""/>
            <p:cNvSpPr/>
            <p:nvPr/>
          </p:nvSpPr>
          <p:spPr>
            <a:xfrm>
              <a:off x="6896160" y="1844640"/>
              <a:ext cx="1008000" cy="89532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265880" y="1933560"/>
              <a:ext cx="307080" cy="699120"/>
              <a:chOff x="7265880" y="1933560"/>
              <a:chExt cx="307080" cy="699120"/>
            </a:xfrm>
          </p:grpSpPr>
          <p:sp>
            <p:nvSpPr>
              <p:cNvPr id="310" name=""/>
              <p:cNvSpPr/>
              <p:nvPr/>
            </p:nvSpPr>
            <p:spPr>
              <a:xfrm>
                <a:off x="7265880" y="1933560"/>
                <a:ext cx="217440" cy="35532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14120" y="1945440"/>
                <a:ext cx="258840" cy="68724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3664080" y="3182760"/>
            <a:ext cx="1852560" cy="1614600"/>
          </a:xfrm>
          <a:prstGeom prst="roundRect">
            <a:avLst>
              <a:gd name="adj" fmla="val 12495"/>
            </a:avLst>
          </a:prstGeom>
          <a:solidFill>
            <a:srgbClr val="6391bb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06960" y="3232080"/>
            <a:ext cx="766080" cy="1059480"/>
            <a:chOff x="4206960" y="3232080"/>
            <a:chExt cx="766080" cy="1059480"/>
          </a:xfrm>
        </p:grpSpPr>
        <p:sp>
          <p:nvSpPr>
            <p:cNvPr id="314" name=""/>
            <p:cNvSpPr/>
            <p:nvPr/>
          </p:nvSpPr>
          <p:spPr>
            <a:xfrm>
              <a:off x="4284000" y="3236400"/>
              <a:ext cx="628920" cy="540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24040" y="3607200"/>
              <a:ext cx="77040" cy="1346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24040" y="3686400"/>
              <a:ext cx="408960" cy="59940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52000" y="4196520"/>
              <a:ext cx="54720" cy="892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3440" y="4071960"/>
              <a:ext cx="93600" cy="21420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62360" y="4086360"/>
              <a:ext cx="89640" cy="105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7280" y="4061520"/>
              <a:ext cx="63360" cy="1346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9640" y="4141080"/>
              <a:ext cx="33480" cy="14040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6720" y="3826800"/>
              <a:ext cx="114480" cy="1288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22320" y="3331800"/>
              <a:ext cx="310680" cy="55980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88280" y="3801960"/>
              <a:ext cx="58680" cy="2484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30760" y="3571920"/>
              <a:ext cx="29880" cy="11412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60640" y="3551400"/>
              <a:ext cx="54720" cy="39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53720" y="3651120"/>
              <a:ext cx="77040" cy="7020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28520" y="3746520"/>
              <a:ext cx="156960" cy="3060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62360" y="3522240"/>
              <a:ext cx="98280" cy="18900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29880" y="3331800"/>
              <a:ext cx="162000" cy="25488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26080" y="3341880"/>
              <a:ext cx="110880" cy="52920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3920" y="3556080"/>
              <a:ext cx="285480" cy="36468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81560" y="3267000"/>
              <a:ext cx="153360" cy="997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2320" y="3236400"/>
              <a:ext cx="310680" cy="21528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13680" y="3311280"/>
              <a:ext cx="42120" cy="201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26280" y="3291840"/>
              <a:ext cx="54720" cy="39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47520" y="329184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64800" y="3277080"/>
              <a:ext cx="42120" cy="39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37160" y="3252240"/>
              <a:ext cx="46080" cy="79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19680" y="3462120"/>
              <a:ext cx="29880" cy="7452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28320" y="3541320"/>
              <a:ext cx="81000" cy="7452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6960" y="3611520"/>
              <a:ext cx="59760" cy="291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28320" y="3611520"/>
              <a:ext cx="89640" cy="70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24360" y="3656880"/>
              <a:ext cx="54720" cy="8496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480" y="3591360"/>
              <a:ext cx="109800" cy="950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5120" y="3536640"/>
              <a:ext cx="160920" cy="7452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080" y="3511800"/>
              <a:ext cx="84600" cy="5976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6720" y="3506040"/>
              <a:ext cx="102240" cy="11988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7720" y="3366720"/>
              <a:ext cx="51120" cy="950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02800" y="3377160"/>
              <a:ext cx="63360" cy="5976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1440" y="3436920"/>
              <a:ext cx="110880" cy="8496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9800" y="4021920"/>
              <a:ext cx="170640" cy="23904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7840" y="3826800"/>
              <a:ext cx="357840" cy="4590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89800" y="4026600"/>
              <a:ext cx="174600" cy="21960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7080" y="4101120"/>
              <a:ext cx="42120" cy="18000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27840" y="3741840"/>
              <a:ext cx="353160" cy="54396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41320" y="3701160"/>
              <a:ext cx="238320" cy="31500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56160" y="3516480"/>
              <a:ext cx="72360" cy="554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23480" y="3586680"/>
              <a:ext cx="29880" cy="2016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4920" y="3516480"/>
              <a:ext cx="54720" cy="450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9880" y="3501720"/>
              <a:ext cx="81000" cy="950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37160" y="3751200"/>
              <a:ext cx="135720" cy="25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92240" y="3816720"/>
              <a:ext cx="47160" cy="432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30760" y="3516480"/>
              <a:ext cx="75960" cy="496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83800" y="3751200"/>
              <a:ext cx="250560" cy="1504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66720" y="3561840"/>
              <a:ext cx="174600" cy="20484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05240" y="3516480"/>
              <a:ext cx="46080" cy="65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81560" y="3556080"/>
              <a:ext cx="105840" cy="9036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6280" y="3621960"/>
              <a:ext cx="59760" cy="997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05040" y="3451680"/>
              <a:ext cx="63360" cy="36468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43560" y="3767040"/>
              <a:ext cx="208080" cy="11412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45280" y="3701160"/>
              <a:ext cx="285480" cy="22536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39400" y="3346200"/>
              <a:ext cx="131040" cy="5245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6840" y="3641040"/>
              <a:ext cx="42120" cy="25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33000" y="3692160"/>
              <a:ext cx="37440" cy="496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28720" y="3741840"/>
              <a:ext cx="97200" cy="30924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0440" y="3576600"/>
              <a:ext cx="42120" cy="450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75360" y="3841560"/>
              <a:ext cx="105840" cy="11412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5360" y="3831480"/>
              <a:ext cx="105840" cy="3492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06960" y="3756600"/>
              <a:ext cx="395640" cy="5349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21440" y="3232080"/>
              <a:ext cx="345240" cy="25956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67040" y="3256920"/>
              <a:ext cx="233280" cy="34992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96200" y="3277080"/>
              <a:ext cx="17280" cy="291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5040" y="3366720"/>
              <a:ext cx="42120" cy="6444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2680" y="359676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3720" y="3876840"/>
              <a:ext cx="187200" cy="40464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5840" y="4001400"/>
              <a:ext cx="178200" cy="2844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74960" y="4151160"/>
              <a:ext cx="34560" cy="1346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62360" y="4082040"/>
              <a:ext cx="135720" cy="20376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2120" y="4101120"/>
              <a:ext cx="51120" cy="6444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9880" y="4061520"/>
              <a:ext cx="132120" cy="224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6280" y="4016160"/>
              <a:ext cx="105840" cy="1440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02600" y="4041360"/>
              <a:ext cx="81000" cy="100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66720" y="3476880"/>
              <a:ext cx="63360" cy="13032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9320" y="3591360"/>
              <a:ext cx="25920" cy="3492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58400" y="3641040"/>
              <a:ext cx="88560" cy="8028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3576600"/>
              <a:ext cx="33480" cy="13032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92240" y="3686400"/>
              <a:ext cx="42120" cy="2016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4920" y="3327120"/>
              <a:ext cx="229320" cy="1393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34720" y="3941280"/>
              <a:ext cx="238320" cy="19944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68960" y="3751200"/>
              <a:ext cx="46080" cy="950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86040" y="3891600"/>
              <a:ext cx="144720" cy="11988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67040" y="4131720"/>
              <a:ext cx="28800" cy="14364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22120" y="4165920"/>
              <a:ext cx="46080" cy="7560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6080" y="4121640"/>
              <a:ext cx="63360" cy="950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3120" y="4231440"/>
              <a:ext cx="16200" cy="4392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29880" y="4021920"/>
              <a:ext cx="140760" cy="15408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62560" y="3321360"/>
              <a:ext cx="51120" cy="8028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92440" y="3371400"/>
              <a:ext cx="42120" cy="65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01080" y="3327120"/>
              <a:ext cx="58680" cy="6444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2440" y="3271680"/>
              <a:ext cx="42120" cy="1440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400" y="3286440"/>
              <a:ext cx="42120" cy="3060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34920" y="3267000"/>
              <a:ext cx="29880" cy="291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1360" y="3267000"/>
              <a:ext cx="89640" cy="6912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67040" y="3296520"/>
              <a:ext cx="46080" cy="39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58400" y="3261240"/>
              <a:ext cx="12240" cy="2484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79640" y="3277080"/>
              <a:ext cx="24840" cy="24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17080" y="3317040"/>
              <a:ext cx="115560" cy="1551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24360" y="3506040"/>
              <a:ext cx="20880" cy="10980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64600" y="3586680"/>
              <a:ext cx="51120" cy="7452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51120" y="3586680"/>
              <a:ext cx="115560" cy="10980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04840" y="3721680"/>
              <a:ext cx="29880" cy="291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83600" y="3821400"/>
              <a:ext cx="68400" cy="3492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26080" y="3661560"/>
              <a:ext cx="17280" cy="20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17080" y="3582000"/>
              <a:ext cx="17280" cy="6444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68560" y="3671640"/>
              <a:ext cx="20880" cy="7452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74960" y="3767040"/>
              <a:ext cx="89640" cy="248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92240" y="3826800"/>
              <a:ext cx="54720" cy="1440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19880" y="3596760"/>
              <a:ext cx="33480" cy="2484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02600" y="3571920"/>
              <a:ext cx="29880" cy="1440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9880" y="3531240"/>
              <a:ext cx="33480" cy="2016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47520" y="3571920"/>
              <a:ext cx="29880" cy="1440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37160" y="3767040"/>
              <a:ext cx="12240" cy="1440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68560" y="3536640"/>
              <a:ext cx="29880" cy="144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34720" y="3566160"/>
              <a:ext cx="29880" cy="201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43360" y="3591360"/>
              <a:ext cx="20880" cy="3060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60120" y="3591360"/>
              <a:ext cx="55800" cy="3492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98640" y="3351960"/>
              <a:ext cx="187200" cy="16992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28520" y="3561840"/>
              <a:ext cx="20880" cy="1440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73240" y="3561840"/>
              <a:ext cx="12240" cy="144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6040" y="3576600"/>
              <a:ext cx="54720" cy="248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98640" y="3551400"/>
              <a:ext cx="38520" cy="24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02600" y="3551400"/>
              <a:ext cx="34560" cy="248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98640" y="3556080"/>
              <a:ext cx="38520" cy="20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81360" y="3551400"/>
              <a:ext cx="81000" cy="39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52000" y="3556080"/>
              <a:ext cx="29880" cy="2016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52000" y="3561840"/>
              <a:ext cx="29880" cy="144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47320" y="3551400"/>
              <a:ext cx="59760" cy="39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02800" y="3466440"/>
              <a:ext cx="119520" cy="8028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49960" y="3421080"/>
              <a:ext cx="33480" cy="5076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39080" y="3522240"/>
              <a:ext cx="51120" cy="4392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30440" y="3466440"/>
              <a:ext cx="42120" cy="554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56360" y="3441600"/>
              <a:ext cx="67320" cy="7020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11440" y="3472200"/>
              <a:ext cx="89640" cy="7452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86240" y="3362400"/>
              <a:ext cx="46080" cy="4392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49760" y="3281760"/>
              <a:ext cx="17280" cy="496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62360" y="3281760"/>
              <a:ext cx="33480" cy="450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36960" y="3566160"/>
              <a:ext cx="46080" cy="496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40920" y="3621960"/>
              <a:ext cx="55800" cy="14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4240" y="3641040"/>
              <a:ext cx="63360" cy="554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607080" y="3152880"/>
            <a:ext cx="1852560" cy="1614240"/>
          </a:xfrm>
          <a:prstGeom prst="roundRect">
            <a:avLst>
              <a:gd name="adj" fmla="val 12495"/>
            </a:avLst>
          </a:prstGeom>
          <a:solidFill>
            <a:srgbClr val="6391bb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7149960" y="3201840"/>
            <a:ext cx="766080" cy="1059480"/>
            <a:chOff x="7149960" y="3201840"/>
            <a:chExt cx="766080" cy="1059480"/>
          </a:xfrm>
        </p:grpSpPr>
        <p:sp>
          <p:nvSpPr>
            <p:cNvPr id="463" name=""/>
            <p:cNvSpPr/>
            <p:nvPr/>
          </p:nvSpPr>
          <p:spPr>
            <a:xfrm>
              <a:off x="7227000" y="3206160"/>
              <a:ext cx="628920" cy="540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67040" y="3576960"/>
              <a:ext cx="77040" cy="1346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67040" y="3656160"/>
              <a:ext cx="408960" cy="59940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5000" y="4166280"/>
              <a:ext cx="54720" cy="892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16440" y="4041720"/>
              <a:ext cx="93600" cy="21420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05360" y="4056120"/>
              <a:ext cx="89640" cy="105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50280" y="4031280"/>
              <a:ext cx="63360" cy="1346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2640" y="4110840"/>
              <a:ext cx="33480" cy="14040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9720" y="3796560"/>
              <a:ext cx="114480" cy="1288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5320" y="3301560"/>
              <a:ext cx="310680" cy="55980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31280" y="3771720"/>
              <a:ext cx="58680" cy="2484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73760" y="3541680"/>
              <a:ext cx="29880" cy="11412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03640" y="3521160"/>
              <a:ext cx="54720" cy="39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96720" y="3620880"/>
              <a:ext cx="77040" cy="7020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71520" y="3716280"/>
              <a:ext cx="156960" cy="3060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05360" y="3492000"/>
              <a:ext cx="98280" cy="18900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72880" y="3301560"/>
              <a:ext cx="162000" cy="25488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9080" y="3311640"/>
              <a:ext cx="110880" cy="52920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96920" y="3525840"/>
              <a:ext cx="285480" cy="36468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24560" y="3236760"/>
              <a:ext cx="153360" cy="997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5320" y="3206160"/>
              <a:ext cx="310680" cy="21528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56680" y="3281040"/>
              <a:ext cx="42120" cy="201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9280" y="3261600"/>
              <a:ext cx="54720" cy="39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90520" y="326160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07800" y="3246840"/>
              <a:ext cx="42120" cy="39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80160" y="3222000"/>
              <a:ext cx="46080" cy="79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62680" y="3431880"/>
              <a:ext cx="29880" cy="7452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71320" y="3511080"/>
              <a:ext cx="81000" cy="7452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79960" y="3581280"/>
              <a:ext cx="59760" cy="291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71320" y="3581280"/>
              <a:ext cx="89640" cy="70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67360" y="3626640"/>
              <a:ext cx="54720" cy="8496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69480" y="3561120"/>
              <a:ext cx="109800" cy="950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78120" y="3506400"/>
              <a:ext cx="160920" cy="7452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82080" y="3481560"/>
              <a:ext cx="84600" cy="5976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9720" y="3475800"/>
              <a:ext cx="102240" cy="11988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90720" y="3336480"/>
              <a:ext cx="51120" cy="950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45800" y="3346920"/>
              <a:ext cx="63360" cy="5976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64440" y="3406680"/>
              <a:ext cx="110880" cy="8496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2800" y="3991680"/>
              <a:ext cx="170640" cy="23904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0840" y="3796560"/>
              <a:ext cx="357840" cy="4590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32800" y="3996360"/>
              <a:ext cx="174600" cy="21960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50080" y="4070880"/>
              <a:ext cx="42120" cy="18000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70840" y="3711600"/>
              <a:ext cx="353160" cy="54396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4320" y="3670920"/>
              <a:ext cx="238320" cy="31500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99160" y="3486240"/>
              <a:ext cx="72360" cy="554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6480" y="3556440"/>
              <a:ext cx="29880" cy="2016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77920" y="3486240"/>
              <a:ext cx="54720" cy="450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62880" y="3471480"/>
              <a:ext cx="81000" cy="950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80160" y="3720960"/>
              <a:ext cx="135720" cy="25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5240" y="3786480"/>
              <a:ext cx="47160" cy="432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73760" y="3486240"/>
              <a:ext cx="75960" cy="496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26800" y="3720960"/>
              <a:ext cx="250560" cy="1504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09720" y="3531600"/>
              <a:ext cx="174600" cy="20484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48240" y="3486240"/>
              <a:ext cx="46080" cy="65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24560" y="3525840"/>
              <a:ext cx="105840" cy="9036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79280" y="3591720"/>
              <a:ext cx="59760" cy="997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48040" y="3421440"/>
              <a:ext cx="63360" cy="36468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86560" y="3736800"/>
              <a:ext cx="208080" cy="11412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88280" y="3670920"/>
              <a:ext cx="285480" cy="22536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2400" y="3315960"/>
              <a:ext cx="131040" cy="5245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09840" y="3610800"/>
              <a:ext cx="42120" cy="25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6000" y="3661920"/>
              <a:ext cx="37440" cy="496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1720" y="3711600"/>
              <a:ext cx="97200" cy="30924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73440" y="3546360"/>
              <a:ext cx="42120" cy="450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8360" y="3811320"/>
              <a:ext cx="105840" cy="11412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18360" y="3801240"/>
              <a:ext cx="105840" cy="3492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49960" y="3726360"/>
              <a:ext cx="395640" cy="5349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64440" y="3201840"/>
              <a:ext cx="345240" cy="25956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10040" y="3226680"/>
              <a:ext cx="233280" cy="34992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39200" y="3246840"/>
              <a:ext cx="17280" cy="291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58040" y="3336480"/>
              <a:ext cx="42120" cy="6444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85680" y="3566520"/>
              <a:ext cx="38520" cy="291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96720" y="3846600"/>
              <a:ext cx="187200" cy="40464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28840" y="3971160"/>
              <a:ext cx="178200" cy="2844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17960" y="4120920"/>
              <a:ext cx="34560" cy="1346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05360" y="4051800"/>
              <a:ext cx="135720" cy="20376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65120" y="4070880"/>
              <a:ext cx="51120" cy="6444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72880" y="4031280"/>
              <a:ext cx="132120" cy="224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9280" y="3985920"/>
              <a:ext cx="105840" cy="1440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45600" y="4011120"/>
              <a:ext cx="81000" cy="100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09720" y="3446640"/>
              <a:ext cx="63360" cy="13032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22320" y="3561120"/>
              <a:ext cx="25920" cy="3492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01400" y="3610800"/>
              <a:ext cx="88560" cy="8028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73760" y="3546360"/>
              <a:ext cx="33480" cy="13032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35240" y="3656160"/>
              <a:ext cx="42120" cy="2016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77920" y="3296880"/>
              <a:ext cx="229320" cy="1393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77720" y="3911040"/>
              <a:ext cx="238320" cy="19944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1960" y="3720960"/>
              <a:ext cx="46080" cy="950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29040" y="3861360"/>
              <a:ext cx="144720" cy="11988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10040" y="4101480"/>
              <a:ext cx="28800" cy="14364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65120" y="4135680"/>
              <a:ext cx="46080" cy="7560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69080" y="4091400"/>
              <a:ext cx="63360" cy="950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46120" y="4201200"/>
              <a:ext cx="16200" cy="4392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72880" y="3991680"/>
              <a:ext cx="140760" cy="15408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05560" y="3291120"/>
              <a:ext cx="51120" cy="8028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35440" y="3341160"/>
              <a:ext cx="42120" cy="65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44080" y="3296880"/>
              <a:ext cx="58680" cy="6444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35440" y="3241440"/>
              <a:ext cx="42120" cy="1440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39400" y="3256200"/>
              <a:ext cx="42120" cy="3060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77920" y="3236760"/>
              <a:ext cx="29880" cy="291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24360" y="3236760"/>
              <a:ext cx="89640" cy="6912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10040" y="3266280"/>
              <a:ext cx="46080" cy="39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01400" y="3231000"/>
              <a:ext cx="12240" cy="2484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22640" y="3246840"/>
              <a:ext cx="24840" cy="24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0080" y="3286800"/>
              <a:ext cx="115560" cy="1551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67360" y="3475800"/>
              <a:ext cx="20880" cy="10980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07600" y="3556440"/>
              <a:ext cx="51120" cy="7452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94120" y="3556440"/>
              <a:ext cx="115560" cy="10980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840" y="3691440"/>
              <a:ext cx="29880" cy="291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6600" y="3791160"/>
              <a:ext cx="68400" cy="3492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69080" y="3631320"/>
              <a:ext cx="17280" cy="20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60080" y="3551760"/>
              <a:ext cx="17280" cy="6444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1560" y="3641400"/>
              <a:ext cx="20880" cy="7452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17960" y="3736800"/>
              <a:ext cx="89640" cy="248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35240" y="3796560"/>
              <a:ext cx="54720" cy="1440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62880" y="3566520"/>
              <a:ext cx="33480" cy="2484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45600" y="3541680"/>
              <a:ext cx="29880" cy="1440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62880" y="3501000"/>
              <a:ext cx="33480" cy="2016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90520" y="3541680"/>
              <a:ext cx="29880" cy="1440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80160" y="3736800"/>
              <a:ext cx="12240" cy="1440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11560" y="3506400"/>
              <a:ext cx="29880" cy="144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77720" y="3535920"/>
              <a:ext cx="29880" cy="201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86360" y="3561120"/>
              <a:ext cx="20880" cy="3060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03120" y="3561120"/>
              <a:ext cx="55800" cy="3492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1640" y="3321720"/>
              <a:ext cx="187200" cy="16992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71520" y="3531600"/>
              <a:ext cx="20880" cy="1440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716240" y="3531600"/>
              <a:ext cx="12240" cy="144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29040" y="3546360"/>
              <a:ext cx="54720" cy="248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41640" y="3521160"/>
              <a:ext cx="38520" cy="24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45600" y="3521160"/>
              <a:ext cx="34560" cy="248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1640" y="3525840"/>
              <a:ext cx="38520" cy="20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4360" y="3521160"/>
              <a:ext cx="81000" cy="39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5000" y="3525840"/>
              <a:ext cx="29880" cy="2016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5000" y="3531600"/>
              <a:ext cx="29880" cy="144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0320" y="3521160"/>
              <a:ext cx="59760" cy="39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45800" y="3436200"/>
              <a:ext cx="119520" cy="8028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92960" y="3390840"/>
              <a:ext cx="33480" cy="5076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82080" y="3492000"/>
              <a:ext cx="51120" cy="4392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73440" y="3436200"/>
              <a:ext cx="42120" cy="554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9360" y="3411360"/>
              <a:ext cx="67320" cy="7020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54440" y="3441960"/>
              <a:ext cx="89640" cy="7452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9240" y="3332160"/>
              <a:ext cx="46080" cy="4392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92760" y="3251520"/>
              <a:ext cx="17280" cy="496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5360" y="3251520"/>
              <a:ext cx="33480" cy="450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79960" y="3535920"/>
              <a:ext cx="46080" cy="496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83920" y="3591720"/>
              <a:ext cx="55800" cy="14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97240" y="3610800"/>
              <a:ext cx="63360" cy="554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0" name=""/>
          <p:cNvCxnSpPr>
            <a:stCxn id="288" idx="0"/>
            <a:endCxn id="298" idx="4"/>
          </p:cNvCxnSpPr>
          <p:nvPr/>
        </p:nvCxnSpPr>
        <p:spPr>
          <a:xfrm flipV="1">
            <a:off x="1754280" y="2739240"/>
            <a:ext cx="103680" cy="599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146" idx="0"/>
            <a:endCxn id="303" idx="2"/>
          </p:cNvCxnSpPr>
          <p:nvPr/>
        </p:nvCxnSpPr>
        <p:spPr>
          <a:xfrm flipV="1">
            <a:off x="1946160" y="2292120"/>
            <a:ext cx="2178720" cy="12499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414" idx="0"/>
            <a:endCxn id="303" idx="4"/>
          </p:cNvCxnSpPr>
          <p:nvPr/>
        </p:nvCxnSpPr>
        <p:spPr>
          <a:xfrm flipV="1">
            <a:off x="4599000" y="2739240"/>
            <a:ext cx="30600" cy="55476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382" idx="0"/>
            <a:endCxn id="308" idx="2"/>
          </p:cNvCxnSpPr>
          <p:nvPr/>
        </p:nvCxnSpPr>
        <p:spPr>
          <a:xfrm flipV="1">
            <a:off x="4826160" y="2292120"/>
            <a:ext cx="2070720" cy="113256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463" idx="0"/>
            <a:endCxn id="298" idx="5"/>
          </p:cNvCxnSpPr>
          <p:nvPr/>
        </p:nvCxnSpPr>
        <p:spPr>
          <a:xfrm flipH="1" flipV="1">
            <a:off x="2212560" y="2607840"/>
            <a:ext cx="5061600" cy="8308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533" idx="0"/>
            <a:endCxn id="303" idx="6"/>
          </p:cNvCxnSpPr>
          <p:nvPr/>
        </p:nvCxnSpPr>
        <p:spPr>
          <a:xfrm flipH="1" flipV="1">
            <a:off x="5131800" y="2292480"/>
            <a:ext cx="2259720" cy="10782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295" idx="1"/>
            <a:endCxn id="219" idx="0"/>
          </p:cNvCxnSpPr>
          <p:nvPr/>
        </p:nvCxnSpPr>
        <p:spPr>
          <a:xfrm flipH="1" flipV="1">
            <a:off x="2003040" y="4247640"/>
            <a:ext cx="2045520" cy="13392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294" idx="0"/>
            <a:endCxn id="391" idx="0"/>
          </p:cNvCxnSpPr>
          <p:nvPr/>
        </p:nvCxnSpPr>
        <p:spPr>
          <a:xfrm flipV="1">
            <a:off x="4587480" y="4282560"/>
            <a:ext cx="20880" cy="7740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295" idx="3"/>
            <a:endCxn id="540" idx="0"/>
          </p:cNvCxnSpPr>
          <p:nvPr/>
        </p:nvCxnSpPr>
        <p:spPr>
          <a:xfrm flipV="1">
            <a:off x="5165640" y="4252680"/>
            <a:ext cx="2386800" cy="133416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’utilisation des 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utilisation 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« OMG IDL orienté composant » uniquement sucre syntaxique pour décrire les composants CORBA, projeté en OMG IDL 2.x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construction OMG IDL 3.0 a une équivalence en OMG IDL 2.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seule projection spécifiée au lieu d’une par langages de program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servation des standards de projection OMG IDL 2.x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lan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s composants et maisons sont utilisés par les développeurs comme des objets CORBA étendu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ants et maisons invoqués comme des objets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plications clientes uniquement CORBA 2.x po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servation des compétences des développeurs CORBA 2.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utilisation des outils CORBA 2.x, e.g. générateurs de souches/squelet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rojection OMG IDL 3.0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vers OMG IDL 2.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95720" y="1268280"/>
            <a:ext cx="1352520" cy="1138320"/>
            <a:chOff x="4095720" y="1268280"/>
            <a:chExt cx="1352520" cy="1138320"/>
          </a:xfrm>
        </p:grpSpPr>
        <p:sp>
          <p:nvSpPr>
            <p:cNvPr id="1074" name=""/>
            <p:cNvSpPr/>
            <p:nvPr/>
          </p:nvSpPr>
          <p:spPr>
            <a:xfrm>
              <a:off x="4095720" y="1825920"/>
              <a:ext cx="135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640040" y="1268280"/>
              <a:ext cx="255960" cy="606240"/>
              <a:chOff x="4640040" y="1268280"/>
              <a:chExt cx="255960" cy="606240"/>
            </a:xfrm>
          </p:grpSpPr>
          <p:sp>
            <p:nvSpPr>
              <p:cNvPr id="1076" name=""/>
              <p:cNvSpPr/>
              <p:nvPr/>
            </p:nvSpPr>
            <p:spPr>
              <a:xfrm>
                <a:off x="4716000" y="126828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640040" y="1387440"/>
                <a:ext cx="25596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8" name=""/>
          <p:cNvSpPr/>
          <p:nvPr/>
        </p:nvSpPr>
        <p:spPr>
          <a:xfrm>
            <a:off x="7164360" y="148608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4360" y="179064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164360" y="209556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338960" y="1403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utilis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44000" y="170820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i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51920" y="201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géné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4014720" y="2441520"/>
            <a:ext cx="1925280" cy="1081440"/>
            <a:chOff x="4014720" y="2441520"/>
            <a:chExt cx="1925280" cy="1081440"/>
          </a:xfrm>
        </p:grpSpPr>
        <p:sp>
          <p:nvSpPr>
            <p:cNvPr id="1085" name=""/>
            <p:cNvSpPr/>
            <p:nvPr/>
          </p:nvSpPr>
          <p:spPr>
            <a:xfrm>
              <a:off x="4014720" y="2441520"/>
              <a:ext cx="1925280" cy="10814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10480" y="2698200"/>
              <a:ext cx="173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rien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059280" y="5681520"/>
            <a:ext cx="1439640" cy="720720"/>
            <a:chOff x="3059280" y="5681520"/>
            <a:chExt cx="1439640" cy="720720"/>
          </a:xfrm>
        </p:grpSpPr>
        <p:sp>
          <p:nvSpPr>
            <p:cNvPr id="1088" name=""/>
            <p:cNvSpPr/>
            <p:nvPr/>
          </p:nvSpPr>
          <p:spPr>
            <a:xfrm>
              <a:off x="3059280" y="5681520"/>
              <a:ext cx="1439640" cy="7207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30560" y="5775120"/>
              <a:ext cx="129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ouche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4138560" y="4102200"/>
            <a:ext cx="172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mpilateur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OMG IDL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258920" y="4076640"/>
            <a:ext cx="1872720" cy="1009800"/>
            <a:chOff x="1258920" y="4076640"/>
            <a:chExt cx="1872720" cy="1009800"/>
          </a:xfrm>
        </p:grpSpPr>
        <p:sp>
          <p:nvSpPr>
            <p:cNvPr id="1092" name=""/>
            <p:cNvSpPr/>
            <p:nvPr/>
          </p:nvSpPr>
          <p:spPr>
            <a:xfrm>
              <a:off x="1258920" y="4076640"/>
              <a:ext cx="1872720" cy="10098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51440" y="4203720"/>
              <a:ext cx="168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2.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rien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bj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307440" y="1268280"/>
            <a:ext cx="1331280" cy="1138320"/>
            <a:chOff x="307440" y="1268280"/>
            <a:chExt cx="1331280" cy="1138320"/>
          </a:xfrm>
        </p:grpSpPr>
        <p:sp>
          <p:nvSpPr>
            <p:cNvPr id="1095" name=""/>
            <p:cNvSpPr/>
            <p:nvPr/>
          </p:nvSpPr>
          <p:spPr>
            <a:xfrm>
              <a:off x="307440" y="182592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Utilisateur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837360" y="1268280"/>
              <a:ext cx="255600" cy="606240"/>
              <a:chOff x="837360" y="1268280"/>
              <a:chExt cx="255600" cy="606240"/>
            </a:xfrm>
          </p:grpSpPr>
          <p:sp>
            <p:nvSpPr>
              <p:cNvPr id="1097" name=""/>
              <p:cNvSpPr/>
              <p:nvPr/>
            </p:nvSpPr>
            <p:spPr>
              <a:xfrm>
                <a:off x="913320" y="126828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7360" y="1387440"/>
                <a:ext cx="25560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324000" y="2441520"/>
            <a:ext cx="1655640" cy="1081080"/>
            <a:chOff x="324000" y="2441520"/>
            <a:chExt cx="1655640" cy="1081080"/>
          </a:xfrm>
        </p:grpSpPr>
        <p:sp>
          <p:nvSpPr>
            <p:cNvPr id="1100" name=""/>
            <p:cNvSpPr/>
            <p:nvPr/>
          </p:nvSpPr>
          <p:spPr>
            <a:xfrm>
              <a:off x="432000" y="2441520"/>
              <a:ext cx="143964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4000" y="269964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2" name=""/>
          <p:cNvCxnSpPr/>
          <p:nvPr/>
        </p:nvCxnSpPr>
        <p:spPr>
          <a:xfrm>
            <a:off x="4858920" y="359244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3" name=""/>
          <p:cNvCxnSpPr/>
          <p:nvPr/>
        </p:nvCxnSpPr>
        <p:spPr>
          <a:xfrm>
            <a:off x="3203640" y="45320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4" name=""/>
          <p:cNvSpPr/>
          <p:nvPr/>
        </p:nvSpPr>
        <p:spPr>
          <a:xfrm flipH="1">
            <a:off x="4356000" y="5033880"/>
            <a:ext cx="21600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258920" y="3573360"/>
            <a:ext cx="21600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00360" y="5178600"/>
            <a:ext cx="21600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31400" y="35971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Uti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853640" y="52498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mplant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0" y="5826240"/>
            <a:ext cx="1584360" cy="574560"/>
          </a:xfrm>
          <a:prstGeom prst="leftRightArrow">
            <a:avLst>
              <a:gd name="adj1" fmla="val 50000"/>
              <a:gd name="adj2" fmla="val 548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6245280" y="4797360"/>
            <a:ext cx="2719080" cy="1873080"/>
            <a:chOff x="6245280" y="4797360"/>
            <a:chExt cx="2719080" cy="1873080"/>
          </a:xfrm>
        </p:grpSpPr>
        <p:sp>
          <p:nvSpPr>
            <p:cNvPr id="1111" name=""/>
            <p:cNvSpPr/>
            <p:nvPr/>
          </p:nvSpPr>
          <p:spPr>
            <a:xfrm>
              <a:off x="6834240" y="5190840"/>
              <a:ext cx="1498680" cy="1406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6245280" y="5373360"/>
              <a:ext cx="601560" cy="324000"/>
              <a:chOff x="6245280" y="5373360"/>
              <a:chExt cx="601560" cy="324000"/>
            </a:xfrm>
          </p:grpSpPr>
          <p:sp>
            <p:nvSpPr>
              <p:cNvPr id="1113" name=""/>
              <p:cNvSpPr/>
              <p:nvPr/>
            </p:nvSpPr>
            <p:spPr>
              <a:xfrm flipH="1">
                <a:off x="6513480" y="553536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45280" y="5373360"/>
                <a:ext cx="322200" cy="3240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7421400" y="4797360"/>
              <a:ext cx="323640" cy="411120"/>
              <a:chOff x="7421400" y="4797360"/>
              <a:chExt cx="323640" cy="411120"/>
            </a:xfrm>
          </p:grpSpPr>
          <p:sp>
            <p:nvSpPr>
              <p:cNvPr id="1116" name=""/>
              <p:cNvSpPr/>
              <p:nvPr/>
            </p:nvSpPr>
            <p:spPr>
              <a:xfrm flipV="1">
                <a:off x="7583400" y="487512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7422120" y="479664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8116920" y="6165720"/>
              <a:ext cx="642960" cy="304920"/>
              <a:chOff x="8116920" y="6165720"/>
              <a:chExt cx="642960" cy="304920"/>
            </a:xfrm>
          </p:grpSpPr>
          <p:sp>
            <p:nvSpPr>
              <p:cNvPr id="1119" name=""/>
              <p:cNvSpPr/>
              <p:nvPr/>
            </p:nvSpPr>
            <p:spPr>
              <a:xfrm flipH="1">
                <a:off x="8247240" y="6318360"/>
                <a:ext cx="2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116920" y="6245280"/>
                <a:ext cx="128880" cy="145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467920" y="6165720"/>
                <a:ext cx="291960" cy="30492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7108920" y="6526080"/>
              <a:ext cx="3589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8188560" y="5228640"/>
              <a:ext cx="775800" cy="609480"/>
              <a:chOff x="8188560" y="5228640"/>
              <a:chExt cx="775800" cy="60948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8188560" y="5500080"/>
                <a:ext cx="238680" cy="85320"/>
                <a:chOff x="8188560" y="5500080"/>
                <a:chExt cx="238680" cy="85320"/>
              </a:xfrm>
            </p:grpSpPr>
            <p:sp>
              <p:nvSpPr>
                <p:cNvPr id="1125" name=""/>
                <p:cNvSpPr/>
                <p:nvPr/>
              </p:nvSpPr>
              <p:spPr>
                <a:xfrm flipH="1">
                  <a:off x="8248320" y="5542560"/>
                  <a:ext cx="1789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188560" y="5500080"/>
                  <a:ext cx="88560" cy="85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"/>
              <p:cNvSpPr/>
              <p:nvPr/>
            </p:nvSpPr>
            <p:spPr>
              <a:xfrm rot="16200000">
                <a:off x="8393040" y="5266800"/>
                <a:ext cx="60948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6247080" y="6092640"/>
              <a:ext cx="599040" cy="304560"/>
              <a:chOff x="6247080" y="6092640"/>
              <a:chExt cx="599040" cy="304560"/>
            </a:xfrm>
          </p:grpSpPr>
          <p:sp>
            <p:nvSpPr>
              <p:cNvPr id="1129" name=""/>
              <p:cNvSpPr/>
              <p:nvPr/>
            </p:nvSpPr>
            <p:spPr>
              <a:xfrm flipH="1">
                <a:off x="6536880" y="624312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47080" y="6092640"/>
                <a:ext cx="309240" cy="30456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7686720" y="6526080"/>
              <a:ext cx="3589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principales règles de projec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MG IDL 3.0 vers OMG 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1 type de composants </a:t>
            </a:r>
            <a:r>
              <a:rPr b="1" lang="fr-FR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 1 interfa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nt 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CCM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propriété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1 attrib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facette ou puits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1 opération fournissant la référence du 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réceptacle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pérations de connexion, déconnexion et d’acquisition de la (ou des) référence(s) associée(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source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pérations de (dé)souscription aux événements produ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1 type de maisons </a:t>
            </a:r>
            <a:r>
              <a:rPr b="1" lang="fr-FR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3 interfac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pour opérations explicites du concepteu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héritage 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CCMHo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pour opérations implicites génér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héritant des 2 interfaces précéden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1 type d’événements </a:t>
            </a:r>
            <a:r>
              <a:rPr b="1" lang="fr-FR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 1 type de valeurs + 1 interface Consum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nt 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EventBas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nt 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EventConsumer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Objec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58920" y="3141720"/>
            <a:ext cx="42512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837480" y="1197000"/>
            <a:ext cx="1909800" cy="1655280"/>
            <a:chOff x="6837480" y="1197000"/>
            <a:chExt cx="1909800" cy="1655280"/>
          </a:xfrm>
        </p:grpSpPr>
        <p:grpSp>
          <p:nvGrpSpPr>
            <p:cNvPr id="1138" name=""/>
            <p:cNvGrpSpPr/>
            <p:nvPr/>
          </p:nvGrpSpPr>
          <p:grpSpPr>
            <a:xfrm>
              <a:off x="6837480" y="2095200"/>
              <a:ext cx="973440" cy="524880"/>
              <a:chOff x="6837480" y="2095200"/>
              <a:chExt cx="973440" cy="524880"/>
            </a:xfrm>
          </p:grpSpPr>
          <p:sp>
            <p:nvSpPr>
              <p:cNvPr id="1139" name=""/>
              <p:cNvSpPr/>
              <p:nvPr/>
            </p:nvSpPr>
            <p:spPr>
              <a:xfrm flipH="1">
                <a:off x="7271280" y="235764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37480" y="2095200"/>
                <a:ext cx="521640" cy="5248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929720" y="1197000"/>
              <a:ext cx="523440" cy="666000"/>
              <a:chOff x="7929720" y="1197000"/>
              <a:chExt cx="523440" cy="666000"/>
            </a:xfrm>
          </p:grpSpPr>
          <p:sp>
            <p:nvSpPr>
              <p:cNvPr id="1142" name=""/>
              <p:cNvSpPr/>
              <p:nvPr/>
            </p:nvSpPr>
            <p:spPr>
              <a:xfrm flipV="1">
                <a:off x="8191440" y="1322640"/>
                <a:ext cx="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5400000">
                <a:off x="7930440" y="1196280"/>
                <a:ext cx="52200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7637400" y="1863720"/>
              <a:ext cx="1109880" cy="98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372360" y="1176480"/>
            <a:ext cx="2523960" cy="24606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k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Fork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381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Manager {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Ho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KeylessCCMHome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Manager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create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,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6837480" y="1681200"/>
            <a:ext cx="1909800" cy="1655280"/>
            <a:chOff x="6837480" y="1681200"/>
            <a:chExt cx="1909800" cy="1655280"/>
          </a:xfrm>
        </p:grpSpPr>
        <p:grpSp>
          <p:nvGrpSpPr>
            <p:cNvPr id="1149" name=""/>
            <p:cNvGrpSpPr/>
            <p:nvPr/>
          </p:nvGrpSpPr>
          <p:grpSpPr>
            <a:xfrm>
              <a:off x="6837480" y="2579400"/>
              <a:ext cx="973440" cy="524880"/>
              <a:chOff x="6837480" y="2579400"/>
              <a:chExt cx="973440" cy="524880"/>
            </a:xfrm>
          </p:grpSpPr>
          <p:sp>
            <p:nvSpPr>
              <p:cNvPr id="1150" name=""/>
              <p:cNvSpPr/>
              <p:nvPr/>
            </p:nvSpPr>
            <p:spPr>
              <a:xfrm flipH="1">
                <a:off x="7271280" y="284184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37480" y="2579400"/>
                <a:ext cx="521640" cy="5248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7929720" y="1681200"/>
              <a:ext cx="523440" cy="666000"/>
              <a:chOff x="7929720" y="1681200"/>
              <a:chExt cx="523440" cy="66600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8191440" y="1806840"/>
                <a:ext cx="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5400000">
                <a:off x="7930440" y="1680480"/>
                <a:ext cx="52200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5" name=""/>
            <p:cNvSpPr/>
            <p:nvPr/>
          </p:nvSpPr>
          <p:spPr>
            <a:xfrm>
              <a:off x="7637400" y="2347920"/>
              <a:ext cx="1109880" cy="98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7472160" y="765000"/>
            <a:ext cx="323640" cy="411120"/>
            <a:chOff x="7472160" y="765000"/>
            <a:chExt cx="323640" cy="411120"/>
          </a:xfrm>
        </p:grpSpPr>
        <p:sp>
          <p:nvSpPr>
            <p:cNvPr id="1157" name=""/>
            <p:cNvSpPr/>
            <p:nvPr/>
          </p:nvSpPr>
          <p:spPr>
            <a:xfrm flipV="1">
              <a:off x="7634160" y="842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5400000">
              <a:off x="7472880" y="76428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258920" y="2276640"/>
            <a:ext cx="425124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’événement StatusInf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venttyp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 . . . 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aluetyp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EventB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 . . . 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EventConsumerB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sh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atusInfo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e_StatusInfo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8920" y="2494080"/>
            <a:ext cx="42512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Objec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r get_consumer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6227640" y="1339920"/>
            <a:ext cx="2592360" cy="1584360"/>
            <a:chOff x="6227640" y="1339920"/>
            <a:chExt cx="2592360" cy="1584360"/>
          </a:xfrm>
        </p:grpSpPr>
        <p:sp>
          <p:nvSpPr>
            <p:cNvPr id="1166" name=""/>
            <p:cNvSpPr/>
            <p:nvPr/>
          </p:nvSpPr>
          <p:spPr>
            <a:xfrm>
              <a:off x="6932520" y="188748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6227640" y="2203560"/>
              <a:ext cx="739440" cy="404280"/>
              <a:chOff x="6227640" y="2203560"/>
              <a:chExt cx="739440" cy="404280"/>
            </a:xfrm>
          </p:grpSpPr>
          <p:sp>
            <p:nvSpPr>
              <p:cNvPr id="1168" name=""/>
              <p:cNvSpPr/>
              <p:nvPr/>
            </p:nvSpPr>
            <p:spPr>
              <a:xfrm flipH="1">
                <a:off x="6585480" y="240336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227640" y="220356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7677000" y="1339920"/>
              <a:ext cx="398160" cy="546840"/>
              <a:chOff x="7677000" y="1339920"/>
              <a:chExt cx="398160" cy="546840"/>
            </a:xfrm>
          </p:grpSpPr>
          <p:sp>
            <p:nvSpPr>
              <p:cNvPr id="1171" name=""/>
              <p:cNvSpPr/>
              <p:nvPr/>
            </p:nvSpPr>
            <p:spPr>
              <a:xfrm flipV="1">
                <a:off x="7876080" y="144288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5400000">
                <a:off x="7661520" y="135504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3" name=""/>
          <p:cNvSpPr/>
          <p:nvPr/>
        </p:nvSpPr>
        <p:spPr>
          <a:xfrm>
            <a:off x="1258920" y="2924280"/>
            <a:ext cx="42512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6234120" y="1747800"/>
            <a:ext cx="2514600" cy="211284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server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Observer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 {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KeylessCCM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6084720" y="2179800"/>
            <a:ext cx="2592360" cy="1583640"/>
            <a:chOff x="6084720" y="2179800"/>
            <a:chExt cx="2592360" cy="1583640"/>
          </a:xfrm>
        </p:grpSpPr>
        <p:sp>
          <p:nvSpPr>
            <p:cNvPr id="1178" name=""/>
            <p:cNvSpPr/>
            <p:nvPr/>
          </p:nvSpPr>
          <p:spPr>
            <a:xfrm>
              <a:off x="6789600" y="2727000"/>
              <a:ext cx="1887480" cy="103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084720" y="3043080"/>
              <a:ext cx="739440" cy="403920"/>
              <a:chOff x="6084720" y="3043080"/>
              <a:chExt cx="739440" cy="403920"/>
            </a:xfrm>
          </p:grpSpPr>
          <p:sp>
            <p:nvSpPr>
              <p:cNvPr id="1180" name=""/>
              <p:cNvSpPr/>
              <p:nvPr/>
            </p:nvSpPr>
            <p:spPr>
              <a:xfrm flipH="1">
                <a:off x="6442560" y="324252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84720" y="3043080"/>
                <a:ext cx="381600" cy="40392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7534080" y="2179800"/>
              <a:ext cx="398160" cy="546840"/>
              <a:chOff x="7534080" y="2179800"/>
              <a:chExt cx="398160" cy="546840"/>
            </a:xfrm>
          </p:grpSpPr>
          <p:sp>
            <p:nvSpPr>
              <p:cNvPr id="1183" name=""/>
              <p:cNvSpPr/>
              <p:nvPr/>
            </p:nvSpPr>
            <p:spPr>
              <a:xfrm flipV="1">
                <a:off x="7733160" y="2283120"/>
                <a:ext cx="0" cy="44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5400000">
                <a:off x="7518960" y="2194920"/>
                <a:ext cx="42840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"/>
          <p:cNvGrpSpPr/>
          <p:nvPr/>
        </p:nvGrpSpPr>
        <p:grpSpPr>
          <a:xfrm>
            <a:off x="7329240" y="1336680"/>
            <a:ext cx="323640" cy="411120"/>
            <a:chOff x="7329240" y="1336680"/>
            <a:chExt cx="323640" cy="411120"/>
          </a:xfrm>
        </p:grpSpPr>
        <p:sp>
          <p:nvSpPr>
            <p:cNvPr id="1186" name=""/>
            <p:cNvSpPr/>
            <p:nvPr/>
          </p:nvSpPr>
          <p:spPr>
            <a:xfrm flipV="1">
              <a:off x="7491240" y="14144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5400000">
              <a:off x="7329960" y="133596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258920" y="2421000"/>
            <a:ext cx="42512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Objec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/..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912000" y="1413000"/>
            <a:ext cx="2230920" cy="2160000"/>
            <a:chOff x="6912000" y="1413000"/>
            <a:chExt cx="2230920" cy="2160000"/>
          </a:xfrm>
        </p:grpSpPr>
        <p:sp>
          <p:nvSpPr>
            <p:cNvPr id="1192" name=""/>
            <p:cNvSpPr/>
            <p:nvPr/>
          </p:nvSpPr>
          <p:spPr>
            <a:xfrm>
              <a:off x="6939720" y="186768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8607960" y="1911240"/>
              <a:ext cx="534960" cy="498240"/>
              <a:chOff x="8607960" y="1911240"/>
              <a:chExt cx="534960" cy="49824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8607960" y="2133000"/>
                <a:ext cx="164520" cy="69840"/>
                <a:chOff x="8607960" y="2133000"/>
                <a:chExt cx="164520" cy="69840"/>
              </a:xfrm>
            </p:grpSpPr>
            <p:sp>
              <p:nvSpPr>
                <p:cNvPr id="1195" name=""/>
                <p:cNvSpPr/>
                <p:nvPr/>
              </p:nvSpPr>
              <p:spPr>
                <a:xfrm flipH="1">
                  <a:off x="8649000" y="216792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607960" y="213300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 rot="16200000">
                <a:off x="8709840" y="197640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8607960" y="2492640"/>
              <a:ext cx="534960" cy="498240"/>
              <a:chOff x="8607960" y="2492640"/>
              <a:chExt cx="534960" cy="49824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8607960" y="2714400"/>
                <a:ext cx="164520" cy="69840"/>
                <a:chOff x="8607960" y="2714400"/>
                <a:chExt cx="164520" cy="69840"/>
              </a:xfrm>
            </p:grpSpPr>
            <p:sp>
              <p:nvSpPr>
                <p:cNvPr id="1200" name=""/>
                <p:cNvSpPr/>
                <p:nvPr/>
              </p:nvSpPr>
              <p:spPr>
                <a:xfrm flipH="1">
                  <a:off x="8649000" y="274932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607960" y="271440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 rot="16200000">
                <a:off x="8709840" y="255780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8607960" y="3157920"/>
              <a:ext cx="445680" cy="249120"/>
              <a:chOff x="8607960" y="3157920"/>
              <a:chExt cx="445680" cy="249120"/>
            </a:xfrm>
          </p:grpSpPr>
          <p:sp>
            <p:nvSpPr>
              <p:cNvPr id="1204" name=""/>
              <p:cNvSpPr/>
              <p:nvPr/>
            </p:nvSpPr>
            <p:spPr>
              <a:xfrm flipH="1">
                <a:off x="8697960" y="328248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07960" y="322272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851320" y="315792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6912000" y="29084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36120" y="235980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7715520" y="1413000"/>
              <a:ext cx="379080" cy="447480"/>
              <a:chOff x="7715520" y="1413000"/>
              <a:chExt cx="379080" cy="447480"/>
            </a:xfrm>
          </p:grpSpPr>
          <p:sp>
            <p:nvSpPr>
              <p:cNvPr id="1210" name=""/>
              <p:cNvSpPr/>
              <p:nvPr/>
            </p:nvSpPr>
            <p:spPr>
              <a:xfrm flipV="1">
                <a:off x="7905240" y="149724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5400000">
                <a:off x="7729560" y="139896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2" name=""/>
          <p:cNvSpPr/>
          <p:nvPr/>
        </p:nvSpPr>
        <p:spPr>
          <a:xfrm>
            <a:off x="1187280" y="3645000"/>
            <a:ext cx="42516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a conception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tations : graphique, profile UML 1.x pour CCM et OMG IDL 3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’utilisation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ction OMG IDL 3.0 vers OMG IDL ; code 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développement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tation OMG CIDL ; classes Java d’impla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conditionnement et l’assemblage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tation XML CCM ; exemples d’out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déploiement, l’exécution et l’administration de l’applic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monstration sur la plate-forme Open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nect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Fork cnx) raises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connect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nect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Fork cnx) raises 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connect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::Cookie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ubscribe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r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consumer) raises(…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Consumer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nsubscribe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 Components::Cookie ck) raises(…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87280" y="1413000"/>
            <a:ext cx="42516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6912000" y="1413000"/>
            <a:ext cx="2230920" cy="2160000"/>
            <a:chOff x="6912000" y="1413000"/>
            <a:chExt cx="2230920" cy="2160000"/>
          </a:xfrm>
        </p:grpSpPr>
        <p:sp>
          <p:nvSpPr>
            <p:cNvPr id="1217" name=""/>
            <p:cNvSpPr/>
            <p:nvPr/>
          </p:nvSpPr>
          <p:spPr>
            <a:xfrm>
              <a:off x="6939720" y="186768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8607960" y="1911240"/>
              <a:ext cx="534960" cy="498240"/>
              <a:chOff x="8607960" y="1911240"/>
              <a:chExt cx="534960" cy="49824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8607960" y="2133000"/>
                <a:ext cx="164520" cy="69840"/>
                <a:chOff x="8607960" y="2133000"/>
                <a:chExt cx="164520" cy="69840"/>
              </a:xfrm>
            </p:grpSpPr>
            <p:sp>
              <p:nvSpPr>
                <p:cNvPr id="1220" name=""/>
                <p:cNvSpPr/>
                <p:nvPr/>
              </p:nvSpPr>
              <p:spPr>
                <a:xfrm flipH="1">
                  <a:off x="8649000" y="216792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07960" y="213300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2" name=""/>
              <p:cNvSpPr/>
              <p:nvPr/>
            </p:nvSpPr>
            <p:spPr>
              <a:xfrm rot="16200000">
                <a:off x="8709840" y="197640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8607960" y="2492640"/>
              <a:ext cx="534960" cy="498240"/>
              <a:chOff x="8607960" y="2492640"/>
              <a:chExt cx="534960" cy="498240"/>
            </a:xfrm>
          </p:grpSpPr>
          <p:grpSp>
            <p:nvGrpSpPr>
              <p:cNvPr id="1224" name=""/>
              <p:cNvGrpSpPr/>
              <p:nvPr/>
            </p:nvGrpSpPr>
            <p:grpSpPr>
              <a:xfrm>
                <a:off x="8607960" y="2714400"/>
                <a:ext cx="164520" cy="69840"/>
                <a:chOff x="8607960" y="2714400"/>
                <a:chExt cx="164520" cy="69840"/>
              </a:xfrm>
            </p:grpSpPr>
            <p:sp>
              <p:nvSpPr>
                <p:cNvPr id="1225" name=""/>
                <p:cNvSpPr/>
                <p:nvPr/>
              </p:nvSpPr>
              <p:spPr>
                <a:xfrm flipH="1">
                  <a:off x="8649000" y="274932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07960" y="271440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 rot="16200000">
                <a:off x="8709840" y="255780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8607960" y="3157920"/>
              <a:ext cx="445680" cy="249120"/>
              <a:chOff x="8607960" y="3157920"/>
              <a:chExt cx="445680" cy="249120"/>
            </a:xfrm>
          </p:grpSpPr>
          <p:sp>
            <p:nvSpPr>
              <p:cNvPr id="1229" name=""/>
              <p:cNvSpPr/>
              <p:nvPr/>
            </p:nvSpPr>
            <p:spPr>
              <a:xfrm flipH="1">
                <a:off x="8697960" y="328248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607960" y="322272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851320" y="315792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6912000" y="29084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36120" y="235980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7715520" y="1413000"/>
              <a:ext cx="379080" cy="447480"/>
              <a:chOff x="7715520" y="1413000"/>
              <a:chExt cx="379080" cy="447480"/>
            </a:xfrm>
          </p:grpSpPr>
          <p:sp>
            <p:nvSpPr>
              <p:cNvPr id="1235" name=""/>
              <p:cNvSpPr/>
              <p:nvPr/>
            </p:nvSpPr>
            <p:spPr>
              <a:xfrm flipV="1">
                <a:off x="7905240" y="149724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5400000">
                <a:off x="7729560" y="139896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rojection OMG 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Philosopher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Philosopher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KeylessCCM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ici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27640" y="1773360"/>
            <a:ext cx="2700360" cy="27352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2735280"/>
              <a:gd name="textAreaBottom" fmla="*/ 2603520 h 2735280"/>
            </a:gdLst>
            <a:ahLst/>
            <a:rect l="textAreaLeft" t="textAreaTop" r="textAreaRight" b="textAreaBottom"/>
            <a:pathLst>
              <a:path w="21600" h="21879">
                <a:moveTo>
                  <a:pt x="3600" y="0"/>
                </a:moveTo>
                <a:arcTo wR="3600" hR="3600" stAng="16200000" swAng="-5400000"/>
                <a:lnTo>
                  <a:pt x="0" y="18279"/>
                </a:lnTo>
                <a:arcTo wR="3600" hR="3600" stAng="10800000" swAng="-5400000"/>
                <a:lnTo>
                  <a:pt x="18000" y="21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ilosopher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6588000" y="2276640"/>
            <a:ext cx="2230920" cy="2160000"/>
            <a:chOff x="6588000" y="2276640"/>
            <a:chExt cx="2230920" cy="2160000"/>
          </a:xfrm>
        </p:grpSpPr>
        <p:sp>
          <p:nvSpPr>
            <p:cNvPr id="1241" name=""/>
            <p:cNvSpPr/>
            <p:nvPr/>
          </p:nvSpPr>
          <p:spPr>
            <a:xfrm>
              <a:off x="6615720" y="273132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8283960" y="2774880"/>
              <a:ext cx="534960" cy="498240"/>
              <a:chOff x="8283960" y="2774880"/>
              <a:chExt cx="534960" cy="49824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8283960" y="2996640"/>
                <a:ext cx="164520" cy="69840"/>
                <a:chOff x="8283960" y="2996640"/>
                <a:chExt cx="164520" cy="69840"/>
              </a:xfrm>
            </p:grpSpPr>
            <p:sp>
              <p:nvSpPr>
                <p:cNvPr id="1244" name=""/>
                <p:cNvSpPr/>
                <p:nvPr/>
              </p:nvSpPr>
              <p:spPr>
                <a:xfrm flipH="1">
                  <a:off x="8325000" y="30315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283960" y="29966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 rot="16200000">
                <a:off x="8385840" y="284004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8283960" y="3356280"/>
              <a:ext cx="534960" cy="498240"/>
              <a:chOff x="8283960" y="3356280"/>
              <a:chExt cx="534960" cy="498240"/>
            </a:xfrm>
          </p:grpSpPr>
          <p:grpSp>
            <p:nvGrpSpPr>
              <p:cNvPr id="1248" name=""/>
              <p:cNvGrpSpPr/>
              <p:nvPr/>
            </p:nvGrpSpPr>
            <p:grpSpPr>
              <a:xfrm>
                <a:off x="8283960" y="3578040"/>
                <a:ext cx="164520" cy="69840"/>
                <a:chOff x="8283960" y="3578040"/>
                <a:chExt cx="164520" cy="69840"/>
              </a:xfrm>
            </p:grpSpPr>
            <p:sp>
              <p:nvSpPr>
                <p:cNvPr id="1249" name=""/>
                <p:cNvSpPr/>
                <p:nvPr/>
              </p:nvSpPr>
              <p:spPr>
                <a:xfrm flipH="1">
                  <a:off x="8325000" y="36129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283960" y="35780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 rot="16200000">
                <a:off x="8385840" y="342144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8283960" y="4021560"/>
              <a:ext cx="445680" cy="249120"/>
              <a:chOff x="8283960" y="4021560"/>
              <a:chExt cx="445680" cy="249120"/>
            </a:xfrm>
          </p:grpSpPr>
          <p:sp>
            <p:nvSpPr>
              <p:cNvPr id="1253" name=""/>
              <p:cNvSpPr/>
              <p:nvPr/>
            </p:nvSpPr>
            <p:spPr>
              <a:xfrm flipH="1">
                <a:off x="8373960" y="414612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83960" y="408636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527320" y="402156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6588000" y="37720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12120" y="322344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7391520" y="2276640"/>
              <a:ext cx="379080" cy="447480"/>
              <a:chOff x="7391520" y="2276640"/>
              <a:chExt cx="379080" cy="447480"/>
            </a:xfrm>
          </p:grpSpPr>
          <p:sp>
            <p:nvSpPr>
              <p:cNvPr id="1259" name=""/>
              <p:cNvSpPr/>
              <p:nvPr/>
            </p:nvSpPr>
            <p:spPr>
              <a:xfrm flipV="1">
                <a:off x="7581240" y="236088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5400000">
                <a:off x="7405560" y="226260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7416720" y="1362240"/>
            <a:ext cx="324000" cy="411120"/>
            <a:chOff x="7416720" y="1362240"/>
            <a:chExt cx="324000" cy="411120"/>
          </a:xfrm>
        </p:grpSpPr>
        <p:sp>
          <p:nvSpPr>
            <p:cNvPr id="1262" name=""/>
            <p:cNvSpPr/>
            <p:nvPr/>
          </p:nvSpPr>
          <p:spPr>
            <a:xfrm flipV="1">
              <a:off x="7578720" y="14400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5400000">
              <a:off x="7417440" y="1361160"/>
              <a:ext cx="322200" cy="3240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1258920" y="2492280"/>
            <a:ext cx="42512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modèle de programm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li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ux canevas de con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ctory – Recherche une maison et l’utilise pour créer de nouvelles instances de compos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der – Recherche instances de composant existantes via le service de Nommage, de Courtage ou via les opérations de recherche des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ptionnellement démarcation des transact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b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eut établir les crédits de sécurit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voque les opérations des instances de composa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lles définies par la projection vers OMG 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ient ne sait pas nécessairement qui interagit avec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utilisation de composants CORBA via OMG IDLscri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381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Obtenir le service de recherche de maisons de composa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hf = CORBA.ORB.resolve_initial_referenc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“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HomeFind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”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Rechercher une maison selon son typ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Home = chf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ind_home_by_typ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id()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Créer un composant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Manager = forkHome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Obtenir la facette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= forkManager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Utiliser la facette fourchett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.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cc"/>
                </a:solidFill>
                <a:latin typeface="Courier New"/>
                <a:ea typeface="Courier New"/>
              </a:rPr>
              <a:t>. . . . . . . </a:t>
            </a: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.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terconnexion de composants CORBA avec OMG IDLscri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Obtenir les composants CORBA à interconnecter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kant =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“corbaname:…”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 = 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“corbaname:…”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Connecter les composants kant et observer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k = kant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ubscribe_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observer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sumer_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. . . . . .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# Déconnecter les composants kant et observer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kant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nsubscribe_</a:t>
            </a:r>
            <a:r>
              <a:rPr b="1" lang="fr-FR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ck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6372360" y="2925720"/>
            <a:ext cx="2592360" cy="1584360"/>
            <a:chOff x="6372360" y="2925720"/>
            <a:chExt cx="2592360" cy="1584360"/>
          </a:xfrm>
        </p:grpSpPr>
        <p:sp>
          <p:nvSpPr>
            <p:cNvPr id="1272" name=""/>
            <p:cNvSpPr/>
            <p:nvPr/>
          </p:nvSpPr>
          <p:spPr>
            <a:xfrm>
              <a:off x="7077240" y="347328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6372360" y="3789360"/>
              <a:ext cx="739440" cy="404280"/>
              <a:chOff x="6372360" y="3789360"/>
              <a:chExt cx="739440" cy="404280"/>
            </a:xfrm>
          </p:grpSpPr>
          <p:sp>
            <p:nvSpPr>
              <p:cNvPr id="1274" name=""/>
              <p:cNvSpPr/>
              <p:nvPr/>
            </p:nvSpPr>
            <p:spPr>
              <a:xfrm flipH="1">
                <a:off x="6730200" y="398916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72360" y="378936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7821720" y="2925720"/>
              <a:ext cx="398160" cy="546840"/>
              <a:chOff x="7821720" y="2925720"/>
              <a:chExt cx="398160" cy="546840"/>
            </a:xfrm>
          </p:grpSpPr>
          <p:sp>
            <p:nvSpPr>
              <p:cNvPr id="1277" name=""/>
              <p:cNvSpPr/>
              <p:nvPr/>
            </p:nvSpPr>
            <p:spPr>
              <a:xfrm flipV="1">
                <a:off x="8020800" y="302868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5400000">
                <a:off x="7806240" y="294084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1042920" y="2349360"/>
            <a:ext cx="2230920" cy="2160360"/>
            <a:chOff x="1042920" y="2349360"/>
            <a:chExt cx="2230920" cy="2160360"/>
          </a:xfrm>
        </p:grpSpPr>
        <p:sp>
          <p:nvSpPr>
            <p:cNvPr id="1280" name=""/>
            <p:cNvSpPr/>
            <p:nvPr/>
          </p:nvSpPr>
          <p:spPr>
            <a:xfrm>
              <a:off x="1070640" y="280440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2738880" y="2847600"/>
              <a:ext cx="534960" cy="498600"/>
              <a:chOff x="2738880" y="2847600"/>
              <a:chExt cx="534960" cy="49860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2738880" y="3069720"/>
                <a:ext cx="164520" cy="69840"/>
                <a:chOff x="2738880" y="3069720"/>
                <a:chExt cx="164520" cy="69840"/>
              </a:xfrm>
            </p:grpSpPr>
            <p:sp>
              <p:nvSpPr>
                <p:cNvPr id="1283" name=""/>
                <p:cNvSpPr/>
                <p:nvPr/>
              </p:nvSpPr>
              <p:spPr>
                <a:xfrm flipH="1">
                  <a:off x="2779920" y="310464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738880" y="306972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" name=""/>
              <p:cNvSpPr/>
              <p:nvPr/>
            </p:nvSpPr>
            <p:spPr>
              <a:xfrm rot="16200000">
                <a:off x="2840760" y="291312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2738880" y="3429000"/>
              <a:ext cx="534960" cy="498600"/>
              <a:chOff x="2738880" y="3429000"/>
              <a:chExt cx="534960" cy="498600"/>
            </a:xfrm>
          </p:grpSpPr>
          <p:grpSp>
            <p:nvGrpSpPr>
              <p:cNvPr id="1287" name=""/>
              <p:cNvGrpSpPr/>
              <p:nvPr/>
            </p:nvGrpSpPr>
            <p:grpSpPr>
              <a:xfrm>
                <a:off x="2738880" y="3651120"/>
                <a:ext cx="164520" cy="69840"/>
                <a:chOff x="2738880" y="3651120"/>
                <a:chExt cx="164520" cy="69840"/>
              </a:xfrm>
            </p:grpSpPr>
            <p:sp>
              <p:nvSpPr>
                <p:cNvPr id="1288" name=""/>
                <p:cNvSpPr/>
                <p:nvPr/>
              </p:nvSpPr>
              <p:spPr>
                <a:xfrm flipH="1">
                  <a:off x="2779920" y="368604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738880" y="365112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0" name=""/>
              <p:cNvSpPr/>
              <p:nvPr/>
            </p:nvSpPr>
            <p:spPr>
              <a:xfrm rot="16200000">
                <a:off x="2840760" y="349452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2738880" y="4094280"/>
              <a:ext cx="445680" cy="249120"/>
              <a:chOff x="2738880" y="4094280"/>
              <a:chExt cx="445680" cy="249120"/>
            </a:xfrm>
          </p:grpSpPr>
          <p:sp>
            <p:nvSpPr>
              <p:cNvPr id="1292" name=""/>
              <p:cNvSpPr/>
              <p:nvPr/>
            </p:nvSpPr>
            <p:spPr>
              <a:xfrm flipH="1">
                <a:off x="2828880" y="421884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738880" y="415908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982240" y="409428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1042920" y="38451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47960" y="3296160"/>
              <a:ext cx="157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 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= K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" name=""/>
            <p:cNvGrpSpPr/>
            <p:nvPr/>
          </p:nvGrpSpPr>
          <p:grpSpPr>
            <a:xfrm>
              <a:off x="1846440" y="2349360"/>
              <a:ext cx="379080" cy="447480"/>
              <a:chOff x="1846440" y="2349360"/>
              <a:chExt cx="379080" cy="447480"/>
            </a:xfrm>
          </p:grpSpPr>
          <p:sp>
            <p:nvSpPr>
              <p:cNvPr id="1298" name=""/>
              <p:cNvSpPr/>
              <p:nvPr/>
            </p:nvSpPr>
            <p:spPr>
              <a:xfrm flipV="1">
                <a:off x="2036160" y="243360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5400000">
                <a:off x="1860480" y="233532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300" name=""/>
          <p:cNvCxnSpPr>
            <a:stCxn id="1294" idx="0"/>
            <a:endCxn id="1275" idx="0"/>
          </p:cNvCxnSpPr>
          <p:nvPr/>
        </p:nvCxnSpPr>
        <p:spPr>
          <a:xfrm flipV="1">
            <a:off x="3185640" y="3991680"/>
            <a:ext cx="3282120" cy="227880"/>
          </a:xfrm>
          <a:prstGeom prst="straightConnector1">
            <a:avLst/>
          </a:prstGeom>
          <a:ln w="76320">
            <a:solidFill>
              <a:srgbClr val="0000cc"/>
            </a:solidFill>
            <a:miter/>
          </a:ln>
        </p:spPr>
      </p:cxn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navigation et l’introspec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avigation d’une facette vers le composant via opération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RBA::Object::get_component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tourne la référence de base du composant ou nil si pas une facet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avigation du composant vers les facettes et puits via les opérations introduites lors de la projection vers OMG I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pérations génériques de navigation, de contrôle et d’introspection fournies par l’interface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</a:rPr>
              <a:t>CCMObjec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ide_face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[all|named]_face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_compon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onnec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connection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[all|named]_receptac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consum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[all|named]_consum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ubscrib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dis]connect_consum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[all|named]_[emitters|publishers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all_por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ccm_hom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component_de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ccm_hom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primary_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Courier New"/>
              </a:rPr>
              <a:t>Au cœur de l’interconnexion des composants au déploiement et de l’administration des composants à l’exécu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développement de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veloppement des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crire la structure d’implantation des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ia OMG Component Implementation Definition Language (C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itions, segments et états persist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iler les descriptions OMG CI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u code conteneur + squelette exécu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mplanter les composants et les mais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ge du code génér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ègles de programmation à respec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iler le code utilisateur + le code génér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ilation OMG C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355320" y="1116000"/>
            <a:ext cx="1352520" cy="1138320"/>
            <a:chOff x="355320" y="1116000"/>
            <a:chExt cx="1352520" cy="1138320"/>
          </a:xfrm>
        </p:grpSpPr>
        <p:sp>
          <p:nvSpPr>
            <p:cNvPr id="1309" name=""/>
            <p:cNvSpPr/>
            <p:nvPr/>
          </p:nvSpPr>
          <p:spPr>
            <a:xfrm>
              <a:off x="355320" y="1673640"/>
              <a:ext cx="135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896040" y="1116000"/>
              <a:ext cx="255240" cy="606240"/>
              <a:chOff x="896040" y="1116000"/>
              <a:chExt cx="255240" cy="606240"/>
            </a:xfrm>
          </p:grpSpPr>
          <p:sp>
            <p:nvSpPr>
              <p:cNvPr id="1311" name=""/>
              <p:cNvSpPr/>
              <p:nvPr/>
            </p:nvSpPr>
            <p:spPr>
              <a:xfrm>
                <a:off x="972000" y="111600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96040" y="1235160"/>
                <a:ext cx="25524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3" name=""/>
          <p:cNvGrpSpPr/>
          <p:nvPr/>
        </p:nvGrpSpPr>
        <p:grpSpPr>
          <a:xfrm>
            <a:off x="412920" y="2340000"/>
            <a:ext cx="1439640" cy="934920"/>
            <a:chOff x="412920" y="2340000"/>
            <a:chExt cx="1439640" cy="934920"/>
          </a:xfrm>
        </p:grpSpPr>
        <p:sp>
          <p:nvSpPr>
            <p:cNvPr id="1314" name=""/>
            <p:cNvSpPr/>
            <p:nvPr/>
          </p:nvSpPr>
          <p:spPr>
            <a:xfrm>
              <a:off x="412920" y="2340000"/>
              <a:ext cx="1439640" cy="9349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84200" y="256176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1042920" y="5373720"/>
            <a:ext cx="1512720" cy="1008000"/>
            <a:chOff x="1042920" y="5373720"/>
            <a:chExt cx="1512720" cy="1008000"/>
          </a:xfrm>
        </p:grpSpPr>
        <p:sp>
          <p:nvSpPr>
            <p:cNvPr id="1317" name=""/>
            <p:cNvSpPr/>
            <p:nvPr/>
          </p:nvSpPr>
          <p:spPr>
            <a:xfrm>
              <a:off x="1042920" y="5373720"/>
              <a:ext cx="1512720" cy="10080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18160" y="5502240"/>
              <a:ext cx="1362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erver-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7308720" y="2340000"/>
            <a:ext cx="1655640" cy="934920"/>
            <a:chOff x="7308720" y="2340000"/>
            <a:chExt cx="1655640" cy="934920"/>
          </a:xfrm>
        </p:grpSpPr>
        <p:sp>
          <p:nvSpPr>
            <p:cNvPr id="1320" name=""/>
            <p:cNvSpPr/>
            <p:nvPr/>
          </p:nvSpPr>
          <p:spPr>
            <a:xfrm>
              <a:off x="7416720" y="2340000"/>
              <a:ext cx="1439640" cy="9349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08720" y="244944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24000" y="3933720"/>
            <a:ext cx="1655640" cy="664560"/>
            <a:chOff x="324000" y="3933720"/>
            <a:chExt cx="1655640" cy="664560"/>
          </a:xfrm>
        </p:grpSpPr>
        <p:sp>
          <p:nvSpPr>
            <p:cNvPr id="1323" name=""/>
            <p:cNvSpPr/>
            <p:nvPr/>
          </p:nvSpPr>
          <p:spPr>
            <a:xfrm>
              <a:off x="431640" y="3933720"/>
              <a:ext cx="1439640" cy="6588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4000" y="401760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nteneur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7407360" y="1116000"/>
            <a:ext cx="1474560" cy="1138320"/>
            <a:chOff x="7407360" y="1116000"/>
            <a:chExt cx="1474560" cy="1138320"/>
          </a:xfrm>
        </p:grpSpPr>
        <p:sp>
          <p:nvSpPr>
            <p:cNvPr id="1326" name=""/>
            <p:cNvSpPr/>
            <p:nvPr/>
          </p:nvSpPr>
          <p:spPr>
            <a:xfrm>
              <a:off x="7407360" y="167364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Développeur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7" name=""/>
            <p:cNvGrpSpPr/>
            <p:nvPr/>
          </p:nvGrpSpPr>
          <p:grpSpPr>
            <a:xfrm>
              <a:off x="8009280" y="1116000"/>
              <a:ext cx="255960" cy="606240"/>
              <a:chOff x="8009280" y="1116000"/>
              <a:chExt cx="255960" cy="606240"/>
            </a:xfrm>
          </p:grpSpPr>
          <p:sp>
            <p:nvSpPr>
              <p:cNvPr id="1328" name=""/>
              <p:cNvSpPr/>
              <p:nvPr/>
            </p:nvSpPr>
            <p:spPr>
              <a:xfrm>
                <a:off x="8085240" y="111600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009280" y="1235160"/>
                <a:ext cx="25596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0" name=""/>
          <p:cNvSpPr/>
          <p:nvPr/>
        </p:nvSpPr>
        <p:spPr>
          <a:xfrm flipH="1">
            <a:off x="5795640" y="3348000"/>
            <a:ext cx="2120760" cy="2376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607440" y="4356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hér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164360" y="545616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164360" y="576108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64360" y="606600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338960" y="537372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utilis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344000" y="567864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i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351920" y="5983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géné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4140360" y="2340000"/>
            <a:ext cx="1439640" cy="934920"/>
            <a:chOff x="4140360" y="2340000"/>
            <a:chExt cx="1439640" cy="934920"/>
          </a:xfrm>
        </p:grpSpPr>
        <p:sp>
          <p:nvSpPr>
            <p:cNvPr id="1339" name=""/>
            <p:cNvSpPr/>
            <p:nvPr/>
          </p:nvSpPr>
          <p:spPr>
            <a:xfrm>
              <a:off x="4140360" y="2340000"/>
              <a:ext cx="1439640" cy="9349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11640" y="256176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261320" y="1116000"/>
            <a:ext cx="1459440" cy="1138320"/>
            <a:chOff x="4261320" y="1116000"/>
            <a:chExt cx="1459440" cy="1138320"/>
          </a:xfrm>
        </p:grpSpPr>
        <p:sp>
          <p:nvSpPr>
            <p:cNvPr id="1342" name=""/>
            <p:cNvSpPr/>
            <p:nvPr/>
          </p:nvSpPr>
          <p:spPr>
            <a:xfrm>
              <a:off x="4261320" y="1673640"/>
              <a:ext cx="145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4728960" y="1116000"/>
              <a:ext cx="255600" cy="606240"/>
              <a:chOff x="4728960" y="1116000"/>
              <a:chExt cx="255600" cy="606240"/>
            </a:xfrm>
          </p:grpSpPr>
          <p:sp>
            <p:nvSpPr>
              <p:cNvPr id="1344" name=""/>
              <p:cNvSpPr/>
              <p:nvPr/>
            </p:nvSpPr>
            <p:spPr>
              <a:xfrm>
                <a:off x="4804920" y="111600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728960" y="1235160"/>
                <a:ext cx="25560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3995640" y="5541840"/>
            <a:ext cx="1728720" cy="911520"/>
            <a:chOff x="3995640" y="5541840"/>
            <a:chExt cx="1728720" cy="911520"/>
          </a:xfrm>
        </p:grpSpPr>
        <p:sp>
          <p:nvSpPr>
            <p:cNvPr id="1347" name=""/>
            <p:cNvSpPr/>
            <p:nvPr/>
          </p:nvSpPr>
          <p:spPr>
            <a:xfrm>
              <a:off x="3995640" y="5541840"/>
              <a:ext cx="1728720" cy="9115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081320" y="5627520"/>
              <a:ext cx="15573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quelette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2627280" y="5877000"/>
            <a:ext cx="129528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43040" y="5589720"/>
            <a:ext cx="138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mplan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partiel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87280" y="4653000"/>
            <a:ext cx="2890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1640" y="48164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délè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995640" y="4021200"/>
            <a:ext cx="165744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mpilateur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OMG C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4" name=""/>
          <p:cNvCxnSpPr/>
          <p:nvPr/>
        </p:nvCxnSpPr>
        <p:spPr>
          <a:xfrm>
            <a:off x="4858920" y="3371400"/>
            <a:ext cx="1080" cy="578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5" name=""/>
          <p:cNvCxnSpPr/>
          <p:nvPr/>
        </p:nvCxnSpPr>
        <p:spPr>
          <a:xfrm>
            <a:off x="4858920" y="4956120"/>
            <a:ext cx="1080" cy="432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6" name=""/>
          <p:cNvCxnSpPr/>
          <p:nvPr/>
        </p:nvCxnSpPr>
        <p:spPr>
          <a:xfrm>
            <a:off x="2123640" y="2987280"/>
            <a:ext cx="18010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57" name=""/>
          <p:cNvSpPr/>
          <p:nvPr/>
        </p:nvSpPr>
        <p:spPr>
          <a:xfrm>
            <a:off x="2580840" y="269892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8" name=""/>
          <p:cNvCxnSpPr/>
          <p:nvPr/>
        </p:nvCxnSpPr>
        <p:spPr>
          <a:xfrm flipH="1">
            <a:off x="1979280" y="4292280"/>
            <a:ext cx="194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9" name=""/>
          <p:cNvCxnSpPr/>
          <p:nvPr/>
        </p:nvCxnSpPr>
        <p:spPr>
          <a:xfrm flipH="1">
            <a:off x="2339640" y="4797360"/>
            <a:ext cx="1513440" cy="50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Héritage des squelettes OMG CIDL généré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classe par maison implant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métiers explicites du concep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méthode de fabrique des implantations des seg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méthode statique point d’entrée pour le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classe par composant implant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métiers des facettes support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opération de réception des événements pour chaque puit support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rcharge des opérations de l’interface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Componen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Compon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classe par segment implant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métiers des facettes support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opération de réception des événements pour chaque puit support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2 classes par évén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lantation concrète et fabr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a conception des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terface SessionCompon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odul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local interfac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nterpriseCompon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figuration_complet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aises(InvalidConfiguration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local interfac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essionComponen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 EnterpriseCompon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et_session_contex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essionContext ctx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aises(CCMException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activat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aises(CCMException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assivat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aises(CCMException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remov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aises(CCMException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osition OMG C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sition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ssion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Composition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executor ObserverHome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DiningPhilosophers::ObserverHom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ObserverBas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’implant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95280" y="2998800"/>
            <a:ext cx="8353440" cy="1798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8" name=""/>
          <p:cNvCxnSpPr>
            <a:stCxn id="1369" idx="0"/>
            <a:endCxn id="1370" idx="2"/>
          </p:cNvCxnSpPr>
          <p:nvPr/>
        </p:nvCxnSpPr>
        <p:spPr>
          <a:xfrm flipV="1">
            <a:off x="2093400" y="4509720"/>
            <a:ext cx="1080" cy="72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372" idx="0"/>
            <a:endCxn id="1373" idx="2"/>
          </p:cNvCxnSpPr>
          <p:nvPr/>
        </p:nvCxnSpPr>
        <p:spPr>
          <a:xfrm flipV="1">
            <a:off x="7049880" y="4509720"/>
            <a:ext cx="1080" cy="72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stCxn id="1375" idx="3"/>
            <a:endCxn id="1376" idx="1"/>
          </p:cNvCxnSpPr>
          <p:nvPr/>
        </p:nvCxnSpPr>
        <p:spPr>
          <a:xfrm>
            <a:off x="3276720" y="5785920"/>
            <a:ext cx="259128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1377" name=""/>
          <p:cNvGrpSpPr/>
          <p:nvPr/>
        </p:nvGrpSpPr>
        <p:grpSpPr>
          <a:xfrm>
            <a:off x="911160" y="3398760"/>
            <a:ext cx="2365560" cy="1111320"/>
            <a:chOff x="911160" y="3398760"/>
            <a:chExt cx="2365560" cy="1111320"/>
          </a:xfrm>
        </p:grpSpPr>
        <p:sp>
          <p:nvSpPr>
            <p:cNvPr id="1378" name=""/>
            <p:cNvSpPr/>
            <p:nvPr/>
          </p:nvSpPr>
          <p:spPr>
            <a:xfrm>
              <a:off x="911160" y="339876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bserverHome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911160" y="377028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911160" y="414000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5867280" y="3398760"/>
            <a:ext cx="2365560" cy="1111320"/>
            <a:chOff x="5867280" y="3398760"/>
            <a:chExt cx="2365560" cy="1111320"/>
          </a:xfrm>
        </p:grpSpPr>
        <p:sp>
          <p:nvSpPr>
            <p:cNvPr id="1381" name=""/>
            <p:cNvSpPr/>
            <p:nvPr/>
          </p:nvSpPr>
          <p:spPr>
            <a:xfrm>
              <a:off x="5867280" y="339876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bserver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867280" y="377028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67280" y="414000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5867280" y="5229360"/>
            <a:ext cx="2365560" cy="1110600"/>
            <a:chOff x="5867280" y="5229360"/>
            <a:chExt cx="2365560" cy="1110600"/>
          </a:xfrm>
        </p:grpSpPr>
        <p:sp>
          <p:nvSpPr>
            <p:cNvPr id="1372" name=""/>
            <p:cNvSpPr/>
            <p:nvPr/>
          </p:nvSpPr>
          <p:spPr>
            <a:xfrm>
              <a:off x="5867280" y="522936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bserver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67280" y="560052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67280" y="597024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911160" y="5229360"/>
            <a:ext cx="2365560" cy="1110600"/>
            <a:chOff x="911160" y="5229360"/>
            <a:chExt cx="2365560" cy="1110600"/>
          </a:xfrm>
        </p:grpSpPr>
        <p:sp>
          <p:nvSpPr>
            <p:cNvPr id="1369" name=""/>
            <p:cNvSpPr/>
            <p:nvPr/>
          </p:nvSpPr>
          <p:spPr>
            <a:xfrm>
              <a:off x="911160" y="522936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ObserverHome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11160" y="560052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911160" y="597024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4126320" y="54468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tanc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898600" y="2599200"/>
            <a:ext cx="2853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server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7921800" cy="115092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 flipV="1">
            <a:off x="2093760" y="2395440"/>
            <a:ext cx="0" cy="1008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050240" y="2394000"/>
            <a:ext cx="0" cy="1008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Observer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6840" y="1553760"/>
            <a:ext cx="83818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Home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Composition.ObserverHome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nstructeur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bserverHomeImpl() {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a fabrique des implantations de segments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rg.omg.Components.ExecutorSegment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executor_segm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t segid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ObserverImpl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point d’entrée pour le déploiement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ic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org.omg.Components.HomeExecutor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ho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ObserverHomeImpl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46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5991840" y="525312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ssion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33360" y="2200320"/>
            <a:ext cx="7345440" cy="381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2139840" y="1789200"/>
            <a:ext cx="324000" cy="411120"/>
            <a:chOff x="2139840" y="1789200"/>
            <a:chExt cx="324000" cy="411120"/>
          </a:xfrm>
        </p:grpSpPr>
        <p:sp>
          <p:nvSpPr>
            <p:cNvPr id="1398" name=""/>
            <p:cNvSpPr/>
            <p:nvPr/>
          </p:nvSpPr>
          <p:spPr>
            <a:xfrm flipV="1">
              <a:off x="2301840" y="18669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5400000">
              <a:off x="2140560" y="17881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2241720" y="3278160"/>
            <a:ext cx="4032000" cy="15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r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923160" y="2631960"/>
            <a:ext cx="1368360" cy="309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954080" y="3784680"/>
            <a:ext cx="288360" cy="231840"/>
            <a:chOff x="1954080" y="3784680"/>
            <a:chExt cx="288360" cy="231840"/>
          </a:xfrm>
        </p:grpSpPr>
        <p:sp>
          <p:nvSpPr>
            <p:cNvPr id="1403" name=""/>
            <p:cNvSpPr/>
            <p:nvPr/>
          </p:nvSpPr>
          <p:spPr>
            <a:xfrm flipH="1">
              <a:off x="2008080" y="390060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54080" y="3784680"/>
              <a:ext cx="226440" cy="23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386080" y="2990880"/>
            <a:ext cx="231840" cy="288360"/>
            <a:chOff x="2386080" y="2990880"/>
            <a:chExt cx="231840" cy="288360"/>
          </a:xfrm>
        </p:grpSpPr>
        <p:sp>
          <p:nvSpPr>
            <p:cNvPr id="1406" name=""/>
            <p:cNvSpPr/>
            <p:nvPr/>
          </p:nvSpPr>
          <p:spPr>
            <a:xfrm flipV="1">
              <a:off x="2502000" y="304524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5400000">
              <a:off x="2388960" y="2988000"/>
              <a:ext cx="226080" cy="23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5492520" y="2990880"/>
            <a:ext cx="231480" cy="288360"/>
            <a:chOff x="5492520" y="2990880"/>
            <a:chExt cx="231480" cy="288360"/>
          </a:xfrm>
        </p:grpSpPr>
        <p:sp>
          <p:nvSpPr>
            <p:cNvPr id="1409" name=""/>
            <p:cNvSpPr/>
            <p:nvPr/>
          </p:nvSpPr>
          <p:spPr>
            <a:xfrm flipV="1">
              <a:off x="5608440" y="304524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rot="5400000">
              <a:off x="5495040" y="2988000"/>
              <a:ext cx="226080" cy="231480"/>
            </a:xfrm>
            <a:prstGeom prst="ellipse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6634080" y="4000680"/>
            <a:ext cx="288360" cy="231480"/>
            <a:chOff x="6634080" y="4000680"/>
            <a:chExt cx="288360" cy="231480"/>
          </a:xfrm>
        </p:grpSpPr>
        <p:sp>
          <p:nvSpPr>
            <p:cNvPr id="1412" name=""/>
            <p:cNvSpPr/>
            <p:nvPr/>
          </p:nvSpPr>
          <p:spPr>
            <a:xfrm flipH="1">
              <a:off x="6688080" y="411624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34080" y="4000680"/>
              <a:ext cx="226440" cy="23148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202440" y="41054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26120" y="4038480"/>
            <a:ext cx="7308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386000" y="266076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Observer_Exec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296720" y="345276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StatusInfo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987520" y="3668760"/>
            <a:ext cx="25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Observer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626120" y="14572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5440" y="4172040"/>
            <a:ext cx="22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atusInfo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341440" y="227340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58920" y="39304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25720" y="266076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Session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364000" y="2344680"/>
            <a:ext cx="14472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611280" y="3789360"/>
            <a:ext cx="600120" cy="304560"/>
            <a:chOff x="611280" y="3789360"/>
            <a:chExt cx="600120" cy="304560"/>
          </a:xfrm>
        </p:grpSpPr>
        <p:sp>
          <p:nvSpPr>
            <p:cNvPr id="1426" name=""/>
            <p:cNvSpPr/>
            <p:nvPr/>
          </p:nvSpPr>
          <p:spPr>
            <a:xfrm flipH="1">
              <a:off x="901800" y="3939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1280" y="37893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451640" y="838080"/>
            <a:ext cx="1512720" cy="935280"/>
            <a:chOff x="7451640" y="838080"/>
            <a:chExt cx="1512720" cy="935280"/>
          </a:xfrm>
        </p:grpSpPr>
        <p:sp>
          <p:nvSpPr>
            <p:cNvPr id="1429" name=""/>
            <p:cNvSpPr/>
            <p:nvPr/>
          </p:nvSpPr>
          <p:spPr>
            <a:xfrm>
              <a:off x="7862760" y="1161360"/>
              <a:ext cx="1101600" cy="612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7451640" y="1347840"/>
              <a:ext cx="431280" cy="238680"/>
              <a:chOff x="7451640" y="1347840"/>
              <a:chExt cx="431280" cy="238680"/>
            </a:xfrm>
          </p:grpSpPr>
          <p:sp>
            <p:nvSpPr>
              <p:cNvPr id="1431" name=""/>
              <p:cNvSpPr/>
              <p:nvPr/>
            </p:nvSpPr>
            <p:spPr>
              <a:xfrm flipH="1">
                <a:off x="7660440" y="1465560"/>
                <a:ext cx="22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51640" y="1347840"/>
                <a:ext cx="222480" cy="2386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8297640" y="838080"/>
              <a:ext cx="232560" cy="322920"/>
              <a:chOff x="8297640" y="838080"/>
              <a:chExt cx="232560" cy="322920"/>
            </a:xfrm>
          </p:grpSpPr>
          <p:sp>
            <p:nvSpPr>
              <p:cNvPr id="1434" name=""/>
              <p:cNvSpPr/>
              <p:nvPr/>
            </p:nvSpPr>
            <p:spPr>
              <a:xfrm flipV="1">
                <a:off x="8413920" y="898920"/>
                <a:ext cx="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5400000">
                <a:off x="8287200" y="848160"/>
                <a:ext cx="253080" cy="23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6" name=""/>
          <p:cNvGrpSpPr/>
          <p:nvPr/>
        </p:nvGrpSpPr>
        <p:grpSpPr>
          <a:xfrm>
            <a:off x="6626160" y="5037120"/>
            <a:ext cx="288360" cy="231840"/>
            <a:chOff x="6626160" y="5037120"/>
            <a:chExt cx="288360" cy="231840"/>
          </a:xfrm>
        </p:grpSpPr>
        <p:sp>
          <p:nvSpPr>
            <p:cNvPr id="1437" name=""/>
            <p:cNvSpPr/>
            <p:nvPr/>
          </p:nvSpPr>
          <p:spPr>
            <a:xfrm flipH="1">
              <a:off x="6680160" y="515304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26160" y="5037120"/>
              <a:ext cx="226440" cy="23184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Observer (1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ObserverComposition.Observer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Attributs internes pour IHM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nstructeur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bserverImpl() { ...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Pour interface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StatusInfo_Consume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sh(StatusInfo event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 Mise à jour IHM ..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/.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51640" y="838080"/>
            <a:ext cx="1512720" cy="935280"/>
            <a:chOff x="7451640" y="838080"/>
            <a:chExt cx="1512720" cy="935280"/>
          </a:xfrm>
        </p:grpSpPr>
        <p:sp>
          <p:nvSpPr>
            <p:cNvPr id="1442" name=""/>
            <p:cNvSpPr/>
            <p:nvPr/>
          </p:nvSpPr>
          <p:spPr>
            <a:xfrm>
              <a:off x="7862760" y="1161360"/>
              <a:ext cx="1101600" cy="612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7451640" y="1347840"/>
              <a:ext cx="431280" cy="238680"/>
              <a:chOff x="7451640" y="1347840"/>
              <a:chExt cx="431280" cy="238680"/>
            </a:xfrm>
          </p:grpSpPr>
          <p:sp>
            <p:nvSpPr>
              <p:cNvPr id="1444" name=""/>
              <p:cNvSpPr/>
              <p:nvPr/>
            </p:nvSpPr>
            <p:spPr>
              <a:xfrm flipH="1">
                <a:off x="7660440" y="1465560"/>
                <a:ext cx="22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51640" y="1347840"/>
                <a:ext cx="222480" cy="2386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8297640" y="838080"/>
              <a:ext cx="232560" cy="322920"/>
              <a:chOff x="8297640" y="838080"/>
              <a:chExt cx="232560" cy="322920"/>
            </a:xfrm>
          </p:grpSpPr>
          <p:sp>
            <p:nvSpPr>
              <p:cNvPr id="1447" name=""/>
              <p:cNvSpPr/>
              <p:nvPr/>
            </p:nvSpPr>
            <p:spPr>
              <a:xfrm flipV="1">
                <a:off x="8413920" y="898920"/>
                <a:ext cx="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5400000">
                <a:off x="8287200" y="848160"/>
                <a:ext cx="253080" cy="23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Observer (2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381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Surcharge des opération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ssionCompon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activ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CCMEx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 Afficher IHM ...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assiv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CCMEx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 Cacher IHM ...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remove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CCMEx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 Libérer les ressources IHM ...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7451640" y="838080"/>
            <a:ext cx="1512720" cy="935280"/>
            <a:chOff x="7451640" y="838080"/>
            <a:chExt cx="1512720" cy="935280"/>
          </a:xfrm>
        </p:grpSpPr>
        <p:sp>
          <p:nvSpPr>
            <p:cNvPr id="1452" name=""/>
            <p:cNvSpPr/>
            <p:nvPr/>
          </p:nvSpPr>
          <p:spPr>
            <a:xfrm>
              <a:off x="7862760" y="1161360"/>
              <a:ext cx="1101600" cy="612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7451640" y="1347840"/>
              <a:ext cx="431280" cy="238680"/>
              <a:chOff x="7451640" y="1347840"/>
              <a:chExt cx="431280" cy="238680"/>
            </a:xfrm>
          </p:grpSpPr>
          <p:sp>
            <p:nvSpPr>
              <p:cNvPr id="1454" name=""/>
              <p:cNvSpPr/>
              <p:nvPr/>
            </p:nvSpPr>
            <p:spPr>
              <a:xfrm flipH="1">
                <a:off x="7660440" y="1465560"/>
                <a:ext cx="22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451640" y="1347840"/>
                <a:ext cx="222480" cy="2386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8297640" y="838080"/>
              <a:ext cx="232560" cy="322920"/>
              <a:chOff x="8297640" y="838080"/>
              <a:chExt cx="232560" cy="32292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8413920" y="898920"/>
                <a:ext cx="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5400000">
                <a:off x="8287200" y="848160"/>
                <a:ext cx="253080" cy="23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osition OMG C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sition session PhilosopherComposi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executor PhilosopherHome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DiningPhilosophers::PhilosopherHom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PhilosopherBas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’implant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3181320"/>
            <a:ext cx="8353440" cy="158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3" name=""/>
          <p:cNvCxnSpPr>
            <a:stCxn id="1464" idx="0"/>
            <a:endCxn id="1465" idx="2"/>
          </p:cNvCxnSpPr>
          <p:nvPr/>
        </p:nvCxnSpPr>
        <p:spPr>
          <a:xfrm flipV="1">
            <a:off x="2093400" y="4477680"/>
            <a:ext cx="1080" cy="71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6" name=""/>
          <p:cNvCxnSpPr>
            <a:stCxn id="1467" idx="0"/>
            <a:endCxn id="1468" idx="2"/>
          </p:cNvCxnSpPr>
          <p:nvPr/>
        </p:nvCxnSpPr>
        <p:spPr>
          <a:xfrm flipV="1">
            <a:off x="7049880" y="4477680"/>
            <a:ext cx="1080" cy="71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9" name=""/>
          <p:cNvCxnSpPr>
            <a:stCxn id="1470" idx="3"/>
            <a:endCxn id="1471" idx="1"/>
          </p:cNvCxnSpPr>
          <p:nvPr/>
        </p:nvCxnSpPr>
        <p:spPr>
          <a:xfrm>
            <a:off x="3276720" y="5754240"/>
            <a:ext cx="259128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1472" name=""/>
          <p:cNvGrpSpPr/>
          <p:nvPr/>
        </p:nvGrpSpPr>
        <p:grpSpPr>
          <a:xfrm>
            <a:off x="911160" y="3367080"/>
            <a:ext cx="2365560" cy="1111320"/>
            <a:chOff x="911160" y="3367080"/>
            <a:chExt cx="2365560" cy="1111320"/>
          </a:xfrm>
        </p:grpSpPr>
        <p:sp>
          <p:nvSpPr>
            <p:cNvPr id="1473" name=""/>
            <p:cNvSpPr/>
            <p:nvPr/>
          </p:nvSpPr>
          <p:spPr>
            <a:xfrm>
              <a:off x="911160" y="336708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hilosopherHome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11160" y="373860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11160" y="410832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867280" y="3367080"/>
            <a:ext cx="2365560" cy="1111320"/>
            <a:chOff x="5867280" y="3367080"/>
            <a:chExt cx="2365560" cy="1111320"/>
          </a:xfrm>
        </p:grpSpPr>
        <p:sp>
          <p:nvSpPr>
            <p:cNvPr id="1476" name=""/>
            <p:cNvSpPr/>
            <p:nvPr/>
          </p:nvSpPr>
          <p:spPr>
            <a:xfrm>
              <a:off x="5867280" y="336708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hilosopher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67280" y="373860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867280" y="410832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5867280" y="5197320"/>
            <a:ext cx="2365560" cy="1111320"/>
            <a:chOff x="5867280" y="5197320"/>
            <a:chExt cx="2365560" cy="1111320"/>
          </a:xfrm>
        </p:grpSpPr>
        <p:sp>
          <p:nvSpPr>
            <p:cNvPr id="1467" name=""/>
            <p:cNvSpPr/>
            <p:nvPr/>
          </p:nvSpPr>
          <p:spPr>
            <a:xfrm>
              <a:off x="5867280" y="519732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hilosopher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867280" y="556884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67280" y="593856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911160" y="5197320"/>
            <a:ext cx="2365560" cy="1111320"/>
            <a:chOff x="911160" y="5197320"/>
            <a:chExt cx="2365560" cy="1111320"/>
          </a:xfrm>
        </p:grpSpPr>
        <p:sp>
          <p:nvSpPr>
            <p:cNvPr id="1464" name=""/>
            <p:cNvSpPr/>
            <p:nvPr/>
          </p:nvSpPr>
          <p:spPr>
            <a:xfrm>
              <a:off x="911160" y="519732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hilosopherHome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11160" y="556884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911160" y="593856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4126320" y="5415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tanc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44000" y="2781720"/>
            <a:ext cx="32043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hilosopher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991280" cy="14065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 flipV="1">
            <a:off x="2093760" y="2492280"/>
            <a:ext cx="0" cy="865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7050240" y="2492280"/>
            <a:ext cx="0" cy="865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Philosopher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HomeImpl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Composition.PhilosopherHome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// Le constructeur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PhilosopherHomeImpl() {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Pour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hilosopherHom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rg.omg.Components.EnterpriseCompon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_new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String name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Philosopher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ame)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Fabrique des implantations de segm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rg.omg.Components.ExecutorSegment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executor_segmen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t segid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ull)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point d'entrée pour le déploiem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static org.omg.Components.HomeExecutor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PhilosopherHome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20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nception des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cevoir des composants CORBA = identifier 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ypes de composants et leurs 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faces et événements d’interaction (~ typage des por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ypes de maisons de composants et leurs opé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ypes de données et exceptions utilit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Via une not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aphique informe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fil UML 2.0 pour CCM (non exista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fil UML 1.x pour CCM (en cours de standardisation OM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IDL 3.0 défini dans CORBA 3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ependant une plate-forme CCM « classique » ne comprend que la notation OMG IDL 3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outefois OpenCCM compile aussi des fichiers XMI UML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73000" y="2200320"/>
            <a:ext cx="73454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1779480" y="1789200"/>
            <a:ext cx="324000" cy="411120"/>
            <a:chOff x="1779480" y="1789200"/>
            <a:chExt cx="324000" cy="411120"/>
          </a:xfrm>
        </p:grpSpPr>
        <p:sp>
          <p:nvSpPr>
            <p:cNvPr id="1492" name=""/>
            <p:cNvSpPr/>
            <p:nvPr/>
          </p:nvSpPr>
          <p:spPr>
            <a:xfrm flipV="1">
              <a:off x="1941480" y="18669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1780200" y="17881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881360" y="3278160"/>
            <a:ext cx="4032000" cy="15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ilosopher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ilosoph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562800" y="2631960"/>
            <a:ext cx="136836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2025720" y="2990880"/>
            <a:ext cx="231840" cy="288360"/>
            <a:chOff x="2025720" y="2990880"/>
            <a:chExt cx="231840" cy="288360"/>
          </a:xfrm>
        </p:grpSpPr>
        <p:sp>
          <p:nvSpPr>
            <p:cNvPr id="1497" name=""/>
            <p:cNvSpPr/>
            <p:nvPr/>
          </p:nvSpPr>
          <p:spPr>
            <a:xfrm flipV="1">
              <a:off x="2141640" y="304524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5400000">
              <a:off x="2028600" y="2988000"/>
              <a:ext cx="226080" cy="23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5132160" y="2990880"/>
            <a:ext cx="231480" cy="288360"/>
            <a:chOff x="5132160" y="2990880"/>
            <a:chExt cx="231480" cy="288360"/>
          </a:xfrm>
        </p:grpSpPr>
        <p:sp>
          <p:nvSpPr>
            <p:cNvPr id="1500" name=""/>
            <p:cNvSpPr/>
            <p:nvPr/>
          </p:nvSpPr>
          <p:spPr>
            <a:xfrm flipV="1">
              <a:off x="5248080" y="304524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5400000">
              <a:off x="5134680" y="2988000"/>
              <a:ext cx="226080" cy="231480"/>
            </a:xfrm>
            <a:prstGeom prst="ellipse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6273720" y="4000680"/>
            <a:ext cx="288360" cy="231480"/>
            <a:chOff x="6273720" y="4000680"/>
            <a:chExt cx="288360" cy="231480"/>
          </a:xfrm>
        </p:grpSpPr>
        <p:sp>
          <p:nvSpPr>
            <p:cNvPr id="1503" name=""/>
            <p:cNvSpPr/>
            <p:nvPr/>
          </p:nvSpPr>
          <p:spPr>
            <a:xfrm flipH="1">
              <a:off x="6327720" y="411624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73720" y="4000680"/>
              <a:ext cx="226440" cy="23148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>
            <a:off x="5842080" y="41054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765760" y="4038480"/>
            <a:ext cx="7308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956880" y="2660760"/>
            <a:ext cx="28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Philosopher_Exec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98320" y="3573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Philosopher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268280" y="1457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Philoso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981080" y="227340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365360" y="266076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ssion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003640" y="2344680"/>
            <a:ext cx="14472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889760" y="4797360"/>
            <a:ext cx="642960" cy="304920"/>
            <a:chOff x="7889760" y="4797360"/>
            <a:chExt cx="642960" cy="304920"/>
          </a:xfrm>
        </p:grpSpPr>
        <p:sp>
          <p:nvSpPr>
            <p:cNvPr id="1514" name=""/>
            <p:cNvSpPr/>
            <p:nvPr/>
          </p:nvSpPr>
          <p:spPr>
            <a:xfrm flipH="1">
              <a:off x="8020080" y="495000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89760" y="487692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240760" y="47973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7899480" y="3860640"/>
            <a:ext cx="775800" cy="609840"/>
            <a:chOff x="7899480" y="3860640"/>
            <a:chExt cx="775800" cy="609840"/>
          </a:xfrm>
        </p:grpSpPr>
        <p:grpSp>
          <p:nvGrpSpPr>
            <p:cNvPr id="1518" name=""/>
            <p:cNvGrpSpPr/>
            <p:nvPr/>
          </p:nvGrpSpPr>
          <p:grpSpPr>
            <a:xfrm>
              <a:off x="7899480" y="4132080"/>
              <a:ext cx="238680" cy="85680"/>
              <a:chOff x="7899480" y="4132080"/>
              <a:chExt cx="238680" cy="85680"/>
            </a:xfrm>
          </p:grpSpPr>
          <p:sp>
            <p:nvSpPr>
              <p:cNvPr id="1519" name=""/>
              <p:cNvSpPr/>
              <p:nvPr/>
            </p:nvSpPr>
            <p:spPr>
              <a:xfrm flipH="1">
                <a:off x="7959240" y="417492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899480" y="413208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 rot="16200000">
              <a:off x="8103600" y="389880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7899480" y="2923920"/>
            <a:ext cx="775800" cy="609480"/>
            <a:chOff x="7899480" y="2923920"/>
            <a:chExt cx="775800" cy="609480"/>
          </a:xfrm>
        </p:grpSpPr>
        <p:grpSp>
          <p:nvGrpSpPr>
            <p:cNvPr id="1523" name=""/>
            <p:cNvGrpSpPr/>
            <p:nvPr/>
          </p:nvGrpSpPr>
          <p:grpSpPr>
            <a:xfrm>
              <a:off x="7899480" y="3195360"/>
              <a:ext cx="238680" cy="85320"/>
              <a:chOff x="7899480" y="3195360"/>
              <a:chExt cx="238680" cy="85320"/>
            </a:xfrm>
          </p:grpSpPr>
          <p:sp>
            <p:nvSpPr>
              <p:cNvPr id="1524" name=""/>
              <p:cNvSpPr/>
              <p:nvPr/>
            </p:nvSpPr>
            <p:spPr>
              <a:xfrm flipH="1">
                <a:off x="7959240" y="323784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899480" y="319536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 rot="16200000">
              <a:off x="8103960" y="296208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5631480" y="525312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ssion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6265800" y="5037120"/>
            <a:ext cx="288360" cy="231840"/>
            <a:chOff x="6265800" y="5037120"/>
            <a:chExt cx="288360" cy="231840"/>
          </a:xfrm>
        </p:grpSpPr>
        <p:sp>
          <p:nvSpPr>
            <p:cNvPr id="1529" name=""/>
            <p:cNvSpPr/>
            <p:nvPr/>
          </p:nvSpPr>
          <p:spPr>
            <a:xfrm flipH="1">
              <a:off x="6319800" y="515304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65800" y="5037120"/>
              <a:ext cx="226440" cy="23184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7380360" y="981000"/>
            <a:ext cx="1750320" cy="1023840"/>
            <a:chOff x="7380360" y="981000"/>
            <a:chExt cx="1750320" cy="1023840"/>
          </a:xfrm>
        </p:grpSpPr>
        <p:sp>
          <p:nvSpPr>
            <p:cNvPr id="1532" name=""/>
            <p:cNvSpPr/>
            <p:nvPr/>
          </p:nvSpPr>
          <p:spPr>
            <a:xfrm>
              <a:off x="7423200" y="119340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8716320" y="1213560"/>
              <a:ext cx="414360" cy="232920"/>
              <a:chOff x="8716320" y="1213560"/>
              <a:chExt cx="414360" cy="232920"/>
            </a:xfrm>
          </p:grpSpPr>
          <p:grpSp>
            <p:nvGrpSpPr>
              <p:cNvPr id="1534" name=""/>
              <p:cNvGrpSpPr/>
              <p:nvPr/>
            </p:nvGrpSpPr>
            <p:grpSpPr>
              <a:xfrm>
                <a:off x="8716320" y="1317600"/>
                <a:ext cx="127080" cy="32400"/>
                <a:chOff x="8716320" y="1317600"/>
                <a:chExt cx="127080" cy="32400"/>
              </a:xfrm>
            </p:grpSpPr>
            <p:sp>
              <p:nvSpPr>
                <p:cNvPr id="1535" name=""/>
                <p:cNvSpPr/>
                <p:nvPr/>
              </p:nvSpPr>
              <p:spPr>
                <a:xfrm flipH="1">
                  <a:off x="8748000" y="133380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16320" y="131760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7" name=""/>
              <p:cNvSpPr/>
              <p:nvPr/>
            </p:nvSpPr>
            <p:spPr>
              <a:xfrm rot="16200000">
                <a:off x="8871840" y="118764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8716320" y="1485000"/>
              <a:ext cx="414360" cy="232920"/>
              <a:chOff x="8716320" y="1485000"/>
              <a:chExt cx="414360" cy="232920"/>
            </a:xfrm>
          </p:grpSpPr>
          <p:grpSp>
            <p:nvGrpSpPr>
              <p:cNvPr id="1539" name=""/>
              <p:cNvGrpSpPr/>
              <p:nvPr/>
            </p:nvGrpSpPr>
            <p:grpSpPr>
              <a:xfrm>
                <a:off x="8716320" y="1589040"/>
                <a:ext cx="127080" cy="32400"/>
                <a:chOff x="8716320" y="1589040"/>
                <a:chExt cx="127080" cy="32400"/>
              </a:xfrm>
            </p:grpSpPr>
            <p:sp>
              <p:nvSpPr>
                <p:cNvPr id="1540" name=""/>
                <p:cNvSpPr/>
                <p:nvPr/>
              </p:nvSpPr>
              <p:spPr>
                <a:xfrm flipH="1">
                  <a:off x="8748000" y="160524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16320" y="158904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2" name=""/>
              <p:cNvSpPr/>
              <p:nvPr/>
            </p:nvSpPr>
            <p:spPr>
              <a:xfrm rot="16200000">
                <a:off x="8871840" y="145908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8716320" y="1796400"/>
              <a:ext cx="345600" cy="116280"/>
              <a:chOff x="8716320" y="1796400"/>
              <a:chExt cx="345600" cy="116280"/>
            </a:xfrm>
          </p:grpSpPr>
          <p:sp>
            <p:nvSpPr>
              <p:cNvPr id="1544" name=""/>
              <p:cNvSpPr/>
              <p:nvPr/>
            </p:nvSpPr>
            <p:spPr>
              <a:xfrm flipH="1">
                <a:off x="8785800" y="185472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716320" y="182664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904960" y="179640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7380360" y="168120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18880" y="142344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8024040" y="981000"/>
              <a:ext cx="294120" cy="208440"/>
              <a:chOff x="8024040" y="981000"/>
              <a:chExt cx="294120" cy="208440"/>
            </a:xfrm>
          </p:grpSpPr>
          <p:sp>
            <p:nvSpPr>
              <p:cNvPr id="1550" name=""/>
              <p:cNvSpPr/>
              <p:nvPr/>
            </p:nvSpPr>
            <p:spPr>
              <a:xfrm flipV="1">
                <a:off x="8171280" y="101988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5400000">
                <a:off x="8089200" y="91584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interfaces de l’exécute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local interfac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hilosopher_Executor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EnterpriseCompon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1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local interface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hilosopher_Contex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Contex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Obtenir la fourchette gauche actuellement connecté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get_connection_lef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Obtenir la fourchette droite actuellement connecté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1" lang="fr-F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get_connection_righ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Envoyer un événement à tous les puits connecté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1" lang="fr-F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sh_info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atusInfo ev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7380360" y="981000"/>
            <a:ext cx="1750320" cy="1023840"/>
            <a:chOff x="7380360" y="981000"/>
            <a:chExt cx="1750320" cy="1023840"/>
          </a:xfrm>
        </p:grpSpPr>
        <p:sp>
          <p:nvSpPr>
            <p:cNvPr id="1555" name=""/>
            <p:cNvSpPr/>
            <p:nvPr/>
          </p:nvSpPr>
          <p:spPr>
            <a:xfrm>
              <a:off x="7423200" y="119340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8716320" y="1213560"/>
              <a:ext cx="414360" cy="232920"/>
              <a:chOff x="8716320" y="1213560"/>
              <a:chExt cx="414360" cy="232920"/>
            </a:xfrm>
          </p:grpSpPr>
          <p:grpSp>
            <p:nvGrpSpPr>
              <p:cNvPr id="1557" name=""/>
              <p:cNvGrpSpPr/>
              <p:nvPr/>
            </p:nvGrpSpPr>
            <p:grpSpPr>
              <a:xfrm>
                <a:off x="8716320" y="1317600"/>
                <a:ext cx="127080" cy="32400"/>
                <a:chOff x="8716320" y="1317600"/>
                <a:chExt cx="127080" cy="32400"/>
              </a:xfrm>
            </p:grpSpPr>
            <p:sp>
              <p:nvSpPr>
                <p:cNvPr id="1558" name=""/>
                <p:cNvSpPr/>
                <p:nvPr/>
              </p:nvSpPr>
              <p:spPr>
                <a:xfrm flipH="1">
                  <a:off x="8748000" y="133380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16320" y="131760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0" name=""/>
              <p:cNvSpPr/>
              <p:nvPr/>
            </p:nvSpPr>
            <p:spPr>
              <a:xfrm rot="16200000">
                <a:off x="8871840" y="118764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8716320" y="1485000"/>
              <a:ext cx="414360" cy="232920"/>
              <a:chOff x="8716320" y="1485000"/>
              <a:chExt cx="414360" cy="232920"/>
            </a:xfrm>
          </p:grpSpPr>
          <p:grpSp>
            <p:nvGrpSpPr>
              <p:cNvPr id="1562" name=""/>
              <p:cNvGrpSpPr/>
              <p:nvPr/>
            </p:nvGrpSpPr>
            <p:grpSpPr>
              <a:xfrm>
                <a:off x="8716320" y="1589040"/>
                <a:ext cx="127080" cy="32400"/>
                <a:chOff x="8716320" y="1589040"/>
                <a:chExt cx="127080" cy="32400"/>
              </a:xfrm>
            </p:grpSpPr>
            <p:sp>
              <p:nvSpPr>
                <p:cNvPr id="1563" name=""/>
                <p:cNvSpPr/>
                <p:nvPr/>
              </p:nvSpPr>
              <p:spPr>
                <a:xfrm flipH="1">
                  <a:off x="8748000" y="160524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16320" y="158904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5" name=""/>
              <p:cNvSpPr/>
              <p:nvPr/>
            </p:nvSpPr>
            <p:spPr>
              <a:xfrm rot="16200000">
                <a:off x="8871840" y="145908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8716320" y="1796400"/>
              <a:ext cx="345600" cy="116280"/>
              <a:chOff x="8716320" y="1796400"/>
              <a:chExt cx="345600" cy="116280"/>
            </a:xfrm>
          </p:grpSpPr>
          <p:sp>
            <p:nvSpPr>
              <p:cNvPr id="1567" name=""/>
              <p:cNvSpPr/>
              <p:nvPr/>
            </p:nvSpPr>
            <p:spPr>
              <a:xfrm flipH="1">
                <a:off x="8785800" y="185472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716320" y="182664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8904960" y="179640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7380360" y="168120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418880" y="142344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8024040" y="981000"/>
              <a:ext cx="294120" cy="208440"/>
              <a:chOff x="8024040" y="981000"/>
              <a:chExt cx="294120" cy="208440"/>
            </a:xfrm>
          </p:grpSpPr>
          <p:sp>
            <p:nvSpPr>
              <p:cNvPr id="1573" name=""/>
              <p:cNvSpPr/>
              <p:nvPr/>
            </p:nvSpPr>
            <p:spPr>
              <a:xfrm flipV="1">
                <a:off x="8171280" y="101988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5400000">
                <a:off x="8089200" y="91584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 (1/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hilosopherComposition.Philosopher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java.lang.Runn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Attribut pour stocker le nom du philosop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ivate String name_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nstructeur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PhilosopherImpl(String name) {name_=name;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Pour interface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Philosopher_Executor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String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{ return name_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String n) { name_ = n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/.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7380360" y="692280"/>
            <a:ext cx="1750320" cy="1023840"/>
            <a:chOff x="7380360" y="692280"/>
            <a:chExt cx="1750320" cy="1023840"/>
          </a:xfrm>
        </p:grpSpPr>
        <p:sp>
          <p:nvSpPr>
            <p:cNvPr id="1578" name=""/>
            <p:cNvSpPr/>
            <p:nvPr/>
          </p:nvSpPr>
          <p:spPr>
            <a:xfrm>
              <a:off x="7423200" y="90468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8716320" y="924840"/>
              <a:ext cx="414360" cy="232920"/>
              <a:chOff x="8716320" y="924840"/>
              <a:chExt cx="414360" cy="23292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8716320" y="1028880"/>
                <a:ext cx="127080" cy="32400"/>
                <a:chOff x="8716320" y="1028880"/>
                <a:chExt cx="127080" cy="32400"/>
              </a:xfrm>
            </p:grpSpPr>
            <p:sp>
              <p:nvSpPr>
                <p:cNvPr id="1581" name=""/>
                <p:cNvSpPr/>
                <p:nvPr/>
              </p:nvSpPr>
              <p:spPr>
                <a:xfrm flipH="1">
                  <a:off x="8748000" y="104508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16320" y="102888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3" name=""/>
              <p:cNvSpPr/>
              <p:nvPr/>
            </p:nvSpPr>
            <p:spPr>
              <a:xfrm rot="16200000">
                <a:off x="8871840" y="89892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8716320" y="1196280"/>
              <a:ext cx="414360" cy="232920"/>
              <a:chOff x="8716320" y="1196280"/>
              <a:chExt cx="414360" cy="232920"/>
            </a:xfrm>
          </p:grpSpPr>
          <p:grpSp>
            <p:nvGrpSpPr>
              <p:cNvPr id="1585" name=""/>
              <p:cNvGrpSpPr/>
              <p:nvPr/>
            </p:nvGrpSpPr>
            <p:grpSpPr>
              <a:xfrm>
                <a:off x="8716320" y="1300320"/>
                <a:ext cx="127080" cy="32400"/>
                <a:chOff x="8716320" y="1300320"/>
                <a:chExt cx="127080" cy="32400"/>
              </a:xfrm>
            </p:grpSpPr>
            <p:sp>
              <p:nvSpPr>
                <p:cNvPr id="1586" name=""/>
                <p:cNvSpPr/>
                <p:nvPr/>
              </p:nvSpPr>
              <p:spPr>
                <a:xfrm flipH="1">
                  <a:off x="8748000" y="131652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16320" y="130032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" name=""/>
              <p:cNvSpPr/>
              <p:nvPr/>
            </p:nvSpPr>
            <p:spPr>
              <a:xfrm rot="16200000">
                <a:off x="8871840" y="117036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8716320" y="1507680"/>
              <a:ext cx="345600" cy="116280"/>
              <a:chOff x="8716320" y="1507680"/>
              <a:chExt cx="345600" cy="116280"/>
            </a:xfrm>
          </p:grpSpPr>
          <p:sp>
            <p:nvSpPr>
              <p:cNvPr id="1590" name=""/>
              <p:cNvSpPr/>
              <p:nvPr/>
            </p:nvSpPr>
            <p:spPr>
              <a:xfrm flipH="1">
                <a:off x="8785800" y="15660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716320" y="153792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904960" y="150768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7380360" y="139248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418880" y="11347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8024040" y="692280"/>
              <a:ext cx="294120" cy="208440"/>
              <a:chOff x="8024040" y="692280"/>
              <a:chExt cx="294120" cy="208440"/>
            </a:xfrm>
          </p:grpSpPr>
          <p:sp>
            <p:nvSpPr>
              <p:cNvPr id="1596" name=""/>
              <p:cNvSpPr/>
              <p:nvPr/>
            </p:nvSpPr>
            <p:spPr>
              <a:xfrm flipV="1">
                <a:off x="8171280" y="73116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5400000">
                <a:off x="8089200" y="62712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 (2/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Surcharge des opération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nterpriseCompon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figuration_comple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InvalidConfigur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Vérifier si la configuration est correc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f( (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ame_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== nul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|| (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==nul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|| (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==null)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 new</a:t>
            </a:r>
            <a:br>
              <a:rPr sz="2000"/>
            </a:b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org.omg.Components.InvalidConfiguration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68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7380360" y="692280"/>
            <a:ext cx="1750320" cy="1023840"/>
            <a:chOff x="7380360" y="692280"/>
            <a:chExt cx="1750320" cy="1023840"/>
          </a:xfrm>
        </p:grpSpPr>
        <p:sp>
          <p:nvSpPr>
            <p:cNvPr id="1601" name=""/>
            <p:cNvSpPr/>
            <p:nvPr/>
          </p:nvSpPr>
          <p:spPr>
            <a:xfrm>
              <a:off x="7423200" y="90468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8716320" y="924840"/>
              <a:ext cx="414360" cy="232920"/>
              <a:chOff x="8716320" y="924840"/>
              <a:chExt cx="414360" cy="23292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8716320" y="1028880"/>
                <a:ext cx="127080" cy="32400"/>
                <a:chOff x="8716320" y="1028880"/>
                <a:chExt cx="127080" cy="324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8748000" y="104508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16320" y="102888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" name=""/>
              <p:cNvSpPr/>
              <p:nvPr/>
            </p:nvSpPr>
            <p:spPr>
              <a:xfrm rot="16200000">
                <a:off x="8871840" y="89892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8716320" y="1196280"/>
              <a:ext cx="414360" cy="232920"/>
              <a:chOff x="8716320" y="1196280"/>
              <a:chExt cx="414360" cy="232920"/>
            </a:xfrm>
          </p:grpSpPr>
          <p:grpSp>
            <p:nvGrpSpPr>
              <p:cNvPr id="1608" name=""/>
              <p:cNvGrpSpPr/>
              <p:nvPr/>
            </p:nvGrpSpPr>
            <p:grpSpPr>
              <a:xfrm>
                <a:off x="8716320" y="1300320"/>
                <a:ext cx="127080" cy="32400"/>
                <a:chOff x="8716320" y="1300320"/>
                <a:chExt cx="127080" cy="32400"/>
              </a:xfrm>
            </p:grpSpPr>
            <p:sp>
              <p:nvSpPr>
                <p:cNvPr id="1609" name=""/>
                <p:cNvSpPr/>
                <p:nvPr/>
              </p:nvSpPr>
              <p:spPr>
                <a:xfrm flipH="1">
                  <a:off x="8748000" y="131652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16320" y="130032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 rot="16200000">
                <a:off x="8871840" y="117036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8716320" y="1507680"/>
              <a:ext cx="345600" cy="116280"/>
              <a:chOff x="8716320" y="1507680"/>
              <a:chExt cx="345600" cy="116280"/>
            </a:xfrm>
          </p:grpSpPr>
          <p:sp>
            <p:nvSpPr>
              <p:cNvPr id="1613" name=""/>
              <p:cNvSpPr/>
              <p:nvPr/>
            </p:nvSpPr>
            <p:spPr>
              <a:xfrm flipH="1">
                <a:off x="8785800" y="15660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716320" y="153792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904960" y="150768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7380360" y="139248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18880" y="11347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8024040" y="692280"/>
              <a:ext cx="294120" cy="208440"/>
              <a:chOff x="8024040" y="692280"/>
              <a:chExt cx="294120" cy="208440"/>
            </a:xfrm>
          </p:grpSpPr>
          <p:sp>
            <p:nvSpPr>
              <p:cNvPr id="1619" name=""/>
              <p:cNvSpPr/>
              <p:nvPr/>
            </p:nvSpPr>
            <p:spPr>
              <a:xfrm flipV="1">
                <a:off x="8171280" y="73116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5400000">
                <a:off x="8089200" y="62712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 (3/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Surcharge des opération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ssionCompon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'activité associée au philosop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ivate java.lang.Threa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rtem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_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activat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CCMEx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rtement_ = new Thread(this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rtement_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ar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cm_remov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throws org.omg.Components.CCMExcep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comportement_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op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7380360" y="692280"/>
            <a:ext cx="1750320" cy="1023840"/>
            <a:chOff x="7380360" y="692280"/>
            <a:chExt cx="1750320" cy="1023840"/>
          </a:xfrm>
        </p:grpSpPr>
        <p:sp>
          <p:nvSpPr>
            <p:cNvPr id="1624" name=""/>
            <p:cNvSpPr/>
            <p:nvPr/>
          </p:nvSpPr>
          <p:spPr>
            <a:xfrm>
              <a:off x="7423200" y="90468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8716320" y="924840"/>
              <a:ext cx="414360" cy="232920"/>
              <a:chOff x="8716320" y="924840"/>
              <a:chExt cx="414360" cy="23292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8716320" y="1028880"/>
                <a:ext cx="127080" cy="32400"/>
                <a:chOff x="8716320" y="1028880"/>
                <a:chExt cx="127080" cy="32400"/>
              </a:xfrm>
            </p:grpSpPr>
            <p:sp>
              <p:nvSpPr>
                <p:cNvPr id="1627" name=""/>
                <p:cNvSpPr/>
                <p:nvPr/>
              </p:nvSpPr>
              <p:spPr>
                <a:xfrm flipH="1">
                  <a:off x="8748000" y="104508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16320" y="102888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9" name=""/>
              <p:cNvSpPr/>
              <p:nvPr/>
            </p:nvSpPr>
            <p:spPr>
              <a:xfrm rot="16200000">
                <a:off x="8871840" y="89892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8716320" y="1196280"/>
              <a:ext cx="414360" cy="232920"/>
              <a:chOff x="8716320" y="1196280"/>
              <a:chExt cx="414360" cy="232920"/>
            </a:xfrm>
          </p:grpSpPr>
          <p:grpSp>
            <p:nvGrpSpPr>
              <p:cNvPr id="1631" name=""/>
              <p:cNvGrpSpPr/>
              <p:nvPr/>
            </p:nvGrpSpPr>
            <p:grpSpPr>
              <a:xfrm>
                <a:off x="8716320" y="1300320"/>
                <a:ext cx="127080" cy="32400"/>
                <a:chOff x="8716320" y="1300320"/>
                <a:chExt cx="127080" cy="32400"/>
              </a:xfrm>
            </p:grpSpPr>
            <p:sp>
              <p:nvSpPr>
                <p:cNvPr id="1632" name=""/>
                <p:cNvSpPr/>
                <p:nvPr/>
              </p:nvSpPr>
              <p:spPr>
                <a:xfrm flipH="1">
                  <a:off x="8748000" y="131652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716320" y="130032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4" name=""/>
              <p:cNvSpPr/>
              <p:nvPr/>
            </p:nvSpPr>
            <p:spPr>
              <a:xfrm rot="16200000">
                <a:off x="8871840" y="117036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8716320" y="1507680"/>
              <a:ext cx="345600" cy="116280"/>
              <a:chOff x="8716320" y="1507680"/>
              <a:chExt cx="345600" cy="116280"/>
            </a:xfrm>
          </p:grpSpPr>
          <p:sp>
            <p:nvSpPr>
              <p:cNvPr id="1636" name=""/>
              <p:cNvSpPr/>
              <p:nvPr/>
            </p:nvSpPr>
            <p:spPr>
              <a:xfrm flipH="1">
                <a:off x="8785800" y="15660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716320" y="153792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904960" y="150768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7380360" y="139248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418880" y="11347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8024040" y="692280"/>
              <a:ext cx="294120" cy="208440"/>
              <a:chOff x="8024040" y="692280"/>
              <a:chExt cx="294120" cy="208440"/>
            </a:xfrm>
          </p:grpSpPr>
          <p:sp>
            <p:nvSpPr>
              <p:cNvPr id="1642" name=""/>
              <p:cNvSpPr/>
              <p:nvPr/>
            </p:nvSpPr>
            <p:spPr>
              <a:xfrm flipV="1">
                <a:off x="8171280" y="73116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5400000">
                <a:off x="8089200" y="62712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 (4/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mportement du philosoph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un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Envoyer son état aux observateurs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sh_info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StatusInfoImpl(...)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Prendre les fourchettes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Rendre les fourchettes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lef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ele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tex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righ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.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ele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7380360" y="692280"/>
            <a:ext cx="1750320" cy="1023840"/>
            <a:chOff x="7380360" y="692280"/>
            <a:chExt cx="1750320" cy="1023840"/>
          </a:xfrm>
        </p:grpSpPr>
        <p:sp>
          <p:nvSpPr>
            <p:cNvPr id="1647" name=""/>
            <p:cNvSpPr/>
            <p:nvPr/>
          </p:nvSpPr>
          <p:spPr>
            <a:xfrm>
              <a:off x="7423200" y="904680"/>
              <a:ext cx="1389240" cy="796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8" name=""/>
            <p:cNvGrpSpPr/>
            <p:nvPr/>
          </p:nvGrpSpPr>
          <p:grpSpPr>
            <a:xfrm>
              <a:off x="8716320" y="924840"/>
              <a:ext cx="414360" cy="232920"/>
              <a:chOff x="8716320" y="924840"/>
              <a:chExt cx="414360" cy="232920"/>
            </a:xfrm>
          </p:grpSpPr>
          <p:grpSp>
            <p:nvGrpSpPr>
              <p:cNvPr id="1649" name=""/>
              <p:cNvGrpSpPr/>
              <p:nvPr/>
            </p:nvGrpSpPr>
            <p:grpSpPr>
              <a:xfrm>
                <a:off x="8716320" y="1028880"/>
                <a:ext cx="127080" cy="32400"/>
                <a:chOff x="8716320" y="1028880"/>
                <a:chExt cx="127080" cy="32400"/>
              </a:xfrm>
            </p:grpSpPr>
            <p:sp>
              <p:nvSpPr>
                <p:cNvPr id="1650" name=""/>
                <p:cNvSpPr/>
                <p:nvPr/>
              </p:nvSpPr>
              <p:spPr>
                <a:xfrm flipH="1">
                  <a:off x="8748000" y="104508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716320" y="102888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2" name=""/>
              <p:cNvSpPr/>
              <p:nvPr/>
            </p:nvSpPr>
            <p:spPr>
              <a:xfrm rot="16200000">
                <a:off x="8871840" y="89892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8716320" y="1196280"/>
              <a:ext cx="414360" cy="232920"/>
              <a:chOff x="8716320" y="1196280"/>
              <a:chExt cx="414360" cy="232920"/>
            </a:xfrm>
          </p:grpSpPr>
          <p:grpSp>
            <p:nvGrpSpPr>
              <p:cNvPr id="1654" name=""/>
              <p:cNvGrpSpPr/>
              <p:nvPr/>
            </p:nvGrpSpPr>
            <p:grpSpPr>
              <a:xfrm>
                <a:off x="8716320" y="1300320"/>
                <a:ext cx="127080" cy="32400"/>
                <a:chOff x="8716320" y="1300320"/>
                <a:chExt cx="127080" cy="32400"/>
              </a:xfrm>
            </p:grpSpPr>
            <p:sp>
              <p:nvSpPr>
                <p:cNvPr id="1655" name=""/>
                <p:cNvSpPr/>
                <p:nvPr/>
              </p:nvSpPr>
              <p:spPr>
                <a:xfrm flipH="1">
                  <a:off x="8748000" y="1316520"/>
                  <a:ext cx="954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716320" y="1300320"/>
                  <a:ext cx="47160" cy="32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"/>
              <p:cNvSpPr/>
              <p:nvPr/>
            </p:nvSpPr>
            <p:spPr>
              <a:xfrm rot="16200000">
                <a:off x="8871840" y="1170360"/>
                <a:ext cx="232920" cy="2847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8716320" y="1507680"/>
              <a:ext cx="345600" cy="116280"/>
              <a:chOff x="8716320" y="1507680"/>
              <a:chExt cx="345600" cy="116280"/>
            </a:xfrm>
          </p:grpSpPr>
          <p:sp>
            <p:nvSpPr>
              <p:cNvPr id="1659" name=""/>
              <p:cNvSpPr/>
              <p:nvPr/>
            </p:nvSpPr>
            <p:spPr>
              <a:xfrm flipH="1">
                <a:off x="8785800" y="15660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716320" y="1537920"/>
                <a:ext cx="69120" cy="55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904960" y="1507680"/>
                <a:ext cx="156960" cy="1162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>
              <a:off x="7380360" y="1392480"/>
              <a:ext cx="1843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18880" y="11347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4" name=""/>
            <p:cNvGrpSpPr/>
            <p:nvPr/>
          </p:nvGrpSpPr>
          <p:grpSpPr>
            <a:xfrm>
              <a:off x="8024040" y="692280"/>
              <a:ext cx="294120" cy="208440"/>
              <a:chOff x="8024040" y="692280"/>
              <a:chExt cx="294120" cy="208440"/>
            </a:xfrm>
          </p:grpSpPr>
          <p:sp>
            <p:nvSpPr>
              <p:cNvPr id="1665" name=""/>
              <p:cNvSpPr/>
              <p:nvPr/>
            </p:nvSpPr>
            <p:spPr>
              <a:xfrm flipV="1">
                <a:off x="8171280" y="73116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5400000">
                <a:off x="8089200" y="627120"/>
                <a:ext cx="163800" cy="294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osition OMG CID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sition session ForkComposition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executor ForkManagerHome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DiningPhilosophers::ForkHome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ForkManager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egment ForkSeg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 facet the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’implant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95280" y="3355920"/>
            <a:ext cx="8353440" cy="151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1" name=""/>
          <p:cNvCxnSpPr>
            <a:stCxn id="1672" idx="0"/>
            <a:endCxn id="1673" idx="2"/>
          </p:cNvCxnSpPr>
          <p:nvPr/>
        </p:nvCxnSpPr>
        <p:spPr>
          <a:xfrm flipV="1">
            <a:off x="1877760" y="4723920"/>
            <a:ext cx="1080" cy="47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4" name=""/>
          <p:cNvCxnSpPr>
            <a:stCxn id="1675" idx="0"/>
            <a:endCxn id="1676" idx="2"/>
          </p:cNvCxnSpPr>
          <p:nvPr/>
        </p:nvCxnSpPr>
        <p:spPr>
          <a:xfrm flipV="1">
            <a:off x="4576320" y="4723920"/>
            <a:ext cx="1080" cy="47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77" name=""/>
          <p:cNvGrpSpPr/>
          <p:nvPr/>
        </p:nvGrpSpPr>
        <p:grpSpPr>
          <a:xfrm>
            <a:off x="695160" y="3613320"/>
            <a:ext cx="2365560" cy="1110600"/>
            <a:chOff x="695160" y="3613320"/>
            <a:chExt cx="2365560" cy="1110600"/>
          </a:xfrm>
        </p:grpSpPr>
        <p:sp>
          <p:nvSpPr>
            <p:cNvPr id="1678" name=""/>
            <p:cNvSpPr/>
            <p:nvPr/>
          </p:nvSpPr>
          <p:spPr>
            <a:xfrm>
              <a:off x="695160" y="361332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ManagerHome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5160" y="3984480"/>
              <a:ext cx="236556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95160" y="435420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394080" y="3613320"/>
            <a:ext cx="2365200" cy="1110600"/>
            <a:chOff x="3394080" y="3613320"/>
            <a:chExt cx="2365200" cy="1110600"/>
          </a:xfrm>
        </p:grpSpPr>
        <p:sp>
          <p:nvSpPr>
            <p:cNvPr id="1681" name=""/>
            <p:cNvSpPr/>
            <p:nvPr/>
          </p:nvSpPr>
          <p:spPr>
            <a:xfrm>
              <a:off x="3394080" y="3613320"/>
              <a:ext cx="236520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Manager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394080" y="3984480"/>
              <a:ext cx="236520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394080" y="435420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3394080" y="5197320"/>
            <a:ext cx="2365200" cy="1111320"/>
            <a:chOff x="3394080" y="5197320"/>
            <a:chExt cx="2365200" cy="1111320"/>
          </a:xfrm>
        </p:grpSpPr>
        <p:sp>
          <p:nvSpPr>
            <p:cNvPr id="1675" name=""/>
            <p:cNvSpPr/>
            <p:nvPr/>
          </p:nvSpPr>
          <p:spPr>
            <a:xfrm>
              <a:off x="3394080" y="519732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Manager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394080" y="556884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394080" y="5938560"/>
              <a:ext cx="236520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695160" y="5197320"/>
            <a:ext cx="2365560" cy="1111320"/>
            <a:chOff x="695160" y="5197320"/>
            <a:chExt cx="2365560" cy="1111320"/>
          </a:xfrm>
        </p:grpSpPr>
        <p:sp>
          <p:nvSpPr>
            <p:cNvPr id="1672" name=""/>
            <p:cNvSpPr/>
            <p:nvPr/>
          </p:nvSpPr>
          <p:spPr>
            <a:xfrm>
              <a:off x="695160" y="519732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Home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95160" y="5568840"/>
              <a:ext cx="236556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95160" y="5938560"/>
              <a:ext cx="236556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9" name=""/>
          <p:cNvSpPr/>
          <p:nvPr/>
        </p:nvSpPr>
        <p:spPr>
          <a:xfrm>
            <a:off x="6461640" y="2956320"/>
            <a:ext cx="2286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k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0" name=""/>
          <p:cNvCxnSpPr>
            <a:stCxn id="1691" idx="0"/>
            <a:endCxn id="1692" idx="2"/>
          </p:cNvCxnSpPr>
          <p:nvPr/>
        </p:nvCxnSpPr>
        <p:spPr>
          <a:xfrm flipV="1">
            <a:off x="7276680" y="4723920"/>
            <a:ext cx="1080" cy="47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93" name=""/>
          <p:cNvGrpSpPr/>
          <p:nvPr/>
        </p:nvGrpSpPr>
        <p:grpSpPr>
          <a:xfrm>
            <a:off x="6094440" y="3613320"/>
            <a:ext cx="2365200" cy="1110600"/>
            <a:chOff x="6094440" y="3613320"/>
            <a:chExt cx="2365200" cy="1110600"/>
          </a:xfrm>
        </p:grpSpPr>
        <p:sp>
          <p:nvSpPr>
            <p:cNvPr id="1694" name=""/>
            <p:cNvSpPr/>
            <p:nvPr/>
          </p:nvSpPr>
          <p:spPr>
            <a:xfrm>
              <a:off x="6094440" y="3613320"/>
              <a:ext cx="236520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S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094440" y="3984480"/>
              <a:ext cx="2365200" cy="36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94440" y="435420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6094440" y="5197320"/>
            <a:ext cx="2365200" cy="1111320"/>
            <a:chOff x="6094440" y="5197320"/>
            <a:chExt cx="2365200" cy="1111320"/>
          </a:xfrm>
        </p:grpSpPr>
        <p:sp>
          <p:nvSpPr>
            <p:cNvPr id="1691" name=""/>
            <p:cNvSpPr/>
            <p:nvPr/>
          </p:nvSpPr>
          <p:spPr>
            <a:xfrm>
              <a:off x="6094440" y="519732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orkSeg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094440" y="5568840"/>
              <a:ext cx="2365200" cy="36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094440" y="5938560"/>
              <a:ext cx="2365200" cy="3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1114560" y="1401840"/>
            <a:ext cx="4537080" cy="1379520"/>
          </a:xfrm>
          <a:prstGeom prst="rect">
            <a:avLst/>
          </a:prstGeom>
          <a:ln w="0">
            <a:noFill/>
          </a:ln>
        </p:spPr>
      </p:pic>
      <p:grpSp>
        <p:nvGrpSpPr>
          <p:cNvPr id="1700" name=""/>
          <p:cNvGrpSpPr/>
          <p:nvPr/>
        </p:nvGrpSpPr>
        <p:grpSpPr>
          <a:xfrm>
            <a:off x="6299280" y="1557360"/>
            <a:ext cx="2017440" cy="961560"/>
            <a:chOff x="6299280" y="1557360"/>
            <a:chExt cx="2017440" cy="961560"/>
          </a:xfrm>
        </p:grpSpPr>
        <p:sp>
          <p:nvSpPr>
            <p:cNvPr id="1701" name=""/>
            <p:cNvSpPr/>
            <p:nvPr/>
          </p:nvSpPr>
          <p:spPr>
            <a:xfrm>
              <a:off x="6299280" y="1557360"/>
              <a:ext cx="201744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&lt;&lt;CORBAInterface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299280" y="2133720"/>
              <a:ext cx="2017440" cy="19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299280" y="2326320"/>
              <a:ext cx="2017440" cy="19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04" name=""/>
          <p:cNvCxnSpPr/>
          <p:nvPr/>
        </p:nvCxnSpPr>
        <p:spPr>
          <a:xfrm>
            <a:off x="5651640" y="2133360"/>
            <a:ext cx="5763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1705" name=""/>
          <p:cNvSpPr/>
          <p:nvPr/>
        </p:nvSpPr>
        <p:spPr>
          <a:xfrm flipV="1">
            <a:off x="1878120" y="2636640"/>
            <a:ext cx="29880" cy="936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4562640" y="2636640"/>
            <a:ext cx="29880" cy="936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7236000" y="2565360"/>
            <a:ext cx="0" cy="1008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maison ForkHo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HomeImpl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Composition.ForkManagerHome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// La fabrique d'implantation des segm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org.omg.Components.ExecutorSegment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executor_segment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t segid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witch (segid)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ase 0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ForkManager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ase ForkSegImpl._segment_id_value: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ForkSeg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point d'entrée pour le déploiem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ic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org.omg.Components.HomeExecutorBa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reate_ho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ForkHome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61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068480" y="2200320"/>
            <a:ext cx="73454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450720" y="4394160"/>
            <a:ext cx="601560" cy="324000"/>
            <a:chOff x="450720" y="4394160"/>
            <a:chExt cx="601560" cy="324000"/>
          </a:xfrm>
        </p:grpSpPr>
        <p:sp>
          <p:nvSpPr>
            <p:cNvPr id="1713" name=""/>
            <p:cNvSpPr/>
            <p:nvPr/>
          </p:nvSpPr>
          <p:spPr>
            <a:xfrm flipH="1">
              <a:off x="718920" y="45561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0720" y="439416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1974600" y="1789200"/>
            <a:ext cx="323640" cy="411120"/>
            <a:chOff x="1974600" y="1789200"/>
            <a:chExt cx="323640" cy="411120"/>
          </a:xfrm>
        </p:grpSpPr>
        <p:sp>
          <p:nvSpPr>
            <p:cNvPr id="1716" name=""/>
            <p:cNvSpPr/>
            <p:nvPr/>
          </p:nvSpPr>
          <p:spPr>
            <a:xfrm flipV="1">
              <a:off x="2136600" y="18669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1975320" y="178848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2076480" y="3278160"/>
            <a:ext cx="403236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k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757920" y="2631960"/>
            <a:ext cx="136836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1789200" y="4429080"/>
            <a:ext cx="288360" cy="231840"/>
            <a:chOff x="1789200" y="4429080"/>
            <a:chExt cx="288360" cy="231840"/>
          </a:xfrm>
        </p:grpSpPr>
        <p:sp>
          <p:nvSpPr>
            <p:cNvPr id="1721" name=""/>
            <p:cNvSpPr/>
            <p:nvPr/>
          </p:nvSpPr>
          <p:spPr>
            <a:xfrm flipH="1">
              <a:off x="1843560" y="4545000"/>
              <a:ext cx="23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789200" y="4429080"/>
              <a:ext cx="226080" cy="23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2220840" y="2990880"/>
            <a:ext cx="231840" cy="288360"/>
            <a:chOff x="2220840" y="2990880"/>
            <a:chExt cx="231840" cy="288360"/>
          </a:xfrm>
        </p:grpSpPr>
        <p:sp>
          <p:nvSpPr>
            <p:cNvPr id="1724" name=""/>
            <p:cNvSpPr/>
            <p:nvPr/>
          </p:nvSpPr>
          <p:spPr>
            <a:xfrm flipV="1">
              <a:off x="2336760" y="304524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5400000">
              <a:off x="2223720" y="2988000"/>
              <a:ext cx="226080" cy="23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579920" y="2992320"/>
            <a:ext cx="231840" cy="288360"/>
            <a:chOff x="4579920" y="2992320"/>
            <a:chExt cx="231840" cy="288360"/>
          </a:xfrm>
        </p:grpSpPr>
        <p:sp>
          <p:nvSpPr>
            <p:cNvPr id="1727" name=""/>
            <p:cNvSpPr/>
            <p:nvPr/>
          </p:nvSpPr>
          <p:spPr>
            <a:xfrm flipV="1">
              <a:off x="4695840" y="304632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rot="5400000">
              <a:off x="4582440" y="2989440"/>
              <a:ext cx="226440" cy="231840"/>
            </a:xfrm>
            <a:prstGeom prst="ellipse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469200" y="3625920"/>
            <a:ext cx="288360" cy="231840"/>
            <a:chOff x="6469200" y="3625920"/>
            <a:chExt cx="288360" cy="231840"/>
          </a:xfrm>
        </p:grpSpPr>
        <p:sp>
          <p:nvSpPr>
            <p:cNvPr id="1730" name=""/>
            <p:cNvSpPr/>
            <p:nvPr/>
          </p:nvSpPr>
          <p:spPr>
            <a:xfrm flipH="1">
              <a:off x="6523560" y="3741840"/>
              <a:ext cx="23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69200" y="3625920"/>
              <a:ext cx="226080" cy="23184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6037200" y="3730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961240" y="3679920"/>
            <a:ext cx="72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16240" y="2668680"/>
            <a:ext cx="30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CCM_ForkManager_Exec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818320" y="329400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CM_ForkManager_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456560" y="145728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Fork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05640" y="404352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176560" y="227340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93680" y="45385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71760" y="266868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ssion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076480" y="4145040"/>
            <a:ext cx="2330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kSeg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451400" y="234468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326240" y="4114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CM_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596360" y="907920"/>
            <a:ext cx="1439640" cy="1080720"/>
            <a:chOff x="7596360" y="907920"/>
            <a:chExt cx="1439640" cy="1080720"/>
          </a:xfrm>
        </p:grpSpPr>
        <p:grpSp>
          <p:nvGrpSpPr>
            <p:cNvPr id="1745" name=""/>
            <p:cNvGrpSpPr/>
            <p:nvPr/>
          </p:nvGrpSpPr>
          <p:grpSpPr>
            <a:xfrm>
              <a:off x="7596360" y="1494360"/>
              <a:ext cx="734040" cy="342720"/>
              <a:chOff x="7596360" y="1494360"/>
              <a:chExt cx="734040" cy="342720"/>
            </a:xfrm>
          </p:grpSpPr>
          <p:sp>
            <p:nvSpPr>
              <p:cNvPr id="1746" name=""/>
              <p:cNvSpPr/>
              <p:nvPr/>
            </p:nvSpPr>
            <p:spPr>
              <a:xfrm flipH="1">
                <a:off x="7923600" y="1665720"/>
                <a:ext cx="40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596360" y="1494360"/>
                <a:ext cx="393120" cy="3427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8420040" y="907920"/>
              <a:ext cx="394200" cy="434880"/>
              <a:chOff x="8420040" y="907920"/>
              <a:chExt cx="394200" cy="434880"/>
            </a:xfrm>
          </p:grpSpPr>
          <p:sp>
            <p:nvSpPr>
              <p:cNvPr id="1749" name=""/>
              <p:cNvSpPr/>
              <p:nvPr/>
            </p:nvSpPr>
            <p:spPr>
              <a:xfrm flipV="1">
                <a:off x="8617320" y="990000"/>
                <a:ext cx="0" cy="35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5400000">
                <a:off x="8446680" y="881280"/>
                <a:ext cx="340920" cy="3942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8199360" y="1343160"/>
              <a:ext cx="836640" cy="64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"/>
          <p:cNvSpPr/>
          <p:nvPr/>
        </p:nvSpPr>
        <p:spPr>
          <a:xfrm>
            <a:off x="5826600" y="525312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ssion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61280" y="5037120"/>
            <a:ext cx="288360" cy="231840"/>
            <a:chOff x="6461280" y="5037120"/>
            <a:chExt cx="288360" cy="231840"/>
          </a:xfrm>
        </p:grpSpPr>
        <p:sp>
          <p:nvSpPr>
            <p:cNvPr id="1754" name=""/>
            <p:cNvSpPr/>
            <p:nvPr/>
          </p:nvSpPr>
          <p:spPr>
            <a:xfrm flipH="1">
              <a:off x="6515640" y="5153040"/>
              <a:ext cx="23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461280" y="5037120"/>
              <a:ext cx="226080" cy="23184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îner des philosophes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tation graphique informel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03280" y="1484280"/>
            <a:ext cx="1980360" cy="1371600"/>
            <a:chOff x="503280" y="1484280"/>
            <a:chExt cx="1980360" cy="1371600"/>
          </a:xfrm>
        </p:grpSpPr>
        <p:sp>
          <p:nvSpPr>
            <p:cNvPr id="627" name=""/>
            <p:cNvSpPr/>
            <p:nvPr/>
          </p:nvSpPr>
          <p:spPr>
            <a:xfrm>
              <a:off x="528480" y="189396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2008080" y="1917360"/>
              <a:ext cx="475560" cy="281160"/>
              <a:chOff x="2008080" y="1917360"/>
              <a:chExt cx="475560" cy="2811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008080" y="2042640"/>
                <a:ext cx="146520" cy="39240"/>
                <a:chOff x="2008080" y="2042640"/>
                <a:chExt cx="146520" cy="39240"/>
              </a:xfrm>
            </p:grpSpPr>
            <p:sp>
              <p:nvSpPr>
                <p:cNvPr id="630" name=""/>
                <p:cNvSpPr/>
                <p:nvPr/>
              </p:nvSpPr>
              <p:spPr>
                <a:xfrm flipH="1">
                  <a:off x="2044800" y="20620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008080" y="20426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 rot="16200000">
                <a:off x="2179440" y="189432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008080" y="2246400"/>
              <a:ext cx="475560" cy="280800"/>
              <a:chOff x="2008080" y="2246400"/>
              <a:chExt cx="475560" cy="28080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2008080" y="2371320"/>
                <a:ext cx="146520" cy="39240"/>
                <a:chOff x="2008080" y="2371320"/>
                <a:chExt cx="146520" cy="39240"/>
              </a:xfrm>
            </p:grpSpPr>
            <p:sp>
              <p:nvSpPr>
                <p:cNvPr id="635" name=""/>
                <p:cNvSpPr/>
                <p:nvPr/>
              </p:nvSpPr>
              <p:spPr>
                <a:xfrm flipH="1">
                  <a:off x="2044800" y="23907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08080" y="23713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 rot="16200000">
                <a:off x="2179800" y="222336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008080" y="2621160"/>
              <a:ext cx="396360" cy="141120"/>
              <a:chOff x="2008080" y="2621160"/>
              <a:chExt cx="396360" cy="14112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088360" y="26917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08080" y="265788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224440" y="262116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503280" y="24814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206360" y="1484280"/>
              <a:ext cx="323280" cy="411120"/>
              <a:chOff x="1206360" y="1484280"/>
              <a:chExt cx="323280" cy="41112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1368000" y="1562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5400000">
                <a:off x="1206720" y="148356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509400" y="220032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92840" y="4726080"/>
            <a:ext cx="1991520" cy="1371600"/>
            <a:chOff x="492840" y="4726080"/>
            <a:chExt cx="1991520" cy="1371600"/>
          </a:xfrm>
        </p:grpSpPr>
        <p:sp>
          <p:nvSpPr>
            <p:cNvPr id="648" name=""/>
            <p:cNvSpPr/>
            <p:nvPr/>
          </p:nvSpPr>
          <p:spPr>
            <a:xfrm>
              <a:off x="528480" y="5135760"/>
              <a:ext cx="159084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2008080" y="5159520"/>
              <a:ext cx="476280" cy="280800"/>
              <a:chOff x="2008080" y="5159520"/>
              <a:chExt cx="476280" cy="2808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2008080" y="5284440"/>
                <a:ext cx="146520" cy="39240"/>
                <a:chOff x="2008080" y="5284440"/>
                <a:chExt cx="146520" cy="39240"/>
              </a:xfrm>
            </p:grpSpPr>
            <p:sp>
              <p:nvSpPr>
                <p:cNvPr id="651" name=""/>
                <p:cNvSpPr/>
                <p:nvPr/>
              </p:nvSpPr>
              <p:spPr>
                <a:xfrm flipH="1">
                  <a:off x="2044800" y="53038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008080" y="52844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rot="16200000">
                <a:off x="2180160" y="513612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008080" y="5487480"/>
              <a:ext cx="476280" cy="281160"/>
              <a:chOff x="2008080" y="5487480"/>
              <a:chExt cx="476280" cy="28116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2008080" y="5612760"/>
                <a:ext cx="146520" cy="39240"/>
                <a:chOff x="2008080" y="5612760"/>
                <a:chExt cx="146520" cy="39240"/>
              </a:xfrm>
            </p:grpSpPr>
            <p:sp>
              <p:nvSpPr>
                <p:cNvPr id="656" name=""/>
                <p:cNvSpPr/>
                <p:nvPr/>
              </p:nvSpPr>
              <p:spPr>
                <a:xfrm flipH="1">
                  <a:off x="2044800" y="56322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008080" y="56127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 rot="16200000">
                <a:off x="2180160" y="546444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008080" y="5862600"/>
              <a:ext cx="396360" cy="141480"/>
              <a:chOff x="2008080" y="5862600"/>
              <a:chExt cx="396360" cy="141480"/>
            </a:xfrm>
          </p:grpSpPr>
          <p:sp>
            <p:nvSpPr>
              <p:cNvPr id="660" name=""/>
              <p:cNvSpPr/>
              <p:nvPr/>
            </p:nvSpPr>
            <p:spPr>
              <a:xfrm flipH="1">
                <a:off x="2088000" y="59335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8080" y="5899320"/>
                <a:ext cx="79200" cy="676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224440" y="5862600"/>
                <a:ext cx="180000" cy="141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03280" y="5722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206360" y="4726080"/>
              <a:ext cx="324000" cy="411120"/>
              <a:chOff x="1206360" y="4726080"/>
              <a:chExt cx="324000" cy="411120"/>
            </a:xfrm>
          </p:grpSpPr>
          <p:sp>
            <p:nvSpPr>
              <p:cNvPr id="665" name=""/>
              <p:cNvSpPr/>
              <p:nvPr/>
            </p:nvSpPr>
            <p:spPr>
              <a:xfrm flipV="1">
                <a:off x="1368360" y="48038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400000">
                <a:off x="1207080" y="472500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492840" y="5442120"/>
              <a:ext cx="15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Aristo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93920" y="3105000"/>
            <a:ext cx="1990440" cy="1371600"/>
            <a:chOff x="493920" y="3105000"/>
            <a:chExt cx="1990440" cy="1371600"/>
          </a:xfrm>
        </p:grpSpPr>
        <p:sp>
          <p:nvSpPr>
            <p:cNvPr id="669" name=""/>
            <p:cNvSpPr/>
            <p:nvPr/>
          </p:nvSpPr>
          <p:spPr>
            <a:xfrm>
              <a:off x="528480" y="3514320"/>
              <a:ext cx="1590840" cy="962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008080" y="3538440"/>
              <a:ext cx="476280" cy="280800"/>
              <a:chOff x="2008080" y="3538440"/>
              <a:chExt cx="476280" cy="28080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2008080" y="3663360"/>
                <a:ext cx="146520" cy="39240"/>
                <a:chOff x="2008080" y="3663360"/>
                <a:chExt cx="146520" cy="39240"/>
              </a:xfrm>
            </p:grpSpPr>
            <p:sp>
              <p:nvSpPr>
                <p:cNvPr id="672" name=""/>
                <p:cNvSpPr/>
                <p:nvPr/>
              </p:nvSpPr>
              <p:spPr>
                <a:xfrm flipH="1">
                  <a:off x="2044800" y="3682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008080" y="3663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 rot="16200000">
                <a:off x="2180160" y="351504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008080" y="3866400"/>
              <a:ext cx="476280" cy="281160"/>
              <a:chOff x="2008080" y="3866400"/>
              <a:chExt cx="476280" cy="2811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008080" y="3991680"/>
                <a:ext cx="146520" cy="39240"/>
                <a:chOff x="2008080" y="3991680"/>
                <a:chExt cx="146520" cy="39240"/>
              </a:xfrm>
            </p:grpSpPr>
            <p:sp>
              <p:nvSpPr>
                <p:cNvPr id="677" name=""/>
                <p:cNvSpPr/>
                <p:nvPr/>
              </p:nvSpPr>
              <p:spPr>
                <a:xfrm flipH="1">
                  <a:off x="2044800" y="401112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008080" y="399168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16200000">
                <a:off x="2180160" y="384336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008080" y="4241520"/>
              <a:ext cx="396360" cy="141120"/>
              <a:chOff x="2008080" y="4241520"/>
              <a:chExt cx="396360" cy="14112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2088000" y="431208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08080" y="427824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224440" y="424152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503280" y="41018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1206360" y="3105000"/>
              <a:ext cx="324000" cy="411120"/>
              <a:chOff x="1206360" y="3105000"/>
              <a:chExt cx="324000" cy="411120"/>
            </a:xfrm>
          </p:grpSpPr>
          <p:sp>
            <p:nvSpPr>
              <p:cNvPr id="686" name=""/>
              <p:cNvSpPr/>
              <p:nvPr/>
            </p:nvSpPr>
            <p:spPr>
              <a:xfrm flipV="1">
                <a:off x="1368360" y="3182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1207080" y="31039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493920" y="3820680"/>
              <a:ext cx="170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Descar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081320" y="1544760"/>
            <a:ext cx="1282680" cy="1020240"/>
            <a:chOff x="4081320" y="1544760"/>
            <a:chExt cx="1282680" cy="1020240"/>
          </a:xfrm>
        </p:grpSpPr>
        <p:sp>
          <p:nvSpPr>
            <p:cNvPr id="690" name=""/>
            <p:cNvSpPr/>
            <p:nvPr/>
          </p:nvSpPr>
          <p:spPr>
            <a:xfrm>
              <a:off x="4678200" y="195552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081320" y="2120760"/>
              <a:ext cx="601560" cy="323640"/>
              <a:chOff x="4081320" y="2120760"/>
              <a:chExt cx="601560" cy="323640"/>
            </a:xfrm>
          </p:grpSpPr>
          <p:sp>
            <p:nvSpPr>
              <p:cNvPr id="692" name=""/>
              <p:cNvSpPr/>
              <p:nvPr/>
            </p:nvSpPr>
            <p:spPr>
              <a:xfrm flipH="1">
                <a:off x="4349520" y="228240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81320" y="212076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830480" y="1544760"/>
              <a:ext cx="323640" cy="410040"/>
              <a:chOff x="4830480" y="1544760"/>
              <a:chExt cx="323640" cy="410040"/>
            </a:xfrm>
          </p:grpSpPr>
          <p:sp>
            <p:nvSpPr>
              <p:cNvPr id="695" name=""/>
              <p:cNvSpPr/>
              <p:nvPr/>
            </p:nvSpPr>
            <p:spPr>
              <a:xfrm flipV="1">
                <a:off x="4992480" y="162180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5400000">
                <a:off x="4831200" y="154368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"/>
          <p:cNvSpPr/>
          <p:nvPr/>
        </p:nvSpPr>
        <p:spPr>
          <a:xfrm>
            <a:off x="2230560" y="1947960"/>
            <a:ext cx="24588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32000" y="227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089680" y="2408400"/>
            <a:ext cx="1282680" cy="1020240"/>
            <a:chOff x="5089680" y="2408400"/>
            <a:chExt cx="1282680" cy="1020240"/>
          </a:xfrm>
        </p:grpSpPr>
        <p:sp>
          <p:nvSpPr>
            <p:cNvPr id="700" name=""/>
            <p:cNvSpPr/>
            <p:nvPr/>
          </p:nvSpPr>
          <p:spPr>
            <a:xfrm>
              <a:off x="5686560" y="28191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5089680" y="2984400"/>
              <a:ext cx="601560" cy="323640"/>
              <a:chOff x="5089680" y="2984400"/>
              <a:chExt cx="601560" cy="32364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5357880" y="3146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089680" y="29844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838840" y="2408400"/>
              <a:ext cx="323640" cy="410040"/>
              <a:chOff x="5838840" y="2408400"/>
              <a:chExt cx="323640" cy="4100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6000840" y="24854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400000">
                <a:off x="5839560" y="24073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6026040" y="3271680"/>
            <a:ext cx="1282680" cy="1020960"/>
            <a:chOff x="6026040" y="3271680"/>
            <a:chExt cx="1282680" cy="1020960"/>
          </a:xfrm>
        </p:grpSpPr>
        <p:sp>
          <p:nvSpPr>
            <p:cNvPr id="708" name=""/>
            <p:cNvSpPr/>
            <p:nvPr/>
          </p:nvSpPr>
          <p:spPr>
            <a:xfrm>
              <a:off x="6622920" y="3682800"/>
              <a:ext cx="6858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6026040" y="3848040"/>
              <a:ext cx="601560" cy="324000"/>
              <a:chOff x="6026040" y="3848040"/>
              <a:chExt cx="601560" cy="324000"/>
            </a:xfrm>
          </p:grpSpPr>
          <p:sp>
            <p:nvSpPr>
              <p:cNvPr id="710" name=""/>
              <p:cNvSpPr/>
              <p:nvPr/>
            </p:nvSpPr>
            <p:spPr>
              <a:xfrm flipH="1">
                <a:off x="6294240" y="4010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6040" y="3848040"/>
                <a:ext cx="322200" cy="3240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775200" y="3271680"/>
              <a:ext cx="323640" cy="411120"/>
              <a:chOff x="6775200" y="3271680"/>
              <a:chExt cx="323640" cy="41112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6937200" y="33494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400000">
                <a:off x="6775920" y="32709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5" name=""/>
          <p:cNvCxnSpPr>
            <a:stCxn id="697" idx="6"/>
            <a:endCxn id="711" idx="2"/>
          </p:cNvCxnSpPr>
          <p:nvPr/>
        </p:nvCxnSpPr>
        <p:spPr>
          <a:xfrm>
            <a:off x="2476440" y="2061720"/>
            <a:ext cx="3550320" cy="194832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716" name=""/>
          <p:cNvCxnSpPr>
            <a:stCxn id="698" idx="6"/>
            <a:endCxn id="693" idx="2"/>
          </p:cNvCxnSpPr>
          <p:nvPr/>
        </p:nvCxnSpPr>
        <p:spPr>
          <a:xfrm flipV="1">
            <a:off x="2477880" y="2282400"/>
            <a:ext cx="16038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2228760" y="356868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33440" y="38973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20840" y="51879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28760" y="551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17" idx="6"/>
            <a:endCxn id="693" idx="2"/>
          </p:cNvCxnSpPr>
          <p:nvPr/>
        </p:nvCxnSpPr>
        <p:spPr>
          <a:xfrm flipV="1">
            <a:off x="2475000" y="2282760"/>
            <a:ext cx="1607040" cy="1400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722" name=""/>
          <p:cNvCxnSpPr>
            <a:stCxn id="718" idx="6"/>
            <a:endCxn id="703" idx="2"/>
          </p:cNvCxnSpPr>
          <p:nvPr/>
        </p:nvCxnSpPr>
        <p:spPr>
          <a:xfrm flipV="1">
            <a:off x="2479680" y="3145680"/>
            <a:ext cx="2610720" cy="86580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723" name=""/>
          <p:cNvCxnSpPr>
            <a:stCxn id="719" idx="6"/>
            <a:endCxn id="703" idx="2"/>
          </p:cNvCxnSpPr>
          <p:nvPr/>
        </p:nvCxnSpPr>
        <p:spPr>
          <a:xfrm flipV="1">
            <a:off x="2466720" y="3146040"/>
            <a:ext cx="2622960" cy="215640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724" name=""/>
          <p:cNvCxnSpPr>
            <a:stCxn id="720" idx="6"/>
            <a:endCxn id="711" idx="2"/>
          </p:cNvCxnSpPr>
          <p:nvPr/>
        </p:nvCxnSpPr>
        <p:spPr>
          <a:xfrm flipV="1">
            <a:off x="2475000" y="4009680"/>
            <a:ext cx="3551760" cy="1621440"/>
          </a:xfrm>
          <a:prstGeom prst="curvedConnector5">
            <a:avLst>
              <a:gd name="adj1" fmla="val 49974"/>
              <a:gd name="adj2" fmla="val 49988"/>
              <a:gd name="adj3" fmla="val 49974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725" name=""/>
          <p:cNvSpPr/>
          <p:nvPr/>
        </p:nvSpPr>
        <p:spPr>
          <a:xfrm>
            <a:off x="2340000" y="58644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59080" y="4238640"/>
            <a:ext cx="199800" cy="136440"/>
          </a:xfrm>
          <a:custGeom>
            <a:avLst/>
            <a:gdLst>
              <a:gd name="textAreaLeft" fmla="*/ 0 w 199800"/>
              <a:gd name="textAreaRight" fmla="*/ 200160 w 1998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3760" y="26226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7" idx="0"/>
            <a:endCxn id="729" idx="0"/>
          </p:cNvCxnSpPr>
          <p:nvPr/>
        </p:nvCxnSpPr>
        <p:spPr>
          <a:xfrm>
            <a:off x="2563560" y="2690280"/>
            <a:ext cx="3958200" cy="3280680"/>
          </a:xfrm>
          <a:prstGeom prst="curvedConnector5">
            <a:avLst>
              <a:gd name="adj1" fmla="val 49017"/>
              <a:gd name="adj2" fmla="val 50000"/>
              <a:gd name="adj3" fmla="val 49017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730" name=""/>
          <p:cNvCxnSpPr>
            <a:stCxn id="726" idx="0"/>
            <a:endCxn id="729" idx="1"/>
          </p:cNvCxnSpPr>
          <p:nvPr/>
        </p:nvCxnSpPr>
        <p:spPr>
          <a:xfrm>
            <a:off x="2558520" y="4306680"/>
            <a:ext cx="3963240" cy="1664280"/>
          </a:xfrm>
          <a:prstGeom prst="curvedConnector5">
            <a:avLst>
              <a:gd name="adj1" fmla="val 48991"/>
              <a:gd name="adj2" fmla="val 50000"/>
              <a:gd name="adj3" fmla="val 48991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731" name=""/>
          <p:cNvCxnSpPr>
            <a:stCxn id="725" idx="0"/>
            <a:endCxn id="729" idx="2"/>
          </p:cNvCxnSpPr>
          <p:nvPr/>
        </p:nvCxnSpPr>
        <p:spPr>
          <a:xfrm>
            <a:off x="2539800" y="5932440"/>
            <a:ext cx="3981960" cy="38880"/>
          </a:xfrm>
          <a:prstGeom prst="curvedConnector5">
            <a:avLst>
              <a:gd name="adj1" fmla="val 48996"/>
              <a:gd name="adj2" fmla="val 49532"/>
              <a:gd name="adj3" fmla="val 48996"/>
            </a:avLst>
          </a:prstGeom>
          <a:ln w="38160">
            <a:solidFill>
              <a:srgbClr val="0000cc"/>
            </a:solidFill>
            <a:miter/>
          </a:ln>
        </p:spPr>
      </p:cxnSp>
      <p:grpSp>
        <p:nvGrpSpPr>
          <p:cNvPr id="732" name=""/>
          <p:cNvGrpSpPr/>
          <p:nvPr/>
        </p:nvGrpSpPr>
        <p:grpSpPr>
          <a:xfrm>
            <a:off x="7308720" y="1214280"/>
            <a:ext cx="1567440" cy="368280"/>
            <a:chOff x="7308720" y="1214280"/>
            <a:chExt cx="1567440" cy="368280"/>
          </a:xfrm>
        </p:grpSpPr>
        <p:sp>
          <p:nvSpPr>
            <p:cNvPr id="733" name=""/>
            <p:cNvSpPr/>
            <p:nvPr/>
          </p:nvSpPr>
          <p:spPr>
            <a:xfrm>
              <a:off x="7308720" y="1319040"/>
              <a:ext cx="322560" cy="176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52880" y="12142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308360" y="1592280"/>
            <a:ext cx="1791360" cy="368280"/>
            <a:chOff x="7308360" y="1592280"/>
            <a:chExt cx="1791360" cy="368280"/>
          </a:xfrm>
        </p:grpSpPr>
        <p:grpSp>
          <p:nvGrpSpPr>
            <p:cNvPr id="736" name=""/>
            <p:cNvGrpSpPr/>
            <p:nvPr/>
          </p:nvGrpSpPr>
          <p:grpSpPr>
            <a:xfrm>
              <a:off x="7308360" y="1646280"/>
              <a:ext cx="228600" cy="228240"/>
              <a:chOff x="7308360" y="1646280"/>
              <a:chExt cx="228600" cy="22824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7422840" y="16891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400000">
                <a:off x="7332840" y="1621440"/>
                <a:ext cx="179280" cy="228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7651800" y="1592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Interf. 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308720" y="1924200"/>
            <a:ext cx="1187280" cy="368280"/>
            <a:chOff x="7308720" y="1924200"/>
            <a:chExt cx="1187280" cy="368280"/>
          </a:xfrm>
        </p:grpSpPr>
        <p:grpSp>
          <p:nvGrpSpPr>
            <p:cNvPr id="741" name=""/>
            <p:cNvGrpSpPr/>
            <p:nvPr/>
          </p:nvGrpSpPr>
          <p:grpSpPr>
            <a:xfrm>
              <a:off x="7308720" y="2001960"/>
              <a:ext cx="330120" cy="228600"/>
              <a:chOff x="7308720" y="2001960"/>
              <a:chExt cx="330120" cy="228600"/>
            </a:xfrm>
          </p:grpSpPr>
          <p:sp>
            <p:nvSpPr>
              <p:cNvPr id="742" name=""/>
              <p:cNvSpPr/>
              <p:nvPr/>
            </p:nvSpPr>
            <p:spPr>
              <a:xfrm flipH="1">
                <a:off x="7455960" y="211608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08720" y="2001960"/>
                <a:ext cx="176760" cy="2286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7652160" y="192420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acet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308720" y="2279520"/>
            <a:ext cx="1530720" cy="368280"/>
            <a:chOff x="7308720" y="2279520"/>
            <a:chExt cx="1530720" cy="368280"/>
          </a:xfrm>
        </p:grpSpPr>
        <p:grpSp>
          <p:nvGrpSpPr>
            <p:cNvPr id="746" name=""/>
            <p:cNvGrpSpPr/>
            <p:nvPr/>
          </p:nvGrpSpPr>
          <p:grpSpPr>
            <a:xfrm>
              <a:off x="7308720" y="2320920"/>
              <a:ext cx="417600" cy="301680"/>
              <a:chOff x="7308720" y="2320920"/>
              <a:chExt cx="417600" cy="30168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7308720" y="2455200"/>
                <a:ext cx="128880" cy="42120"/>
                <a:chOff x="7308720" y="2455200"/>
                <a:chExt cx="128880" cy="42120"/>
              </a:xfrm>
            </p:grpSpPr>
            <p:sp>
              <p:nvSpPr>
                <p:cNvPr id="748" name=""/>
                <p:cNvSpPr/>
                <p:nvPr/>
              </p:nvSpPr>
              <p:spPr>
                <a:xfrm flipH="1">
                  <a:off x="7341120" y="2476080"/>
                  <a:ext cx="96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308720" y="2455200"/>
                  <a:ext cx="47520" cy="42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" name=""/>
              <p:cNvSpPr/>
              <p:nvPr/>
            </p:nvSpPr>
            <p:spPr>
              <a:xfrm rot="16200000">
                <a:off x="7431840" y="2328120"/>
                <a:ext cx="301680" cy="286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7651440" y="227952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Récepta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7308720" y="2990880"/>
            <a:ext cx="1707840" cy="368280"/>
            <a:chOff x="7308720" y="2990880"/>
            <a:chExt cx="1707840" cy="368280"/>
          </a:xfrm>
        </p:grpSpPr>
        <p:grpSp>
          <p:nvGrpSpPr>
            <p:cNvPr id="753" name=""/>
            <p:cNvGrpSpPr/>
            <p:nvPr/>
          </p:nvGrpSpPr>
          <p:grpSpPr>
            <a:xfrm>
              <a:off x="7308720" y="3052800"/>
              <a:ext cx="384480" cy="258840"/>
              <a:chOff x="7308720" y="3052800"/>
              <a:chExt cx="384480" cy="258840"/>
            </a:xfrm>
          </p:grpSpPr>
          <p:sp>
            <p:nvSpPr>
              <p:cNvPr id="754" name=""/>
              <p:cNvSpPr/>
              <p:nvPr/>
            </p:nvSpPr>
            <p:spPr>
              <a:xfrm flipH="1">
                <a:off x="7386120" y="3182400"/>
                <a:ext cx="15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8720" y="3120120"/>
                <a:ext cx="77040" cy="1234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18600" y="3052800"/>
                <a:ext cx="174600" cy="2588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651800" y="2990880"/>
              <a:ext cx="13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urce évé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7308720" y="2635200"/>
            <a:ext cx="1441080" cy="368280"/>
            <a:chOff x="7308720" y="2635200"/>
            <a:chExt cx="1441080" cy="368280"/>
          </a:xfrm>
        </p:grpSpPr>
        <p:grpSp>
          <p:nvGrpSpPr>
            <p:cNvPr id="759" name=""/>
            <p:cNvGrpSpPr/>
            <p:nvPr/>
          </p:nvGrpSpPr>
          <p:grpSpPr>
            <a:xfrm>
              <a:off x="7308720" y="2678040"/>
              <a:ext cx="419040" cy="297000"/>
              <a:chOff x="7308720" y="2678040"/>
              <a:chExt cx="419040" cy="297000"/>
            </a:xfrm>
          </p:grpSpPr>
          <p:sp>
            <p:nvSpPr>
              <p:cNvPr id="760" name=""/>
              <p:cNvSpPr/>
              <p:nvPr/>
            </p:nvSpPr>
            <p:spPr>
              <a:xfrm flipH="1">
                <a:off x="7511400" y="2824560"/>
                <a:ext cx="2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308720" y="2678040"/>
                <a:ext cx="216360" cy="2970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7651800" y="263520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uit évé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443640" y="5084640"/>
            <a:ext cx="1927080" cy="1189080"/>
            <a:chOff x="6443640" y="5084640"/>
            <a:chExt cx="1927080" cy="1189080"/>
          </a:xfrm>
        </p:grpSpPr>
        <p:grpSp>
          <p:nvGrpSpPr>
            <p:cNvPr id="764" name=""/>
            <p:cNvGrpSpPr/>
            <p:nvPr/>
          </p:nvGrpSpPr>
          <p:grpSpPr>
            <a:xfrm>
              <a:off x="6443640" y="5818320"/>
              <a:ext cx="600120" cy="304560"/>
              <a:chOff x="6443640" y="5818320"/>
              <a:chExt cx="600120" cy="304560"/>
            </a:xfrm>
          </p:grpSpPr>
          <p:sp>
            <p:nvSpPr>
              <p:cNvPr id="765" name=""/>
              <p:cNvSpPr/>
              <p:nvPr/>
            </p:nvSpPr>
            <p:spPr>
              <a:xfrm flipH="1">
                <a:off x="6734160" y="596880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43640" y="581832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7449840" y="5084640"/>
              <a:ext cx="323640" cy="411120"/>
              <a:chOff x="7449840" y="5084640"/>
              <a:chExt cx="323640" cy="411120"/>
            </a:xfrm>
          </p:grpSpPr>
          <p:sp>
            <p:nvSpPr>
              <p:cNvPr id="767" name=""/>
              <p:cNvSpPr/>
              <p:nvPr/>
            </p:nvSpPr>
            <p:spPr>
              <a:xfrm flipV="1">
                <a:off x="7611840" y="5162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400000">
                <a:off x="7450560" y="508392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6840360" y="549576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ForkManager (1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Manager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Composition.ForkManagerBa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 constructeur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ForkManagerImpl() {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Surcharge des opération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ssionComponen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e.g. ccm_activate, ccm_passivate, ccm_remov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7596360" y="907920"/>
            <a:ext cx="1439640" cy="1080720"/>
            <a:chOff x="7596360" y="907920"/>
            <a:chExt cx="1439640" cy="1080720"/>
          </a:xfrm>
        </p:grpSpPr>
        <p:grpSp>
          <p:nvGrpSpPr>
            <p:cNvPr id="1759" name=""/>
            <p:cNvGrpSpPr/>
            <p:nvPr/>
          </p:nvGrpSpPr>
          <p:grpSpPr>
            <a:xfrm>
              <a:off x="7596360" y="1494360"/>
              <a:ext cx="734040" cy="342720"/>
              <a:chOff x="7596360" y="1494360"/>
              <a:chExt cx="734040" cy="342720"/>
            </a:xfrm>
          </p:grpSpPr>
          <p:sp>
            <p:nvSpPr>
              <p:cNvPr id="1760" name=""/>
              <p:cNvSpPr/>
              <p:nvPr/>
            </p:nvSpPr>
            <p:spPr>
              <a:xfrm flipH="1">
                <a:off x="7923600" y="1665720"/>
                <a:ext cx="40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596360" y="1494360"/>
                <a:ext cx="393120" cy="3427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8420040" y="907920"/>
              <a:ext cx="394200" cy="434880"/>
              <a:chOff x="8420040" y="907920"/>
              <a:chExt cx="394200" cy="434880"/>
            </a:xfrm>
          </p:grpSpPr>
          <p:sp>
            <p:nvSpPr>
              <p:cNvPr id="1763" name=""/>
              <p:cNvSpPr/>
              <p:nvPr/>
            </p:nvSpPr>
            <p:spPr>
              <a:xfrm flipV="1">
                <a:off x="8617320" y="990000"/>
                <a:ext cx="0" cy="35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5400000">
                <a:off x="8446680" y="881280"/>
                <a:ext cx="340920" cy="3942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8199360" y="1343160"/>
              <a:ext cx="836640" cy="64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omposant ForkManager (2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Seg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Composition.ForkSe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ivate boolean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ponible_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= tru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Prendre la fourchet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throws InU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f(!disponible_) throw new InUse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ponible_ = false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Rendre la fourchette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eleas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 disponible_ = true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7596360" y="907920"/>
            <a:ext cx="1439640" cy="1080720"/>
            <a:chOff x="7596360" y="907920"/>
            <a:chExt cx="1439640" cy="1080720"/>
          </a:xfrm>
        </p:grpSpPr>
        <p:grpSp>
          <p:nvGrpSpPr>
            <p:cNvPr id="1769" name=""/>
            <p:cNvGrpSpPr/>
            <p:nvPr/>
          </p:nvGrpSpPr>
          <p:grpSpPr>
            <a:xfrm>
              <a:off x="7596360" y="1494360"/>
              <a:ext cx="734040" cy="342720"/>
              <a:chOff x="7596360" y="1494360"/>
              <a:chExt cx="734040" cy="342720"/>
            </a:xfrm>
          </p:grpSpPr>
          <p:sp>
            <p:nvSpPr>
              <p:cNvPr id="1770" name=""/>
              <p:cNvSpPr/>
              <p:nvPr/>
            </p:nvSpPr>
            <p:spPr>
              <a:xfrm flipH="1">
                <a:off x="7923600" y="1665720"/>
                <a:ext cx="40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96360" y="1494360"/>
                <a:ext cx="393120" cy="3427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8420040" y="907920"/>
              <a:ext cx="394200" cy="434880"/>
              <a:chOff x="8420040" y="907920"/>
              <a:chExt cx="394200" cy="434880"/>
            </a:xfrm>
          </p:grpSpPr>
          <p:sp>
            <p:nvSpPr>
              <p:cNvPr id="1773" name=""/>
              <p:cNvSpPr/>
              <p:nvPr/>
            </p:nvSpPr>
            <p:spPr>
              <a:xfrm flipV="1">
                <a:off x="8617320" y="990000"/>
                <a:ext cx="0" cy="35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5400000">
                <a:off x="8446680" y="881280"/>
                <a:ext cx="340920" cy="3942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8199360" y="1343160"/>
              <a:ext cx="836640" cy="64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’événement StatusInfo (1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Impl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tends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PhilosopherState s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ring n, int ticks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boolean left_fork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boolean right_fork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e = s; name = n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ticks_since_last_meal = ticks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as_left_fork = lef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as_right_fork = righ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Impl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this(PhilosopherState.DEAD, "", 0, false, false)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mplantation Jav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’événement StatusInfo (2/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Fact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org.omg.CORBA.portable.ValueFact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// Lecture depuis un flux CORBA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java.io.Serializable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ead_value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rg.omg.CORBA_2_3.portable.InputStream in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)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java.io.Serializable v =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new StatusInfoImpl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return in.read_value(v);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conditionnement et l’assemblage des 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nditionnement et l’assemblage 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struire des archives ZIP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composants cont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L Component Software Descriptor (.c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L CORBA Component Descriptors (.cc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L Component Property Files (.cp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s OMG IDL + code bin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’assemblage cont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L Component Assembly Descriptor (.ca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chiv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34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L Component Property Files (.cp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Besoin d’outils de conditionnement et d’assemblage pour 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verses approches et outils exis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binaison de différents outil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s outils de conditionnement et </a:t>
            </a:r>
            <a:br>
              <a:rPr sz="2000"/>
            </a:b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’assemblage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2662920" y="1268280"/>
            <a:ext cx="3759120" cy="1276200"/>
            <a:chOff x="2662920" y="1268280"/>
            <a:chExt cx="3759120" cy="1276200"/>
          </a:xfrm>
        </p:grpSpPr>
        <p:sp>
          <p:nvSpPr>
            <p:cNvPr id="1786" name=""/>
            <p:cNvSpPr/>
            <p:nvPr/>
          </p:nvSpPr>
          <p:spPr>
            <a:xfrm>
              <a:off x="2662920" y="1840680"/>
              <a:ext cx="37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nditionneur / 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4351320" y="1268280"/>
              <a:ext cx="348480" cy="674280"/>
              <a:chOff x="4351320" y="1268280"/>
              <a:chExt cx="348480" cy="674280"/>
            </a:xfrm>
          </p:grpSpPr>
          <p:sp>
            <p:nvSpPr>
              <p:cNvPr id="1788" name=""/>
              <p:cNvSpPr/>
              <p:nvPr/>
            </p:nvSpPr>
            <p:spPr>
              <a:xfrm>
                <a:off x="4455000" y="1268280"/>
                <a:ext cx="140760" cy="13284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351320" y="1401120"/>
                <a:ext cx="348480" cy="54144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0" name=""/>
          <p:cNvSpPr/>
          <p:nvPr/>
        </p:nvSpPr>
        <p:spPr>
          <a:xfrm>
            <a:off x="2771640" y="5805360"/>
            <a:ext cx="3529080" cy="649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ate-forme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132000" y="4687920"/>
            <a:ext cx="2663640" cy="647640"/>
            <a:chOff x="3132000" y="4687920"/>
            <a:chExt cx="2663640" cy="647640"/>
          </a:xfrm>
        </p:grpSpPr>
        <p:sp>
          <p:nvSpPr>
            <p:cNvPr id="1792" name=""/>
            <p:cNvSpPr/>
            <p:nvPr/>
          </p:nvSpPr>
          <p:spPr>
            <a:xfrm>
              <a:off x="3132000" y="4687920"/>
              <a:ext cx="2663640" cy="6476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264480" y="4839120"/>
              <a:ext cx="23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CM XML + Z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 rot="5400000">
            <a:off x="4330800" y="5113440"/>
            <a:ext cx="41112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7784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elier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ose, Poseidon, Object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24000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 I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coCCM, K2, OpenC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22764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’importe quel</a:t>
            </a:r>
            <a:br>
              <a:rPr sz="14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diteur de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rot="5400000">
            <a:off x="4330440" y="3960720"/>
            <a:ext cx="41148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rot="7861800">
            <a:off x="5984280" y="4052520"/>
            <a:ext cx="41112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H="1" rot="13738200">
            <a:off x="2675880" y="4052880"/>
            <a:ext cx="411120" cy="9313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4330440" y="2325600"/>
            <a:ext cx="41148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7861800">
            <a:off x="2386800" y="2325240"/>
            <a:ext cx="41148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H="1" rot="13738200">
            <a:off x="6199200" y="2325240"/>
            <a:ext cx="41148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!DOCTYPE softpkg SYSTEM "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softpkg.dt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softpkg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1,0,0,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kgtyp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CORBA 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kgtyp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tit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tit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autho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na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ippe Mer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nam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an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NRIA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an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webpag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h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http://www.inria.f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autho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The CCM dining philosophers examp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licens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href= "</a:t>
            </a:r>
            <a:r>
              <a:rPr b="1" lang="fr-FR" sz="1600" spc="-1" strike="noStrike">
                <a:solidFill>
                  <a:srgbClr val="3333ff"/>
                </a:solidFill>
                <a:latin typeface="Comic Sans MS"/>
              </a:rPr>
              <a:t>http://www.objectweb.org/license.htm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d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Observer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link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http://www.objectweb.org/philo.id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idl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descripto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CORBA 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.cc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descripto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pertyfi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.cp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roperty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mplement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 . . .  &lt;/implementation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softpk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415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mplement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_imp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o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Win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4,0,0,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o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Linux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2,2,17,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cesso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x86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il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JDK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gramminglanguag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Java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d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Java clas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HomeImpl.clas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entrypoi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HomeImpl.create_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entrypoint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d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unti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Java VM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1,2,2,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unti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Java VM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1,3,0,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...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implement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outils pour la concep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709080" y="1268280"/>
            <a:ext cx="1654560" cy="1276200"/>
            <a:chOff x="3709080" y="1268280"/>
            <a:chExt cx="1654560" cy="1276200"/>
          </a:xfrm>
        </p:grpSpPr>
        <p:sp>
          <p:nvSpPr>
            <p:cNvPr id="772" name=""/>
            <p:cNvSpPr/>
            <p:nvPr/>
          </p:nvSpPr>
          <p:spPr>
            <a:xfrm>
              <a:off x="3709080" y="1840680"/>
              <a:ext cx="16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50240" y="1268280"/>
              <a:ext cx="348840" cy="674280"/>
              <a:chOff x="4350240" y="1268280"/>
              <a:chExt cx="348840" cy="674280"/>
            </a:xfrm>
          </p:grpSpPr>
          <p:sp>
            <p:nvSpPr>
              <p:cNvPr id="774" name=""/>
              <p:cNvSpPr/>
              <p:nvPr/>
            </p:nvSpPr>
            <p:spPr>
              <a:xfrm>
                <a:off x="4453920" y="1268280"/>
                <a:ext cx="141120" cy="13284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50240" y="1401120"/>
                <a:ext cx="348840" cy="54144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6" name=""/>
          <p:cNvSpPr/>
          <p:nvPr/>
        </p:nvSpPr>
        <p:spPr>
          <a:xfrm>
            <a:off x="2771640" y="5805360"/>
            <a:ext cx="3529080" cy="649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ate-forme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348000" y="4687920"/>
            <a:ext cx="2393640" cy="647640"/>
            <a:chOff x="3348000" y="4687920"/>
            <a:chExt cx="2393640" cy="647640"/>
          </a:xfrm>
        </p:grpSpPr>
        <p:sp>
          <p:nvSpPr>
            <p:cNvPr id="778" name=""/>
            <p:cNvSpPr/>
            <p:nvPr/>
          </p:nvSpPr>
          <p:spPr>
            <a:xfrm>
              <a:off x="3348000" y="4687920"/>
              <a:ext cx="2393640" cy="6476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66800" y="4839120"/>
              <a:ext cx="21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OMG IDL 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 rot="5400000">
            <a:off x="4330800" y="5113440"/>
            <a:ext cx="41112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784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elier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ose, Poseidon, Object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4000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clipse, NetB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27640" y="3238560"/>
            <a:ext cx="2592360" cy="9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’importe quel</a:t>
            </a:r>
            <a:br>
              <a:rPr sz="14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diteur de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4330440" y="3960720"/>
            <a:ext cx="41148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7861800">
            <a:off x="5984280" y="4052520"/>
            <a:ext cx="41112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rot="13738200">
            <a:off x="2675880" y="4052880"/>
            <a:ext cx="411120" cy="9313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330440" y="2325600"/>
            <a:ext cx="41148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7861800">
            <a:off x="2386800" y="2325240"/>
            <a:ext cx="41148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rot="13738200">
            <a:off x="6199200" y="2325240"/>
            <a:ext cx="41148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322200" y="4797360"/>
            <a:ext cx="2088720" cy="647640"/>
            <a:chOff x="322200" y="4797360"/>
            <a:chExt cx="2088720" cy="647640"/>
          </a:xfrm>
        </p:grpSpPr>
        <p:sp>
          <p:nvSpPr>
            <p:cNvPr id="791" name=""/>
            <p:cNvSpPr/>
            <p:nvPr/>
          </p:nvSpPr>
          <p:spPr>
            <a:xfrm>
              <a:off x="322200" y="4797360"/>
              <a:ext cx="2088720" cy="6476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5880" y="4948560"/>
              <a:ext cx="187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MI UML C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rot="5400000">
            <a:off x="1236240" y="3960720"/>
            <a:ext cx="411480" cy="9316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rot="13738200">
            <a:off x="2386440" y="5133240"/>
            <a:ext cx="411120" cy="9320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ORB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 action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assert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&gt;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OpenORB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name&gt; 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dependency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Java Class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 action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install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valuetypefact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IDL:DiningPhilosophers/StatusInfo:1.0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valueentrypoint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iningPhilosophers.StatusInfoDefaultFactory.creat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actoryentrypoint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iningPhilosophers.StatusInfoDefaultFactor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iningPhilosophers/StatusInfoDefaultFactory.clas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valuetypefactory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dependency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!DOCTYPE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rba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SYSTEM "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rbacomponent.dt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rba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rbavers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3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rbavers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repi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repid=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homerepi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repid=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kin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ces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serva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lifeti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contain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&lt;/process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kind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securit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rightsfamily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CORBA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“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ightscombinator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secanyright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threading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policy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multithrea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figurationcomplet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set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tru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homefeatur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eatur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ort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uses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righ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uses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lef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ublish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emits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     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eventtyp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StatusInfo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eventpolic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policy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norma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&lt;/publishe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&lt;/port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&lt;/componentfeature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nterfac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 rep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perty File pour Philosopher K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!DOCTYP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properties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SYSTEM "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properties.dtd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properties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simpl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nam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 type="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string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Philosopher nam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valu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valu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defaultvalue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2000" spc="-1" strike="noStrike">
                <a:solidFill>
                  <a:srgbClr val="3333ff"/>
                </a:solidFill>
                <a:latin typeface="Comic Sans MS"/>
              </a:rPr>
              <a:t>Unknown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defaultvalu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simpl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&lt;/properties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ssemblage des composants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503280" y="1484280"/>
            <a:ext cx="1980360" cy="1371600"/>
            <a:chOff x="503280" y="1484280"/>
            <a:chExt cx="1980360" cy="1371600"/>
          </a:xfrm>
        </p:grpSpPr>
        <p:sp>
          <p:nvSpPr>
            <p:cNvPr id="1820" name=""/>
            <p:cNvSpPr/>
            <p:nvPr/>
          </p:nvSpPr>
          <p:spPr>
            <a:xfrm>
              <a:off x="528480" y="189396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1" name=""/>
            <p:cNvGrpSpPr/>
            <p:nvPr/>
          </p:nvGrpSpPr>
          <p:grpSpPr>
            <a:xfrm>
              <a:off x="2008080" y="1917360"/>
              <a:ext cx="475560" cy="281160"/>
              <a:chOff x="2008080" y="1917360"/>
              <a:chExt cx="475560" cy="281160"/>
            </a:xfrm>
          </p:grpSpPr>
          <p:grpSp>
            <p:nvGrpSpPr>
              <p:cNvPr id="1822" name=""/>
              <p:cNvGrpSpPr/>
              <p:nvPr/>
            </p:nvGrpSpPr>
            <p:grpSpPr>
              <a:xfrm>
                <a:off x="2008080" y="2042640"/>
                <a:ext cx="146520" cy="39240"/>
                <a:chOff x="2008080" y="2042640"/>
                <a:chExt cx="146520" cy="39240"/>
              </a:xfrm>
            </p:grpSpPr>
            <p:sp>
              <p:nvSpPr>
                <p:cNvPr id="1823" name=""/>
                <p:cNvSpPr/>
                <p:nvPr/>
              </p:nvSpPr>
              <p:spPr>
                <a:xfrm flipH="1">
                  <a:off x="2044800" y="20620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008080" y="20426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5" name=""/>
              <p:cNvSpPr/>
              <p:nvPr/>
            </p:nvSpPr>
            <p:spPr>
              <a:xfrm rot="16200000">
                <a:off x="2179440" y="189432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2008080" y="2246400"/>
              <a:ext cx="475560" cy="280800"/>
              <a:chOff x="2008080" y="2246400"/>
              <a:chExt cx="475560" cy="280800"/>
            </a:xfrm>
          </p:grpSpPr>
          <p:grpSp>
            <p:nvGrpSpPr>
              <p:cNvPr id="1827" name=""/>
              <p:cNvGrpSpPr/>
              <p:nvPr/>
            </p:nvGrpSpPr>
            <p:grpSpPr>
              <a:xfrm>
                <a:off x="2008080" y="2371320"/>
                <a:ext cx="146520" cy="39240"/>
                <a:chOff x="2008080" y="2371320"/>
                <a:chExt cx="146520" cy="39240"/>
              </a:xfrm>
            </p:grpSpPr>
            <p:sp>
              <p:nvSpPr>
                <p:cNvPr id="1828" name=""/>
                <p:cNvSpPr/>
                <p:nvPr/>
              </p:nvSpPr>
              <p:spPr>
                <a:xfrm flipH="1">
                  <a:off x="2044800" y="23907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008080" y="23713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 rot="16200000">
                <a:off x="2179800" y="222336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2008080" y="2621160"/>
              <a:ext cx="396360" cy="141120"/>
              <a:chOff x="2008080" y="2621160"/>
              <a:chExt cx="396360" cy="141120"/>
            </a:xfrm>
          </p:grpSpPr>
          <p:sp>
            <p:nvSpPr>
              <p:cNvPr id="1832" name=""/>
              <p:cNvSpPr/>
              <p:nvPr/>
            </p:nvSpPr>
            <p:spPr>
              <a:xfrm flipH="1">
                <a:off x="2088360" y="26917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008080" y="265788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224440" y="262116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503280" y="24814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1206360" y="1484280"/>
              <a:ext cx="323280" cy="411120"/>
              <a:chOff x="1206360" y="1484280"/>
              <a:chExt cx="323280" cy="411120"/>
            </a:xfrm>
          </p:grpSpPr>
          <p:sp>
            <p:nvSpPr>
              <p:cNvPr id="1837" name=""/>
              <p:cNvSpPr/>
              <p:nvPr/>
            </p:nvSpPr>
            <p:spPr>
              <a:xfrm flipV="1">
                <a:off x="1368000" y="1562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5400000">
                <a:off x="1206720" y="148356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9" name=""/>
            <p:cNvSpPr/>
            <p:nvPr/>
          </p:nvSpPr>
          <p:spPr>
            <a:xfrm>
              <a:off x="509400" y="220032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492840" y="4726080"/>
            <a:ext cx="1991520" cy="1371600"/>
            <a:chOff x="492840" y="4726080"/>
            <a:chExt cx="1991520" cy="1371600"/>
          </a:xfrm>
        </p:grpSpPr>
        <p:sp>
          <p:nvSpPr>
            <p:cNvPr id="1841" name=""/>
            <p:cNvSpPr/>
            <p:nvPr/>
          </p:nvSpPr>
          <p:spPr>
            <a:xfrm>
              <a:off x="528480" y="5135760"/>
              <a:ext cx="159084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008080" y="5159520"/>
              <a:ext cx="476280" cy="280800"/>
              <a:chOff x="2008080" y="5159520"/>
              <a:chExt cx="476280" cy="280800"/>
            </a:xfrm>
          </p:grpSpPr>
          <p:grpSp>
            <p:nvGrpSpPr>
              <p:cNvPr id="1843" name=""/>
              <p:cNvGrpSpPr/>
              <p:nvPr/>
            </p:nvGrpSpPr>
            <p:grpSpPr>
              <a:xfrm>
                <a:off x="2008080" y="5284440"/>
                <a:ext cx="146520" cy="39240"/>
                <a:chOff x="2008080" y="5284440"/>
                <a:chExt cx="146520" cy="39240"/>
              </a:xfrm>
            </p:grpSpPr>
            <p:sp>
              <p:nvSpPr>
                <p:cNvPr id="1844" name=""/>
                <p:cNvSpPr/>
                <p:nvPr/>
              </p:nvSpPr>
              <p:spPr>
                <a:xfrm flipH="1">
                  <a:off x="2044800" y="53038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2008080" y="52844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 rot="16200000">
                <a:off x="2180160" y="513612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008080" y="5487480"/>
              <a:ext cx="476280" cy="281160"/>
              <a:chOff x="2008080" y="5487480"/>
              <a:chExt cx="476280" cy="281160"/>
            </a:xfrm>
          </p:grpSpPr>
          <p:grpSp>
            <p:nvGrpSpPr>
              <p:cNvPr id="1848" name=""/>
              <p:cNvGrpSpPr/>
              <p:nvPr/>
            </p:nvGrpSpPr>
            <p:grpSpPr>
              <a:xfrm>
                <a:off x="2008080" y="5612760"/>
                <a:ext cx="146520" cy="39240"/>
                <a:chOff x="2008080" y="5612760"/>
                <a:chExt cx="146520" cy="39240"/>
              </a:xfrm>
            </p:grpSpPr>
            <p:sp>
              <p:nvSpPr>
                <p:cNvPr id="1849" name=""/>
                <p:cNvSpPr/>
                <p:nvPr/>
              </p:nvSpPr>
              <p:spPr>
                <a:xfrm flipH="1">
                  <a:off x="2044800" y="56322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008080" y="56127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 rot="16200000">
                <a:off x="2180160" y="546444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2008080" y="5862600"/>
              <a:ext cx="396360" cy="141480"/>
              <a:chOff x="2008080" y="5862600"/>
              <a:chExt cx="396360" cy="141480"/>
            </a:xfrm>
          </p:grpSpPr>
          <p:sp>
            <p:nvSpPr>
              <p:cNvPr id="1853" name=""/>
              <p:cNvSpPr/>
              <p:nvPr/>
            </p:nvSpPr>
            <p:spPr>
              <a:xfrm flipH="1">
                <a:off x="2088000" y="59335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008080" y="5899320"/>
                <a:ext cx="79200" cy="676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224440" y="5862600"/>
                <a:ext cx="180000" cy="141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503280" y="5722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1206360" y="4726080"/>
              <a:ext cx="324000" cy="411120"/>
              <a:chOff x="1206360" y="4726080"/>
              <a:chExt cx="324000" cy="411120"/>
            </a:xfrm>
          </p:grpSpPr>
          <p:sp>
            <p:nvSpPr>
              <p:cNvPr id="1858" name=""/>
              <p:cNvSpPr/>
              <p:nvPr/>
            </p:nvSpPr>
            <p:spPr>
              <a:xfrm flipV="1">
                <a:off x="1368360" y="48038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5400000">
                <a:off x="1207080" y="472500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492840" y="5442120"/>
              <a:ext cx="15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Aristo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493920" y="3105000"/>
            <a:ext cx="1990440" cy="1371600"/>
            <a:chOff x="493920" y="3105000"/>
            <a:chExt cx="1990440" cy="1371600"/>
          </a:xfrm>
        </p:grpSpPr>
        <p:sp>
          <p:nvSpPr>
            <p:cNvPr id="1862" name=""/>
            <p:cNvSpPr/>
            <p:nvPr/>
          </p:nvSpPr>
          <p:spPr>
            <a:xfrm>
              <a:off x="528480" y="3514320"/>
              <a:ext cx="1590840" cy="962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2008080" y="3538440"/>
              <a:ext cx="476280" cy="280800"/>
              <a:chOff x="2008080" y="3538440"/>
              <a:chExt cx="476280" cy="28080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2008080" y="3663360"/>
                <a:ext cx="146520" cy="39240"/>
                <a:chOff x="2008080" y="3663360"/>
                <a:chExt cx="146520" cy="39240"/>
              </a:xfrm>
            </p:grpSpPr>
            <p:sp>
              <p:nvSpPr>
                <p:cNvPr id="1865" name=""/>
                <p:cNvSpPr/>
                <p:nvPr/>
              </p:nvSpPr>
              <p:spPr>
                <a:xfrm flipH="1">
                  <a:off x="2044800" y="3682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2008080" y="3663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7" name=""/>
              <p:cNvSpPr/>
              <p:nvPr/>
            </p:nvSpPr>
            <p:spPr>
              <a:xfrm rot="16200000">
                <a:off x="2180160" y="351504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2008080" y="3866400"/>
              <a:ext cx="476280" cy="281160"/>
              <a:chOff x="2008080" y="3866400"/>
              <a:chExt cx="476280" cy="281160"/>
            </a:xfrm>
          </p:grpSpPr>
          <p:grpSp>
            <p:nvGrpSpPr>
              <p:cNvPr id="1869" name=""/>
              <p:cNvGrpSpPr/>
              <p:nvPr/>
            </p:nvGrpSpPr>
            <p:grpSpPr>
              <a:xfrm>
                <a:off x="2008080" y="3991680"/>
                <a:ext cx="146520" cy="39240"/>
                <a:chOff x="2008080" y="3991680"/>
                <a:chExt cx="146520" cy="39240"/>
              </a:xfrm>
            </p:grpSpPr>
            <p:sp>
              <p:nvSpPr>
                <p:cNvPr id="1870" name=""/>
                <p:cNvSpPr/>
                <p:nvPr/>
              </p:nvSpPr>
              <p:spPr>
                <a:xfrm flipH="1">
                  <a:off x="2044800" y="401112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2008080" y="399168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2" name=""/>
              <p:cNvSpPr/>
              <p:nvPr/>
            </p:nvSpPr>
            <p:spPr>
              <a:xfrm rot="16200000">
                <a:off x="2180160" y="384336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2008080" y="4241520"/>
              <a:ext cx="396360" cy="141120"/>
              <a:chOff x="2008080" y="4241520"/>
              <a:chExt cx="396360" cy="141120"/>
            </a:xfrm>
          </p:grpSpPr>
          <p:sp>
            <p:nvSpPr>
              <p:cNvPr id="1874" name=""/>
              <p:cNvSpPr/>
              <p:nvPr/>
            </p:nvSpPr>
            <p:spPr>
              <a:xfrm flipH="1">
                <a:off x="2088000" y="431208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008080" y="427824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224440" y="424152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503280" y="41018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1206360" y="3105000"/>
              <a:ext cx="324000" cy="411120"/>
              <a:chOff x="1206360" y="3105000"/>
              <a:chExt cx="324000" cy="411120"/>
            </a:xfrm>
          </p:grpSpPr>
          <p:sp>
            <p:nvSpPr>
              <p:cNvPr id="1879" name=""/>
              <p:cNvSpPr/>
              <p:nvPr/>
            </p:nvSpPr>
            <p:spPr>
              <a:xfrm flipV="1">
                <a:off x="1368360" y="3182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5400000">
                <a:off x="1207080" y="31039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493920" y="3820680"/>
              <a:ext cx="170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Descar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4081320" y="1544760"/>
            <a:ext cx="1282680" cy="1020240"/>
            <a:chOff x="4081320" y="1544760"/>
            <a:chExt cx="1282680" cy="1020240"/>
          </a:xfrm>
        </p:grpSpPr>
        <p:sp>
          <p:nvSpPr>
            <p:cNvPr id="1883" name=""/>
            <p:cNvSpPr/>
            <p:nvPr/>
          </p:nvSpPr>
          <p:spPr>
            <a:xfrm>
              <a:off x="4678200" y="195552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4" name=""/>
            <p:cNvGrpSpPr/>
            <p:nvPr/>
          </p:nvGrpSpPr>
          <p:grpSpPr>
            <a:xfrm>
              <a:off x="4081320" y="2120760"/>
              <a:ext cx="601560" cy="323640"/>
              <a:chOff x="4081320" y="2120760"/>
              <a:chExt cx="601560" cy="323640"/>
            </a:xfrm>
          </p:grpSpPr>
          <p:sp>
            <p:nvSpPr>
              <p:cNvPr id="1885" name=""/>
              <p:cNvSpPr/>
              <p:nvPr/>
            </p:nvSpPr>
            <p:spPr>
              <a:xfrm flipH="1">
                <a:off x="4349520" y="228240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081320" y="212076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4830480" y="1544760"/>
              <a:ext cx="323640" cy="410040"/>
              <a:chOff x="4830480" y="1544760"/>
              <a:chExt cx="323640" cy="410040"/>
            </a:xfrm>
          </p:grpSpPr>
          <p:sp>
            <p:nvSpPr>
              <p:cNvPr id="1888" name=""/>
              <p:cNvSpPr/>
              <p:nvPr/>
            </p:nvSpPr>
            <p:spPr>
              <a:xfrm flipV="1">
                <a:off x="4992480" y="162180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831200" y="154368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2230560" y="1947960"/>
            <a:ext cx="24588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232000" y="227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5089680" y="2408400"/>
            <a:ext cx="1282680" cy="1020240"/>
            <a:chOff x="5089680" y="2408400"/>
            <a:chExt cx="1282680" cy="1020240"/>
          </a:xfrm>
        </p:grpSpPr>
        <p:sp>
          <p:nvSpPr>
            <p:cNvPr id="1893" name=""/>
            <p:cNvSpPr/>
            <p:nvPr/>
          </p:nvSpPr>
          <p:spPr>
            <a:xfrm>
              <a:off x="5686560" y="28191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9680" y="2984400"/>
              <a:ext cx="601560" cy="323640"/>
              <a:chOff x="5089680" y="2984400"/>
              <a:chExt cx="601560" cy="323640"/>
            </a:xfrm>
          </p:grpSpPr>
          <p:sp>
            <p:nvSpPr>
              <p:cNvPr id="1895" name=""/>
              <p:cNvSpPr/>
              <p:nvPr/>
            </p:nvSpPr>
            <p:spPr>
              <a:xfrm flipH="1">
                <a:off x="5357880" y="3146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9680" y="29844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5838840" y="2408400"/>
              <a:ext cx="323640" cy="410040"/>
              <a:chOff x="5838840" y="2408400"/>
              <a:chExt cx="323640" cy="410040"/>
            </a:xfrm>
          </p:grpSpPr>
          <p:sp>
            <p:nvSpPr>
              <p:cNvPr id="1898" name=""/>
              <p:cNvSpPr/>
              <p:nvPr/>
            </p:nvSpPr>
            <p:spPr>
              <a:xfrm flipV="1">
                <a:off x="6000840" y="24854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5400000">
                <a:off x="5839560" y="24073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0" name=""/>
          <p:cNvGrpSpPr/>
          <p:nvPr/>
        </p:nvGrpSpPr>
        <p:grpSpPr>
          <a:xfrm>
            <a:off x="6026040" y="3271680"/>
            <a:ext cx="1282680" cy="1020960"/>
            <a:chOff x="6026040" y="3271680"/>
            <a:chExt cx="1282680" cy="1020960"/>
          </a:xfrm>
        </p:grpSpPr>
        <p:sp>
          <p:nvSpPr>
            <p:cNvPr id="1901" name=""/>
            <p:cNvSpPr/>
            <p:nvPr/>
          </p:nvSpPr>
          <p:spPr>
            <a:xfrm>
              <a:off x="6622920" y="3682800"/>
              <a:ext cx="6858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6026040" y="3848040"/>
              <a:ext cx="601560" cy="324000"/>
              <a:chOff x="6026040" y="3848040"/>
              <a:chExt cx="601560" cy="324000"/>
            </a:xfrm>
          </p:grpSpPr>
          <p:sp>
            <p:nvSpPr>
              <p:cNvPr id="1903" name=""/>
              <p:cNvSpPr/>
              <p:nvPr/>
            </p:nvSpPr>
            <p:spPr>
              <a:xfrm flipH="1">
                <a:off x="6294240" y="4010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026040" y="3848040"/>
                <a:ext cx="322200" cy="3240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6775200" y="3271680"/>
              <a:ext cx="323640" cy="411120"/>
              <a:chOff x="6775200" y="3271680"/>
              <a:chExt cx="323640" cy="411120"/>
            </a:xfrm>
          </p:grpSpPr>
          <p:sp>
            <p:nvSpPr>
              <p:cNvPr id="1906" name=""/>
              <p:cNvSpPr/>
              <p:nvPr/>
            </p:nvSpPr>
            <p:spPr>
              <a:xfrm flipV="1">
                <a:off x="6937200" y="33494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5400000">
                <a:off x="6775920" y="32709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908" name=""/>
          <p:cNvCxnSpPr>
            <a:stCxn id="1890" idx="6"/>
            <a:endCxn id="1904" idx="2"/>
          </p:cNvCxnSpPr>
          <p:nvPr/>
        </p:nvCxnSpPr>
        <p:spPr>
          <a:xfrm>
            <a:off x="2476440" y="2061720"/>
            <a:ext cx="3550320" cy="194832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09" name=""/>
          <p:cNvCxnSpPr>
            <a:stCxn id="1891" idx="6"/>
            <a:endCxn id="1886" idx="2"/>
          </p:cNvCxnSpPr>
          <p:nvPr/>
        </p:nvCxnSpPr>
        <p:spPr>
          <a:xfrm flipV="1">
            <a:off x="2477880" y="2282400"/>
            <a:ext cx="16038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1910" name=""/>
          <p:cNvSpPr/>
          <p:nvPr/>
        </p:nvSpPr>
        <p:spPr>
          <a:xfrm>
            <a:off x="2228760" y="356868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233440" y="38973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20840" y="51879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228760" y="551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4" name=""/>
          <p:cNvCxnSpPr>
            <a:stCxn id="1910" idx="6"/>
            <a:endCxn id="1886" idx="2"/>
          </p:cNvCxnSpPr>
          <p:nvPr/>
        </p:nvCxnSpPr>
        <p:spPr>
          <a:xfrm flipV="1">
            <a:off x="2475000" y="2282760"/>
            <a:ext cx="1607040" cy="1400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15" name=""/>
          <p:cNvCxnSpPr>
            <a:stCxn id="1911" idx="6"/>
            <a:endCxn id="1896" idx="2"/>
          </p:cNvCxnSpPr>
          <p:nvPr/>
        </p:nvCxnSpPr>
        <p:spPr>
          <a:xfrm flipV="1">
            <a:off x="2479680" y="3145680"/>
            <a:ext cx="2610720" cy="86580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16" name=""/>
          <p:cNvCxnSpPr>
            <a:stCxn id="1912" idx="6"/>
            <a:endCxn id="1896" idx="2"/>
          </p:cNvCxnSpPr>
          <p:nvPr/>
        </p:nvCxnSpPr>
        <p:spPr>
          <a:xfrm flipV="1">
            <a:off x="2466720" y="3146040"/>
            <a:ext cx="2622960" cy="215640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17" name=""/>
          <p:cNvCxnSpPr>
            <a:stCxn id="1913" idx="6"/>
            <a:endCxn id="1904" idx="2"/>
          </p:cNvCxnSpPr>
          <p:nvPr/>
        </p:nvCxnSpPr>
        <p:spPr>
          <a:xfrm flipV="1">
            <a:off x="2475000" y="4009680"/>
            <a:ext cx="3551760" cy="1621440"/>
          </a:xfrm>
          <a:prstGeom prst="curvedConnector5">
            <a:avLst>
              <a:gd name="adj1" fmla="val 49974"/>
              <a:gd name="adj2" fmla="val 49988"/>
              <a:gd name="adj3" fmla="val 49974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1918" name=""/>
          <p:cNvSpPr/>
          <p:nvPr/>
        </p:nvSpPr>
        <p:spPr>
          <a:xfrm>
            <a:off x="2340000" y="58644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359080" y="4238640"/>
            <a:ext cx="199800" cy="136440"/>
          </a:xfrm>
          <a:custGeom>
            <a:avLst/>
            <a:gdLst>
              <a:gd name="textAreaLeft" fmla="*/ 0 w 199800"/>
              <a:gd name="textAreaRight" fmla="*/ 200160 w 1998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363760" y="26226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1" name=""/>
          <p:cNvCxnSpPr>
            <a:stCxn id="1920" idx="0"/>
            <a:endCxn id="1922" idx="0"/>
          </p:cNvCxnSpPr>
          <p:nvPr/>
        </p:nvCxnSpPr>
        <p:spPr>
          <a:xfrm>
            <a:off x="2563560" y="2690280"/>
            <a:ext cx="3958200" cy="3280680"/>
          </a:xfrm>
          <a:prstGeom prst="curvedConnector5">
            <a:avLst>
              <a:gd name="adj1" fmla="val 49017"/>
              <a:gd name="adj2" fmla="val 50000"/>
              <a:gd name="adj3" fmla="val 49017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1923" name=""/>
          <p:cNvCxnSpPr>
            <a:stCxn id="1919" idx="0"/>
            <a:endCxn id="1922" idx="1"/>
          </p:cNvCxnSpPr>
          <p:nvPr/>
        </p:nvCxnSpPr>
        <p:spPr>
          <a:xfrm>
            <a:off x="2558520" y="4306680"/>
            <a:ext cx="3963240" cy="1664280"/>
          </a:xfrm>
          <a:prstGeom prst="curvedConnector5">
            <a:avLst>
              <a:gd name="adj1" fmla="val 48991"/>
              <a:gd name="adj2" fmla="val 50000"/>
              <a:gd name="adj3" fmla="val 48991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1924" name=""/>
          <p:cNvCxnSpPr>
            <a:stCxn id="1918" idx="0"/>
            <a:endCxn id="1922" idx="2"/>
          </p:cNvCxnSpPr>
          <p:nvPr/>
        </p:nvCxnSpPr>
        <p:spPr>
          <a:xfrm>
            <a:off x="2539800" y="5932440"/>
            <a:ext cx="3981960" cy="38880"/>
          </a:xfrm>
          <a:prstGeom prst="curvedConnector5">
            <a:avLst>
              <a:gd name="adj1" fmla="val 48996"/>
              <a:gd name="adj2" fmla="val 49532"/>
              <a:gd name="adj3" fmla="val 48996"/>
            </a:avLst>
          </a:prstGeom>
          <a:ln w="38160">
            <a:solidFill>
              <a:srgbClr val="0000cc"/>
            </a:solidFill>
            <a:miter/>
          </a:ln>
        </p:spPr>
      </p:cxnSp>
      <p:grpSp>
        <p:nvGrpSpPr>
          <p:cNvPr id="1925" name=""/>
          <p:cNvGrpSpPr/>
          <p:nvPr/>
        </p:nvGrpSpPr>
        <p:grpSpPr>
          <a:xfrm>
            <a:off x="7308720" y="1268280"/>
            <a:ext cx="1567440" cy="368280"/>
            <a:chOff x="7308720" y="1268280"/>
            <a:chExt cx="1567440" cy="368280"/>
          </a:xfrm>
        </p:grpSpPr>
        <p:sp>
          <p:nvSpPr>
            <p:cNvPr id="1926" name=""/>
            <p:cNvSpPr/>
            <p:nvPr/>
          </p:nvSpPr>
          <p:spPr>
            <a:xfrm>
              <a:off x="7308720" y="1373040"/>
              <a:ext cx="322560" cy="176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652880" y="12682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Compos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7308360" y="1646280"/>
            <a:ext cx="1791360" cy="368280"/>
            <a:chOff x="7308360" y="1646280"/>
            <a:chExt cx="1791360" cy="368280"/>
          </a:xfrm>
        </p:grpSpPr>
        <p:grpSp>
          <p:nvGrpSpPr>
            <p:cNvPr id="1929" name=""/>
            <p:cNvGrpSpPr/>
            <p:nvPr/>
          </p:nvGrpSpPr>
          <p:grpSpPr>
            <a:xfrm>
              <a:off x="7308360" y="1700280"/>
              <a:ext cx="228600" cy="228240"/>
              <a:chOff x="7308360" y="1700280"/>
              <a:chExt cx="228600" cy="228240"/>
            </a:xfrm>
          </p:grpSpPr>
          <p:sp>
            <p:nvSpPr>
              <p:cNvPr id="1930" name=""/>
              <p:cNvSpPr/>
              <p:nvPr/>
            </p:nvSpPr>
            <p:spPr>
              <a:xfrm flipV="1">
                <a:off x="7422840" y="17431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7332840" y="1675440"/>
                <a:ext cx="179280" cy="228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7651800" y="1646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Interf. 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308720" y="1978200"/>
            <a:ext cx="1187280" cy="368280"/>
            <a:chOff x="7308720" y="1978200"/>
            <a:chExt cx="1187280" cy="368280"/>
          </a:xfrm>
        </p:grpSpPr>
        <p:grpSp>
          <p:nvGrpSpPr>
            <p:cNvPr id="1934" name=""/>
            <p:cNvGrpSpPr/>
            <p:nvPr/>
          </p:nvGrpSpPr>
          <p:grpSpPr>
            <a:xfrm>
              <a:off x="7308720" y="2055960"/>
              <a:ext cx="330120" cy="228600"/>
              <a:chOff x="7308720" y="2055960"/>
              <a:chExt cx="330120" cy="228600"/>
            </a:xfrm>
          </p:grpSpPr>
          <p:sp>
            <p:nvSpPr>
              <p:cNvPr id="1935" name=""/>
              <p:cNvSpPr/>
              <p:nvPr/>
            </p:nvSpPr>
            <p:spPr>
              <a:xfrm flipH="1">
                <a:off x="7455960" y="217008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308720" y="2055960"/>
                <a:ext cx="176760" cy="2286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"/>
            <p:cNvSpPr/>
            <p:nvPr/>
          </p:nvSpPr>
          <p:spPr>
            <a:xfrm>
              <a:off x="7652160" y="197820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acet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308720" y="2333520"/>
            <a:ext cx="1530720" cy="368280"/>
            <a:chOff x="7308720" y="2333520"/>
            <a:chExt cx="1530720" cy="368280"/>
          </a:xfrm>
        </p:grpSpPr>
        <p:grpSp>
          <p:nvGrpSpPr>
            <p:cNvPr id="1939" name=""/>
            <p:cNvGrpSpPr/>
            <p:nvPr/>
          </p:nvGrpSpPr>
          <p:grpSpPr>
            <a:xfrm>
              <a:off x="7308720" y="2374920"/>
              <a:ext cx="417600" cy="301680"/>
              <a:chOff x="7308720" y="2374920"/>
              <a:chExt cx="417600" cy="301680"/>
            </a:xfrm>
          </p:grpSpPr>
          <p:grpSp>
            <p:nvGrpSpPr>
              <p:cNvPr id="1940" name=""/>
              <p:cNvGrpSpPr/>
              <p:nvPr/>
            </p:nvGrpSpPr>
            <p:grpSpPr>
              <a:xfrm>
                <a:off x="7308720" y="2509200"/>
                <a:ext cx="128880" cy="42120"/>
                <a:chOff x="7308720" y="2509200"/>
                <a:chExt cx="128880" cy="421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341120" y="2530080"/>
                  <a:ext cx="96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308720" y="2509200"/>
                  <a:ext cx="47520" cy="42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rot="16200000">
                <a:off x="7431840" y="2382120"/>
                <a:ext cx="301680" cy="286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7651440" y="233352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Récepta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7308720" y="3044880"/>
            <a:ext cx="1707840" cy="368280"/>
            <a:chOff x="7308720" y="3044880"/>
            <a:chExt cx="1707840" cy="368280"/>
          </a:xfrm>
        </p:grpSpPr>
        <p:grpSp>
          <p:nvGrpSpPr>
            <p:cNvPr id="1946" name=""/>
            <p:cNvGrpSpPr/>
            <p:nvPr/>
          </p:nvGrpSpPr>
          <p:grpSpPr>
            <a:xfrm>
              <a:off x="7308720" y="3106440"/>
              <a:ext cx="384480" cy="258480"/>
              <a:chOff x="7308720" y="3106440"/>
              <a:chExt cx="384480" cy="258480"/>
            </a:xfrm>
          </p:grpSpPr>
          <p:sp>
            <p:nvSpPr>
              <p:cNvPr id="1947" name=""/>
              <p:cNvSpPr/>
              <p:nvPr/>
            </p:nvSpPr>
            <p:spPr>
              <a:xfrm flipH="1">
                <a:off x="7386120" y="3235680"/>
                <a:ext cx="15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308720" y="3173760"/>
                <a:ext cx="77040" cy="1234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18600" y="3106440"/>
                <a:ext cx="174600" cy="2584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0" name=""/>
            <p:cNvSpPr/>
            <p:nvPr/>
          </p:nvSpPr>
          <p:spPr>
            <a:xfrm>
              <a:off x="7651800" y="3044880"/>
              <a:ext cx="13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urce évé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7308720" y="2689200"/>
            <a:ext cx="1441080" cy="368280"/>
            <a:chOff x="7308720" y="2689200"/>
            <a:chExt cx="1441080" cy="368280"/>
          </a:xfrm>
        </p:grpSpPr>
        <p:grpSp>
          <p:nvGrpSpPr>
            <p:cNvPr id="1952" name=""/>
            <p:cNvGrpSpPr/>
            <p:nvPr/>
          </p:nvGrpSpPr>
          <p:grpSpPr>
            <a:xfrm>
              <a:off x="7308720" y="2732040"/>
              <a:ext cx="419040" cy="297000"/>
              <a:chOff x="7308720" y="2732040"/>
              <a:chExt cx="419040" cy="297000"/>
            </a:xfrm>
          </p:grpSpPr>
          <p:sp>
            <p:nvSpPr>
              <p:cNvPr id="1953" name=""/>
              <p:cNvSpPr/>
              <p:nvPr/>
            </p:nvSpPr>
            <p:spPr>
              <a:xfrm flipH="1">
                <a:off x="7511400" y="2878560"/>
                <a:ext cx="2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08720" y="2732040"/>
                <a:ext cx="216360" cy="2970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>
              <a:off x="7651800" y="268920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uit évé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6443640" y="5084640"/>
            <a:ext cx="1927080" cy="1189080"/>
            <a:chOff x="6443640" y="5084640"/>
            <a:chExt cx="1927080" cy="1189080"/>
          </a:xfrm>
        </p:grpSpPr>
        <p:grpSp>
          <p:nvGrpSpPr>
            <p:cNvPr id="1957" name=""/>
            <p:cNvGrpSpPr/>
            <p:nvPr/>
          </p:nvGrpSpPr>
          <p:grpSpPr>
            <a:xfrm>
              <a:off x="6443640" y="5818320"/>
              <a:ext cx="600120" cy="304560"/>
              <a:chOff x="6443640" y="5818320"/>
              <a:chExt cx="600120" cy="304560"/>
            </a:xfrm>
          </p:grpSpPr>
          <p:sp>
            <p:nvSpPr>
              <p:cNvPr id="1958" name=""/>
              <p:cNvSpPr/>
              <p:nvPr/>
            </p:nvSpPr>
            <p:spPr>
              <a:xfrm flipH="1">
                <a:off x="6734160" y="596880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443640" y="581832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7449840" y="5084640"/>
              <a:ext cx="323640" cy="411120"/>
              <a:chOff x="7449840" y="5084640"/>
              <a:chExt cx="323640" cy="411120"/>
            </a:xfrm>
          </p:grpSpPr>
          <p:sp>
            <p:nvSpPr>
              <p:cNvPr id="1960" name=""/>
              <p:cNvSpPr/>
              <p:nvPr/>
            </p:nvSpPr>
            <p:spPr>
              <a:xfrm flipV="1">
                <a:off x="7611840" y="5162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5400000">
                <a:off x="7450560" y="508392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2" name=""/>
            <p:cNvSpPr/>
            <p:nvPr/>
          </p:nvSpPr>
          <p:spPr>
            <a:xfrm>
              <a:off x="6840360" y="549576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!DOCTYP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componentassembl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SYSTEM "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assembly.dt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assembly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emophilo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inner assembly descripto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.cs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.cs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.cs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files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415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artitioning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Observ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reu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gisterwithnaming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inner/Observ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1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2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3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gisterwithhomefind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Compon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Kant.cp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escart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escartes.cp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Aristotl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Aristotle.cp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artitionin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nections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nectinterfac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usespor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usesidentifi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lef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us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us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videspor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rovidesidentifier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the_fork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rovid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orkManager1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rovid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nnectinterface&gt; 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5614920" y="1193760"/>
            <a:ext cx="1981440" cy="1371600"/>
            <a:chOff x="5614920" y="1193760"/>
            <a:chExt cx="1981440" cy="1371600"/>
          </a:xfrm>
        </p:grpSpPr>
        <p:sp>
          <p:nvSpPr>
            <p:cNvPr id="1972" name=""/>
            <p:cNvSpPr/>
            <p:nvPr/>
          </p:nvSpPr>
          <p:spPr>
            <a:xfrm>
              <a:off x="5640480" y="1603440"/>
              <a:ext cx="159048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3" name=""/>
            <p:cNvGrpSpPr/>
            <p:nvPr/>
          </p:nvGrpSpPr>
          <p:grpSpPr>
            <a:xfrm>
              <a:off x="7120080" y="1626840"/>
              <a:ext cx="476280" cy="281160"/>
              <a:chOff x="7120080" y="1626840"/>
              <a:chExt cx="476280" cy="281160"/>
            </a:xfrm>
          </p:grpSpPr>
          <p:grpSp>
            <p:nvGrpSpPr>
              <p:cNvPr id="1974" name=""/>
              <p:cNvGrpSpPr/>
              <p:nvPr/>
            </p:nvGrpSpPr>
            <p:grpSpPr>
              <a:xfrm>
                <a:off x="7120080" y="1752120"/>
                <a:ext cx="146520" cy="39240"/>
                <a:chOff x="7120080" y="1752120"/>
                <a:chExt cx="146520" cy="39240"/>
              </a:xfrm>
            </p:grpSpPr>
            <p:sp>
              <p:nvSpPr>
                <p:cNvPr id="1975" name=""/>
                <p:cNvSpPr/>
                <p:nvPr/>
              </p:nvSpPr>
              <p:spPr>
                <a:xfrm flipH="1">
                  <a:off x="7156800" y="17715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7120080" y="17521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7" name=""/>
              <p:cNvSpPr/>
              <p:nvPr/>
            </p:nvSpPr>
            <p:spPr>
              <a:xfrm rot="16200000">
                <a:off x="7292160" y="160380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7120080" y="1955880"/>
              <a:ext cx="476280" cy="280800"/>
              <a:chOff x="7120080" y="1955880"/>
              <a:chExt cx="476280" cy="280800"/>
            </a:xfrm>
          </p:grpSpPr>
          <p:grpSp>
            <p:nvGrpSpPr>
              <p:cNvPr id="1979" name=""/>
              <p:cNvGrpSpPr/>
              <p:nvPr/>
            </p:nvGrpSpPr>
            <p:grpSpPr>
              <a:xfrm>
                <a:off x="7120080" y="2080800"/>
                <a:ext cx="146520" cy="39240"/>
                <a:chOff x="7120080" y="2080800"/>
                <a:chExt cx="146520" cy="39240"/>
              </a:xfrm>
            </p:grpSpPr>
            <p:sp>
              <p:nvSpPr>
                <p:cNvPr id="1980" name=""/>
                <p:cNvSpPr/>
                <p:nvPr/>
              </p:nvSpPr>
              <p:spPr>
                <a:xfrm flipH="1">
                  <a:off x="7156800" y="210024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7120080" y="208080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2" name=""/>
              <p:cNvSpPr/>
              <p:nvPr/>
            </p:nvSpPr>
            <p:spPr>
              <a:xfrm rot="16200000">
                <a:off x="7292160" y="193248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7120080" y="2330640"/>
              <a:ext cx="396360" cy="141120"/>
              <a:chOff x="7120080" y="2330640"/>
              <a:chExt cx="396360" cy="141120"/>
            </a:xfrm>
          </p:grpSpPr>
          <p:sp>
            <p:nvSpPr>
              <p:cNvPr id="1984" name=""/>
              <p:cNvSpPr/>
              <p:nvPr/>
            </p:nvSpPr>
            <p:spPr>
              <a:xfrm flipH="1">
                <a:off x="7200000" y="240120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20080" y="236736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6440" y="233064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7" name=""/>
            <p:cNvSpPr/>
            <p:nvPr/>
          </p:nvSpPr>
          <p:spPr>
            <a:xfrm>
              <a:off x="5614920" y="21909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6318000" y="1193760"/>
              <a:ext cx="323640" cy="411120"/>
              <a:chOff x="6318000" y="1193760"/>
              <a:chExt cx="323640" cy="411120"/>
            </a:xfrm>
          </p:grpSpPr>
          <p:sp>
            <p:nvSpPr>
              <p:cNvPr id="1989" name=""/>
              <p:cNvSpPr/>
              <p:nvPr/>
            </p:nvSpPr>
            <p:spPr>
              <a:xfrm flipV="1">
                <a:off x="6480000" y="127152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5400000">
                <a:off x="6318720" y="119304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1" name=""/>
            <p:cNvSpPr/>
            <p:nvPr/>
          </p:nvSpPr>
          <p:spPr>
            <a:xfrm>
              <a:off x="5621040" y="190980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7826400" y="1036800"/>
            <a:ext cx="1282680" cy="1020240"/>
            <a:chOff x="7826400" y="1036800"/>
            <a:chExt cx="1282680" cy="1020240"/>
          </a:xfrm>
        </p:grpSpPr>
        <p:sp>
          <p:nvSpPr>
            <p:cNvPr id="1993" name=""/>
            <p:cNvSpPr/>
            <p:nvPr/>
          </p:nvSpPr>
          <p:spPr>
            <a:xfrm>
              <a:off x="8423280" y="14475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4" name=""/>
            <p:cNvGrpSpPr/>
            <p:nvPr/>
          </p:nvGrpSpPr>
          <p:grpSpPr>
            <a:xfrm>
              <a:off x="7826400" y="1612800"/>
              <a:ext cx="601560" cy="323640"/>
              <a:chOff x="7826400" y="1612800"/>
              <a:chExt cx="601560" cy="323640"/>
            </a:xfrm>
          </p:grpSpPr>
          <p:sp>
            <p:nvSpPr>
              <p:cNvPr id="1995" name=""/>
              <p:cNvSpPr/>
              <p:nvPr/>
            </p:nvSpPr>
            <p:spPr>
              <a:xfrm flipH="1">
                <a:off x="8094600" y="17744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826400" y="16128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8575560" y="1036800"/>
              <a:ext cx="323640" cy="410040"/>
              <a:chOff x="8575560" y="1036800"/>
              <a:chExt cx="323640" cy="410040"/>
            </a:xfrm>
          </p:grpSpPr>
          <p:sp>
            <p:nvSpPr>
              <p:cNvPr id="1998" name=""/>
              <p:cNvSpPr/>
              <p:nvPr/>
            </p:nvSpPr>
            <p:spPr>
              <a:xfrm flipV="1">
                <a:off x="8737560" y="11138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5400000">
                <a:off x="8576280" y="10357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00" name=""/>
          <p:cNvCxnSpPr>
            <a:stCxn id="1977" idx="0"/>
            <a:endCxn id="1996" idx="2"/>
          </p:cNvCxnSpPr>
          <p:nvPr/>
        </p:nvCxnSpPr>
        <p:spPr>
          <a:xfrm>
            <a:off x="7351200" y="1768320"/>
            <a:ext cx="4755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001" name=""/>
          <p:cNvSpPr/>
          <p:nvPr/>
        </p:nvSpPr>
        <p:spPr>
          <a:xfrm>
            <a:off x="6300720" y="2585880"/>
            <a:ext cx="358920" cy="86364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524720" y="2133720"/>
            <a:ext cx="1224000" cy="295272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093080" y="1989000"/>
            <a:ext cx="934920" cy="273528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80000" y="1916280"/>
            <a:ext cx="1800360" cy="1152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necteve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ublishespor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publishesidentifi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ublish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publish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sumespor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nsumesidentifier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nsum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Freud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nsum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nnectev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4822920" y="1278000"/>
            <a:ext cx="1980360" cy="1371600"/>
            <a:chOff x="4822920" y="1278000"/>
            <a:chExt cx="1980360" cy="1371600"/>
          </a:xfrm>
        </p:grpSpPr>
        <p:sp>
          <p:nvSpPr>
            <p:cNvPr id="2008" name=""/>
            <p:cNvSpPr/>
            <p:nvPr/>
          </p:nvSpPr>
          <p:spPr>
            <a:xfrm>
              <a:off x="4848120" y="168768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9" name=""/>
            <p:cNvGrpSpPr/>
            <p:nvPr/>
          </p:nvGrpSpPr>
          <p:grpSpPr>
            <a:xfrm>
              <a:off x="6327720" y="1711080"/>
              <a:ext cx="475560" cy="281160"/>
              <a:chOff x="6327720" y="1711080"/>
              <a:chExt cx="475560" cy="281160"/>
            </a:xfrm>
          </p:grpSpPr>
          <p:grpSp>
            <p:nvGrpSpPr>
              <p:cNvPr id="2010" name=""/>
              <p:cNvGrpSpPr/>
              <p:nvPr/>
            </p:nvGrpSpPr>
            <p:grpSpPr>
              <a:xfrm>
                <a:off x="6327720" y="1836360"/>
                <a:ext cx="146520" cy="39240"/>
                <a:chOff x="6327720" y="1836360"/>
                <a:chExt cx="146520" cy="39240"/>
              </a:xfrm>
            </p:grpSpPr>
            <p:sp>
              <p:nvSpPr>
                <p:cNvPr id="2011" name=""/>
                <p:cNvSpPr/>
                <p:nvPr/>
              </p:nvSpPr>
              <p:spPr>
                <a:xfrm flipH="1">
                  <a:off x="6364440" y="1855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327720" y="1836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3" name=""/>
              <p:cNvSpPr/>
              <p:nvPr/>
            </p:nvSpPr>
            <p:spPr>
              <a:xfrm rot="16200000">
                <a:off x="6499080" y="168804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6327720" y="2040120"/>
              <a:ext cx="475560" cy="280800"/>
              <a:chOff x="6327720" y="2040120"/>
              <a:chExt cx="475560" cy="280800"/>
            </a:xfrm>
          </p:grpSpPr>
          <p:grpSp>
            <p:nvGrpSpPr>
              <p:cNvPr id="2015" name=""/>
              <p:cNvGrpSpPr/>
              <p:nvPr/>
            </p:nvGrpSpPr>
            <p:grpSpPr>
              <a:xfrm>
                <a:off x="6327720" y="2165040"/>
                <a:ext cx="146520" cy="39240"/>
                <a:chOff x="6327720" y="2165040"/>
                <a:chExt cx="146520" cy="39240"/>
              </a:xfrm>
            </p:grpSpPr>
            <p:sp>
              <p:nvSpPr>
                <p:cNvPr id="2016" name=""/>
                <p:cNvSpPr/>
                <p:nvPr/>
              </p:nvSpPr>
              <p:spPr>
                <a:xfrm flipH="1">
                  <a:off x="6364440" y="21844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327720" y="21650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8" name=""/>
              <p:cNvSpPr/>
              <p:nvPr/>
            </p:nvSpPr>
            <p:spPr>
              <a:xfrm rot="16200000">
                <a:off x="6499440" y="201708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6327720" y="2414880"/>
              <a:ext cx="396360" cy="141120"/>
              <a:chOff x="6327720" y="2414880"/>
              <a:chExt cx="396360" cy="141120"/>
            </a:xfrm>
          </p:grpSpPr>
          <p:sp>
            <p:nvSpPr>
              <p:cNvPr id="2020" name=""/>
              <p:cNvSpPr/>
              <p:nvPr/>
            </p:nvSpPr>
            <p:spPr>
              <a:xfrm flipH="1">
                <a:off x="6408000" y="248544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327720" y="245160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544080" y="241488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3" name=""/>
            <p:cNvSpPr/>
            <p:nvPr/>
          </p:nvSpPr>
          <p:spPr>
            <a:xfrm>
              <a:off x="4822920" y="227520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"/>
            <p:cNvGrpSpPr/>
            <p:nvPr/>
          </p:nvGrpSpPr>
          <p:grpSpPr>
            <a:xfrm>
              <a:off x="5526000" y="1278000"/>
              <a:ext cx="323280" cy="411120"/>
              <a:chOff x="5526000" y="1278000"/>
              <a:chExt cx="323280" cy="411120"/>
            </a:xfrm>
          </p:grpSpPr>
          <p:sp>
            <p:nvSpPr>
              <p:cNvPr id="2025" name=""/>
              <p:cNvSpPr/>
              <p:nvPr/>
            </p:nvSpPr>
            <p:spPr>
              <a:xfrm flipV="1">
                <a:off x="5687640" y="1355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5400000">
                <a:off x="5526360" y="127728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7" name=""/>
            <p:cNvSpPr/>
            <p:nvPr/>
          </p:nvSpPr>
          <p:spPr>
            <a:xfrm>
              <a:off x="4829040" y="199404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7037280" y="1592280"/>
            <a:ext cx="1927080" cy="1189080"/>
            <a:chOff x="7037280" y="1592280"/>
            <a:chExt cx="1927080" cy="1189080"/>
          </a:xfrm>
        </p:grpSpPr>
        <p:grpSp>
          <p:nvGrpSpPr>
            <p:cNvPr id="2029" name=""/>
            <p:cNvGrpSpPr/>
            <p:nvPr/>
          </p:nvGrpSpPr>
          <p:grpSpPr>
            <a:xfrm>
              <a:off x="7037280" y="2325960"/>
              <a:ext cx="600120" cy="304560"/>
              <a:chOff x="7037280" y="2325960"/>
              <a:chExt cx="600120" cy="304560"/>
            </a:xfrm>
          </p:grpSpPr>
          <p:sp>
            <p:nvSpPr>
              <p:cNvPr id="2030" name=""/>
              <p:cNvSpPr/>
              <p:nvPr/>
            </p:nvSpPr>
            <p:spPr>
              <a:xfrm flipH="1">
                <a:off x="7327800" y="247644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037280" y="232596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8043480" y="1592280"/>
              <a:ext cx="323640" cy="411120"/>
              <a:chOff x="8043480" y="1592280"/>
              <a:chExt cx="323640" cy="411120"/>
            </a:xfrm>
          </p:grpSpPr>
          <p:sp>
            <p:nvSpPr>
              <p:cNvPr id="2033" name=""/>
              <p:cNvSpPr/>
              <p:nvPr/>
            </p:nvSpPr>
            <p:spPr>
              <a:xfrm flipV="1">
                <a:off x="8205480" y="1670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5400000">
                <a:off x="8044200" y="15915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5" name=""/>
            <p:cNvSpPr/>
            <p:nvPr/>
          </p:nvSpPr>
          <p:spPr>
            <a:xfrm>
              <a:off x="7434000" y="200340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36" name=""/>
          <p:cNvCxnSpPr>
            <a:stCxn id="2022" idx="0"/>
            <a:endCxn id="2031" idx="0"/>
          </p:cNvCxnSpPr>
          <p:nvPr/>
        </p:nvCxnSpPr>
        <p:spPr>
          <a:xfrm flipV="1">
            <a:off x="6724800" y="2477880"/>
            <a:ext cx="39096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037" name=""/>
          <p:cNvSpPr/>
          <p:nvPr/>
        </p:nvSpPr>
        <p:spPr>
          <a:xfrm>
            <a:off x="6300720" y="2585880"/>
            <a:ext cx="358920" cy="6987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516720" y="2708280"/>
            <a:ext cx="647640" cy="20667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telier Caden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lug-in Eclipse +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96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de conditionnement et d’assemblage d’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0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d’assemblage de Mico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2" name="" descr=""/>
          <p:cNvPicPr/>
          <p:nvPr/>
        </p:nvPicPr>
        <p:blipFill>
          <a:blip r:embed="rId1"/>
          <a:stretch/>
        </p:blipFill>
        <p:spPr>
          <a:xfrm>
            <a:off x="468360" y="1338120"/>
            <a:ext cx="8324640" cy="51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d’assemblage de K2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lug-in Rational Ros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IST CO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7" name=""/>
          <p:cNvGraphicFramePr/>
          <p:nvPr/>
        </p:nvGraphicFramePr>
        <p:xfrm>
          <a:off x="2556000" y="1341360"/>
          <a:ext cx="477180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47718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lug-in Rational Ros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IST CO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1" name=""/>
          <p:cNvGraphicFramePr/>
          <p:nvPr/>
        </p:nvGraphicFramePr>
        <p:xfrm>
          <a:off x="1511280" y="1157400"/>
          <a:ext cx="6085080" cy="54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157400"/>
                    <a:ext cx="608508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lug-in Rational Ros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IST CO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5" name=""/>
          <p:cNvGraphicFramePr/>
          <p:nvPr/>
        </p:nvGraphicFramePr>
        <p:xfrm>
          <a:off x="179280" y="1341360"/>
          <a:ext cx="9288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9288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lug-in Rational Ros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IST CO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9" name=""/>
          <p:cNvGraphicFramePr/>
          <p:nvPr/>
        </p:nvGraphicFramePr>
        <p:xfrm>
          <a:off x="0" y="1268280"/>
          <a:ext cx="896472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96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déploiement, l’exécution et l’administration de l’applicatio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Le déploiement, l’exécution et l’administration de l’applic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381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ploiement automatis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via un outil de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Exécution automatisé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e démons à faire manuell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doma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0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CORBA Naming Serv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0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CCM Assembly Fact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0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CCM Server Activa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0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CCM Component Instal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Administration de l’applic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programmes clients ad hoc à l’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une console génér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>
            <a:hlinkClick r:id="rId1"/>
          </p:cNvPr>
          <p:cNvSpPr/>
          <p:nvPr/>
        </p:nvSpPr>
        <p:spPr>
          <a:xfrm>
            <a:off x="6372360" y="1484280"/>
            <a:ext cx="2447640" cy="4681440"/>
          </a:xfrm>
          <a:custGeom>
            <a:avLst/>
            <a:gdLst>
              <a:gd name="textAreaLeft" fmla="*/ 158400 w 2447640"/>
              <a:gd name="textAreaRight" fmla="*/ 2289240 w 2447640"/>
              <a:gd name="textAreaTop" fmla="*/ 158400 h 4681440"/>
              <a:gd name="textAreaBottom" fmla="*/ 4523040 h 4681440"/>
            </a:gdLst>
            <a:ahLst/>
            <a:rect l="textAreaLeft" t="textAreaTop" r="textAreaRight" b="textAreaBottom"/>
            <a:pathLst>
              <a:path w="21600" h="41310">
                <a:moveTo>
                  <a:pt x="0" y="0"/>
                </a:moveTo>
                <a:lnTo>
                  <a:pt x="21600" y="0"/>
                </a:lnTo>
                <a:lnTo>
                  <a:pt x="21600" y="41310"/>
                </a:lnTo>
                <a:lnTo>
                  <a:pt x="0" y="41310"/>
                </a:lnTo>
                <a:close/>
              </a:path>
              <a:path fill="lightenLess" w="21600" h="413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310">
                <a:moveTo>
                  <a:pt x="21600" y="0"/>
                </a:moveTo>
                <a:lnTo>
                  <a:pt x="21600" y="41310"/>
                </a:lnTo>
                <a:lnTo>
                  <a:pt x="20200" y="39910"/>
                </a:lnTo>
                <a:lnTo>
                  <a:pt x="20200" y="1400"/>
                </a:lnTo>
                <a:close/>
              </a:path>
              <a:path fill="darkenLess" w="21600" h="41310">
                <a:moveTo>
                  <a:pt x="21600" y="41310"/>
                </a:moveTo>
                <a:lnTo>
                  <a:pt x="0" y="41310"/>
                </a:lnTo>
                <a:lnTo>
                  <a:pt x="1400" y="39910"/>
                </a:lnTo>
                <a:lnTo>
                  <a:pt x="20200" y="39910"/>
                </a:lnTo>
                <a:close/>
              </a:path>
              <a:path fill="lighten" w="21600" h="41310">
                <a:moveTo>
                  <a:pt x="0" y="413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9910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ploy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îner d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hiloso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n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nsole d’administration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6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561440" cy="50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49:21Z</dcterms:created>
  <dc:creator>Philippe Merle</dc:creator>
  <dc:description/>
  <cp:keywords>CCM</cp:keywords>
  <dc:language>en-US</dc:language>
  <cp:lastModifiedBy>merle</cp:lastModifiedBy>
  <cp:lastPrinted>2002-04-09T14:53:00Z</cp:lastPrinted>
  <dcterms:modified xsi:type="dcterms:W3CDTF">2003-08-17T04:28:04Z</dcterms:modified>
  <cp:revision>306</cp:revision>
  <dc:subject/>
  <dc:title>Etude de cas d'une application CCM</dc:title>
</cp:coreProperties>
</file>