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52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74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52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74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90920" y="228600"/>
            <a:ext cx="6324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52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74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30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52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74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920" y="228600"/>
            <a:ext cx="6324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700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700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9540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9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95040">
              <a:spcBef>
                <a:spcPts val="7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95040">
              <a:spcBef>
                <a:spcPts val="7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62080" y="6470640"/>
            <a:ext cx="1262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objectweb.org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86760" y="6532560"/>
            <a:ext cx="1628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(OpenCCM)  - D</a:t>
            </a:r>
            <a:fld id="{094CD280-F7BD-421C-8F4C-3C801B1FD85B}" type="slidenum">
              <a:rPr b="0" lang="fr-FR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- 21/01/2002</a:t>
            </a:r>
            <a:endParaRPr b="0" lang="en-US" sz="7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22200" y="264960"/>
            <a:ext cx="2116080" cy="72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62080" y="6470640"/>
            <a:ext cx="1262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objectweb.org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4120" y="5383080"/>
            <a:ext cx="3182760" cy="1094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438120" algn="ctr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95400" algn="ctr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950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95040">
              <a:spcBef>
                <a:spcPts val="4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95040">
              <a:spcBef>
                <a:spcPts val="4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rbaweb.lifl.fr/OpenCCM/" TargetMode="External"/><Relationship Id="rId2" Type="http://schemas.openxmlformats.org/officeDocument/2006/relationships/hyperlink" Target="http://corbaweb.lifl.fr/OpenCCM/" TargetMode="External"/><Relationship Id="rId3" Type="http://schemas.openxmlformats.org/officeDocument/2006/relationships/hyperlink" Target="http://corbaweb.lifl.fr/OpenCCM/" TargetMode="External"/><Relationship Id="rId4" Type="http://schemas.openxmlformats.org/officeDocument/2006/relationships/hyperlink" Target="http://www.objectweb.org/OpenCCM/" TargetMode="External"/><Relationship Id="rId5" Type="http://schemas.openxmlformats.org/officeDocument/2006/relationships/hyperlink" Target="http://www.objectweb.org/OpenCCM/" TargetMode="External"/><Relationship Id="rId6" Type="http://schemas.openxmlformats.org/officeDocument/2006/relationships/hyperlink" Target="http://www.objectweb.org/OpenCCM/" TargetMode="External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OpenCCM:</a:t>
            </a:r>
            <a:br>
              <a:rPr sz="3600"/>
            </a:b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Status and Work plan</a:t>
            </a:r>
            <a:endParaRPr b="0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2055960"/>
            <a:ext cx="7925040" cy="33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Philippe Mer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FL - IN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e.Merle@lifl.f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Web Architecture Meeting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noble, 21 – 22 January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orbaweb.lifl.fr/OpenCCM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http://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5"/>
              </a:rPr>
              <a:t>www.objectweb.org/OpenCCM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6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OpenCCM Objectives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1st reference implementation of the CORBA Component Model (CC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the current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e to next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future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pen CORBA Component Model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B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ble, customizabl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a worldwide used platform dedicated to R&amp;D activities around next Distributed Component Computing and Middleware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Current OpenCCM 0.2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st public available implementation of the OMG CC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y written in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ility, maintenance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, Solaris, and Windows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Bacus 4.x, OpenORB 1.x, and VisiBroker 4.5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pen compilation &amp; generation tool ch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MG IDL3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MG IDL3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enerator for equivalent OMG ID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enerator for extended Java skeleto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lexible distributed deployment &amp; execution middleware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eneric Java server to host Java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to control component servers and download component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driven by OMG IDL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Next OpenCCM 0.3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rmance to the finalized CCM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IDL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Repository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model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inor improvements /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-side IDL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server-side IDL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monolithic &amp; executor locator approaches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new deployment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s ServerActivator, AssemblyFactory, and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IDLscript 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ors ~ scripted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open container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RBacus 4.1 supported (sic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Next Features for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Next Releases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Implementation Definition Language (CID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istent State Definition Language (PSD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Implementation Framework (CI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ers for basic system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, persistence, transactions, and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aging and 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 archives and XML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Activator, AssemblyFactory, and Assembly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ous Graphical User Interfaces (GU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esigning, assembling, deployment, 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or and runtime for C++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G IDL/CIDL/PSDL to XMI mapping (for UML too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ORB suppor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RB 1.4, Orbix 2000, MICO, TAO, omniORB 4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Work plan for 2002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ize next OpenCCM 0.3 (02/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ze current 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ObjectWeb project conventions (if an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to ObjectWeb (03/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pages, mailing lists, GPL/LGPL, CVS, 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developments t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DL / PSDL (05/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descriptors (06/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system services (07/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generator &amp; runtime (08/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I generator &amp; UML profile (09/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intermediary releases and internal design docu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OpenCCM develop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Status and Work plan Related to CCM Chapters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CCM Status and Work 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G ID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G CID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Q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side map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Q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side map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er A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Q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B interwork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ag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Q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oyment A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Q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DT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Q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meta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Q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DL meta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Q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Work plan Related to ObjectWeb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ing most of basic common component frameworks like MonoLog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with other ObjectWeb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athan for its future CORBA 2.6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AS for its distributed transac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RM for its generic persistenc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RAM for its reliable asynchronous middl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tart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Q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ing to next common component frame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containers and application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deployment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repos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182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OpenCCM R&amp;D at LIFL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ite Design and eXecution (CODe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work to design structured aspect oriented A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uctured aspect oriented ADL for Open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D student Raphael.Marvie@lifl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BA / TOS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components built with Open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-based deployment and supervision in Open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D student Sylvain.Leblanc@lifl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containers for critical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work for building extensible &amp; efficient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o CORBA Real-Time, Fault-Tolerance, 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 Thalès, PhD student Mathieu.Vadet@lifl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esearch contr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 GRID RMI: GRID meta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TL IMPACT: OpenCCM - Object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TL ACCORD: UML Profile for 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RT COMPiTV: Components for electronic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1864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 COACH: Secure CCM platform for critical telecom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2:14:24Z</dcterms:created>
  <dc:creator>lefebval</dc:creator>
  <dc:description/>
  <dc:language>en-US</dc:language>
  <cp:lastModifiedBy>Merle Philippe</cp:lastModifiedBy>
  <dcterms:modified xsi:type="dcterms:W3CDTF">2002-01-19T16:27:25Z</dcterms:modified>
  <cp:revision>92</cp:revision>
  <dc:subject/>
  <dc:title>OpenCCM </dc:title>
</cp:coreProperties>
</file>