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0B89-31B1-4BAE-9C19-EB062840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AA9B-67DA-4330-858E-6ED4447E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9150-59FB-4CAE-B332-0F7B1BDEC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6557-0A2C-4E01-BC83-F5F4C385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2D15-54DD-44C3-B412-61A7AFAD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D3A7-4675-4589-AED3-8EB83957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5A63-751F-4E6A-8510-9F9A91C5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FD5A-308D-4D60-B095-B56E82F9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467B-630E-4E68-A0A8-5BF7CE8A9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284D-70DF-4194-A809-6731E36E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4A2E-4112-4F30-A0BA-CDB60A50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6525-1EC5-4EE7-BA28-1A0E6FFC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A7E8-A4DA-4924-867C-B92CCB787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OTTER UNIT TEST FRAMEWORK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108920" y="1066680"/>
            <a:ext cx="19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Version 00.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8T23:20:16Z</dcterms:created>
  <dc:creator>Eduardo Antonio Cecilio Fernandes</dc:creator>
  <dc:description/>
  <dc:language>en-US</dc:language>
  <cp:lastModifiedBy>Eduardo Antonio Cecilio Fernandes</cp:lastModifiedBy>
  <dcterms:modified xsi:type="dcterms:W3CDTF">2007-07-08T19:58:28Z</dcterms:modified>
  <cp:revision>5</cp:revision>
  <dc:subject/>
  <dc:title>OTTER UNIT TEST FRAMEWORK </dc:title>
</cp:coreProperties>
</file>