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EXPLODE.WAV" ContentType="audio/x-wav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1D9A-F443-45EA-9C71-3E853F3B5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BDB8-E5C3-4353-BAE0-3FEE7160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E5E0-C826-4DFB-9654-5500637D5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AAB2-DFFB-473E-BE40-F1E55DB01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CCFD7-AB42-4725-AC64-84E4CB808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0755-DC58-4EAE-A18F-6B544A53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A289-FA40-422E-93D4-A19512EE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B4E54-1F73-4203-8575-8BBDC6A5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59A2-645D-4E5E-873F-DCBCECA5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6953-F4C4-4358-87E2-75EE6B27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4A9F-9650-49FF-AC9F-16096924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BEA1-DA6E-4EAE-B6ED-152E8A4B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5FB1-EC1B-44AD-A464-A4DA656B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24BA-2269-4057-A703-8675E3B2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9DEED-5D9C-41E1-A188-FDBE6D96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B12A-C1B6-4367-8527-DAE22A0EB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D7759-C1AE-4C26-B2B1-C4A826AF8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86C6-C895-4FEF-AA83-44996288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253B-FE05-4922-A11B-11265B8D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100F-801C-4001-A09D-D0287B80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F7F1-3E57-4215-A4AE-E972FEDC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5A77-476F-4746-A524-0B859F8B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1E66-754B-469C-9687-A25B110A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86F4-A51D-4E58-B3F0-31B65B65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342A-51F6-47DC-84B3-A2E9D7CC4A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0CFD-8F28-475A-93A8-3187169B4D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fff00"/>
                </a:solidFill>
                <a:latin typeface="Times New Roman"/>
              </a:rPr>
              <a:t>Chapter 19</a:t>
            </a:r>
            <a:endParaRPr b="0" lang="en-US" sz="117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Sound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8234280" y="6553080"/>
            <a:ext cx="90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Web Pa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imes New Roman"/>
              </a:rPr>
              <a:t>Sound...</a:t>
            </a:r>
            <a:endParaRPr b="0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ongitudin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ave in air caused by a vibrating ob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: Vortex Bo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27T04:32:41Z</dcterms:created>
  <dc:creator>Dr. Dan Bruton</dc:creator>
  <dc:description/>
  <dc:language>en-US</dc:language>
  <cp:lastModifiedBy>xueheng</cp:lastModifiedBy>
  <dcterms:modified xsi:type="dcterms:W3CDTF">2012-11-08T04:55:04Z</dcterms:modified>
  <cp:revision>15</cp:revision>
  <dc:subject/>
  <dc:title>Physics 101</dc:title>
</cp:coreProperties>
</file>