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D9367-D2F3-4844-8511-D34EB2F0A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4967D-816E-40C7-855B-C3E2375DA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80441-0648-42B7-9FF3-9FE3AEBF8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5CBC6-E80C-4EBF-9988-6570FD75E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AA0A4-40A3-46D5-9184-22951F832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B2C29-A579-4421-86F9-0EFBE03BC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4FE31-1576-4AE5-A84F-DE63512A4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F843D-64ED-41EB-BE08-68A5E61B9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8D832-DC84-49EF-A1F2-C1E82609A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9CCA1-0F03-475C-93CC-77A7A0A70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59E8F-74AE-4DAC-9020-4558C5D32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A9C13-46E8-48C2-B426-47CBDF4AA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2DF5E-A822-4140-9B29-B27BB5ACB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DA109-F7D1-435E-9D2D-BBF7BFAF0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D717D-385A-4C98-8C85-6568D3A3D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06688-6376-4450-9570-A66D98345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F3033-A66E-46A2-A6BB-F2A40B685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2A1936-D743-43E6-99B8-FE4F79BD6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5859B8-0ED7-4971-A8B1-1E79D3CEF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ED0114-625C-40F6-8E39-BB323928D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74D7A7-9E9B-4936-ABF8-715A3FF52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F2A592-A6AE-4ED4-B1D1-D9F22DB32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5E783-E792-418B-9394-DF7894ECF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FDF012-C996-4390-AB65-6377D1DEB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53D024-2099-4597-A07F-0F2511A45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B5BE5A-137D-4A26-8FE3-6320443D3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E85200-F555-4BD0-AFB7-D0BFCCAE9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2A0182-D6A3-4F0D-9291-2FA9FC32E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30543F-6F60-45A9-8D4F-AADA3F91F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110451-23D8-46EA-ACC3-212BAFBE8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E4AB1-84A0-4FC3-BABA-FFE0CC761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88F60-4313-4341-A549-666CB6C4D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2ECC5-4C7A-4C33-8116-5510114B2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1AC3E-9379-468D-9294-314823F1D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67032-5D00-44E7-A085-4A7A2451B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A2F01-A8DA-40F7-8977-B4E698DDC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FE04B-3908-46E7-9EB2-11513A4DB4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72B37-1348-4BB6-8FBB-D32C34B13F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7985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E285F-5DA2-4936-86E0-5CC8CB0AFD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4T04:13:26Z</dcterms:created>
  <dc:creator>Gary Blue</dc:creator>
  <dc:description/>
  <dc:language>en-US</dc:language>
  <cp:lastModifiedBy>Gary Blue</cp:lastModifiedBy>
  <dcterms:modified xsi:type="dcterms:W3CDTF">2005-11-04T04:15:14Z</dcterms:modified>
  <cp:revision>1</cp:revision>
  <dc:subject/>
  <dc:title>Slide 1</dc:title>
</cp:coreProperties>
</file>