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613-BAA0-4B77-9C9E-E50EF8B82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3A96-B51F-4F38-BAA2-759662BBA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E49-DFD5-4407-8A9C-8BD39516A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D06A-8224-4749-ACC6-94F838A3A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FCD-E0D9-429F-93F4-E2434ED9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3E5-4F69-45F7-81C4-8620428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405-FAC9-4A17-B5FB-59F2C470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ED5-0F21-4CED-AAE7-1B5F4F49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D62-87B9-435A-80D2-6E22939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B5A-F925-4C2B-9918-C77CF3D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409-9CC2-4BA1-8270-4945B02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B34-B630-4B7A-AA9A-3C97933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2B8-0701-482C-9D3A-46E788FE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B07-0723-4B9E-9548-D07D4B1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BAA-9BCC-4021-92D0-29DF7D2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246-0E0E-4F99-9282-F8721F3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D7B-584A-4923-A269-D15318BB3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2:59:23Z</dcterms:created>
  <dc:creator>Richard M. Sugg</dc:creator>
  <dc:description/>
  <dc:language>en-US</dc:language>
  <cp:lastModifiedBy>Richard M. Sugg</cp:lastModifiedBy>
  <dcterms:modified xsi:type="dcterms:W3CDTF">2008-09-13T23:06:43Z</dcterms:modified>
  <cp:revision>2</cp:revision>
  <dc:subject/>
  <dc:title>a</dc:title>
</cp:coreProperties>
</file>