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42FD-9CD3-4FF8-B1DD-A987C678C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2D17-B5C7-4F4C-9BBE-8955C19DA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4325-B31E-4E9E-9313-546CCC834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B58C-623D-42DA-AE9D-5F47AF82C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54DF-E61F-4E6E-AC5D-586664C1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491-42A0-4769-89CD-1DFD9C1A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016-36B0-4115-87A4-0796A15E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C73-98AA-44DE-8568-54E86FF3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CCE-9EAE-4952-A5C1-DF1B40A7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2F2-E2F5-49A7-82CA-AAC6B282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75A4-108C-4C5E-AFB5-7C048008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BB0-ACB9-4B61-BA7D-983333DD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65C-BE64-43C0-9A0A-0E85A3DD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35F-F650-4FC4-83DE-1B4A827B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0C4-1EA1-470E-9920-7ADE54EB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FCD-3AF7-497A-8FD6-2EEE658B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8F26-DC32-4F9D-B930-63E100434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22:59:23Z</dcterms:created>
  <dc:creator>Richard M. Sugg</dc:creator>
  <dc:description/>
  <dc:language>en-US</dc:language>
  <cp:lastModifiedBy>Richard M. Sugg</cp:lastModifiedBy>
  <dcterms:modified xsi:type="dcterms:W3CDTF">2008-09-13T23:07:02Z</dcterms:modified>
  <cp:revision>3</cp:revision>
  <dc:subject/>
  <dc:title>a</dc:title>
</cp:coreProperties>
</file>