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3686-3BA9-4718-B335-57A72E8E2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BF33-CCB4-44B8-B51F-C6E756776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647D-4D80-46AE-8D27-A34A14CD1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6F8C-41BA-437B-801C-EAE3260DC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00E-ACC0-483F-93BA-257902A8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774-E040-406F-A04F-8FBCDA2D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A3A-D658-456D-8047-9DBC2DAF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036-83D2-46BB-85D0-C0EC93F3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AFB-D842-44DB-A4F0-F554ED0F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E0C-3EFE-465E-978C-548BB7CD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EBE-6181-41DB-81DB-72AD825E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072-D8B7-4476-A152-3DA458BB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7F5-B992-4442-BBA2-A3D93965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35E-2228-4524-B3DF-F5231694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D5C-15D4-4602-8372-B8E13140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3D3-C282-4CBE-93CF-5EC2C40C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41D3-2563-4B34-ABF9-845974C50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22:59:23Z</dcterms:created>
  <dc:creator>Richard M. Sugg</dc:creator>
  <dc:description/>
  <dc:language>en-US</dc:language>
  <cp:lastModifiedBy>Richard M. Sugg</cp:lastModifiedBy>
  <dcterms:modified xsi:type="dcterms:W3CDTF">2008-09-13T23:06:08Z</dcterms:modified>
  <cp:revision>1</cp:revision>
  <dc:subject/>
  <dc:title>a</dc:title>
</cp:coreProperties>
</file>