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1AE00-796D-4B7C-9EDA-87A6D499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D9CB-C1BF-42C8-8121-1CF5EB65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A5A2-86F5-437A-89B4-A8934F53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7A43F-2676-490B-B6E4-CCC5C584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14E7-A0A0-4453-A627-25EB421A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C6B0-4DA5-480E-A91B-F3C8AF2C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0CC3-AB4E-4CD6-8A21-8AB76705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EEC1-4AC4-4F20-A29A-6E307D8A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EC5F-E66B-416E-B24C-177BFEAE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9EEA-CE39-4ED1-B705-3EFB4CF2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1763-E220-4C34-8261-D075B2C8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023D4-22AB-4216-B4C7-1380640A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F3A1-39E8-4F0A-88FE-49F404E6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45BE-AEEE-4D48-8FEE-1381920F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C1F8-2BDE-4067-92B5-19CEB305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E5D9-5871-41C6-9E80-C6A792E5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24AC-E173-4A74-A5EC-3665DC5D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1A4B-82CF-459A-8230-9D39379F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AC26-D52F-4F75-BD87-1E851627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9BFF-68F9-438D-8BE5-B7A79EDE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DAAB1-1C55-41C7-86E7-506898B2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00D0-8878-4034-B96F-2F89C01E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9B06-8A45-4F09-AA6F-EDD9D2F6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51F0-376F-407E-8C20-8D27910A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2B8D-8550-4C04-AE98-E5C655972B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6120" y="2893680"/>
            <a:ext cx="7689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Soft eProcurement/Purcha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Company Name]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Assessment Deliverabl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14720" y="436392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[Dat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Key Business Process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3080" y="1287360"/>
            <a:ext cx="83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key business processes were evaluated during the Assessment Phase of the [Company Name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4920" y="2386080"/>
          <a:ext cx="6799320" cy="32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2386080"/>
                    <a:ext cx="679932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A54F9-30C7-4EF7-97AC-6A0A70F1B4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320" y="33480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Business Process Changes – Vendor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11360" y="976320"/>
          <a:ext cx="7810200" cy="547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976320"/>
                    <a:ext cx="781020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71A9-979B-4552-938C-28DF04CAAF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9144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Business Process Changes – Vendor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00160" y="1257120"/>
            <a:ext cx="8229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3920" indent="-853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1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blish Systematic Processes and Procedures for Vendor Additions and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3920" indent="-853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42880" indent="-47448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RENT/FUTURE PROCES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Accounts Payable Department will be solely responsible for vendor file maintenan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014560" indent="-457200"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dor creation/update requests will be created by the submission of a request form to Accounts Payable with the appropriate approv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2014560" indent="-457200">
              <a:spcBef>
                <a:spcPts val="3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2880" indent="-47448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QUIRED TAS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014560" indent="-457200"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 to utilize existing process.  Communicate to and train users on the current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42880" indent="-474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OLICY/PROCEDURE DECISIONS REQUIRED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014560" indent="-457200"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enforcement of current policy. For example, payments will not  be issued until a vendor has received all necessary appro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F0FE3-FBCC-464D-8608-121D353165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3360" y="190080"/>
            <a:ext cx="86868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Business Process Changes – Item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04720" y="838080"/>
          <a:ext cx="7944120" cy="56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838080"/>
                    <a:ext cx="794412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B3D9-7312-42CF-AD59-0733FE349F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43080" y="1160280"/>
            <a:ext cx="82296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96040" indent="-896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blish Systematic Processes and Procedures for Item Additions and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96040" indent="-896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73120" indent="-46476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TURE PROC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The majority of purchases will be done with item IDs.  This allows for the following benefits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033280" indent="-447840"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manual effort to create a requisition/purchase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2033280" indent="-447840"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ing and other data can automatically default onto the requisition/purchase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2033280" indent="-447840"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item/vendor relationships for contract pr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2033280" indent="-447840"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for better reporting and spend analysis cap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2033280" indent="-447840"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customer service for the requester (e.g. will shorten the procurement cycle due to better 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2033280" indent="-447840">
              <a:spcBef>
                <a:spcPts val="3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73120" indent="-46476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QUIRED TAS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033280" indent="-447840"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Soft Item Categories and non-inventory Item Ids will be manually configured within People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2033280" indent="-447840"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 to and train end users on how to use Item Ids and Item Categ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2033280" indent="-447840">
              <a:spcBef>
                <a:spcPts val="3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73120" indent="-46476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OLICY/PROCEDURE DECISIONS REQUIR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033280" indent="-447840"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 that requesters/buyers use the Item Master (where possible) to purchase their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2033280" indent="-447840">
              <a:spcBef>
                <a:spcPts val="3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3080" y="185760"/>
            <a:ext cx="8686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Business Process Changes – Item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07E68-9C48-407C-BBBE-5AC39DBCFA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63280" y="3567240"/>
            <a:ext cx="55530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Key Configuration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Key Configu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09160" y="1136160"/>
            <a:ext cx="87822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the configurations necessary to support the key business 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3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2680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al unit for items and item cata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268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3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2680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e all items identified during the Design Phase of this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268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3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268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ollowing Business Unit will be reconfigured as part of this implement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3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3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ds (Buyers, Requesters, Approv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268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PeopleSoft eProcurement/Purchasing end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268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security setups and user preferences for each user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268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e user security and user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268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e roles for workflow rou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328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33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4DA68-4D8C-4EC8-AFDF-5541703E70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9600" y="3532320"/>
            <a:ext cx="3830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9680" y="2667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Work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4800" y="1941480"/>
            <a:ext cx="757260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cis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Soft Items will not require workflow approval.  No Item Approval routing rules will be defined within PeopleSoft Proc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dor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cis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Soft Vendors will not require workflow approval.  No Vendor Approval routing rules will be defined within PeopleSoft Proc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sition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cis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require managerial approval for requisitions based on [Company Name] organizational hierarchy (This will be finalized during the Design Phase). Approval will be based on item, amount and/or Chart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cis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Soft Purchase Order will not require workflow approval.  No Purchase Order routing rules will be defined within PeopleSoft Proc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act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cisio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Soft Contracts will not require workflow approval. No Contract Approval routing rules will be defined within PeopleSoft Proc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096920"/>
            <a:ext cx="810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Soft Workflow allows the automated flow of information throughout [Company Name].  The following are the standard workflow routings available within the PeopleSoft Procurement modu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C96A-FFD3-49C1-BBB1-6FD90F1DCE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52480" y="3502080"/>
            <a:ext cx="74390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ross-Module Integra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8880" indent="-5716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Business Process Ch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Module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D573-34F6-4C2D-AA19-4246798D16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428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ross-Module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2720" y="1430280"/>
            <a:ext cx="814356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32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eipts/Purchase Or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Used in the PO Voucher cre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32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tch Exception Proces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-way and 3-way matching, including workflow rou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32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utomated process for updating the Asset Management Module.  Process utilizes the Purchasing receipt and Payables vou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Led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328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ceipt Accr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Generates accrued liabilities for PO receipts that have not been invoiced.  Can be run as part of the close process (month, quarter, 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3C0A-72CB-461A-B7FF-E06E737D87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4280" y="3538080"/>
            <a:ext cx="452592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nterfac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0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with third-party systems or external vendors are out of scope for this implement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Design Phase, any future requirements to interface with third-party systems or external vendors will be identified and documented for future enhanc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3FEE7-9C46-47CD-8A80-EC6BAF71D2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82720" y="3538080"/>
            <a:ext cx="452592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onversion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440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versions of data into PeopleSoft will be done man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utomated conversions will be performed for this imple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POs/Open Requisitions will not be converted into PeopleSo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sition/PO history will not be converted into PeopleSo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4E2C-ADF0-4D5E-AEE9-D61FC25D3B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2720" y="3538080"/>
            <a:ext cx="452592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440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PeopleSoft delivered reports will be provided using the SQR, inquiry and Crystal reporting to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ut of the box reports are in scope except for any report that is associated with out of scope function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ustom reports are out of scope for this imple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4F7C-4BE4-4234-8655-596A06C208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9600" y="3416040"/>
            <a:ext cx="6162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33336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2440" y="1279440"/>
            <a:ext cx="8029440" cy="38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y objectives of the Assessment Phase are to establish the implementation scope, create a workplan and define the requirements for [Company Name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eliverable summarizes the requirements from the Assessment Phase and defines the scope for the remainder of the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final approval is received on this deliverable, the project team will continue with the Design Phase of the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D980-F95D-472B-8187-66B669505E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9600" y="3416040"/>
            <a:ext cx="6162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33336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2440" y="1098720"/>
            <a:ext cx="8029440" cy="53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corporate departments will be included within the [Company Name] Procurement rollo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561"/>
              </a:spcBef>
              <a:buClr>
                <a:srgbClr val="9999ff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561"/>
              </a:spcBef>
              <a:buClr>
                <a:srgbClr val="9999ff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561"/>
              </a:spcBef>
              <a:buClr>
                <a:srgbClr val="9999ff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e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561"/>
              </a:spcBef>
              <a:buClr>
                <a:srgbClr val="9999ff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561"/>
              </a:spcBef>
              <a:buClr>
                <a:srgbClr val="9999ff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nce and Accoun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561"/>
              </a:spcBef>
              <a:buClr>
                <a:srgbClr val="9999ff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561"/>
              </a:spcBef>
              <a:buClr>
                <a:srgbClr val="9999ff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561"/>
              </a:spcBef>
              <a:buClr>
                <a:srgbClr val="9999ff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561"/>
              </a:spcBef>
              <a:buClr>
                <a:srgbClr val="9999ff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or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561"/>
              </a:spcBef>
              <a:buClr>
                <a:srgbClr val="9999ff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561"/>
              </a:spcBef>
              <a:buClr>
                <a:srgbClr val="9999ff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561"/>
              </a:spcBef>
              <a:buClr>
                <a:srgbClr val="9999ff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 E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561"/>
              </a:spcBef>
              <a:buClr>
                <a:srgbClr val="9999ff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5D73E-EEE0-4E17-AF0F-4BB60D1665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9600" y="3416040"/>
            <a:ext cx="616248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2440" y="25704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360" y="1106640"/>
            <a:ext cx="802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gure below shows the timeline for this implementation.  The target “go-live” date is [Date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e progress through the project, we will evaluate our progress against the timeline and make any necessary adjust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tailed project plan has been created for the Design Phase of the implementation (Please refer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mpany Name] - PeopleSoft Procurement Design Phase 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  The detailed plan for the Build and Test/Roll-out Phases of the project will be finalized and distributed prior to the completion of the Desig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852640"/>
          <a:ext cx="8229600" cy="34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52640"/>
                    <a:ext cx="8229600" cy="34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B7099-906D-4CA0-90B5-22D95CCAF0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8600" y="3549600"/>
            <a:ext cx="61628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Key Business Process 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hanges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17:37:30Z</dcterms:created>
  <dc:creator>TPS of Illinois, Incorporated</dc:creator>
  <dc:description/>
  <dc:language>en-US</dc:language>
  <cp:lastModifiedBy>tsotiropoulos</cp:lastModifiedBy>
  <cp:lastPrinted>2003-07-31T12:49:40Z</cp:lastPrinted>
  <dcterms:modified xsi:type="dcterms:W3CDTF">2007-11-08T15:13:09Z</dcterms:modified>
  <cp:revision>1438</cp:revision>
  <dc:subject/>
  <dc:title>Quik Biz - Phase Completion Executive Presentation - Example</dc:title>
</cp:coreProperties>
</file>