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959-1DA8-4817-AF18-DAB289D1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F9B-A841-4D37-98CF-8DE8F7A5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858-C109-4F46-A465-F9B049EE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C05-18C1-417A-AB0C-7BDB687C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8CE-0C5C-41BD-9329-6EB417D5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C17-C8F7-46E5-B1DC-58FDB4B3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6ED-1423-47B4-B08F-FCFFCBF4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948-923C-4F56-9290-FCFB354D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CFC-9D88-4793-93BE-557BD06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FFD-80F5-4A2F-B2FC-8F99A3F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1B7-C051-4525-A77E-B7C73E6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E3A-7214-4BB2-8788-10540220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D45D-9C8F-48C1-93BE-53CF84BE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9402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1:13:15Z</dcterms:created>
  <dc:creator>Max</dc:creator>
  <dc:description/>
  <dc:language>en-US</dc:language>
  <cp:lastModifiedBy>Max</cp:lastModifiedBy>
  <dcterms:modified xsi:type="dcterms:W3CDTF">2008-04-21T11:13:28Z</dcterms:modified>
  <cp:revision>1</cp:revision>
  <dc:subject/>
  <dc:title>Renault</dc:title>
</cp:coreProperties>
</file>