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EXPLODE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CA7-D377-435C-8F92-6A22D5A5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8FE-A269-497C-B13B-533F9289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E2C-6D5D-4005-957C-595D3E50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2BD-BC8D-4CD3-BA09-F0C97B9A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AAD7-1777-4F90-86BC-5EE80319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4CDA-776D-49F4-AD8B-E1E002A2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9AEA-E9B8-4ED8-BD26-FA886CA8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FD98-68CE-430F-876A-F66AF1BB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5BEB-CA0D-4B40-9984-9CD5AFD3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9E14-7C97-4A1C-9C97-194D401B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2EFA-55DB-434E-81DB-07EDD2BB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A90-BB77-41B1-A3DF-5C59A4DE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0931-C11D-4543-902F-A821D6FF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75BA-E45B-4EED-8A15-4895CD41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9322-9117-4C3B-8B5C-1CF7D859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009A-D23C-440C-AC09-5D047607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F3FF-20B9-4187-8473-8175680F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AB7-F666-419C-9ED4-889C8AA1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54EA-3DFA-44DF-B873-15AA8C88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E56-8E35-44FB-9313-38C8F3CB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C4E-03C2-4144-BE6B-34AED7D4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317-16C4-45A0-BC49-A4D2A59C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6D2-D446-40CE-855D-10A1A1A6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A2A-AD45-4F0F-9259-430131D8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9903-9A75-415A-B784-9D48D0DCA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C4A3-2D27-482D-91B0-DACA80392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00"/>
                </a:solidFill>
                <a:latin typeface="Times New Roman"/>
              </a:rPr>
              <a:t>Chapter 19</a:t>
            </a:r>
            <a:endParaRPr b="0" lang="en-US" sz="11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ound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8234280" y="655308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Web P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Sound...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ongitudi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ave in air caused by a vibrating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: Vortex 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7T04:32:41Z</dcterms:created>
  <dc:creator>Dr. Dan Bruton</dc:creator>
  <dc:description/>
  <dc:language>en-US</dc:language>
  <cp:lastModifiedBy>xueheng</cp:lastModifiedBy>
  <dcterms:modified xsi:type="dcterms:W3CDTF">2012-11-08T04:55:04Z</dcterms:modified>
  <cp:revision>15</cp:revision>
  <dc:subject/>
  <dc:title>Physics 101</dc:title>
</cp:coreProperties>
</file>